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A1C-DF88-4EED-9CFB-28D483B2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D3A-EEBB-4085-AA59-C0E68A17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9BB-CE9B-4EF5-AB32-B0B37692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5A8-5252-4FAF-A50A-92022C83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F205-3D5B-4783-8E79-6DB57A8E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9DFE-5238-4EF2-AA3C-6714CF45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758-8F10-4B73-8A5B-9271BE7D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CD24-6FD0-4F4C-BFA0-1DCC392A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505-DBD1-473A-BA54-769A5C6D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DF2-9469-4D3A-B3BF-C600D078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EB5-DC21-46C5-89D0-8CC0BEB1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ED5-695B-4F1D-8CA7-E6DAACFC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EA9E-9F9E-4F76-89B8-9F0630B2B0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2205000"/>
          <a:ext cx="5891400" cy="2160720"/>
        </p:xfrm>
        <a:graphic>
          <a:graphicData uri="http://schemas.openxmlformats.org/drawingml/2006/table">
            <a:tbl>
              <a:tblPr/>
              <a:tblGrid>
                <a:gridCol w="654120"/>
                <a:gridCol w="655560"/>
                <a:gridCol w="65412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12"/>
          <p:cNvSpPr/>
          <p:nvPr/>
        </p:nvSpPr>
        <p:spPr>
          <a:xfrm rot="5400000">
            <a:off x="3492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3"/>
          <p:cNvSpPr/>
          <p:nvPr/>
        </p:nvSpPr>
        <p:spPr>
          <a:xfrm rot="5400000">
            <a:off x="652140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45:58Z</dcterms:created>
  <dc:creator>Susanne Epp</dc:creator>
  <dc:description/>
  <dc:language>en-US</dc:language>
  <cp:lastModifiedBy>Anika</cp:lastModifiedBy>
  <dcterms:modified xsi:type="dcterms:W3CDTF">2017-09-29T12:26:38Z</dcterms:modified>
  <cp:revision>17</cp:revision>
  <dc:subject/>
  <dc:title>Folie 1</dc:title>
</cp:coreProperties>
</file>