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C8B-673B-463F-A677-10E34A1B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E93-0CEE-4951-BC77-6EC1AB48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619-411A-407E-808E-E847A164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F56-740A-4AC2-9C66-F9703114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151-F0F2-4827-9BFA-D7A0C64E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D460-C4F7-448D-AE84-C2ED477D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4BF-639C-4470-BDC4-01869E41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A29-CFB6-493F-8C83-FA5962E0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A38-BECB-40E3-970B-15251D7E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D56-2BD5-4E7A-A752-7AA80A8A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CCF-306B-457A-BD2F-EF977084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B87-C302-41F8-BE8C-403C4C7F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EFA3-3E56-4EDA-92AC-B042FAEC0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 / Versan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7:32Z</dcterms:modified>
  <cp:revision>27</cp:revision>
  <dc:subject/>
  <dc:title>Folie 1</dc:title>
</cp:coreProperties>
</file>