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AE43-6BC0-45E6-8C21-E56D5FEA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10B-28DB-4FE5-A827-C547E4B7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C28-C9EE-4931-B1A7-FA334EA1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A5A7-A2F6-4A08-AEFA-9F673479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109D-1537-4599-AD22-910AA775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918-3E6A-4634-9117-18A7DDAE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511-03B3-464B-9C4C-B85F3A91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A4E-A35C-477B-B5FE-36AC9FDE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F513-4516-4679-86ED-615A1A16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1BE-64A8-43E8-A841-CDF1F253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6EC5-F7E7-49CE-9ABD-AB0825EC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55B9-1DB1-4442-82C3-AE5C8EC3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6D4E-E3D2-4D0E-9935-EC8496630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daktisches Modu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loster Maulbron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B 7: Folien für eine Schülerführung zur Klosterarchitektur für das Kloster Maulbron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rweitertes Nivea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rbeitsauftr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Übernehme die Aufgabe eines Klosterführers für Deine Mitschüler. Wähle dazu sechs kombinierte Bilder- und Textfolien aus, suche den abgebildeten Ort im Kloster auf und erkläre Deinen Mitschülern das abgebildete Bauteil mit Hilfe der vorgegebenen Stichw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gänze die Stichworte um eigene Eindrück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beitskreis Landesgeschichte/Landeskunde RP Karlsruh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osterkirch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chreiter ein markantes Erkennungszeichen der Zisterzienserarchitek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chreiter (ca. 1400) nicht so schön wie in Bebenhau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chreiter aus Holz so stabil gebaut, dass er schwere Glocken trä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rabschluss (neben dem Baum) nicht rund/ oval sondern pla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 filigranes Strebewerk leitet Gewicht von Kirchendach 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MZ00494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360" y="1700280"/>
            <a:ext cx="4969080" cy="393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beitskreis Landesgeschichte/Landeskunde RP Karlsruh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haus der Laienkirc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älteste Bauwerk des Klosters Weihedatum 1178 bezeu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pektive zeigt gut ordenstypisch gestreckten Grundriss des Langha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öße des Kirchenschiffs lässt Rückschlüsse auf große Anzahl der Konversen 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Hintergrund Chorschranke grenz als steinerne Trennwand Chorgestühl der Mönche von Kirchenschiff der Laien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riesigem Chorfenster 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malten Netzgewölbe (14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t vom Schlichtheitsgedan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wichen wo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ld LMZ31943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284720" y="1773360"/>
            <a:ext cx="4483080" cy="44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beitskreis Landesgeschichte/Landeskunde RP Karlsruh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inkruzifix (1473) in Laienkir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 Zentrum der Kirche ist Christus am Kre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usfigur steht für hohe zisterziensische Baukunst: ist aus einem Steinblock gemeiß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ld LMZ31985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356000" y="1700280"/>
            <a:ext cx="4551480" cy="453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beitskreis Landesgeschichte/Landeskunde RP Karlsruh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rgestühl der Mönche (um 1450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ick nach Westen (Paradies) zur Chorschranke und Or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0 Jahre altes Chorgestühl mit äußerst kunstvollen Verzi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r 100 Jahre von Mönchen, 450 Jahren von Klosterschule für  Andachten genut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ld LMZ31989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5373720" cy="386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beitskreis Landesgeschichte/Landeskunde RP Karlsruh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eischaliger Brun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unnen direkt gegenüber Herrenrefektor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dikone Maulbron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 der Tonsur und Wasch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ld LMZ0048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62360" y="1484280"/>
            <a:ext cx="3849840" cy="504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beitskreis Landesgeschichte/Landeskunde RP Karlsruh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renrefektorium um 122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 hocheindrucks-voller Prachtb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sches Rippen-Gewölbe ruht auf Rundstüt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inmetzarbeiten an Kapiteln von über-ragender Qualit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ld LMZ00865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3541680" cy="504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beitskreis Landesgeschichte/Landeskunde RP Karlsruh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rdflügel und Westflügel vom Kreuzgang um 1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telpunkt der Klaus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icht auch heute noch durch totale St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 hochgotische Maßwerkfen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MZ3195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708360" y="1700280"/>
            <a:ext cx="5013360" cy="32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beitskreis Landesgeschichte/Landeskunde RP Karlsruh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schmuc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tisches Blattwerk-kapitell im Ostflügel am Kreuzg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eativer Umgang des Verzierungsverbots, da Stein behauen werden durf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MZ31960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356000" y="1562040"/>
            <a:ext cx="4788000" cy="449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beitskreis Landesgeschichte/Landeskunde RP Karlsruh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ick vom Kapitelsaal zum Kreuzg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ammlungsort für tägliche Lesung aus Ordensstatu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nte zur Besprechung von inneren Angelegenhei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ndung von Fehlverhalten Einzel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igrane Säulen tragen Decken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ld LMZ3139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4680000" cy="466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beitskreis Landesgeschichte/Landeskunde RP Karlsruh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lostertor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ckelquaderbau 13.Jh., Dachbekrönung 18.Jh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Übertritt in andere Sphäre vernehm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geschiedenheit der Anlage wird deutli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ld LMZ31393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24360" y="2133720"/>
            <a:ext cx="5219640" cy="369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beitskreis Landesgeschichte/Landeskunde RP Karlsruh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osterhof – rosa Rathaus (Marstal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des Bauten der Nachordenszeit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fgesetztes Fachwerk als Schaufassade, dahinter Steinba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scheinungsbild fast zu pittore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roblematisieru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chtes Haus: viel zu geradlinige Balken und Streben gaukeln Fachwerk v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MZ3099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392720" cy="433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beitskreis Landesgeschichte/Landeskunde RP Karlsruhe</a:t>
            </a: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rtschaftsgebäude mittlerer Klosterh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22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ufsicht auf schön gestaffeltes Fachwerk-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üher Verwaltungsge-bäude, Gesindehaus und   Speisemeister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hinter die von Laien-Brüdern betrieben Werk-Stätten wie Mühle, Pfisterei, Wagnerei, Küferei zur verwirklichten Autark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tabgewandte Lebens-weise der Mönche möglich durch Konvers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ld LMZ31975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4994280" cy="362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beitskreis Landesgeschichte/Landeskunde RP Karlsruh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uchtkasten und Ke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ächtiger Bau beherrscht das Erscheinungsbild im Kloster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äume verdecken das wuchtige Bauwe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t ca. 13. Jahrhundert derart riesig, um 1580 ausgeb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n Dekorationen mit Wappen im NS-St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ld LMZ3197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11640" y="1989000"/>
            <a:ext cx="4680000" cy="353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beitskreis Landesgeschichte/Landeskunde RP Karlsruh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uchtkasten/Weingartmeiste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fnahme vom Turm der Klosterkirche (Os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tenprofil gibt Auskunft über eigentliche Größen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hlstand und Leistungsfähigkeit der Güter in klösterlicher und herzöglicher Zeit bezeugt durch riesigen Fruchtka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schussproduktion von Getreide legte Grundstein für Reich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kauf erfolgte über Stadthö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ld LMZ31974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94320" y="1125360"/>
            <a:ext cx="3670200" cy="496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beitskreis Landesgeschichte/Landeskunde RP Karlsruh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ienrefektoriu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ythmisch gruppierte Rundbogen-Fenster und Oculi romanisch im 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heitliches Erscheinungsbild mit neoromanischen Doppelfenstern Ende 19 Jh. angestrebt im 1. 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chgauben aus 1960er Jahren wirken stör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gen historisierenden, fantasiereichen Aufbau immense Schäden durch verrosteter Eisenträ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oniertes Obergeschoss drückt nach unten und und sprengt das Mauerwerk au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MZ31968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211640" y="1506600"/>
            <a:ext cx="4149720" cy="402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beitskreis Landesgeschichte/Landeskunde RP Karlsruh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dies (Vorhalle) der Klosterkirc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 Paradies trafen äußere Welt der Konversen (Wirtschaftsbetriebe) und innere Welt der Mönche (Klausur) aufein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sterziensisches Schlichtheitsgebot vom Paradies, einem  eindrucksvollen Zeugnis früher Gotik, eigentlich unterlau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ld LMZ99165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211640" cy="41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beitskreis Landesgeschichte/Landeskunde RP Karlsruh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ies in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ische Rund-bögen mit Fenstern verschmelzen in gotischen Formen zu einem harmonischen Ga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äußere Struktur romanisch, innen Doppelbogenfenster mit Maß- und Stabwerk got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ild LMZ 3194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24360" y="1844640"/>
            <a:ext cx="5003640" cy="403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beitskreis Landesgeschichte/Landeskunde RP Karlsruh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5:13:38Z</dcterms:created>
  <dc:creator>alok</dc:creator>
  <dc:description/>
  <dc:language>en-US</dc:language>
  <cp:lastModifiedBy>OEM</cp:lastModifiedBy>
  <dcterms:modified xsi:type="dcterms:W3CDTF">2014-08-28T10:18:39Z</dcterms:modified>
  <cp:revision>97</cp:revision>
  <dc:subject/>
  <dc:title>Folie 1</dc:title>
</cp:coreProperties>
</file>