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D057E-8BCE-4667-8A99-ADC46F92C6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5080-05CE-4D06-9412-A3E06DFA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0429-E953-40E5-942F-C736FAFD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D49C-B08D-463C-960D-1848211C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D3B-3F1B-4C71-A8A3-7FB0AFE8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3F02-AA32-422A-BBE8-D3EC85C5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C7E0-6328-4A6D-8C48-1978E652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5BDE-55D1-48FF-B494-E85245D0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02CE-7040-470B-80B6-CFFF5DF9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197-7F50-424D-BE8F-5B2FCBFF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ECB7-0516-4053-B603-907109E4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B74-E158-442C-9AFB-F65FF7B9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70E1-4CB2-4310-8341-6B80CEB9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ECCD8-02BD-46FF-9A38-C591B82DE2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ankowski.de/eshop/Fest-und-Abendmode/Plastron-Einstecktuch/Wilvorst-Plastron-mit-Einstecktuch-Creme-mit-floralem-Muster-38169.html?color_filter=0&amp;logo_filter=0&amp;from=29270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3sat.de/3sat.php?http://www.3sat.de/nano/news/37282/index.html" TargetMode="External"/><Relationship Id="rId2" Type="http://schemas.openxmlformats.org/officeDocument/2006/relationships/hyperlink" Target="http://science.orf.at/science/news/65686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odiva.de/" TargetMode="External"/><Relationship Id="rId2" Type="http://schemas.openxmlformats.org/officeDocument/2006/relationships/hyperlink" Target="http://plone.schule-bw.de/unterricht/faecher/biologie/projekt/bach" TargetMode="External"/><Relationship Id="rId3" Type="http://schemas.openxmlformats.org/officeDocument/2006/relationships/hyperlink" Target="http://plone.schule-bw.de/unterricht/faecher/biologie/projekt/aquarium" TargetMode="External"/><Relationship Id="rId4" Type="http://schemas.openxmlformats.org/officeDocument/2006/relationships/hyperlink" Target="http://plone.schule-bw.de/unterricht/faecher/biologie/medik/exp/mobil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1440000"/>
            <a:ext cx="87120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tm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on aquatischen Insek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2556000"/>
            <a:ext cx="2520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racheen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5184720"/>
            <a:ext cx="1620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utzu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11640" y="6191280"/>
            <a:ext cx="4429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 in Wasser gelösten Sauersto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6191280"/>
            <a:ext cx="27003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 Luftsauersto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702000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31640" y="3095640"/>
            <a:ext cx="4319640" cy="988920"/>
            <a:chOff x="431640" y="3095640"/>
            <a:chExt cx="4319640" cy="988920"/>
          </a:xfrm>
        </p:grpSpPr>
        <p:sp>
          <p:nvSpPr>
            <p:cNvPr id="56" name=""/>
            <p:cNvSpPr/>
            <p:nvPr/>
          </p:nvSpPr>
          <p:spPr>
            <a:xfrm>
              <a:off x="431640" y="3708360"/>
              <a:ext cx="431964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it Öffnungen nach auß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336760" y="3095640"/>
              <a:ext cx="1806480" cy="539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327640" y="3095640"/>
            <a:ext cx="3492360" cy="1060560"/>
            <a:chOff x="5327640" y="3095640"/>
            <a:chExt cx="3492360" cy="1060560"/>
          </a:xfrm>
        </p:grpSpPr>
        <p:sp>
          <p:nvSpPr>
            <p:cNvPr id="59" name=""/>
            <p:cNvSpPr/>
            <p:nvPr/>
          </p:nvSpPr>
          <p:spPr>
            <a:xfrm>
              <a:off x="5327640" y="3780000"/>
              <a:ext cx="34923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ch außen abgeschloss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580000" y="3095640"/>
              <a:ext cx="1260360" cy="539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 flipH="1">
            <a:off x="3236760" y="5580000"/>
            <a:ext cx="144648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00720" y="5580000"/>
            <a:ext cx="900000" cy="503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551640" y="496800"/>
            <a:ext cx="2838600" cy="295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84280" y="503280"/>
            <a:ext cx="2847960" cy="685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39640" y="1536840"/>
            <a:ext cx="2032200" cy="1523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400880" y="1560600"/>
            <a:ext cx="203220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rot="18000000">
            <a:off x="3237480" y="3808800"/>
            <a:ext cx="181080" cy="1620720"/>
          </a:xfrm>
          <a:prstGeom prst="downArrow">
            <a:avLst>
              <a:gd name="adj1" fmla="val 50000"/>
              <a:gd name="adj2" fmla="val 22375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4360" y="324000"/>
            <a:ext cx="8712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ffenes Tracheensystem - Luftsauerst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1289160"/>
            <a:ext cx="3405240" cy="2527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05160" y="4237200"/>
            <a:ext cx="5983200" cy="1595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040360" y="2519280"/>
            <a:ext cx="3960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sserskorpion – Nepa cine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5003640"/>
            <a:ext cx="1800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stbiene - Erist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48000" y="6588000"/>
            <a:ext cx="6120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endenziell gefährlich: Verdriftu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40360" y="2016000"/>
            <a:ext cx="36003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wachsenes Ins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4284720"/>
            <a:ext cx="18003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4360" y="324000"/>
            <a:ext cx="8712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ffenes Tracheensystem - Luftsauerst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2052720"/>
            <a:ext cx="4500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wachsene Insek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0000" y="2771640"/>
            <a:ext cx="43196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hwimmkä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Gefleckter Schnellschwi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04880" y="1030320"/>
            <a:ext cx="3556080" cy="2768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98400" y="4132440"/>
            <a:ext cx="3556080" cy="2717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0000" y="5832360"/>
            <a:ext cx="1728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mpfkä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5075280"/>
            <a:ext cx="1260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r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360" y="324000"/>
            <a:ext cx="8712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fenes Tracheensystem – gelöster Sauerst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20720" y="1116000"/>
            <a:ext cx="3556080" cy="2666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35640" y="2160720"/>
            <a:ext cx="486072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hilfkäf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wei lange Dornen am letzte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Hinterleibs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uft aus Luftgefäßen v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Wasserpfla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00720" y="1476360"/>
            <a:ext cx="3024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r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4360" y="324000"/>
            <a:ext cx="8712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fenes Tracheensystem – gelöster Sauerst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971640"/>
            <a:ext cx="4319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st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lastron bei Bankowski.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- zum Cut oder zum Reit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44720" y="2303640"/>
            <a:ext cx="396072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s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Inkompressible Gaski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4248000"/>
            <a:ext cx="39607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ziell gestaltet: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Lamellenmuster bei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Zweiflüglerpuppen: Lidmücken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Schnaken, Kriebelmüc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84720" y="4211640"/>
            <a:ext cx="396072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t feinen, wasserabweisenden Haar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uchse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kenkäf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3640" y="3384720"/>
            <a:ext cx="396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erfläche des Kör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38920" y="4894200"/>
            <a:ext cx="2306520" cy="1946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19640" y="3240000"/>
            <a:ext cx="539640" cy="17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696760" y="3780000"/>
            <a:ext cx="144612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19640" y="3780000"/>
            <a:ext cx="90000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4360" y="324000"/>
            <a:ext cx="8712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schlossenes Tracheen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96000" y="1152360"/>
            <a:ext cx="3555720" cy="2667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93600" y="1166760"/>
            <a:ext cx="3556080" cy="2666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00000" y="4176720"/>
            <a:ext cx="306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cheenki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6720" y="4859280"/>
            <a:ext cx="302436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itingebilde an der Körperoberfläche mit großer Oberflä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3640" y="6048360"/>
            <a:ext cx="5040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m Hinterlei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rven von Eintagsfliegen und von Köcherf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4284720"/>
            <a:ext cx="43196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 Brustsegmenten: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nche) Larven von Steinf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19640" y="5435640"/>
            <a:ext cx="43196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r an den letzten Hinterleibssegmente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rven des Hakenkä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dominale Schläuche bei Zuckmückenlar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15680" y="5759280"/>
            <a:ext cx="36684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500720" y="4676400"/>
            <a:ext cx="720720" cy="546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19640" y="5580000"/>
            <a:ext cx="900000" cy="17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4360" y="324000"/>
            <a:ext cx="8712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uere Fors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3995640"/>
            <a:ext cx="2340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ä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0720" y="4535640"/>
            <a:ext cx="3060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uckmückenlar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0720" y="5184720"/>
            <a:ext cx="5761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rwachsene Fruchtfliegen: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Universität Mai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116000"/>
            <a:ext cx="27003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embeweg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0720" y="1908000"/>
            <a:ext cx="810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äfer, Grillen, Ameisen, Schmetterlinge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cience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705200" y="2476440"/>
            <a:ext cx="4686480" cy="1276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576840" y="4821120"/>
            <a:ext cx="2743200" cy="213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20720" y="539640"/>
            <a:ext cx="8640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hang 1: Mobil messen: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0720" y="1619280"/>
            <a:ext cx="86407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ektenlarven mit Tracheenki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hängigkeit der Atembewegung vom Sauerstoffgehalt des Was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3816360"/>
            <a:ext cx="43196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ssung des Sauerstoffgeha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59280" y="4500720"/>
            <a:ext cx="41403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face Vernier Lab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5075280"/>
            <a:ext cx="3780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fischer Taschenrech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06400" y="2717640"/>
            <a:ext cx="355608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20720" y="539640"/>
            <a:ext cx="8640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hang 2: Internetadre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0720" y="1440000"/>
            <a:ext cx="86407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od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biodiva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0720" y="2376360"/>
            <a:ext cx="8640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Ökosystem Bac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plone.schule-bw.de/unterricht/faecher/biologie/projekt/b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0720" y="3456000"/>
            <a:ext cx="86407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altwasseraqua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plone.schule-bw.de/unterricht/faecher/biologie/projekt/aqua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0720" y="4572000"/>
            <a:ext cx="86407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bil messen – dig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plone.schule-bw.de/unterricht/faecher/biologie/medik/exp/mobi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dur="indefinite" fill="hold">
                      <p:stCondLst>
                        <p:cond delay="indefinite"/>
                      </p:stCondLst>
                      <p:childTnLst>
                        <p:par>
                          <p:cTn id="2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