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8CE-F6D6-480E-A534-E7E1312C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D0A-3E73-4FA7-B992-12FAFED8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A57-9F44-41DC-8BE2-CDEB5396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876-B95B-4E1A-9A33-5E68320E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7F1-DA33-47FD-8ADF-4B14469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06E-6ECF-4976-9344-D77D3D25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817-D369-49EA-A91E-D4D2CB61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D31-0A8B-4635-97CB-913AA77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61D-82E1-498D-A341-83528473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FD5-C69B-4F0E-AAB1-70E11C4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123-7A7F-40FD-8A8D-BF5AC8C6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605-9C8F-49C7-BA9F-373E7CB6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160CB-281D-48BC-B902-8FAF820B6F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ule-bw.de/unterricht/faecher/biologie/projekte/natura2000/gdi/index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39640"/>
            <a:ext cx="882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nzugsgebiet eines Fließgewäs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18728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au: 817 000 km2, Rhein: 252 000 km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ckar: 14 000 km², Goldersbach: 72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68280" y="2160720"/>
            <a:ext cx="719136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08480" y="234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539640"/>
            <a:ext cx="864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fisches Informationssystem - 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1079640"/>
            <a:ext cx="882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V Spatial Commander: http://www.gdv-software.com/faq/index.ph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2160720"/>
            <a:ext cx="8820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4967280"/>
            <a:ext cx="1979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enaus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nit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6308640"/>
            <a:ext cx="8640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ographische Karte 1 : 25 000 laden: 350_5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, Zoomen auf Kartenausschn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1560600"/>
            <a:ext cx="6886800" cy="46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0720" y="824040"/>
            <a:ext cx="9001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 der Tellerk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entlang der Wasserscheide setzen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60360"/>
            <a:ext cx="427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040360"/>
            <a:ext cx="576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2880" y="2647800"/>
            <a:ext cx="617220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474840"/>
            <a:ext cx="900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nzugsgebiet vermessen 2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Einzugsgebiet des Kleinen Golders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6228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6480000"/>
            <a:ext cx="8820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Polygon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37040" y="1425600"/>
            <a:ext cx="550368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720" y="539640"/>
            <a:ext cx="8820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nzpunkte der Wasserscheide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Höhenlinien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436760"/>
            <a:ext cx="792000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en hinzufügen: CD-ROM/Höhen/Höhenlinien.s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ma sichtbar machen: in Themenliste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/Editiermodus ein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iel: Grenzpunk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s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nzpunkt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igenschaften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ymbolik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unkte: rot und gro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94040" y="2579760"/>
            <a:ext cx="557208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72072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g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anhand der Grenzpunkte zei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1619280"/>
            <a:ext cx="8640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Thema hinzufügen: Einzu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ues Polygon anhand vorgegebener Geometrien nach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arbeiten: Punktfang/Einstellungen: Punkte von Grenzpunkte und Einzugsbereich an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ygon durch Setzen von Punkten zeichnen, abschließen durch Doppelk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Eigenschaften/Symbolik/Einstellungen/Transparenz ein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71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zugsbereich/Attributtabelle: Fläche ab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81600" y="4367160"/>
            <a:ext cx="3506760" cy="26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20720" y="539640"/>
            <a:ext cx="864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rtieren mit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f dem Landesbildungs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659640"/>
            <a:ext cx="864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chule-bw.de/unterricht/faecher/biologie/projekte/natura2000/gdi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7800" y="1547640"/>
            <a:ext cx="79722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