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B35-E01E-4210-B6FD-6B6638C7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73B-C819-40C7-9CF5-923267FB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E87-C2C2-40BF-B52B-A0AC3719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072-BBA7-49CD-B39C-E9855E32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C59-4D22-4444-80D7-6800B68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037-5655-4257-8510-F101984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D6E-877C-47B0-A35E-E36226F3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F8C-19EB-4674-87D4-D831733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B19-51A5-459C-BB57-E7126905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BBD-F010-46EC-B899-01461A6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584-E5D4-4BCC-B900-950CC70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F8E-40DD-4FB1-A651-B794AA1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031E6-63BF-496C-BE53-0864020425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ule-bw.de/unterricht/faecher/biologie/projekte/natura2000/gdi/index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39640"/>
            <a:ext cx="882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nzugsgebiet eines Fließgewäs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18728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au: 817 000 km2, Rhein: 252 000 km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ckar: 14 000 km², Goldersbach: 72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68280" y="2160720"/>
            <a:ext cx="719136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08480" y="234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539640"/>
            <a:ext cx="864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fisches Informationssystem - 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1079640"/>
            <a:ext cx="882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V Spatial Commander: http://www.gdv-software.com/faq/index.ph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2160720"/>
            <a:ext cx="8820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4967280"/>
            <a:ext cx="1979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enaus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nit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6308640"/>
            <a:ext cx="8640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ographische Karte 1 : 25 000 laden: 350_5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, Zoomen auf Kartenausschn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1560600"/>
            <a:ext cx="6886800" cy="46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0720" y="824040"/>
            <a:ext cx="9001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 der Tellerk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entlang der Wasserscheide setzen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60360"/>
            <a:ext cx="427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040360"/>
            <a:ext cx="576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2880" y="2647800"/>
            <a:ext cx="617220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474840"/>
            <a:ext cx="90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2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Einzugsgebiet des Kleinen Golders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6228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6480000"/>
            <a:ext cx="8820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Polygon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7040" y="1425600"/>
            <a:ext cx="550368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720" y="5396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436760"/>
            <a:ext cx="792000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en hinzufügen: CD-ROM/Höhen/Höhenlinien.s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: in Themenliste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/Editiermodus ein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iel: Grenzpunk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nzpunkt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igenschaften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ymbolik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unkte: rot und gro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94040" y="2579760"/>
            <a:ext cx="557208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72072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g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1619280"/>
            <a:ext cx="8640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Polygon anhand vorgegebener Geometrien nach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: Punktfang/Einstellungen: Punkte von Grenzpunkte und Einzugsbereich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zeichnen,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81600" y="4367160"/>
            <a:ext cx="3506760" cy="26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20720" y="53964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ieren mit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f dem Landesbildungs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659640"/>
            <a:ext cx="864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chule-bw.de/unterricht/faecher/biologie/projekte/natura2000/gdi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7800" y="1547640"/>
            <a:ext cx="79722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