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789-7BFC-46AE-A310-D96E7C30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980-101B-40F8-B901-03BF5978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0E4-6275-424A-8343-2B20F989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EB0-AB12-421F-B316-D3AEA6E9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9FB-49D7-49B2-8336-40B25449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3DA-B62F-434C-AFAE-D518ECDC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C1D-6CB1-4AE6-9E4C-CF8FDA5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798-B013-4C52-9168-4E3EFC97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87D-3EFC-4AE2-8494-6F25C999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B31-B34F-4E82-8376-95DF78F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886-A3F8-4B3E-8BAD-59DC85B8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850-96C0-4F49-8AD2-E5BC472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52F18-2DE3-4307-BF28-36961BD9B8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ule-bw.de/unterricht/faecher/biologie/projekte/natura2000/gdi/index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39640"/>
            <a:ext cx="882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nzugsgebiet eines Fließgewäs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18728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au: 817 000 km2, Rhein: 252 000 km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ckar: 14 000 km², Goldersbach: 72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68280" y="2160720"/>
            <a:ext cx="719136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08480" y="234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539640"/>
            <a:ext cx="864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fisches Informationssystem - 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1079640"/>
            <a:ext cx="882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V Spatial Commander: http://www.gdv-software.com/faq/index.ph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2160720"/>
            <a:ext cx="8820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4967280"/>
            <a:ext cx="1979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enaus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nit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6308640"/>
            <a:ext cx="8640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ographische Karte 1 : 25 000 laden: 350_5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, Zoomen auf Kartenausschn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1560600"/>
            <a:ext cx="6886800" cy="46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0720" y="824040"/>
            <a:ext cx="9001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 der Tellerk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entlang der Wasserscheide setzen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60360"/>
            <a:ext cx="427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040360"/>
            <a:ext cx="576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2880" y="2647800"/>
            <a:ext cx="617220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474840"/>
            <a:ext cx="90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2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Einzugsgebiet des Kleinen Golders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6228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6480000"/>
            <a:ext cx="8820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Polygon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7040" y="1425600"/>
            <a:ext cx="550368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720" y="5396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436760"/>
            <a:ext cx="792000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en hinzufügen: CD-ROM/Höhen/Höhenlinien.s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: in Themenliste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/Editiermodus ein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iel: Grenzpunk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nzpunkt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igenschaften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ymbolik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unkte: rot und gro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94040" y="2579760"/>
            <a:ext cx="557208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72072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g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1619280"/>
            <a:ext cx="8640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Polygon anhand vorgegebener Geometrien nach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: Punktfang/Einstellungen: Punkte von Grenzpunkte und Einzugsbereich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zeichnen,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81600" y="4367160"/>
            <a:ext cx="3506760" cy="26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20720" y="53964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ieren mit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f dem Landesbildungs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659640"/>
            <a:ext cx="864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chule-bw.de/unterricht/faecher/biologie/projekte/natura2000/gdi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7800" y="1547640"/>
            <a:ext cx="79722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