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29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Peter Maisenbach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609480" y="4419720"/>
            <a:ext cx="1744920" cy="1833480"/>
            <a:chOff x="609480" y="4419720"/>
            <a:chExt cx="1744920" cy="1833480"/>
          </a:xfrm>
        </p:grpSpPr>
        <p:sp>
          <p:nvSpPr>
            <p:cNvPr id="38" name=""/>
            <p:cNvSpPr/>
            <p:nvPr/>
          </p:nvSpPr>
          <p:spPr>
            <a:xfrm>
              <a:off x="609480" y="4419720"/>
              <a:ext cx="1744920" cy="18334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" name=""/>
            <p:cNvGrpSpPr/>
            <p:nvPr/>
          </p:nvGrpSpPr>
          <p:grpSpPr>
            <a:xfrm>
              <a:off x="609480" y="4419720"/>
              <a:ext cx="1580760" cy="1722240"/>
              <a:chOff x="609480" y="4419720"/>
              <a:chExt cx="1580760" cy="1722240"/>
            </a:xfrm>
          </p:grpSpPr>
          <p:sp>
            <p:nvSpPr>
              <p:cNvPr id="40" name=""/>
              <p:cNvSpPr/>
              <p:nvPr/>
            </p:nvSpPr>
            <p:spPr>
              <a:xfrm>
                <a:off x="609480" y="5126040"/>
                <a:ext cx="767880" cy="75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422360" y="4949640"/>
                <a:ext cx="722520" cy="70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1332000" y="5170320"/>
                <a:ext cx="316080" cy="308880"/>
                <a:chOff x="1332000" y="5170320"/>
                <a:chExt cx="316080" cy="30888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1332000" y="5170320"/>
                  <a:ext cx="316080" cy="30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1467360" y="5302440"/>
                  <a:ext cx="45000" cy="43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" name=""/>
              <p:cNvSpPr/>
              <p:nvPr/>
            </p:nvSpPr>
            <p:spPr>
              <a:xfrm>
                <a:off x="1377360" y="5347080"/>
                <a:ext cx="812880" cy="79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06280" y="4419720"/>
                <a:ext cx="767880" cy="75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2895480" y="4572000"/>
            <a:ext cx="1676520" cy="1727280"/>
            <a:chOff x="2895480" y="4572000"/>
            <a:chExt cx="1676520" cy="1727280"/>
          </a:xfrm>
        </p:grpSpPr>
        <p:sp>
          <p:nvSpPr>
            <p:cNvPr id="48" name=""/>
            <p:cNvSpPr/>
            <p:nvPr/>
          </p:nvSpPr>
          <p:spPr>
            <a:xfrm>
              <a:off x="2895480" y="4572000"/>
              <a:ext cx="1676520" cy="17272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2895480" y="4572000"/>
              <a:ext cx="1518840" cy="1622160"/>
              <a:chOff x="2895480" y="4572000"/>
              <a:chExt cx="1518840" cy="162216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5254920"/>
                <a:ext cx="737640" cy="72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676680" y="5084280"/>
                <a:ext cx="694440" cy="68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3589920" y="5297760"/>
                <a:ext cx="303840" cy="298440"/>
                <a:chOff x="3589920" y="5297760"/>
                <a:chExt cx="303840" cy="2984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589920" y="5297760"/>
                  <a:ext cx="30384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719880" y="5425560"/>
                  <a:ext cx="43200" cy="424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3633120" y="5425920"/>
                <a:ext cx="781200" cy="76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72840" y="4572000"/>
                <a:ext cx="737640" cy="72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5029200" y="4648320"/>
            <a:ext cx="1600200" cy="1600200"/>
            <a:chOff x="5029200" y="4648320"/>
            <a:chExt cx="1600200" cy="1600200"/>
          </a:xfrm>
        </p:grpSpPr>
        <p:sp>
          <p:nvSpPr>
            <p:cNvPr id="58" name=""/>
            <p:cNvSpPr/>
            <p:nvPr/>
          </p:nvSpPr>
          <p:spPr>
            <a:xfrm>
              <a:off x="5029200" y="4648320"/>
              <a:ext cx="1600200" cy="16002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79240" y="4648320"/>
              <a:ext cx="1400040" cy="1503360"/>
              <a:chOff x="5079240" y="4648320"/>
              <a:chExt cx="1400040" cy="1503360"/>
            </a:xfrm>
          </p:grpSpPr>
          <p:sp>
            <p:nvSpPr>
              <p:cNvPr id="60" name=""/>
              <p:cNvSpPr/>
              <p:nvPr/>
            </p:nvSpPr>
            <p:spPr>
              <a:xfrm>
                <a:off x="5759280" y="5122800"/>
                <a:ext cx="679680" cy="6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9240" y="5281200"/>
                <a:ext cx="680040" cy="6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5719320" y="5320800"/>
                <a:ext cx="279720" cy="276840"/>
                <a:chOff x="5719320" y="5320800"/>
                <a:chExt cx="279720" cy="27684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5719320" y="5320800"/>
                  <a:ext cx="279720" cy="27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839200" y="5439240"/>
                  <a:ext cx="39960" cy="39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5759280" y="5439600"/>
                <a:ext cx="720000" cy="712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19160" y="4648320"/>
                <a:ext cx="679680" cy="6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238880" y="4800600"/>
            <a:ext cx="1524240" cy="1461960"/>
            <a:chOff x="7238880" y="4800600"/>
            <a:chExt cx="1524240" cy="1461960"/>
          </a:xfrm>
        </p:grpSpPr>
        <p:sp>
          <p:nvSpPr>
            <p:cNvPr id="68" name=""/>
            <p:cNvSpPr/>
            <p:nvPr/>
          </p:nvSpPr>
          <p:spPr>
            <a:xfrm>
              <a:off x="7238880" y="4800600"/>
              <a:ext cx="1524240" cy="14619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286040" y="4800600"/>
              <a:ext cx="1333440" cy="1372680"/>
              <a:chOff x="7286040" y="4800600"/>
              <a:chExt cx="1333440" cy="1372680"/>
            </a:xfrm>
          </p:grpSpPr>
          <p:sp>
            <p:nvSpPr>
              <p:cNvPr id="70" name=""/>
              <p:cNvSpPr/>
              <p:nvPr/>
            </p:nvSpPr>
            <p:spPr>
              <a:xfrm>
                <a:off x="7933680" y="5234040"/>
                <a:ext cx="648000" cy="61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286040" y="5378400"/>
                <a:ext cx="647640" cy="61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895880" y="5414760"/>
                <a:ext cx="266400" cy="252720"/>
                <a:chOff x="7895880" y="5414760"/>
                <a:chExt cx="266400" cy="2527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895880" y="5414760"/>
                  <a:ext cx="266400" cy="25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010000" y="5523120"/>
                  <a:ext cx="37800" cy="360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7705080" y="4800600"/>
                <a:ext cx="648000" cy="61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933680" y="5523120"/>
                <a:ext cx="685800" cy="65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28600" y="1981080"/>
            <a:ext cx="8686440" cy="2295360"/>
            <a:chOff x="228600" y="1981080"/>
            <a:chExt cx="8686440" cy="2295360"/>
          </a:xfrm>
        </p:grpSpPr>
        <p:sp>
          <p:nvSpPr>
            <p:cNvPr id="78" name=""/>
            <p:cNvSpPr/>
            <p:nvPr/>
          </p:nvSpPr>
          <p:spPr>
            <a:xfrm>
              <a:off x="228600" y="1981080"/>
              <a:ext cx="2190600" cy="2295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2440" y="2678040"/>
              <a:ext cx="900000" cy="94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123920" y="2928960"/>
              <a:ext cx="406440" cy="412560"/>
              <a:chOff x="1123920" y="2928960"/>
              <a:chExt cx="406440" cy="412560"/>
            </a:xfrm>
          </p:grpSpPr>
          <p:sp>
            <p:nvSpPr>
              <p:cNvPr id="81" name=""/>
              <p:cNvSpPr/>
              <p:nvPr/>
            </p:nvSpPr>
            <p:spPr>
              <a:xfrm>
                <a:off x="1123920" y="2928960"/>
                <a:ext cx="406440" cy="41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297800" y="3105720"/>
                <a:ext cx="57960" cy="586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666880" y="2133360"/>
              <a:ext cx="2057400" cy="2119320"/>
              <a:chOff x="2666880" y="2133360"/>
              <a:chExt cx="2057400" cy="21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2133360"/>
                <a:ext cx="2057400" cy="211932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666880" y="2742840"/>
                <a:ext cx="2057040" cy="858960"/>
                <a:chOff x="2666880" y="2742840"/>
                <a:chExt cx="2057040" cy="85896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3519720" y="2995560"/>
                  <a:ext cx="351360" cy="353160"/>
                  <a:chOff x="3519720" y="2995560"/>
                  <a:chExt cx="351360" cy="3531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3519720" y="2995560"/>
                    <a:ext cx="351360" cy="353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670200" y="3146760"/>
                    <a:ext cx="50040" cy="50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2666880" y="2742840"/>
                  <a:ext cx="852840" cy="85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871080" y="2742840"/>
                  <a:ext cx="852840" cy="85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4952880" y="2286000"/>
              <a:ext cx="1879560" cy="1962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070240" y="2286000"/>
              <a:ext cx="1644840" cy="1717200"/>
              <a:chOff x="5070240" y="2286000"/>
              <a:chExt cx="1644840" cy="17172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736960" y="3096720"/>
                <a:ext cx="311040" cy="333720"/>
                <a:chOff x="5736960" y="3096720"/>
                <a:chExt cx="311040" cy="3337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36960" y="3096720"/>
                  <a:ext cx="311040" cy="33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870160" y="3239640"/>
                  <a:ext cx="44280" cy="47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5959440" y="3192120"/>
                <a:ext cx="755640" cy="81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14840" y="2286000"/>
                <a:ext cx="755640" cy="81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70240" y="3192120"/>
                <a:ext cx="755640" cy="81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7162560" y="2286000"/>
              <a:ext cx="1752480" cy="1904400"/>
              <a:chOff x="7162560" y="2286000"/>
              <a:chExt cx="1752480" cy="1904400"/>
            </a:xfrm>
          </p:grpSpPr>
          <p:sp>
            <p:nvSpPr>
              <p:cNvPr id="100" name=""/>
              <p:cNvSpPr/>
              <p:nvPr/>
            </p:nvSpPr>
            <p:spPr>
              <a:xfrm>
                <a:off x="7162560" y="2286000"/>
                <a:ext cx="1752480" cy="19044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7162560" y="2286000"/>
                <a:ext cx="1533600" cy="1785240"/>
                <a:chOff x="7162560" y="2286000"/>
                <a:chExt cx="1533600" cy="1785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951320" y="2849760"/>
                  <a:ext cx="700920" cy="75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863480" y="3084840"/>
                  <a:ext cx="306360" cy="328680"/>
                  <a:chOff x="7863480" y="3084840"/>
                  <a:chExt cx="306360" cy="3286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863480" y="3084840"/>
                    <a:ext cx="306360" cy="32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994520" y="3225600"/>
                    <a:ext cx="43560" cy="46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7907400" y="3225600"/>
                  <a:ext cx="788760" cy="84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62560" y="3037680"/>
                  <a:ext cx="744840" cy="79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644240" y="2286000"/>
                  <a:ext cx="744840" cy="79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85800" y="457200"/>
            <a:ext cx="1295280" cy="1295280"/>
            <a:chOff x="685800" y="457200"/>
            <a:chExt cx="1295280" cy="1295280"/>
          </a:xfrm>
        </p:grpSpPr>
        <p:sp>
          <p:nvSpPr>
            <p:cNvPr id="110" name=""/>
            <p:cNvSpPr/>
            <p:nvPr/>
          </p:nvSpPr>
          <p:spPr>
            <a:xfrm>
              <a:off x="685800" y="45720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95280" y="1066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391520" y="533520"/>
            <a:ext cx="1143000" cy="1143000"/>
            <a:chOff x="7391520" y="533520"/>
            <a:chExt cx="1143000" cy="1143000"/>
          </a:xfrm>
        </p:grpSpPr>
        <p:grpSp>
          <p:nvGrpSpPr>
            <p:cNvPr id="113" name=""/>
            <p:cNvGrpSpPr/>
            <p:nvPr/>
          </p:nvGrpSpPr>
          <p:grpSpPr>
            <a:xfrm>
              <a:off x="7391520" y="533520"/>
              <a:ext cx="1143000" cy="1143000"/>
              <a:chOff x="7391520" y="533520"/>
              <a:chExt cx="1143000" cy="1143000"/>
            </a:xfrm>
          </p:grpSpPr>
          <p:sp>
            <p:nvSpPr>
              <p:cNvPr id="114" name=""/>
              <p:cNvSpPr/>
              <p:nvPr/>
            </p:nvSpPr>
            <p:spPr>
              <a:xfrm>
                <a:off x="7391520" y="533520"/>
                <a:ext cx="1143000" cy="11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29360" y="1071360"/>
                <a:ext cx="6696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924680" y="1066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048120" y="609480"/>
            <a:ext cx="3580920" cy="1219320"/>
            <a:chOff x="3048120" y="609480"/>
            <a:chExt cx="3580920" cy="1219320"/>
          </a:xfrm>
        </p:grpSpPr>
        <p:sp>
          <p:nvSpPr>
            <p:cNvPr id="118" name=""/>
            <p:cNvSpPr/>
            <p:nvPr/>
          </p:nvSpPr>
          <p:spPr>
            <a:xfrm>
              <a:off x="3504960" y="99036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gelwolken einfach besetz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048120" y="609480"/>
              <a:ext cx="3580920" cy="1219320"/>
              <a:chOff x="3048120" y="609480"/>
              <a:chExt cx="3580920" cy="1219320"/>
            </a:xfrm>
          </p:grpSpPr>
          <p:sp>
            <p:nvSpPr>
              <p:cNvPr id="120" name=""/>
              <p:cNvSpPr/>
              <p:nvPr/>
            </p:nvSpPr>
            <p:spPr>
              <a:xfrm>
                <a:off x="3126960" y="914400"/>
                <a:ext cx="390600" cy="38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26960" y="1392120"/>
                <a:ext cx="390600" cy="38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84280" y="761760"/>
                <a:ext cx="7884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48120" y="609480"/>
                <a:ext cx="3387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02520" y="715680"/>
                <a:ext cx="18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21520" y="609480"/>
                <a:ext cx="121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tomker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0800" y="1371600"/>
                <a:ext cx="31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ugelwolken doppelt besetz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 Black"/>
              </a:rPr>
              <a:t>Kugelwolkenmod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914400" y="2590920"/>
            <a:ext cx="8380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124080" y="2590920"/>
            <a:ext cx="838440" cy="914400"/>
            <a:chOff x="3124080" y="2590920"/>
            <a:chExt cx="838440" cy="914400"/>
          </a:xfrm>
        </p:grpSpPr>
        <p:sp>
          <p:nvSpPr>
            <p:cNvPr id="550" name=""/>
            <p:cNvSpPr/>
            <p:nvPr/>
          </p:nvSpPr>
          <p:spPr>
            <a:xfrm>
              <a:off x="3124080" y="2590920"/>
              <a:ext cx="83844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18640" y="3021120"/>
              <a:ext cx="49320" cy="53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371240" y="2895120"/>
            <a:ext cx="344520" cy="376200"/>
            <a:chOff x="1371240" y="2895120"/>
            <a:chExt cx="344520" cy="376200"/>
          </a:xfrm>
        </p:grpSpPr>
        <p:sp>
          <p:nvSpPr>
            <p:cNvPr id="553" name=""/>
            <p:cNvSpPr/>
            <p:nvPr/>
          </p:nvSpPr>
          <p:spPr>
            <a:xfrm rot="10800000">
              <a:off x="1371240" y="2895120"/>
              <a:ext cx="344520" cy="37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519200" y="3056760"/>
              <a:ext cx="48960" cy="5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 rot="10800000">
            <a:off x="1676520" y="2590920"/>
            <a:ext cx="8380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3048120"/>
            <a:ext cx="936360" cy="102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2057400"/>
            <a:ext cx="936360" cy="102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334120" y="2057400"/>
            <a:ext cx="1828800" cy="2013120"/>
            <a:chOff x="5334120" y="2057400"/>
            <a:chExt cx="1828800" cy="2013120"/>
          </a:xfrm>
        </p:grpSpPr>
        <p:sp>
          <p:nvSpPr>
            <p:cNvPr id="559" name=""/>
            <p:cNvSpPr/>
            <p:nvPr/>
          </p:nvSpPr>
          <p:spPr>
            <a:xfrm>
              <a:off x="6324480" y="2590920"/>
              <a:ext cx="838440" cy="91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a5a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6400" y="2590920"/>
              <a:ext cx="8380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943240" y="2895120"/>
              <a:ext cx="344520" cy="376200"/>
              <a:chOff x="5943240" y="2895120"/>
              <a:chExt cx="344520" cy="376200"/>
            </a:xfrm>
          </p:grpSpPr>
          <p:sp>
            <p:nvSpPr>
              <p:cNvPr id="562" name=""/>
              <p:cNvSpPr/>
              <p:nvPr/>
            </p:nvSpPr>
            <p:spPr>
              <a:xfrm rot="10800000">
                <a:off x="5943240" y="2895120"/>
                <a:ext cx="34452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0800000">
                <a:off x="6091200" y="305676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5334120" y="304812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34120" y="205740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46920" y="3021120"/>
              <a:ext cx="50760" cy="5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Fluorwasser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261120" y="241128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7884200">
            <a:off x="6948000" y="2118960"/>
            <a:ext cx="1116000" cy="534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6934320" y="2819520"/>
            <a:ext cx="380880" cy="457200"/>
            <a:chOff x="6934320" y="2819520"/>
            <a:chExt cx="380880" cy="457200"/>
          </a:xfrm>
        </p:grpSpPr>
        <p:sp>
          <p:nvSpPr>
            <p:cNvPr id="571" name=""/>
            <p:cNvSpPr/>
            <p:nvPr/>
          </p:nvSpPr>
          <p:spPr>
            <a:xfrm>
              <a:off x="6934320" y="2819520"/>
              <a:ext cx="38088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097400" y="3015360"/>
              <a:ext cx="54360" cy="6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3456600">
            <a:off x="6891120" y="3395520"/>
            <a:ext cx="1143000" cy="600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30120" y="1900080"/>
            <a:ext cx="1836720" cy="2492640"/>
            <a:chOff x="330120" y="1900080"/>
            <a:chExt cx="1836720" cy="2492640"/>
          </a:xfrm>
        </p:grpSpPr>
        <p:sp>
          <p:nvSpPr>
            <p:cNvPr id="575" name=""/>
            <p:cNvSpPr/>
            <p:nvPr/>
          </p:nvSpPr>
          <p:spPr>
            <a:xfrm>
              <a:off x="635040" y="2433600"/>
              <a:ext cx="9144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650520" y="2579760"/>
              <a:ext cx="1515960" cy="18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66840" y="1900080"/>
              <a:ext cx="0" cy="24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330120" y="3260880"/>
              <a:ext cx="183672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330120" y="2579760"/>
              <a:ext cx="3207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50880" y="1900080"/>
              <a:ext cx="1515960" cy="67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1386000" y="2943360"/>
              <a:ext cx="312480" cy="323640"/>
              <a:chOff x="1386000" y="2943360"/>
              <a:chExt cx="312480" cy="323640"/>
            </a:xfrm>
          </p:grpSpPr>
          <p:sp>
            <p:nvSpPr>
              <p:cNvPr id="582" name=""/>
              <p:cNvSpPr/>
              <p:nvPr/>
            </p:nvSpPr>
            <p:spPr>
              <a:xfrm>
                <a:off x="1386000" y="2943360"/>
                <a:ext cx="312480" cy="32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19920" y="3081960"/>
                <a:ext cx="446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295280" y="3124080"/>
              <a:ext cx="87156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19040" y="2127240"/>
              <a:ext cx="847800" cy="92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3520" y="2590920"/>
              <a:ext cx="91440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30120" y="1900080"/>
              <a:ext cx="1836720" cy="13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 flipV="1">
            <a:off x="6289560" y="2552760"/>
            <a:ext cx="1516320" cy="18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5969160" y="3233880"/>
            <a:ext cx="18367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969160" y="2552760"/>
            <a:ext cx="32040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289560" y="1873080"/>
            <a:ext cx="1516320" cy="6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08840" y="2563920"/>
            <a:ext cx="99036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3886200"/>
            <a:ext cx="50760" cy="50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69160" y="1873080"/>
            <a:ext cx="1836720" cy="13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85000" y="1878120"/>
            <a:ext cx="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20120" y="2133720"/>
            <a:ext cx="50760" cy="50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124080" y="1676520"/>
            <a:ext cx="762120" cy="761760"/>
            <a:chOff x="3124080" y="1676520"/>
            <a:chExt cx="762120" cy="761760"/>
          </a:xfrm>
        </p:grpSpPr>
        <p:sp>
          <p:nvSpPr>
            <p:cNvPr id="598" name=""/>
            <p:cNvSpPr/>
            <p:nvPr/>
          </p:nvSpPr>
          <p:spPr>
            <a:xfrm>
              <a:off x="3124080" y="1676520"/>
              <a:ext cx="762120" cy="76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82640" y="2034720"/>
              <a:ext cx="44640" cy="44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76720" y="3429000"/>
            <a:ext cx="761760" cy="762120"/>
            <a:chOff x="3276720" y="3429000"/>
            <a:chExt cx="761760" cy="762120"/>
          </a:xfrm>
        </p:grpSpPr>
        <p:sp>
          <p:nvSpPr>
            <p:cNvPr id="601" name=""/>
            <p:cNvSpPr/>
            <p:nvPr/>
          </p:nvSpPr>
          <p:spPr>
            <a:xfrm>
              <a:off x="3276720" y="3429000"/>
              <a:ext cx="761760" cy="76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35280" y="3787560"/>
              <a:ext cx="44640" cy="44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0" y="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Sauerstoff          Wasserstoff                             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343400" y="4267080"/>
            <a:ext cx="12952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93920" y="514080"/>
            <a:ext cx="1836720" cy="2492640"/>
            <a:chOff x="1393920" y="514080"/>
            <a:chExt cx="1836720" cy="2492640"/>
          </a:xfrm>
        </p:grpSpPr>
        <p:sp>
          <p:nvSpPr>
            <p:cNvPr id="606" name=""/>
            <p:cNvSpPr/>
            <p:nvPr/>
          </p:nvSpPr>
          <p:spPr>
            <a:xfrm>
              <a:off x="1698840" y="1047600"/>
              <a:ext cx="91440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1714320" y="1193400"/>
              <a:ext cx="1515960" cy="1812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30640" y="51444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393920" y="1874520"/>
              <a:ext cx="1836720" cy="11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1393920" y="1193400"/>
              <a:ext cx="320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714680" y="514080"/>
              <a:ext cx="151596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449800" y="1557360"/>
              <a:ext cx="312480" cy="323280"/>
              <a:chOff x="2449800" y="1557360"/>
              <a:chExt cx="312480" cy="323280"/>
            </a:xfrm>
          </p:grpSpPr>
          <p:sp>
            <p:nvSpPr>
              <p:cNvPr id="613" name=""/>
              <p:cNvSpPr/>
              <p:nvPr/>
            </p:nvSpPr>
            <p:spPr>
              <a:xfrm>
                <a:off x="2449800" y="1557360"/>
                <a:ext cx="312480" cy="32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83720" y="1695600"/>
                <a:ext cx="446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2359080" y="1738080"/>
              <a:ext cx="871560" cy="90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82840" y="741240"/>
              <a:ext cx="847800" cy="92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597320" y="1204920"/>
              <a:ext cx="91440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393920" y="514440"/>
              <a:ext cx="1836720" cy="13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rot="10800000">
            <a:off x="4495320" y="1066320"/>
            <a:ext cx="838440" cy="925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130640" y="1574640"/>
            <a:ext cx="317520" cy="331920"/>
            <a:chOff x="4130640" y="1574640"/>
            <a:chExt cx="317520" cy="331920"/>
          </a:xfrm>
        </p:grpSpPr>
        <p:sp>
          <p:nvSpPr>
            <p:cNvPr id="621" name=""/>
            <p:cNvSpPr/>
            <p:nvPr/>
          </p:nvSpPr>
          <p:spPr>
            <a:xfrm rot="10800000">
              <a:off x="4130640" y="1574640"/>
              <a:ext cx="317520" cy="33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0800000">
              <a:off x="4266720" y="1717200"/>
              <a:ext cx="45360" cy="47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 rot="10800000">
            <a:off x="3654360" y="779400"/>
            <a:ext cx="88416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0800000">
            <a:off x="3654360" y="1794960"/>
            <a:ext cx="858960" cy="87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4343400" y="1295280"/>
            <a:ext cx="905040" cy="92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62720" y="533160"/>
            <a:ext cx="1836720" cy="2492640"/>
            <a:chOff x="5562720" y="533160"/>
            <a:chExt cx="1836720" cy="2492640"/>
          </a:xfrm>
        </p:grpSpPr>
        <p:sp>
          <p:nvSpPr>
            <p:cNvPr id="627" name=""/>
            <p:cNvSpPr/>
            <p:nvPr/>
          </p:nvSpPr>
          <p:spPr>
            <a:xfrm>
              <a:off x="5867280" y="1066680"/>
              <a:ext cx="847800" cy="927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5883120" y="1212840"/>
              <a:ext cx="1516320" cy="18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9440" y="53352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5562720" y="1893960"/>
              <a:ext cx="183672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562720" y="1212840"/>
              <a:ext cx="32040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5883120" y="533160"/>
              <a:ext cx="151632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618240" y="1576440"/>
              <a:ext cx="312840" cy="323640"/>
              <a:chOff x="6618240" y="1576440"/>
              <a:chExt cx="312840" cy="323640"/>
            </a:xfrm>
          </p:grpSpPr>
          <p:sp>
            <p:nvSpPr>
              <p:cNvPr id="634" name=""/>
              <p:cNvSpPr/>
              <p:nvPr/>
            </p:nvSpPr>
            <p:spPr>
              <a:xfrm>
                <a:off x="6618240" y="1576440"/>
                <a:ext cx="312840" cy="32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752160" y="1715040"/>
                <a:ext cx="446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5715000" y="1295280"/>
              <a:ext cx="87156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77120" y="17524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53080" y="762120"/>
              <a:ext cx="83844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562720" y="533520"/>
              <a:ext cx="1836720" cy="13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460600" y="424800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476080" y="4394160"/>
            <a:ext cx="1515960" cy="18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92400" y="3714840"/>
            <a:ext cx="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2155680" y="5075280"/>
            <a:ext cx="18367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155680" y="4394160"/>
            <a:ext cx="3207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2476440" y="3714480"/>
            <a:ext cx="151596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211560" y="4757760"/>
            <a:ext cx="312840" cy="324000"/>
            <a:chOff x="3211560" y="4757760"/>
            <a:chExt cx="312840" cy="324000"/>
          </a:xfrm>
        </p:grpSpPr>
        <p:sp>
          <p:nvSpPr>
            <p:cNvPr id="647" name=""/>
            <p:cNvSpPr/>
            <p:nvPr/>
          </p:nvSpPr>
          <p:spPr>
            <a:xfrm>
              <a:off x="3211560" y="475776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5480" y="4896360"/>
              <a:ext cx="44640" cy="4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2286000" y="4405320"/>
            <a:ext cx="9874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155680" y="3714840"/>
            <a:ext cx="18367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4133880" y="4711320"/>
            <a:ext cx="317520" cy="352440"/>
            <a:chOff x="4133880" y="4711320"/>
            <a:chExt cx="317520" cy="352440"/>
          </a:xfrm>
        </p:grpSpPr>
        <p:sp>
          <p:nvSpPr>
            <p:cNvPr id="652" name=""/>
            <p:cNvSpPr/>
            <p:nvPr/>
          </p:nvSpPr>
          <p:spPr>
            <a:xfrm rot="10800000">
              <a:off x="4133880" y="4711320"/>
              <a:ext cx="317520" cy="35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0800000">
              <a:off x="4269960" y="4862520"/>
              <a:ext cx="45360" cy="5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H="1" flipV="1">
            <a:off x="5045040" y="4413240"/>
            <a:ext cx="1432080" cy="175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77120" y="3733920"/>
            <a:ext cx="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952880" y="3733560"/>
            <a:ext cx="1516320" cy="67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5780160" y="4776840"/>
            <a:ext cx="312840" cy="323640"/>
            <a:chOff x="5780160" y="4776840"/>
            <a:chExt cx="312840" cy="323640"/>
          </a:xfrm>
        </p:grpSpPr>
        <p:sp>
          <p:nvSpPr>
            <p:cNvPr id="658" name=""/>
            <p:cNvSpPr/>
            <p:nvPr/>
          </p:nvSpPr>
          <p:spPr>
            <a:xfrm>
              <a:off x="5780160" y="4776840"/>
              <a:ext cx="31284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14080" y="4915440"/>
              <a:ext cx="44640" cy="4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5562720" y="4952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62720" y="388620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00400" y="4952880"/>
            <a:ext cx="12952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124080" y="3886200"/>
            <a:ext cx="129564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724280" y="4413240"/>
            <a:ext cx="3207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4419720"/>
            <a:ext cx="137160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723920" y="3733920"/>
            <a:ext cx="175284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4723920" y="5094360"/>
            <a:ext cx="1752840" cy="11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62520" y="373392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962520" y="5105160"/>
            <a:ext cx="7617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37339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62520" y="53341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diox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1523520" y="457200"/>
            <a:ext cx="4953240" cy="6171840"/>
            <a:chOff x="1523520" y="457200"/>
            <a:chExt cx="4953240" cy="6171840"/>
          </a:xfrm>
        </p:grpSpPr>
        <p:sp>
          <p:nvSpPr>
            <p:cNvPr id="674" name=""/>
            <p:cNvSpPr/>
            <p:nvPr/>
          </p:nvSpPr>
          <p:spPr>
            <a:xfrm flipH="1" flipV="1">
              <a:off x="4622760" y="5285520"/>
              <a:ext cx="1206000" cy="134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622760" y="4782600"/>
              <a:ext cx="1206000" cy="50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155120" y="5106600"/>
              <a:ext cx="116064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1523520" y="461880"/>
              <a:ext cx="1460880" cy="1846440"/>
              <a:chOff x="1523520" y="461880"/>
              <a:chExt cx="1460880" cy="1846440"/>
            </a:xfrm>
          </p:grpSpPr>
          <p:sp>
            <p:nvSpPr>
              <p:cNvPr id="678" name=""/>
              <p:cNvSpPr/>
              <p:nvPr/>
            </p:nvSpPr>
            <p:spPr>
              <a:xfrm>
                <a:off x="1766160" y="856800"/>
                <a:ext cx="7268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1778760" y="965160"/>
                <a:ext cx="1205280" cy="13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84400" y="461880"/>
                <a:ext cx="0" cy="18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1523520" y="1469520"/>
                <a:ext cx="14605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523880" y="964800"/>
                <a:ext cx="25488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778760" y="461880"/>
                <a:ext cx="1205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2363400" y="1234440"/>
                <a:ext cx="248400" cy="239400"/>
                <a:chOff x="2363400" y="1234440"/>
                <a:chExt cx="248400" cy="23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2363400" y="1234440"/>
                  <a:ext cx="248400" cy="23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469600" y="1337040"/>
                  <a:ext cx="35280" cy="34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2291040" y="1368360"/>
                <a:ext cx="693000" cy="6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10120" y="630000"/>
                <a:ext cx="673920" cy="68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85520" y="973440"/>
                <a:ext cx="72684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1523520" y="461880"/>
                <a:ext cx="146052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 rot="10800000">
              <a:off x="4167720" y="851760"/>
              <a:ext cx="665640" cy="68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3877920" y="1227960"/>
              <a:ext cx="251280" cy="246240"/>
              <a:chOff x="3877920" y="1227960"/>
              <a:chExt cx="251280" cy="24624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3877920" y="1227960"/>
                <a:ext cx="251280" cy="246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3985920" y="1333800"/>
                <a:ext cx="35640" cy="34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rot="10800000">
              <a:off x="3498840" y="638640"/>
              <a:ext cx="702720" cy="68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0800000">
              <a:off x="3498840" y="1390680"/>
              <a:ext cx="683280" cy="645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0800000">
              <a:off x="4046760" y="1021320"/>
              <a:ext cx="718920" cy="68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5015880" y="457200"/>
              <a:ext cx="1460880" cy="1846440"/>
              <a:chOff x="5015880" y="457200"/>
              <a:chExt cx="1460880" cy="1846440"/>
            </a:xfrm>
          </p:grpSpPr>
          <p:sp>
            <p:nvSpPr>
              <p:cNvPr id="699" name=""/>
              <p:cNvSpPr/>
              <p:nvPr/>
            </p:nvSpPr>
            <p:spPr>
              <a:xfrm>
                <a:off x="5258160" y="852120"/>
                <a:ext cx="673920" cy="68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270400" y="960120"/>
                <a:ext cx="1205640" cy="13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476760" y="457200"/>
                <a:ext cx="0" cy="18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5015880" y="1464480"/>
                <a:ext cx="14605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5016240" y="960120"/>
                <a:ext cx="25452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5270760" y="457200"/>
                <a:ext cx="120564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"/>
              <p:cNvGrpSpPr/>
              <p:nvPr/>
            </p:nvGrpSpPr>
            <p:grpSpPr>
              <a:xfrm>
                <a:off x="5855400" y="1229760"/>
                <a:ext cx="248760" cy="239760"/>
                <a:chOff x="5855400" y="1229760"/>
                <a:chExt cx="248760" cy="2397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855400" y="1229760"/>
                  <a:ext cx="24876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961960" y="1332360"/>
                  <a:ext cx="35280" cy="34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" name=""/>
              <p:cNvSpPr/>
              <p:nvPr/>
            </p:nvSpPr>
            <p:spPr>
              <a:xfrm>
                <a:off x="5137200" y="1021320"/>
                <a:ext cx="693000" cy="6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43080" y="1360080"/>
                <a:ext cx="72684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03560" y="626400"/>
                <a:ext cx="66672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5015880" y="457200"/>
                <a:ext cx="146052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168280" y="2615040"/>
              <a:ext cx="1460880" cy="1846440"/>
              <a:chOff x="2168280" y="2615040"/>
              <a:chExt cx="1460880" cy="1846440"/>
            </a:xfrm>
          </p:grpSpPr>
          <p:sp>
            <p:nvSpPr>
              <p:cNvPr id="713" name=""/>
              <p:cNvSpPr/>
              <p:nvPr/>
            </p:nvSpPr>
            <p:spPr>
              <a:xfrm>
                <a:off x="2410920" y="3009960"/>
                <a:ext cx="7268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2423520" y="3118320"/>
                <a:ext cx="1205280" cy="134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29160" y="2615040"/>
                <a:ext cx="0" cy="18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2168280" y="3622680"/>
                <a:ext cx="14605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2168640" y="3117960"/>
                <a:ext cx="25488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2423520" y="2615040"/>
                <a:ext cx="120528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3008160" y="3387600"/>
                <a:ext cx="248400" cy="239400"/>
                <a:chOff x="3008160" y="3387600"/>
                <a:chExt cx="248400" cy="2394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3008160" y="3387600"/>
                  <a:ext cx="248400" cy="23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114360" y="3490200"/>
                  <a:ext cx="35280" cy="34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2935800" y="3521520"/>
                <a:ext cx="693000" cy="6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54880" y="2783160"/>
                <a:ext cx="673920" cy="68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30280" y="3126600"/>
                <a:ext cx="726840" cy="73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168280" y="2615040"/>
                <a:ext cx="146052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3381120" y="2783880"/>
              <a:ext cx="1334520" cy="1396080"/>
              <a:chOff x="3381120" y="2783880"/>
              <a:chExt cx="1334520" cy="1396080"/>
            </a:xfrm>
          </p:grpSpPr>
          <p:sp>
            <p:nvSpPr>
              <p:cNvPr id="727" name=""/>
              <p:cNvSpPr/>
              <p:nvPr/>
            </p:nvSpPr>
            <p:spPr>
              <a:xfrm rot="10800000">
                <a:off x="4049640" y="2996280"/>
                <a:ext cx="666000" cy="68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3759120" y="3372840"/>
                <a:ext cx="252360" cy="245520"/>
                <a:chOff x="3759120" y="3372840"/>
                <a:chExt cx="252360" cy="245520"/>
              </a:xfrm>
            </p:grpSpPr>
            <p:sp>
              <p:nvSpPr>
                <p:cNvPr id="729" name=""/>
                <p:cNvSpPr/>
                <p:nvPr/>
              </p:nvSpPr>
              <p:spPr>
                <a:xfrm rot="10800000">
                  <a:off x="3759120" y="3372840"/>
                  <a:ext cx="252360" cy="24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0800000">
                  <a:off x="3867480" y="3478320"/>
                  <a:ext cx="36000" cy="349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"/>
              <p:cNvSpPr/>
              <p:nvPr/>
            </p:nvSpPr>
            <p:spPr>
              <a:xfrm rot="10800000">
                <a:off x="3381120" y="2783880"/>
                <a:ext cx="702720" cy="68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0800000">
                <a:off x="3381120" y="3535920"/>
                <a:ext cx="682560" cy="64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0800000">
                <a:off x="3928320" y="3166200"/>
                <a:ext cx="718920" cy="68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4290120" y="2615040"/>
              <a:ext cx="1460880" cy="1846440"/>
              <a:chOff x="4290120" y="2615040"/>
              <a:chExt cx="1460880" cy="1846440"/>
            </a:xfrm>
          </p:grpSpPr>
          <p:sp>
            <p:nvSpPr>
              <p:cNvPr id="735" name=""/>
              <p:cNvSpPr/>
              <p:nvPr/>
            </p:nvSpPr>
            <p:spPr>
              <a:xfrm>
                <a:off x="4532400" y="3009960"/>
                <a:ext cx="673920" cy="686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 flipV="1">
                <a:off x="4544640" y="3117960"/>
                <a:ext cx="1205640" cy="13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51000" y="2615040"/>
                <a:ext cx="0" cy="18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4290120" y="3622320"/>
                <a:ext cx="146052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4290480" y="3117960"/>
                <a:ext cx="25452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4545000" y="2615040"/>
                <a:ext cx="120564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5129640" y="3387600"/>
                <a:ext cx="248760" cy="239760"/>
                <a:chOff x="5129640" y="3387600"/>
                <a:chExt cx="248760" cy="23976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5129640" y="3387600"/>
                  <a:ext cx="248760" cy="23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236200" y="3490200"/>
                  <a:ext cx="35280" cy="34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411440" y="3179160"/>
                <a:ext cx="693000" cy="6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17320" y="3517920"/>
                <a:ext cx="72684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77800" y="2784240"/>
                <a:ext cx="66672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4290120" y="2615040"/>
                <a:ext cx="146052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2487960" y="5177520"/>
              <a:ext cx="726840" cy="73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2500560" y="5285520"/>
              <a:ext cx="1205640" cy="134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706560" y="4782600"/>
              <a:ext cx="0" cy="18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2245680" y="5790240"/>
              <a:ext cx="1460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246040" y="5285160"/>
              <a:ext cx="2545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00920" y="4782600"/>
              <a:ext cx="1205640" cy="50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3086280" y="5555160"/>
              <a:ext cx="248040" cy="240120"/>
              <a:chOff x="3086280" y="5555160"/>
              <a:chExt cx="248040" cy="240120"/>
            </a:xfrm>
          </p:grpSpPr>
          <p:sp>
            <p:nvSpPr>
              <p:cNvPr id="755" name=""/>
              <p:cNvSpPr/>
              <p:nvPr/>
            </p:nvSpPr>
            <p:spPr>
              <a:xfrm>
                <a:off x="3086280" y="5555160"/>
                <a:ext cx="248040" cy="24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92480" y="5658120"/>
                <a:ext cx="35280" cy="34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2406960" y="5293800"/>
              <a:ext cx="727200" cy="73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837600" y="5540040"/>
              <a:ext cx="251280" cy="246600"/>
              <a:chOff x="3837600" y="5540040"/>
              <a:chExt cx="251280" cy="246600"/>
            </a:xfrm>
          </p:grpSpPr>
          <p:sp>
            <p:nvSpPr>
              <p:cNvPr id="759" name=""/>
              <p:cNvSpPr/>
              <p:nvPr/>
            </p:nvSpPr>
            <p:spPr>
              <a:xfrm rot="10800000">
                <a:off x="3837600" y="5540040"/>
                <a:ext cx="251280" cy="246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0800000">
                <a:off x="3945600" y="5645880"/>
                <a:ext cx="356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 rot="10800000">
              <a:off x="3071160" y="4951440"/>
              <a:ext cx="108972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0800000">
              <a:off x="2993760" y="5704560"/>
              <a:ext cx="1146600" cy="64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29120" y="4782600"/>
              <a:ext cx="0" cy="18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5208120" y="5555160"/>
              <a:ext cx="248040" cy="240120"/>
              <a:chOff x="5208120" y="5555160"/>
              <a:chExt cx="248040" cy="240120"/>
            </a:xfrm>
          </p:grpSpPr>
          <p:sp>
            <p:nvSpPr>
              <p:cNvPr id="765" name=""/>
              <p:cNvSpPr/>
              <p:nvPr/>
            </p:nvSpPr>
            <p:spPr>
              <a:xfrm>
                <a:off x="5208120" y="5555160"/>
                <a:ext cx="248040" cy="24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314320" y="5658120"/>
                <a:ext cx="35280" cy="34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5095080" y="5685480"/>
              <a:ext cx="727200" cy="67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56640" y="4951800"/>
              <a:ext cx="665640" cy="677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245680" y="4782600"/>
              <a:ext cx="146052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94120" y="5648760"/>
              <a:ext cx="116064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994120" y="4951800"/>
              <a:ext cx="116064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77720" y="5338800"/>
              <a:ext cx="1160640" cy="69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367880" y="4782600"/>
              <a:ext cx="146088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4367880" y="5790240"/>
              <a:ext cx="14608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diox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"/>
          <p:cNvGrpSpPr/>
          <p:nvPr/>
        </p:nvGrpSpPr>
        <p:grpSpPr>
          <a:xfrm>
            <a:off x="609120" y="304920"/>
            <a:ext cx="2667600" cy="2819160"/>
            <a:chOff x="609120" y="304920"/>
            <a:chExt cx="2667600" cy="2819160"/>
          </a:xfrm>
        </p:grpSpPr>
        <p:sp>
          <p:nvSpPr>
            <p:cNvPr id="777" name=""/>
            <p:cNvSpPr/>
            <p:nvPr/>
          </p:nvSpPr>
          <p:spPr>
            <a:xfrm flipH="1" flipV="1">
              <a:off x="3213000" y="1596600"/>
              <a:ext cx="63360" cy="15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09480" y="1596960"/>
              <a:ext cx="2603520" cy="76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990360" y="657000"/>
              <a:ext cx="2285640" cy="2231280"/>
              <a:chOff x="990360" y="657000"/>
              <a:chExt cx="2285640" cy="2231280"/>
            </a:xfrm>
          </p:grpSpPr>
          <p:sp>
            <p:nvSpPr>
              <p:cNvPr id="780" name=""/>
              <p:cNvSpPr/>
              <p:nvPr/>
            </p:nvSpPr>
            <p:spPr>
              <a:xfrm>
                <a:off x="2165760" y="1361520"/>
                <a:ext cx="1044720" cy="939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2035080" y="1655280"/>
                <a:ext cx="457200" cy="411120"/>
                <a:chOff x="2035080" y="1655280"/>
                <a:chExt cx="457200" cy="411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035080" y="1655280"/>
                  <a:ext cx="457200" cy="41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230920" y="1831320"/>
                  <a:ext cx="65160" cy="5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2100600" y="1831320"/>
                <a:ext cx="1175400" cy="105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90360" y="1596600"/>
                <a:ext cx="1110240" cy="99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8920" y="657000"/>
                <a:ext cx="1109880" cy="99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2324160" y="304920"/>
              <a:ext cx="888840" cy="12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24160" y="304920"/>
              <a:ext cx="95256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609120" y="2360160"/>
              <a:ext cx="266724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09480" y="304920"/>
              <a:ext cx="1714680" cy="20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5181480" y="228240"/>
            <a:ext cx="2362320" cy="2972160"/>
            <a:chOff x="5181480" y="228240"/>
            <a:chExt cx="2362320" cy="2972160"/>
          </a:xfrm>
        </p:grpSpPr>
        <p:sp>
          <p:nvSpPr>
            <p:cNvPr id="792" name=""/>
            <p:cNvSpPr/>
            <p:nvPr/>
          </p:nvSpPr>
          <p:spPr>
            <a:xfrm flipH="1" flipV="1">
              <a:off x="5594400" y="1038600"/>
              <a:ext cx="1948680" cy="216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43800" y="22860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5181480" y="1849320"/>
              <a:ext cx="2362320" cy="13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181480" y="1038600"/>
              <a:ext cx="413280" cy="81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594760" y="228240"/>
              <a:ext cx="1948680" cy="81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417640" y="498600"/>
              <a:ext cx="2125440" cy="2268720"/>
              <a:chOff x="5417640" y="498600"/>
              <a:chExt cx="2125440" cy="2268720"/>
            </a:xfrm>
          </p:grpSpPr>
          <p:sp>
            <p:nvSpPr>
              <p:cNvPr id="798" name=""/>
              <p:cNvSpPr/>
              <p:nvPr/>
            </p:nvSpPr>
            <p:spPr>
              <a:xfrm>
                <a:off x="5535360" y="876600"/>
                <a:ext cx="1032120" cy="994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6539400" y="1470960"/>
                <a:ext cx="400680" cy="387000"/>
                <a:chOff x="6539400" y="1470960"/>
                <a:chExt cx="400680" cy="38700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6539400" y="1470960"/>
                  <a:ext cx="400680" cy="38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710760" y="1636560"/>
                  <a:ext cx="57240" cy="55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6421320" y="1686960"/>
                <a:ext cx="1121760" cy="108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53360" y="498600"/>
                <a:ext cx="1089720" cy="110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17640" y="1038960"/>
                <a:ext cx="1147680" cy="116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 flipH="1">
              <a:off x="5181480" y="228600"/>
              <a:ext cx="236232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562000" y="3504600"/>
            <a:ext cx="2438640" cy="2932560"/>
            <a:chOff x="5562000" y="3504600"/>
            <a:chExt cx="2438640" cy="2932560"/>
          </a:xfrm>
        </p:grpSpPr>
        <p:sp>
          <p:nvSpPr>
            <p:cNvPr id="807" name=""/>
            <p:cNvSpPr/>
            <p:nvPr/>
          </p:nvSpPr>
          <p:spPr>
            <a:xfrm>
              <a:off x="5562720" y="3504600"/>
              <a:ext cx="202248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562720" y="3505320"/>
              <a:ext cx="0" cy="29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 flipV="1">
              <a:off x="7584840" y="4192200"/>
              <a:ext cx="4158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562720" y="4191840"/>
              <a:ext cx="2022480" cy="2219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562000" y="4879800"/>
              <a:ext cx="2438280" cy="15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0800000">
              <a:off x="6632640" y="4086000"/>
              <a:ext cx="1039680" cy="97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248520" y="4648320"/>
              <a:ext cx="404640" cy="379440"/>
              <a:chOff x="6248520" y="4648320"/>
              <a:chExt cx="404640" cy="379440"/>
            </a:xfrm>
          </p:grpSpPr>
          <p:sp>
            <p:nvSpPr>
              <p:cNvPr id="814" name=""/>
              <p:cNvSpPr/>
              <p:nvPr/>
            </p:nvSpPr>
            <p:spPr>
              <a:xfrm rot="10800000">
                <a:off x="6248520" y="4648320"/>
                <a:ext cx="404640" cy="37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0800000">
                <a:off x="6422400" y="4811400"/>
                <a:ext cx="57600" cy="54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rot="10800000">
              <a:off x="5562360" y="3768480"/>
              <a:ext cx="1130040" cy="105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0800000">
              <a:off x="5562360" y="4932000"/>
              <a:ext cx="1130040" cy="100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0800000">
              <a:off x="6513120" y="4245120"/>
              <a:ext cx="1190520" cy="110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62000" y="3505320"/>
              <a:ext cx="2438280" cy="13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 flipH="1">
            <a:off x="3120840" y="3429000"/>
            <a:ext cx="153720" cy="15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3120840" y="4965480"/>
            <a:ext cx="15372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965840"/>
            <a:ext cx="22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46320" y="4452840"/>
            <a:ext cx="923760" cy="97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300400" y="4761000"/>
            <a:ext cx="358560" cy="409320"/>
            <a:chOff x="2300400" y="4761000"/>
            <a:chExt cx="358560" cy="409320"/>
          </a:xfrm>
        </p:grpSpPr>
        <p:sp>
          <p:nvSpPr>
            <p:cNvPr id="825" name=""/>
            <p:cNvSpPr/>
            <p:nvPr/>
          </p:nvSpPr>
          <p:spPr>
            <a:xfrm>
              <a:off x="2300400" y="4761000"/>
              <a:ext cx="35856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53760" y="4936320"/>
              <a:ext cx="51120" cy="58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2249640" y="5016600"/>
            <a:ext cx="1025280" cy="10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4419720"/>
            <a:ext cx="100512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49640" y="3838680"/>
            <a:ext cx="1025280" cy="107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14400" y="4965840"/>
            <a:ext cx="236052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74920" y="3429000"/>
            <a:ext cx="180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914400" y="3428640"/>
            <a:ext cx="2360520" cy="15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5029200" y="228600"/>
            <a:ext cx="2743200" cy="3048120"/>
            <a:chOff x="5029200" y="228600"/>
            <a:chExt cx="2743200" cy="3048120"/>
          </a:xfrm>
        </p:grpSpPr>
        <p:sp>
          <p:nvSpPr>
            <p:cNvPr id="835" name=""/>
            <p:cNvSpPr/>
            <p:nvPr/>
          </p:nvSpPr>
          <p:spPr>
            <a:xfrm>
              <a:off x="6400800" y="106668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6324480" y="1447920"/>
              <a:ext cx="533520" cy="533160"/>
              <a:chOff x="6324480" y="1447920"/>
              <a:chExt cx="533520" cy="533160"/>
            </a:xfrm>
          </p:grpSpPr>
          <p:sp>
            <p:nvSpPr>
              <p:cNvPr id="837" name=""/>
              <p:cNvSpPr/>
              <p:nvPr/>
            </p:nvSpPr>
            <p:spPr>
              <a:xfrm>
                <a:off x="6324480" y="144792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53080" y="167616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6248520" y="1752480"/>
              <a:ext cx="15238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29200" y="10666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48520" y="228600"/>
              <a:ext cx="1447560" cy="144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990720" y="3657600"/>
            <a:ext cx="2895480" cy="2514600"/>
            <a:chOff x="990720" y="3657600"/>
            <a:chExt cx="2895480" cy="2514600"/>
          </a:xfrm>
        </p:grpSpPr>
        <p:sp>
          <p:nvSpPr>
            <p:cNvPr id="843" name=""/>
            <p:cNvSpPr/>
            <p:nvPr/>
          </p:nvSpPr>
          <p:spPr>
            <a:xfrm>
              <a:off x="1828800" y="4876920"/>
              <a:ext cx="1219320" cy="121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2133720" y="4952880"/>
              <a:ext cx="533160" cy="533520"/>
              <a:chOff x="2133720" y="4952880"/>
              <a:chExt cx="533160" cy="533520"/>
            </a:xfrm>
          </p:grpSpPr>
          <p:sp>
            <p:nvSpPr>
              <p:cNvPr id="845" name=""/>
              <p:cNvSpPr/>
              <p:nvPr/>
            </p:nvSpPr>
            <p:spPr>
              <a:xfrm>
                <a:off x="2133720" y="49528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61960" y="51814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514600" y="4800600"/>
              <a:ext cx="137160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90720" y="4876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2480" y="365760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952880" y="3581280"/>
            <a:ext cx="2514600" cy="2667240"/>
            <a:chOff x="4952880" y="3581280"/>
            <a:chExt cx="2514600" cy="2667240"/>
          </a:xfrm>
        </p:grpSpPr>
        <p:sp>
          <p:nvSpPr>
            <p:cNvPr id="851" name=""/>
            <p:cNvSpPr/>
            <p:nvPr/>
          </p:nvSpPr>
          <p:spPr>
            <a:xfrm>
              <a:off x="5105520" y="41911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6019920" y="4648320"/>
              <a:ext cx="533160" cy="533160"/>
              <a:chOff x="6019920" y="4648320"/>
              <a:chExt cx="533160" cy="533160"/>
            </a:xfrm>
          </p:grpSpPr>
          <p:sp>
            <p:nvSpPr>
              <p:cNvPr id="853" name=""/>
              <p:cNvSpPr/>
              <p:nvPr/>
            </p:nvSpPr>
            <p:spPr>
              <a:xfrm>
                <a:off x="6019920" y="464832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248160" y="487656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4952880" y="434340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72200" y="49528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72200" y="3581280"/>
              <a:ext cx="1295280" cy="129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914400" y="380880"/>
            <a:ext cx="2742840" cy="2895480"/>
            <a:chOff x="914400" y="380880"/>
            <a:chExt cx="2742840" cy="2895480"/>
          </a:xfrm>
        </p:grpSpPr>
        <p:sp>
          <p:nvSpPr>
            <p:cNvPr id="859" name=""/>
            <p:cNvSpPr/>
            <p:nvPr/>
          </p:nvSpPr>
          <p:spPr>
            <a:xfrm>
              <a:off x="2324880" y="1295280"/>
              <a:ext cx="125388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168280" y="1676160"/>
              <a:ext cx="548280" cy="533520"/>
              <a:chOff x="2168280" y="1676160"/>
              <a:chExt cx="548280" cy="533520"/>
            </a:xfrm>
          </p:grpSpPr>
          <p:sp>
            <p:nvSpPr>
              <p:cNvPr id="861" name=""/>
              <p:cNvSpPr/>
              <p:nvPr/>
            </p:nvSpPr>
            <p:spPr>
              <a:xfrm>
                <a:off x="2168280" y="1676160"/>
                <a:ext cx="548280" cy="533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03000" y="1904760"/>
                <a:ext cx="7848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2246760" y="1904760"/>
              <a:ext cx="141048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14400" y="1600200"/>
              <a:ext cx="133236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76600" y="380880"/>
              <a:ext cx="133200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"/>
          <p:cNvGrpSpPr/>
          <p:nvPr/>
        </p:nvGrpSpPr>
        <p:grpSpPr>
          <a:xfrm>
            <a:off x="685800" y="1371600"/>
            <a:ext cx="3200400" cy="3657600"/>
            <a:chOff x="685800" y="1371600"/>
            <a:chExt cx="3200400" cy="3657600"/>
          </a:xfrm>
        </p:grpSpPr>
        <p:sp>
          <p:nvSpPr>
            <p:cNvPr id="868" name=""/>
            <p:cNvSpPr/>
            <p:nvPr/>
          </p:nvSpPr>
          <p:spPr>
            <a:xfrm flipH="1" flipV="1">
              <a:off x="3809880" y="304776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685800" y="3047760"/>
              <a:ext cx="31240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143000" y="1828800"/>
              <a:ext cx="2742840" cy="2895480"/>
              <a:chOff x="1143000" y="1828800"/>
              <a:chExt cx="2742840" cy="2895480"/>
            </a:xfrm>
          </p:grpSpPr>
          <p:sp>
            <p:nvSpPr>
              <p:cNvPr id="871" name=""/>
              <p:cNvSpPr/>
              <p:nvPr/>
            </p:nvSpPr>
            <p:spPr>
              <a:xfrm>
                <a:off x="2553480" y="2743200"/>
                <a:ext cx="1253880" cy="121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"/>
              <p:cNvGrpSpPr/>
              <p:nvPr/>
            </p:nvGrpSpPr>
            <p:grpSpPr>
              <a:xfrm>
                <a:off x="2396880" y="3124080"/>
                <a:ext cx="548280" cy="533520"/>
                <a:chOff x="2396880" y="3124080"/>
                <a:chExt cx="548280" cy="53352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2396880" y="3124080"/>
                  <a:ext cx="54828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31600" y="3352680"/>
                  <a:ext cx="78480" cy="763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2475360" y="3352680"/>
                <a:ext cx="1410480" cy="137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143000" y="3048120"/>
                <a:ext cx="133236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005200" y="1828800"/>
                <a:ext cx="133200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2743200" y="13716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43200" y="1371600"/>
              <a:ext cx="11430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>
              <a:off x="685800" y="4038480"/>
              <a:ext cx="32004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685800" y="1371600"/>
              <a:ext cx="205740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029200" y="1371240"/>
            <a:ext cx="3200400" cy="3657960"/>
            <a:chOff x="5029200" y="1371240"/>
            <a:chExt cx="3200400" cy="3657960"/>
          </a:xfrm>
        </p:grpSpPr>
        <p:sp>
          <p:nvSpPr>
            <p:cNvPr id="883" name=""/>
            <p:cNvSpPr/>
            <p:nvPr/>
          </p:nvSpPr>
          <p:spPr>
            <a:xfrm>
              <a:off x="7086600" y="13716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029200" y="3048120"/>
              <a:ext cx="312408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8153280" y="304776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86600" y="1371600"/>
              <a:ext cx="114300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029200" y="4038480"/>
              <a:ext cx="3200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029200" y="1371240"/>
              <a:ext cx="205740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 flipH="1">
            <a:off x="3657240" y="838080"/>
            <a:ext cx="228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3657240" y="3124080"/>
            <a:ext cx="2286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08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09680" y="2362320"/>
            <a:ext cx="1371600" cy="1447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438280" y="2819520"/>
            <a:ext cx="533520" cy="609120"/>
            <a:chOff x="2438280" y="2819520"/>
            <a:chExt cx="533520" cy="609120"/>
          </a:xfrm>
        </p:grpSpPr>
        <p:sp>
          <p:nvSpPr>
            <p:cNvPr id="895" name=""/>
            <p:cNvSpPr/>
            <p:nvPr/>
          </p:nvSpPr>
          <p:spPr>
            <a:xfrm>
              <a:off x="2438280" y="2819520"/>
              <a:ext cx="533520" cy="60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66880" y="3080520"/>
              <a:ext cx="76320" cy="87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362320" y="3200400"/>
            <a:ext cx="15238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66680" y="2438280"/>
            <a:ext cx="1371600" cy="144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362320" y="1447920"/>
            <a:ext cx="15238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880" y="3124080"/>
            <a:ext cx="350532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86200" y="83808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80880" y="838080"/>
            <a:ext cx="35053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4417920" y="833400"/>
            <a:ext cx="3508560" cy="4649760"/>
            <a:chOff x="4417920" y="833400"/>
            <a:chExt cx="3508560" cy="4649760"/>
          </a:xfrm>
        </p:grpSpPr>
        <p:sp>
          <p:nvSpPr>
            <p:cNvPr id="904" name=""/>
            <p:cNvSpPr/>
            <p:nvPr/>
          </p:nvSpPr>
          <p:spPr>
            <a:xfrm>
              <a:off x="4417920" y="3119400"/>
              <a:ext cx="3125880" cy="46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543800" y="833400"/>
              <a:ext cx="379440" cy="22906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7543800" y="3123720"/>
              <a:ext cx="379440" cy="235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419720" y="3121200"/>
              <a:ext cx="350496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924680" y="835200"/>
              <a:ext cx="1800" cy="45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419720" y="835200"/>
              <a:ext cx="35049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 flipH="1" flipV="1">
            <a:off x="1406160" y="2285640"/>
            <a:ext cx="251460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21120" y="11430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872640" y="3429000"/>
            <a:ext cx="30481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873000" y="228564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406520" y="114264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1177920" y="1523880"/>
            <a:ext cx="2743200" cy="3200400"/>
            <a:chOff x="1177920" y="1523880"/>
            <a:chExt cx="2743200" cy="3200400"/>
          </a:xfrm>
        </p:grpSpPr>
        <p:sp>
          <p:nvSpPr>
            <p:cNvPr id="917" name=""/>
            <p:cNvSpPr/>
            <p:nvPr/>
          </p:nvSpPr>
          <p:spPr>
            <a:xfrm>
              <a:off x="1330200" y="2057400"/>
              <a:ext cx="133200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625840" y="2895480"/>
              <a:ext cx="517320" cy="545760"/>
              <a:chOff x="2625840" y="2895480"/>
              <a:chExt cx="517320" cy="545760"/>
            </a:xfrm>
          </p:grpSpPr>
          <p:sp>
            <p:nvSpPr>
              <p:cNvPr id="919" name=""/>
              <p:cNvSpPr/>
              <p:nvPr/>
            </p:nvSpPr>
            <p:spPr>
              <a:xfrm>
                <a:off x="2625840" y="2895480"/>
                <a:ext cx="517320" cy="54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47240" y="3129120"/>
                <a:ext cx="73800" cy="78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473200" y="3200400"/>
              <a:ext cx="144792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14600" y="1523880"/>
              <a:ext cx="1406520" cy="155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177920" y="2286000"/>
              <a:ext cx="1481040" cy="163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 flipH="1">
            <a:off x="872640" y="1143000"/>
            <a:ext cx="30481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800240" y="1294920"/>
            <a:ext cx="3048480" cy="4191480"/>
            <a:chOff x="4800240" y="1294920"/>
            <a:chExt cx="3048480" cy="4191480"/>
          </a:xfrm>
        </p:grpSpPr>
        <p:sp>
          <p:nvSpPr>
            <p:cNvPr id="926" name=""/>
            <p:cNvSpPr/>
            <p:nvPr/>
          </p:nvSpPr>
          <p:spPr>
            <a:xfrm flipH="1" flipV="1">
              <a:off x="5333760" y="2437920"/>
              <a:ext cx="2514600" cy="304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8487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4800240" y="3581280"/>
              <a:ext cx="30481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800600" y="2437920"/>
              <a:ext cx="5335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334120" y="1294920"/>
              <a:ext cx="25146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800240" y="1295280"/>
              <a:ext cx="304812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4952160" y="913680"/>
            <a:ext cx="3125160" cy="4228200"/>
            <a:chOff x="4952160" y="913680"/>
            <a:chExt cx="3125160" cy="4228200"/>
          </a:xfrm>
        </p:grpSpPr>
        <p:sp>
          <p:nvSpPr>
            <p:cNvPr id="934" name=""/>
            <p:cNvSpPr/>
            <p:nvPr/>
          </p:nvSpPr>
          <p:spPr>
            <a:xfrm>
              <a:off x="4952160" y="914400"/>
              <a:ext cx="2590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952880" y="91440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7543800" y="1904760"/>
              <a:ext cx="533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952520" y="1905120"/>
              <a:ext cx="259092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4952160" y="2895480"/>
              <a:ext cx="3124440" cy="22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0800000">
              <a:off x="6324480" y="1752120"/>
              <a:ext cx="1332000" cy="140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5790960" y="2743200"/>
              <a:ext cx="517320" cy="545760"/>
              <a:chOff x="5790960" y="2743200"/>
              <a:chExt cx="517320" cy="545760"/>
            </a:xfrm>
          </p:grpSpPr>
          <p:sp>
            <p:nvSpPr>
              <p:cNvPr id="941" name=""/>
              <p:cNvSpPr/>
              <p:nvPr/>
            </p:nvSpPr>
            <p:spPr>
              <a:xfrm rot="10800000">
                <a:off x="5790960" y="2743200"/>
                <a:ext cx="517320" cy="54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0800000">
                <a:off x="6013080" y="2977200"/>
                <a:ext cx="73800" cy="78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 rot="10800000">
              <a:off x="4952880" y="1295280"/>
              <a:ext cx="144792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0800000">
              <a:off x="4952880" y="2971800"/>
              <a:ext cx="1447920" cy="144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0800000">
              <a:off x="6171840" y="1980720"/>
              <a:ext cx="1523880" cy="160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52160" y="913680"/>
              <a:ext cx="312444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218600" y="913680"/>
            <a:ext cx="3124800" cy="4228200"/>
            <a:chOff x="1218600" y="913680"/>
            <a:chExt cx="3124800" cy="4228200"/>
          </a:xfrm>
        </p:grpSpPr>
        <p:sp>
          <p:nvSpPr>
            <p:cNvPr id="948" name=""/>
            <p:cNvSpPr/>
            <p:nvPr/>
          </p:nvSpPr>
          <p:spPr>
            <a:xfrm>
              <a:off x="1218600" y="913680"/>
              <a:ext cx="2590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219320" y="91404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3809880" y="1904760"/>
              <a:ext cx="5331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1218960" y="1904760"/>
              <a:ext cx="259092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1219320" y="2819160"/>
              <a:ext cx="3124080" cy="23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19320" y="913680"/>
              <a:ext cx="312408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315200" y="4952880"/>
            <a:ext cx="1523880" cy="144792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80060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4724280"/>
            <a:ext cx="1676520" cy="175284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572000"/>
            <a:ext cx="1752480" cy="190512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286000"/>
            <a:ext cx="1828800" cy="190512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209680"/>
            <a:ext cx="1905120" cy="199080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057400"/>
            <a:ext cx="2057400" cy="214308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2190600" cy="229536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85800" y="4572000"/>
            <a:ext cx="1580760" cy="1722240"/>
            <a:chOff x="685800" y="4572000"/>
            <a:chExt cx="1580760" cy="1722240"/>
          </a:xfrm>
        </p:grpSpPr>
        <p:sp>
          <p:nvSpPr>
            <p:cNvPr id="137" name=""/>
            <p:cNvSpPr/>
            <p:nvPr/>
          </p:nvSpPr>
          <p:spPr>
            <a:xfrm>
              <a:off x="685800" y="5278320"/>
              <a:ext cx="767880" cy="75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98680" y="5101920"/>
              <a:ext cx="722520" cy="706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408320" y="5322600"/>
              <a:ext cx="316080" cy="309240"/>
              <a:chOff x="1408320" y="5322600"/>
              <a:chExt cx="316080" cy="309240"/>
            </a:xfrm>
          </p:grpSpPr>
          <p:sp>
            <p:nvSpPr>
              <p:cNvPr id="140" name=""/>
              <p:cNvSpPr/>
              <p:nvPr/>
            </p:nvSpPr>
            <p:spPr>
              <a:xfrm>
                <a:off x="1408320" y="5322600"/>
                <a:ext cx="316080" cy="30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43680" y="5455080"/>
                <a:ext cx="45000" cy="43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453680" y="5499360"/>
              <a:ext cx="812880" cy="79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2600" y="4572000"/>
              <a:ext cx="767880" cy="75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971800" y="4724280"/>
            <a:ext cx="1518840" cy="1622160"/>
            <a:chOff x="2971800" y="4724280"/>
            <a:chExt cx="1518840" cy="1622160"/>
          </a:xfrm>
        </p:grpSpPr>
        <p:sp>
          <p:nvSpPr>
            <p:cNvPr id="145" name=""/>
            <p:cNvSpPr/>
            <p:nvPr/>
          </p:nvSpPr>
          <p:spPr>
            <a:xfrm>
              <a:off x="2971800" y="5407200"/>
              <a:ext cx="737640" cy="72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3000" y="5236560"/>
              <a:ext cx="694440" cy="68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666240" y="5450040"/>
              <a:ext cx="303840" cy="298440"/>
              <a:chOff x="3666240" y="5450040"/>
              <a:chExt cx="303840" cy="298440"/>
            </a:xfrm>
          </p:grpSpPr>
          <p:sp>
            <p:nvSpPr>
              <p:cNvPr id="148" name=""/>
              <p:cNvSpPr/>
              <p:nvPr/>
            </p:nvSpPr>
            <p:spPr>
              <a:xfrm>
                <a:off x="3666240" y="5450040"/>
                <a:ext cx="303840" cy="29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96200" y="5577840"/>
                <a:ext cx="43200" cy="42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709440" y="5578200"/>
              <a:ext cx="781200" cy="76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49160" y="4724280"/>
              <a:ext cx="737640" cy="72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56280" y="4800600"/>
            <a:ext cx="1400040" cy="1503360"/>
            <a:chOff x="5156280" y="4800600"/>
            <a:chExt cx="1400040" cy="1503360"/>
          </a:xfrm>
        </p:grpSpPr>
        <p:sp>
          <p:nvSpPr>
            <p:cNvPr id="153" name=""/>
            <p:cNvSpPr/>
            <p:nvPr/>
          </p:nvSpPr>
          <p:spPr>
            <a:xfrm>
              <a:off x="5836320" y="5275080"/>
              <a:ext cx="679680" cy="6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56280" y="5433480"/>
              <a:ext cx="680040" cy="6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796360" y="5473080"/>
              <a:ext cx="279720" cy="276840"/>
              <a:chOff x="5796360" y="5473080"/>
              <a:chExt cx="279720" cy="276840"/>
            </a:xfrm>
          </p:grpSpPr>
          <p:sp>
            <p:nvSpPr>
              <p:cNvPr id="156" name=""/>
              <p:cNvSpPr/>
              <p:nvPr/>
            </p:nvSpPr>
            <p:spPr>
              <a:xfrm>
                <a:off x="5796360" y="5473080"/>
                <a:ext cx="279720" cy="276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16240" y="5591520"/>
                <a:ext cx="39960" cy="39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5836320" y="5591880"/>
              <a:ext cx="720000" cy="71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6200" y="4800600"/>
              <a:ext cx="679680" cy="67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362720" y="4952880"/>
            <a:ext cx="1333440" cy="1373400"/>
            <a:chOff x="7362720" y="4952880"/>
            <a:chExt cx="1333440" cy="1373400"/>
          </a:xfrm>
        </p:grpSpPr>
        <p:sp>
          <p:nvSpPr>
            <p:cNvPr id="161" name=""/>
            <p:cNvSpPr/>
            <p:nvPr/>
          </p:nvSpPr>
          <p:spPr>
            <a:xfrm>
              <a:off x="8010360" y="5386320"/>
              <a:ext cx="647640" cy="61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2720" y="5531040"/>
              <a:ext cx="647640" cy="614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972200" y="5567040"/>
              <a:ext cx="266400" cy="253080"/>
              <a:chOff x="7972200" y="5567040"/>
              <a:chExt cx="266400" cy="253080"/>
            </a:xfrm>
          </p:grpSpPr>
          <p:sp>
            <p:nvSpPr>
              <p:cNvPr id="164" name=""/>
              <p:cNvSpPr/>
              <p:nvPr/>
            </p:nvSpPr>
            <p:spPr>
              <a:xfrm>
                <a:off x="7972200" y="5567040"/>
                <a:ext cx="266400" cy="25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086320" y="5675400"/>
                <a:ext cx="3780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781760" y="4952880"/>
              <a:ext cx="647640" cy="61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10360" y="5675760"/>
              <a:ext cx="685800" cy="65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98760" y="2602080"/>
            <a:ext cx="900000" cy="94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00240" y="2852640"/>
            <a:ext cx="406440" cy="412920"/>
            <a:chOff x="1200240" y="2852640"/>
            <a:chExt cx="406440" cy="412920"/>
          </a:xfrm>
        </p:grpSpPr>
        <p:sp>
          <p:nvSpPr>
            <p:cNvPr id="170" name=""/>
            <p:cNvSpPr/>
            <p:nvPr/>
          </p:nvSpPr>
          <p:spPr>
            <a:xfrm>
              <a:off x="1200240" y="2852640"/>
              <a:ext cx="406440" cy="412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4120" y="3029400"/>
              <a:ext cx="57960" cy="5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43200" y="2666880"/>
            <a:ext cx="2057040" cy="858960"/>
            <a:chOff x="2743200" y="2666880"/>
            <a:chExt cx="2057040" cy="858960"/>
          </a:xfrm>
        </p:grpSpPr>
        <p:grpSp>
          <p:nvGrpSpPr>
            <p:cNvPr id="173" name=""/>
            <p:cNvGrpSpPr/>
            <p:nvPr/>
          </p:nvGrpSpPr>
          <p:grpSpPr>
            <a:xfrm>
              <a:off x="3596040" y="2919600"/>
              <a:ext cx="351360" cy="353160"/>
              <a:chOff x="3596040" y="2919600"/>
              <a:chExt cx="351360" cy="353160"/>
            </a:xfrm>
          </p:grpSpPr>
          <p:sp>
            <p:nvSpPr>
              <p:cNvPr id="174" name=""/>
              <p:cNvSpPr/>
              <p:nvPr/>
            </p:nvSpPr>
            <p:spPr>
              <a:xfrm>
                <a:off x="3596040" y="2919600"/>
                <a:ext cx="351360" cy="35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46520" y="3070800"/>
                <a:ext cx="5004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2743200" y="2666880"/>
              <a:ext cx="852840" cy="85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47400" y="2666880"/>
              <a:ext cx="852840" cy="85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46560" y="2209680"/>
            <a:ext cx="1644840" cy="1717920"/>
            <a:chOff x="5146560" y="2209680"/>
            <a:chExt cx="1644840" cy="1717920"/>
          </a:xfrm>
        </p:grpSpPr>
        <p:grpSp>
          <p:nvGrpSpPr>
            <p:cNvPr id="179" name=""/>
            <p:cNvGrpSpPr/>
            <p:nvPr/>
          </p:nvGrpSpPr>
          <p:grpSpPr>
            <a:xfrm>
              <a:off x="5813280" y="3020760"/>
              <a:ext cx="311040" cy="334080"/>
              <a:chOff x="5813280" y="3020760"/>
              <a:chExt cx="311040" cy="334080"/>
            </a:xfrm>
          </p:grpSpPr>
          <p:sp>
            <p:nvSpPr>
              <p:cNvPr id="180" name=""/>
              <p:cNvSpPr/>
              <p:nvPr/>
            </p:nvSpPr>
            <p:spPr>
              <a:xfrm>
                <a:off x="5813280" y="3020760"/>
                <a:ext cx="311040" cy="33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46480" y="3163680"/>
                <a:ext cx="44280" cy="47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035760" y="3116160"/>
              <a:ext cx="755640" cy="81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91160" y="2209680"/>
              <a:ext cx="755640" cy="81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46560" y="3116160"/>
              <a:ext cx="755640" cy="81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238880" y="2286000"/>
            <a:ext cx="1533600" cy="1785960"/>
            <a:chOff x="7238880" y="2286000"/>
            <a:chExt cx="1533600" cy="1785960"/>
          </a:xfrm>
        </p:grpSpPr>
        <p:sp>
          <p:nvSpPr>
            <p:cNvPr id="186" name=""/>
            <p:cNvSpPr/>
            <p:nvPr/>
          </p:nvSpPr>
          <p:spPr>
            <a:xfrm>
              <a:off x="8027640" y="2849760"/>
              <a:ext cx="700920" cy="75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939800" y="3084840"/>
              <a:ext cx="306360" cy="329040"/>
              <a:chOff x="7939800" y="3084840"/>
              <a:chExt cx="306360" cy="329040"/>
            </a:xfrm>
          </p:grpSpPr>
          <p:sp>
            <p:nvSpPr>
              <p:cNvPr id="188" name=""/>
              <p:cNvSpPr/>
              <p:nvPr/>
            </p:nvSpPr>
            <p:spPr>
              <a:xfrm>
                <a:off x="7939800" y="3084840"/>
                <a:ext cx="306360" cy="329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70840" y="3225600"/>
                <a:ext cx="43560" cy="46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983720" y="3225960"/>
              <a:ext cx="788760" cy="84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8880" y="3037680"/>
              <a:ext cx="744840" cy="79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0560" y="2286000"/>
              <a:ext cx="744840" cy="79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62120" y="3808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9907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91520" y="533520"/>
            <a:ext cx="1143000" cy="1143000"/>
            <a:chOff x="7391520" y="533520"/>
            <a:chExt cx="1143000" cy="1143000"/>
          </a:xfrm>
        </p:grpSpPr>
        <p:grpSp>
          <p:nvGrpSpPr>
            <p:cNvPr id="196" name=""/>
            <p:cNvGrpSpPr/>
            <p:nvPr/>
          </p:nvGrpSpPr>
          <p:grpSpPr>
            <a:xfrm>
              <a:off x="7391520" y="533520"/>
              <a:ext cx="1143000" cy="1143000"/>
              <a:chOff x="7391520" y="533520"/>
              <a:chExt cx="1143000" cy="1143000"/>
            </a:xfrm>
          </p:grpSpPr>
          <p:sp>
            <p:nvSpPr>
              <p:cNvPr id="197" name=""/>
              <p:cNvSpPr/>
              <p:nvPr/>
            </p:nvSpPr>
            <p:spPr>
              <a:xfrm>
                <a:off x="7391520" y="533520"/>
                <a:ext cx="1143000" cy="11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29360" y="1071360"/>
                <a:ext cx="66960" cy="67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924680" y="1066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048120" y="609480"/>
            <a:ext cx="3580920" cy="1219320"/>
            <a:chOff x="3048120" y="609480"/>
            <a:chExt cx="3580920" cy="1219320"/>
          </a:xfrm>
        </p:grpSpPr>
        <p:sp>
          <p:nvSpPr>
            <p:cNvPr id="201" name=""/>
            <p:cNvSpPr/>
            <p:nvPr/>
          </p:nvSpPr>
          <p:spPr>
            <a:xfrm>
              <a:off x="3504960" y="99036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gelwolken einfach besetz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48120" y="609480"/>
              <a:ext cx="3580920" cy="1219320"/>
              <a:chOff x="3048120" y="609480"/>
              <a:chExt cx="3580920" cy="1219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126960" y="914400"/>
                <a:ext cx="390600" cy="38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26960" y="1392120"/>
                <a:ext cx="390600" cy="38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84280" y="761760"/>
                <a:ext cx="7884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48120" y="609480"/>
                <a:ext cx="3387600" cy="121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02520" y="715680"/>
                <a:ext cx="18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1520" y="609480"/>
                <a:ext cx="121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tomker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20800" y="1371600"/>
                <a:ext cx="310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ugelwolken doppelt besetz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1981080" y="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 Black"/>
              </a:rPr>
              <a:t>Kugelwolkenmod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152280" y="1752480"/>
            <a:ext cx="4343400" cy="3430440"/>
            <a:chOff x="152280" y="1752480"/>
            <a:chExt cx="4343400" cy="3430440"/>
          </a:xfrm>
        </p:grpSpPr>
        <p:sp>
          <p:nvSpPr>
            <p:cNvPr id="956" name=""/>
            <p:cNvSpPr/>
            <p:nvPr/>
          </p:nvSpPr>
          <p:spPr>
            <a:xfrm flipH="1" flipV="1">
              <a:off x="2359440" y="4957560"/>
              <a:ext cx="21358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152640" y="4957560"/>
              <a:ext cx="220716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59440" y="1752480"/>
              <a:ext cx="0" cy="32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5400000">
              <a:off x="1724040" y="3535560"/>
              <a:ext cx="1341720" cy="135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2075040" y="3765240"/>
              <a:ext cx="569160" cy="521640"/>
              <a:chOff x="2075040" y="3765240"/>
              <a:chExt cx="569160" cy="521640"/>
            </a:xfrm>
          </p:grpSpPr>
          <p:sp>
            <p:nvSpPr>
              <p:cNvPr id="961" name=""/>
              <p:cNvSpPr/>
              <p:nvPr/>
            </p:nvSpPr>
            <p:spPr>
              <a:xfrm rot="5400000">
                <a:off x="2098800" y="3741480"/>
                <a:ext cx="521640" cy="56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5400000">
                <a:off x="2322360" y="3984840"/>
                <a:ext cx="74520" cy="81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 rot="5400000">
              <a:off x="794880" y="3688200"/>
              <a:ext cx="1491120" cy="149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5400000">
              <a:off x="1652760" y="2417400"/>
              <a:ext cx="1341720" cy="135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5400000">
              <a:off x="2432880" y="3688200"/>
              <a:ext cx="1491120" cy="149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152280" y="1752480"/>
              <a:ext cx="2207160" cy="34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223560" y="5181840"/>
              <a:ext cx="4271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59800" y="1752480"/>
              <a:ext cx="2135880" cy="34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4571280" y="1752480"/>
            <a:ext cx="4343760" cy="3430440"/>
            <a:chOff x="4571280" y="1752480"/>
            <a:chExt cx="4343760" cy="3430440"/>
          </a:xfrm>
        </p:grpSpPr>
        <p:sp>
          <p:nvSpPr>
            <p:cNvPr id="970" name=""/>
            <p:cNvSpPr/>
            <p:nvPr/>
          </p:nvSpPr>
          <p:spPr>
            <a:xfrm flipH="1" flipV="1">
              <a:off x="6778800" y="4957560"/>
              <a:ext cx="2135880" cy="22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4571280" y="4957560"/>
              <a:ext cx="2207160" cy="22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79160" y="1752480"/>
              <a:ext cx="0" cy="320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4571640" y="1752480"/>
              <a:ext cx="2207160" cy="34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4643280" y="5181840"/>
              <a:ext cx="4271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779160" y="1752480"/>
              <a:ext cx="2135880" cy="342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Kohlen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1828800" y="838080"/>
            <a:ext cx="2285280" cy="2401560"/>
            <a:chOff x="1828800" y="838080"/>
            <a:chExt cx="2285280" cy="2401560"/>
          </a:xfrm>
        </p:grpSpPr>
        <p:sp>
          <p:nvSpPr>
            <p:cNvPr id="978" name=""/>
            <p:cNvSpPr/>
            <p:nvPr/>
          </p:nvSpPr>
          <p:spPr>
            <a:xfrm>
              <a:off x="1828800" y="838080"/>
              <a:ext cx="2283120" cy="240156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75920" y="1566000"/>
              <a:ext cx="938160" cy="99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2761200" y="1830240"/>
              <a:ext cx="423000" cy="430200"/>
              <a:chOff x="2761200" y="1830240"/>
              <a:chExt cx="423000" cy="430200"/>
            </a:xfrm>
          </p:grpSpPr>
          <p:sp>
            <p:nvSpPr>
              <p:cNvPr id="981" name=""/>
              <p:cNvSpPr/>
              <p:nvPr/>
            </p:nvSpPr>
            <p:spPr>
              <a:xfrm>
                <a:off x="2761200" y="1830240"/>
                <a:ext cx="42300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942280" y="2014560"/>
                <a:ext cx="60480" cy="61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1905120" y="3886200"/>
            <a:ext cx="2334240" cy="2381040"/>
            <a:chOff x="1905120" y="3886200"/>
            <a:chExt cx="2334240" cy="2381040"/>
          </a:xfrm>
        </p:grpSpPr>
        <p:sp>
          <p:nvSpPr>
            <p:cNvPr id="984" name=""/>
            <p:cNvSpPr/>
            <p:nvPr/>
          </p:nvSpPr>
          <p:spPr>
            <a:xfrm>
              <a:off x="1905120" y="3886200"/>
              <a:ext cx="2331720" cy="238104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81040" y="4608000"/>
              <a:ext cx="958320" cy="98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2857320" y="4869720"/>
              <a:ext cx="432000" cy="426600"/>
              <a:chOff x="2857320" y="4869720"/>
              <a:chExt cx="432000" cy="426600"/>
            </a:xfrm>
          </p:grpSpPr>
          <p:sp>
            <p:nvSpPr>
              <p:cNvPr id="987" name=""/>
              <p:cNvSpPr/>
              <p:nvPr/>
            </p:nvSpPr>
            <p:spPr>
              <a:xfrm>
                <a:off x="2857320" y="4869720"/>
                <a:ext cx="432000" cy="426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042360" y="5052240"/>
                <a:ext cx="61560" cy="60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3706920" y="5108400"/>
            <a:ext cx="199800" cy="0"/>
          </a:xfrm>
          <a:prstGeom prst="line">
            <a:avLst/>
          </a:prstGeom>
          <a:ln w="57240">
            <a:solidFill>
              <a:srgbClr val="00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971800" y="4979880"/>
            <a:ext cx="216000" cy="193680"/>
            <a:chOff x="2971800" y="4979880"/>
            <a:chExt cx="216000" cy="193680"/>
          </a:xfrm>
        </p:grpSpPr>
        <p:sp>
          <p:nvSpPr>
            <p:cNvPr id="991" name=""/>
            <p:cNvSpPr/>
            <p:nvPr/>
          </p:nvSpPr>
          <p:spPr>
            <a:xfrm>
              <a:off x="2971800" y="5076720"/>
              <a:ext cx="216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79800" y="4979880"/>
              <a:ext cx="0" cy="193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Lith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572000" y="838080"/>
            <a:ext cx="2362320" cy="2362320"/>
            <a:chOff x="4572000" y="838080"/>
            <a:chExt cx="2362320" cy="2362320"/>
          </a:xfrm>
        </p:grpSpPr>
        <p:grpSp>
          <p:nvGrpSpPr>
            <p:cNvPr id="995" name=""/>
            <p:cNvGrpSpPr/>
            <p:nvPr/>
          </p:nvGrpSpPr>
          <p:grpSpPr>
            <a:xfrm>
              <a:off x="4572000" y="838080"/>
              <a:ext cx="2362320" cy="2362320"/>
              <a:chOff x="4572000" y="838080"/>
              <a:chExt cx="2362320" cy="2362320"/>
            </a:xfrm>
          </p:grpSpPr>
          <p:sp>
            <p:nvSpPr>
              <p:cNvPr id="996" name=""/>
              <p:cNvSpPr/>
              <p:nvPr/>
            </p:nvSpPr>
            <p:spPr>
              <a:xfrm>
                <a:off x="4572000" y="838080"/>
                <a:ext cx="2362320" cy="2362320"/>
              </a:xfrm>
              <a:prstGeom prst="ellipse">
                <a:avLst/>
              </a:prstGeom>
              <a:gradFill rotWithShape="0">
                <a:gsLst>
                  <a:gs pos="0">
                    <a:srgbClr val="d3d3d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7" name=""/>
              <p:cNvGrpSpPr/>
              <p:nvPr/>
            </p:nvGrpSpPr>
            <p:grpSpPr>
              <a:xfrm>
                <a:off x="5314680" y="1648080"/>
                <a:ext cx="811800" cy="808920"/>
                <a:chOff x="5314680" y="1648080"/>
                <a:chExt cx="811800" cy="80892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5314680" y="1648080"/>
                  <a:ext cx="811800" cy="808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9" name=""/>
                <p:cNvGrpSpPr/>
                <p:nvPr/>
              </p:nvGrpSpPr>
              <p:grpSpPr>
                <a:xfrm>
                  <a:off x="5546880" y="1879560"/>
                  <a:ext cx="372960" cy="344880"/>
                  <a:chOff x="5546880" y="1879560"/>
                  <a:chExt cx="372960" cy="34488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5546880" y="2052000"/>
                    <a:ext cx="372960" cy="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733360" y="1879560"/>
                    <a:ext cx="0" cy="34488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02" name=""/>
            <p:cNvGrpSpPr/>
            <p:nvPr/>
          </p:nvGrpSpPr>
          <p:grpSpPr>
            <a:xfrm>
              <a:off x="6147000" y="1625400"/>
              <a:ext cx="787320" cy="798840"/>
              <a:chOff x="6147000" y="1625400"/>
              <a:chExt cx="787320" cy="798840"/>
            </a:xfrm>
          </p:grpSpPr>
          <p:sp>
            <p:nvSpPr>
              <p:cNvPr id="1003" name=""/>
              <p:cNvSpPr/>
              <p:nvPr/>
            </p:nvSpPr>
            <p:spPr>
              <a:xfrm>
                <a:off x="6147000" y="1625400"/>
                <a:ext cx="787320" cy="79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74240" y="2055240"/>
                <a:ext cx="197640" cy="0"/>
              </a:xfrm>
              <a:prstGeom prst="line">
                <a:avLst/>
              </a:prstGeom>
              <a:ln w="57240">
                <a:solidFill>
                  <a:srgbClr val="00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5" name=""/>
          <p:cNvSpPr/>
          <p:nvPr/>
        </p:nvSpPr>
        <p:spPr>
          <a:xfrm>
            <a:off x="4724280" y="3809880"/>
            <a:ext cx="2438640" cy="2514600"/>
          </a:xfrm>
          <a:prstGeom prst="ellipse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410080" y="4572000"/>
            <a:ext cx="1009440" cy="1015560"/>
            <a:chOff x="5410080" y="4572000"/>
            <a:chExt cx="1009440" cy="1015560"/>
          </a:xfrm>
        </p:grpSpPr>
        <p:sp>
          <p:nvSpPr>
            <p:cNvPr id="1007" name=""/>
            <p:cNvSpPr/>
            <p:nvPr/>
          </p:nvSpPr>
          <p:spPr>
            <a:xfrm>
              <a:off x="5410080" y="4572000"/>
              <a:ext cx="1009440" cy="101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5699160" y="4863960"/>
              <a:ext cx="464760" cy="431640"/>
              <a:chOff x="5699160" y="4863960"/>
              <a:chExt cx="464760" cy="431640"/>
            </a:xfrm>
          </p:grpSpPr>
          <p:sp>
            <p:nvSpPr>
              <p:cNvPr id="1009" name=""/>
              <p:cNvSpPr/>
              <p:nvPr/>
            </p:nvSpPr>
            <p:spPr>
              <a:xfrm>
                <a:off x="5699160" y="5079600"/>
                <a:ext cx="46476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931360" y="4863960"/>
                <a:ext cx="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6553080" y="4876920"/>
            <a:ext cx="404640" cy="338040"/>
            <a:chOff x="6553080" y="4876920"/>
            <a:chExt cx="404640" cy="338040"/>
          </a:xfrm>
        </p:grpSpPr>
        <p:sp>
          <p:nvSpPr>
            <p:cNvPr id="1012" name=""/>
            <p:cNvSpPr/>
            <p:nvPr/>
          </p:nvSpPr>
          <p:spPr>
            <a:xfrm>
              <a:off x="6553080" y="4876920"/>
              <a:ext cx="404640" cy="338040"/>
            </a:xfrm>
            <a:prstGeom prst="ellipse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21120" y="5011920"/>
              <a:ext cx="201600" cy="680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2-Modelle%20von%20Lithium%20-%20Atom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3-Lithiumatom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0" y="11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Black"/>
              </a:rPr>
              <a:t>Lithium -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4-Metallbind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5-Metallbindung%20animier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Foli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6-Metallverformu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28600" y="1295280"/>
            <a:ext cx="2209680" cy="228600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297440" y="4038480"/>
            <a:ext cx="8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666880" y="1371600"/>
            <a:ext cx="2057040" cy="2133360"/>
            <a:chOff x="2666880" y="1371600"/>
            <a:chExt cx="2057040" cy="2133360"/>
          </a:xfrm>
        </p:grpSpPr>
        <p:sp>
          <p:nvSpPr>
            <p:cNvPr id="1024" name=""/>
            <p:cNvSpPr/>
            <p:nvPr/>
          </p:nvSpPr>
          <p:spPr>
            <a:xfrm>
              <a:off x="2666880" y="1371600"/>
              <a:ext cx="2057040" cy="21333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47800" y="1885680"/>
              <a:ext cx="842400" cy="898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4062240" y="2032920"/>
              <a:ext cx="73440" cy="221040"/>
              <a:chOff x="4062240" y="2032920"/>
              <a:chExt cx="73440" cy="221040"/>
            </a:xfrm>
          </p:grpSpPr>
          <p:sp>
            <p:nvSpPr>
              <p:cNvPr id="1027" name=""/>
              <p:cNvSpPr/>
              <p:nvPr/>
            </p:nvSpPr>
            <p:spPr>
              <a:xfrm>
                <a:off x="4062240" y="2032920"/>
                <a:ext cx="0" cy="22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4135680" y="2032920"/>
                <a:ext cx="0" cy="22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3594960" y="2266200"/>
              <a:ext cx="347040" cy="369720"/>
              <a:chOff x="3594960" y="2266200"/>
              <a:chExt cx="347040" cy="369720"/>
            </a:xfrm>
          </p:grpSpPr>
          <p:sp>
            <p:nvSpPr>
              <p:cNvPr id="1030" name=""/>
              <p:cNvSpPr/>
              <p:nvPr/>
            </p:nvSpPr>
            <p:spPr>
              <a:xfrm>
                <a:off x="3594960" y="2266200"/>
                <a:ext cx="347040" cy="36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43640" y="2424600"/>
                <a:ext cx="49320" cy="52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3532320" y="2239920"/>
              <a:ext cx="355680" cy="359640"/>
              <a:chOff x="3532320" y="2239920"/>
              <a:chExt cx="355680" cy="359640"/>
            </a:xfrm>
          </p:grpSpPr>
          <p:sp>
            <p:nvSpPr>
              <p:cNvPr id="1033" name=""/>
              <p:cNvSpPr/>
              <p:nvPr/>
            </p:nvSpPr>
            <p:spPr>
              <a:xfrm>
                <a:off x="3532320" y="2239920"/>
                <a:ext cx="355680" cy="35964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3543120" y="2239920"/>
                <a:ext cx="311400" cy="338040"/>
                <a:chOff x="3543120" y="2239920"/>
                <a:chExt cx="311400" cy="3380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3694320" y="234648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543120" y="238212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7" name=""/>
                <p:cNvGrpSpPr/>
                <p:nvPr/>
              </p:nvGrpSpPr>
              <p:grpSpPr>
                <a:xfrm>
                  <a:off x="3685320" y="2391120"/>
                  <a:ext cx="62280" cy="62280"/>
                  <a:chOff x="3685320" y="2391120"/>
                  <a:chExt cx="62280" cy="6228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3685320" y="2391120"/>
                    <a:ext cx="62280" cy="6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711960" y="2417760"/>
                    <a:ext cx="8640" cy="8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0" name=""/>
                <p:cNvSpPr/>
                <p:nvPr/>
              </p:nvSpPr>
              <p:spPr>
                <a:xfrm>
                  <a:off x="3641040" y="223992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694320" y="2417760"/>
                  <a:ext cx="16020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2" name=""/>
            <p:cNvSpPr/>
            <p:nvPr/>
          </p:nvSpPr>
          <p:spPr>
            <a:xfrm>
              <a:off x="2739960" y="2253960"/>
              <a:ext cx="891360" cy="88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181680" y="1371600"/>
              <a:ext cx="842400" cy="89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4136040" y="2696040"/>
              <a:ext cx="73080" cy="293040"/>
              <a:chOff x="4136040" y="2696040"/>
              <a:chExt cx="73080" cy="293040"/>
            </a:xfrm>
          </p:grpSpPr>
          <p:sp>
            <p:nvSpPr>
              <p:cNvPr id="1045" name=""/>
              <p:cNvSpPr/>
              <p:nvPr/>
            </p:nvSpPr>
            <p:spPr>
              <a:xfrm>
                <a:off x="4136040" y="2696040"/>
                <a:ext cx="0" cy="2930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4209120" y="2696040"/>
                <a:ext cx="0" cy="2930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3694320" y="2327760"/>
              <a:ext cx="918000" cy="95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136040" y="2695680"/>
              <a:ext cx="73080" cy="219600"/>
              <a:chOff x="4136040" y="2695680"/>
              <a:chExt cx="73080" cy="219600"/>
            </a:xfrm>
          </p:grpSpPr>
          <p:sp>
            <p:nvSpPr>
              <p:cNvPr id="1049" name=""/>
              <p:cNvSpPr/>
              <p:nvPr/>
            </p:nvSpPr>
            <p:spPr>
              <a:xfrm>
                <a:off x="4136040" y="2696040"/>
                <a:ext cx="0" cy="21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4209120" y="2695680"/>
                <a:ext cx="0" cy="21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3547800" y="1666080"/>
              <a:ext cx="73080" cy="219600"/>
              <a:chOff x="3547800" y="1666080"/>
              <a:chExt cx="73080" cy="219600"/>
            </a:xfrm>
          </p:grpSpPr>
          <p:sp>
            <p:nvSpPr>
              <p:cNvPr id="1052" name=""/>
              <p:cNvSpPr/>
              <p:nvPr/>
            </p:nvSpPr>
            <p:spPr>
              <a:xfrm>
                <a:off x="3547800" y="1666440"/>
                <a:ext cx="0" cy="21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620880" y="1666080"/>
                <a:ext cx="0" cy="21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3254760" y="2548800"/>
              <a:ext cx="0" cy="292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15000" y="2057400"/>
            <a:ext cx="703440" cy="762120"/>
            <a:chOff x="5715000" y="2057400"/>
            <a:chExt cx="703440" cy="762120"/>
          </a:xfrm>
        </p:grpSpPr>
        <p:sp>
          <p:nvSpPr>
            <p:cNvPr id="1056" name=""/>
            <p:cNvSpPr/>
            <p:nvPr/>
          </p:nvSpPr>
          <p:spPr>
            <a:xfrm>
              <a:off x="5715000" y="2057400"/>
              <a:ext cx="703440" cy="7621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5736600" y="2057400"/>
              <a:ext cx="615240" cy="716040"/>
              <a:chOff x="5736600" y="2057400"/>
              <a:chExt cx="615240" cy="716040"/>
            </a:xfrm>
          </p:grpSpPr>
          <p:sp>
            <p:nvSpPr>
              <p:cNvPr id="1058" name=""/>
              <p:cNvSpPr/>
              <p:nvPr/>
            </p:nvSpPr>
            <p:spPr>
              <a:xfrm>
                <a:off x="6035400" y="2283480"/>
                <a:ext cx="299160" cy="32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36600" y="2358720"/>
                <a:ext cx="298800" cy="32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0" name=""/>
              <p:cNvGrpSpPr/>
              <p:nvPr/>
            </p:nvGrpSpPr>
            <p:grpSpPr>
              <a:xfrm>
                <a:off x="6018120" y="2377800"/>
                <a:ext cx="123120" cy="131760"/>
                <a:chOff x="6018120" y="2377800"/>
                <a:chExt cx="123120" cy="1317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6018120" y="2377800"/>
                  <a:ext cx="123120" cy="13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070680" y="2434320"/>
                  <a:ext cx="17640" cy="18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5929920" y="2057400"/>
                <a:ext cx="299160" cy="32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035400" y="2434320"/>
                <a:ext cx="316440" cy="33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5" name=""/>
          <p:cNvGrpSpPr/>
          <p:nvPr/>
        </p:nvGrpSpPr>
        <p:grpSpPr>
          <a:xfrm>
            <a:off x="6400800" y="1219320"/>
            <a:ext cx="2405160" cy="2374920"/>
            <a:chOff x="6400800" y="1219320"/>
            <a:chExt cx="2405160" cy="2374920"/>
          </a:xfrm>
        </p:grpSpPr>
        <p:sp>
          <p:nvSpPr>
            <p:cNvPr id="1066" name=""/>
            <p:cNvSpPr/>
            <p:nvPr/>
          </p:nvSpPr>
          <p:spPr>
            <a:xfrm>
              <a:off x="6400800" y="1219320"/>
              <a:ext cx="2405160" cy="23749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86840" y="2201400"/>
              <a:ext cx="107172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31840" y="1792080"/>
              <a:ext cx="985320" cy="100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033040" y="1955520"/>
              <a:ext cx="84240" cy="245520"/>
              <a:chOff x="8033040" y="1955520"/>
              <a:chExt cx="84240" cy="245520"/>
            </a:xfrm>
          </p:grpSpPr>
          <p:sp>
            <p:nvSpPr>
              <p:cNvPr id="1070" name=""/>
              <p:cNvSpPr/>
              <p:nvPr/>
            </p:nvSpPr>
            <p:spPr>
              <a:xfrm>
                <a:off x="8033040" y="195588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8117280" y="195552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7486200" y="2215080"/>
              <a:ext cx="406440" cy="413280"/>
              <a:chOff x="7486200" y="2215080"/>
              <a:chExt cx="406440" cy="413280"/>
            </a:xfrm>
          </p:grpSpPr>
          <p:sp>
            <p:nvSpPr>
              <p:cNvPr id="1073" name=""/>
              <p:cNvSpPr/>
              <p:nvPr/>
            </p:nvSpPr>
            <p:spPr>
              <a:xfrm>
                <a:off x="7486200" y="2215080"/>
                <a:ext cx="406440" cy="41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60080" y="2391840"/>
                <a:ext cx="57960" cy="5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413840" y="2186280"/>
              <a:ext cx="414720" cy="400680"/>
              <a:chOff x="7413840" y="2186280"/>
              <a:chExt cx="414720" cy="400680"/>
            </a:xfrm>
          </p:grpSpPr>
          <p:sp>
            <p:nvSpPr>
              <p:cNvPr id="1076" name=""/>
              <p:cNvSpPr/>
              <p:nvPr/>
            </p:nvSpPr>
            <p:spPr>
              <a:xfrm>
                <a:off x="7413840" y="2186280"/>
                <a:ext cx="414720" cy="40068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7426440" y="2186280"/>
                <a:ext cx="362520" cy="376200"/>
                <a:chOff x="7426440" y="2186280"/>
                <a:chExt cx="362520" cy="37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7602480" y="2305080"/>
                  <a:ext cx="176400" cy="1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426440" y="2344680"/>
                  <a:ext cx="176040" cy="1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0" name=""/>
                <p:cNvGrpSpPr/>
                <p:nvPr/>
              </p:nvGrpSpPr>
              <p:grpSpPr>
                <a:xfrm>
                  <a:off x="7592400" y="2354760"/>
                  <a:ext cx="72360" cy="69120"/>
                  <a:chOff x="7592400" y="2354760"/>
                  <a:chExt cx="72360" cy="6912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7592400" y="2354760"/>
                    <a:ext cx="72360" cy="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7623360" y="2384280"/>
                    <a:ext cx="10080" cy="9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3" name=""/>
                <p:cNvSpPr/>
                <p:nvPr/>
              </p:nvSpPr>
              <p:spPr>
                <a:xfrm>
                  <a:off x="7540560" y="2186280"/>
                  <a:ext cx="176400" cy="16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602480" y="2384280"/>
                  <a:ext cx="1864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5" name=""/>
            <p:cNvSpPr/>
            <p:nvPr/>
          </p:nvSpPr>
          <p:spPr>
            <a:xfrm>
              <a:off x="7002000" y="1219320"/>
              <a:ext cx="985320" cy="995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6" name=""/>
            <p:cNvGrpSpPr/>
            <p:nvPr/>
          </p:nvGrpSpPr>
          <p:grpSpPr>
            <a:xfrm>
              <a:off x="8118000" y="2693520"/>
              <a:ext cx="86040" cy="326880"/>
              <a:chOff x="8118000" y="2693520"/>
              <a:chExt cx="86040" cy="326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8118000" y="2693880"/>
                <a:ext cx="0" cy="326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204040" y="2693520"/>
                <a:ext cx="0" cy="326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7603200" y="2284560"/>
              <a:ext cx="1071360" cy="106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8118000" y="2693520"/>
              <a:ext cx="86040" cy="245520"/>
              <a:chOff x="8118000" y="2693520"/>
              <a:chExt cx="86040" cy="245520"/>
            </a:xfrm>
          </p:grpSpPr>
          <p:sp>
            <p:nvSpPr>
              <p:cNvPr id="1091" name=""/>
              <p:cNvSpPr/>
              <p:nvPr/>
            </p:nvSpPr>
            <p:spPr>
              <a:xfrm>
                <a:off x="8118000" y="269388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8204040" y="269352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7431840" y="1546200"/>
              <a:ext cx="84240" cy="245520"/>
              <a:chOff x="7431840" y="1546200"/>
              <a:chExt cx="84240" cy="245520"/>
            </a:xfrm>
          </p:grpSpPr>
          <p:sp>
            <p:nvSpPr>
              <p:cNvPr id="1094" name=""/>
              <p:cNvSpPr/>
              <p:nvPr/>
            </p:nvSpPr>
            <p:spPr>
              <a:xfrm>
                <a:off x="7431840" y="154656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7516080" y="1546200"/>
                <a:ext cx="0" cy="24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7002000" y="2611800"/>
              <a:ext cx="0" cy="327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6915600" y="2611440"/>
              <a:ext cx="0" cy="327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066680" y="2133720"/>
            <a:ext cx="574920" cy="655560"/>
            <a:chOff x="1066680" y="2133720"/>
            <a:chExt cx="574920" cy="655560"/>
          </a:xfrm>
        </p:grpSpPr>
        <p:sp>
          <p:nvSpPr>
            <p:cNvPr id="1099" name=""/>
            <p:cNvSpPr/>
            <p:nvPr/>
          </p:nvSpPr>
          <p:spPr>
            <a:xfrm>
              <a:off x="1066680" y="2133720"/>
              <a:ext cx="574920" cy="6555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1084320" y="2133720"/>
              <a:ext cx="503280" cy="615600"/>
              <a:chOff x="1084320" y="2133720"/>
              <a:chExt cx="503280" cy="615600"/>
            </a:xfrm>
          </p:grpSpPr>
          <p:sp>
            <p:nvSpPr>
              <p:cNvPr id="1101" name=""/>
              <p:cNvSpPr/>
              <p:nvPr/>
            </p:nvSpPr>
            <p:spPr>
              <a:xfrm>
                <a:off x="1328760" y="2328120"/>
                <a:ext cx="244440" cy="27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084320" y="2392920"/>
                <a:ext cx="244440" cy="27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1314360" y="2409120"/>
                <a:ext cx="100440" cy="113400"/>
                <a:chOff x="1314360" y="2409120"/>
                <a:chExt cx="100440" cy="11340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314360" y="2409120"/>
                  <a:ext cx="10044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357200" y="2457720"/>
                  <a:ext cx="14400" cy="16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6" name=""/>
              <p:cNvSpPr/>
              <p:nvPr/>
            </p:nvSpPr>
            <p:spPr>
              <a:xfrm>
                <a:off x="1242360" y="2133720"/>
                <a:ext cx="244440" cy="275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28760" y="2457720"/>
                <a:ext cx="258840" cy="29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8" name=""/>
          <p:cNvGrpSpPr/>
          <p:nvPr/>
        </p:nvGrpSpPr>
        <p:grpSpPr>
          <a:xfrm>
            <a:off x="6174360" y="4038480"/>
            <a:ext cx="607320" cy="596880"/>
            <a:chOff x="6174360" y="4038480"/>
            <a:chExt cx="607320" cy="596880"/>
          </a:xfrm>
        </p:grpSpPr>
        <p:sp>
          <p:nvSpPr>
            <p:cNvPr id="1109" name=""/>
            <p:cNvSpPr/>
            <p:nvPr/>
          </p:nvSpPr>
          <p:spPr>
            <a:xfrm>
              <a:off x="6174360" y="4114800"/>
              <a:ext cx="5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6553080" y="4038480"/>
              <a:ext cx="228600" cy="228600"/>
              <a:chOff x="6553080" y="4038480"/>
              <a:chExt cx="228600" cy="228600"/>
            </a:xfrm>
          </p:grpSpPr>
          <p:sp>
            <p:nvSpPr>
              <p:cNvPr id="1111" name=""/>
              <p:cNvSpPr/>
              <p:nvPr/>
            </p:nvSpPr>
            <p:spPr>
              <a:xfrm>
                <a:off x="6553080" y="4038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553080" y="4038480"/>
                <a:ext cx="228600" cy="228600"/>
              </a:xfrm>
              <a:prstGeom prst="plus">
                <a:avLst>
                  <a:gd name="adj" fmla="val 41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277800" y="4038480"/>
            <a:ext cx="760680" cy="533520"/>
            <a:chOff x="3277800" y="4038480"/>
            <a:chExt cx="760680" cy="533520"/>
          </a:xfrm>
        </p:grpSpPr>
        <p:sp>
          <p:nvSpPr>
            <p:cNvPr id="1114" name=""/>
            <p:cNvSpPr/>
            <p:nvPr/>
          </p:nvSpPr>
          <p:spPr>
            <a:xfrm>
              <a:off x="3277800" y="4038480"/>
              <a:ext cx="7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04960" y="40384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04960" y="457200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038480" y="4114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783840" y="41148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6934320" y="4038480"/>
            <a:ext cx="837720" cy="609840"/>
            <a:chOff x="6934320" y="4038480"/>
            <a:chExt cx="837720" cy="609840"/>
          </a:xfrm>
        </p:grpSpPr>
        <p:grpSp>
          <p:nvGrpSpPr>
            <p:cNvPr id="1120" name=""/>
            <p:cNvGrpSpPr/>
            <p:nvPr/>
          </p:nvGrpSpPr>
          <p:grpSpPr>
            <a:xfrm>
              <a:off x="7543800" y="4038480"/>
              <a:ext cx="228240" cy="228600"/>
              <a:chOff x="7543800" y="4038480"/>
              <a:chExt cx="228240" cy="228600"/>
            </a:xfrm>
          </p:grpSpPr>
          <p:sp>
            <p:nvSpPr>
              <p:cNvPr id="1121" name=""/>
              <p:cNvSpPr/>
              <p:nvPr/>
            </p:nvSpPr>
            <p:spPr>
              <a:xfrm>
                <a:off x="7543800" y="40384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43800" y="4130280"/>
                <a:ext cx="228240" cy="46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"/>
            <p:cNvSpPr/>
            <p:nvPr/>
          </p:nvSpPr>
          <p:spPr>
            <a:xfrm>
              <a:off x="7010280" y="411480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010280" y="464832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67480" y="4191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934320" y="41911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 flipV="1" rot="16090200">
            <a:off x="1958760" y="3717720"/>
            <a:ext cx="1596600" cy="21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014" y="3788"/>
                </a:moveTo>
                <a:arcTo wR="10800" hR="10800" stAng="-2429133" swAng="5002039"/>
                <a:lnTo>
                  <a:pt x="10800" y="10800"/>
                </a:lnTo>
                <a:close/>
              </a:path>
              <a:path fill="none" w="21600" h="21600">
                <a:moveTo>
                  <a:pt x="19014" y="3788"/>
                </a:moveTo>
                <a:arcTo wR="10800" hR="10800" stAng="-2429133" swAng="5002039"/>
              </a:path>
            </a:pathLst>
          </a:custGeom>
          <a:noFill/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00200" y="2057400"/>
            <a:ext cx="838080" cy="91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57400" y="2438280"/>
            <a:ext cx="1440" cy="285840"/>
          </a:xfrm>
          <a:prstGeom prst="line">
            <a:avLst/>
          </a:prstGeom>
          <a:ln w="1260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16090200">
            <a:off x="1732320" y="2327400"/>
            <a:ext cx="1596600" cy="176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6" y="3432"/>
                </a:moveTo>
                <a:arcTo wR="10800" hR="10800" stAng="-2581067" swAng="3999250"/>
                <a:lnTo>
                  <a:pt x="10800" y="10800"/>
                </a:lnTo>
                <a:close/>
              </a:path>
              <a:path fill="none" w="21600" h="21600">
                <a:moveTo>
                  <a:pt x="18696" y="3432"/>
                </a:moveTo>
                <a:arcTo wR="10800" hR="10800" stAng="-2581067" swAng="3999250"/>
              </a:path>
            </a:pathLst>
          </a:custGeom>
          <a:noFill/>
          <a:ln w="93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Bildung von Natrium- &amp; Chlorid - Ion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Bildung von Chlorwasserst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035080" y="1195560"/>
            <a:ext cx="2057040" cy="2133000"/>
            <a:chOff x="2035080" y="1195560"/>
            <a:chExt cx="2057040" cy="2133000"/>
          </a:xfrm>
        </p:grpSpPr>
        <p:sp>
          <p:nvSpPr>
            <p:cNvPr id="1134" name=""/>
            <p:cNvSpPr/>
            <p:nvPr/>
          </p:nvSpPr>
          <p:spPr>
            <a:xfrm>
              <a:off x="2035080" y="1195560"/>
              <a:ext cx="2057040" cy="2133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16000" y="1709280"/>
              <a:ext cx="842400" cy="898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3430440" y="1856520"/>
              <a:ext cx="73440" cy="221040"/>
              <a:chOff x="3430440" y="1856520"/>
              <a:chExt cx="73440" cy="221040"/>
            </a:xfrm>
          </p:grpSpPr>
          <p:sp>
            <p:nvSpPr>
              <p:cNvPr id="1137" name=""/>
              <p:cNvSpPr/>
              <p:nvPr/>
            </p:nvSpPr>
            <p:spPr>
              <a:xfrm>
                <a:off x="3430440" y="1856520"/>
                <a:ext cx="0" cy="22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3503880" y="1856520"/>
                <a:ext cx="0" cy="22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2963160" y="2090160"/>
              <a:ext cx="347040" cy="369720"/>
              <a:chOff x="2963160" y="2090160"/>
              <a:chExt cx="347040" cy="369720"/>
            </a:xfrm>
          </p:grpSpPr>
          <p:sp>
            <p:nvSpPr>
              <p:cNvPr id="1140" name=""/>
              <p:cNvSpPr/>
              <p:nvPr/>
            </p:nvSpPr>
            <p:spPr>
              <a:xfrm>
                <a:off x="2963160" y="2090160"/>
                <a:ext cx="347040" cy="36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111840" y="2248560"/>
                <a:ext cx="49320" cy="52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2900520" y="2063880"/>
              <a:ext cx="355680" cy="359640"/>
              <a:chOff x="2900520" y="2063880"/>
              <a:chExt cx="355680" cy="359640"/>
            </a:xfrm>
          </p:grpSpPr>
          <p:sp>
            <p:nvSpPr>
              <p:cNvPr id="1143" name=""/>
              <p:cNvSpPr/>
              <p:nvPr/>
            </p:nvSpPr>
            <p:spPr>
              <a:xfrm>
                <a:off x="2900520" y="2063880"/>
                <a:ext cx="355680" cy="35964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2911320" y="2063880"/>
                <a:ext cx="311400" cy="338040"/>
                <a:chOff x="2911320" y="2063880"/>
                <a:chExt cx="311400" cy="33804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3062520" y="217044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911320" y="220608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3053520" y="2215080"/>
                  <a:ext cx="62280" cy="62280"/>
                  <a:chOff x="3053520" y="2215080"/>
                  <a:chExt cx="62280" cy="6228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3053520" y="2215080"/>
                    <a:ext cx="62280" cy="6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080160" y="2241720"/>
                    <a:ext cx="8640" cy="8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0" name=""/>
                <p:cNvSpPr/>
                <p:nvPr/>
              </p:nvSpPr>
              <p:spPr>
                <a:xfrm>
                  <a:off x="3009240" y="2063880"/>
                  <a:ext cx="151200" cy="15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062520" y="2241720"/>
                  <a:ext cx="16020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2" name=""/>
            <p:cNvSpPr/>
            <p:nvPr/>
          </p:nvSpPr>
          <p:spPr>
            <a:xfrm>
              <a:off x="2108160" y="2077920"/>
              <a:ext cx="891360" cy="88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49880" y="1195560"/>
              <a:ext cx="842400" cy="89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3504240" y="2520000"/>
              <a:ext cx="73080" cy="293040"/>
              <a:chOff x="3504240" y="2520000"/>
              <a:chExt cx="73080" cy="293040"/>
            </a:xfrm>
          </p:grpSpPr>
          <p:sp>
            <p:nvSpPr>
              <p:cNvPr id="1155" name=""/>
              <p:cNvSpPr/>
              <p:nvPr/>
            </p:nvSpPr>
            <p:spPr>
              <a:xfrm>
                <a:off x="3504240" y="2520000"/>
                <a:ext cx="0" cy="2930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3577320" y="2520000"/>
                <a:ext cx="0" cy="2930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062520" y="2151360"/>
              <a:ext cx="918000" cy="9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3504240" y="2520000"/>
              <a:ext cx="73080" cy="218880"/>
              <a:chOff x="3504240" y="2520000"/>
              <a:chExt cx="73080" cy="218880"/>
            </a:xfrm>
          </p:grpSpPr>
          <p:sp>
            <p:nvSpPr>
              <p:cNvPr id="1159" name=""/>
              <p:cNvSpPr/>
              <p:nvPr/>
            </p:nvSpPr>
            <p:spPr>
              <a:xfrm>
                <a:off x="3504240" y="2520000"/>
                <a:ext cx="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3577320" y="2520000"/>
                <a:ext cx="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2916000" y="1490040"/>
              <a:ext cx="73080" cy="218880"/>
              <a:chOff x="2916000" y="1490040"/>
              <a:chExt cx="73080" cy="218880"/>
            </a:xfrm>
          </p:grpSpPr>
          <p:sp>
            <p:nvSpPr>
              <p:cNvPr id="1162" name=""/>
              <p:cNvSpPr/>
              <p:nvPr/>
            </p:nvSpPr>
            <p:spPr>
              <a:xfrm>
                <a:off x="2916000" y="1490040"/>
                <a:ext cx="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V="1">
                <a:off x="2989080" y="1490040"/>
                <a:ext cx="0" cy="218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622960" y="2372760"/>
              <a:ext cx="0" cy="292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5708520" y="1044720"/>
            <a:ext cx="2405160" cy="23749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740640" y="1617840"/>
            <a:ext cx="984240" cy="10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7340760" y="1780920"/>
            <a:ext cx="85320" cy="246240"/>
            <a:chOff x="7340760" y="1780920"/>
            <a:chExt cx="85320" cy="246240"/>
          </a:xfrm>
        </p:grpSpPr>
        <p:sp>
          <p:nvSpPr>
            <p:cNvPr id="1168" name=""/>
            <p:cNvSpPr/>
            <p:nvPr/>
          </p:nvSpPr>
          <p:spPr>
            <a:xfrm>
              <a:off x="7340760" y="1781280"/>
              <a:ext cx="0" cy="245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7426080" y="1780920"/>
              <a:ext cx="0" cy="245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6794640" y="2039760"/>
            <a:ext cx="406440" cy="414360"/>
            <a:chOff x="6794640" y="2039760"/>
            <a:chExt cx="406440" cy="414360"/>
          </a:xfrm>
        </p:grpSpPr>
        <p:sp>
          <p:nvSpPr>
            <p:cNvPr id="1171" name=""/>
            <p:cNvSpPr/>
            <p:nvPr/>
          </p:nvSpPr>
          <p:spPr>
            <a:xfrm>
              <a:off x="6794640" y="2039760"/>
              <a:ext cx="406440" cy="41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968520" y="2217240"/>
              <a:ext cx="57960" cy="5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6721560" y="2011320"/>
            <a:ext cx="415800" cy="401760"/>
            <a:chOff x="6721560" y="2011320"/>
            <a:chExt cx="415800" cy="401760"/>
          </a:xfrm>
        </p:grpSpPr>
        <p:sp>
          <p:nvSpPr>
            <p:cNvPr id="1174" name=""/>
            <p:cNvSpPr/>
            <p:nvPr/>
          </p:nvSpPr>
          <p:spPr>
            <a:xfrm>
              <a:off x="6721560" y="2011320"/>
              <a:ext cx="415800" cy="4017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6734520" y="2011320"/>
              <a:ext cx="363960" cy="377640"/>
              <a:chOff x="6734520" y="2011320"/>
              <a:chExt cx="363960" cy="377640"/>
            </a:xfrm>
          </p:grpSpPr>
          <p:sp>
            <p:nvSpPr>
              <p:cNvPr id="1176" name=""/>
              <p:cNvSpPr/>
              <p:nvPr/>
            </p:nvSpPr>
            <p:spPr>
              <a:xfrm>
                <a:off x="6911280" y="213048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734520" y="217008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6900840" y="2180160"/>
                <a:ext cx="72720" cy="69480"/>
                <a:chOff x="6900840" y="2180160"/>
                <a:chExt cx="72720" cy="6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6900840" y="2180160"/>
                  <a:ext cx="727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931800" y="2210040"/>
                  <a:ext cx="10440" cy="9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1" name=""/>
              <p:cNvSpPr/>
              <p:nvPr/>
            </p:nvSpPr>
            <p:spPr>
              <a:xfrm>
                <a:off x="6848640" y="201132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911280" y="2210040"/>
                <a:ext cx="187200" cy="1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3" name=""/>
          <p:cNvSpPr/>
          <p:nvPr/>
        </p:nvSpPr>
        <p:spPr>
          <a:xfrm>
            <a:off x="6310440" y="1044720"/>
            <a:ext cx="984240" cy="995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7426440" y="2519280"/>
            <a:ext cx="85320" cy="326880"/>
            <a:chOff x="7426440" y="2519280"/>
            <a:chExt cx="85320" cy="326880"/>
          </a:xfrm>
        </p:grpSpPr>
        <p:sp>
          <p:nvSpPr>
            <p:cNvPr id="1185" name=""/>
            <p:cNvSpPr/>
            <p:nvPr/>
          </p:nvSpPr>
          <p:spPr>
            <a:xfrm>
              <a:off x="7426440" y="2519280"/>
              <a:ext cx="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7511760" y="2519280"/>
              <a:ext cx="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6912000" y="2109960"/>
            <a:ext cx="1071360" cy="10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7426440" y="2519280"/>
            <a:ext cx="85320" cy="246240"/>
            <a:chOff x="7426440" y="2519280"/>
            <a:chExt cx="85320" cy="246240"/>
          </a:xfrm>
        </p:grpSpPr>
        <p:sp>
          <p:nvSpPr>
            <p:cNvPr id="1189" name=""/>
            <p:cNvSpPr/>
            <p:nvPr/>
          </p:nvSpPr>
          <p:spPr>
            <a:xfrm>
              <a:off x="7426440" y="251928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511760" y="251928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740640" y="1371600"/>
            <a:ext cx="83520" cy="246240"/>
            <a:chOff x="6740640" y="1371600"/>
            <a:chExt cx="83520" cy="246240"/>
          </a:xfrm>
        </p:grpSpPr>
        <p:sp>
          <p:nvSpPr>
            <p:cNvPr id="1192" name=""/>
            <p:cNvSpPr/>
            <p:nvPr/>
          </p:nvSpPr>
          <p:spPr>
            <a:xfrm>
              <a:off x="6740640" y="137160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824160" y="137160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5671800" y="1951920"/>
            <a:ext cx="1353240" cy="1285200"/>
            <a:chOff x="5671800" y="1951920"/>
            <a:chExt cx="1353240" cy="1285200"/>
          </a:xfrm>
        </p:grpSpPr>
        <p:sp>
          <p:nvSpPr>
            <p:cNvPr id="1195" name=""/>
            <p:cNvSpPr/>
            <p:nvPr/>
          </p:nvSpPr>
          <p:spPr>
            <a:xfrm rot="19384200">
              <a:off x="5791320" y="2209320"/>
              <a:ext cx="1114200" cy="770040"/>
            </a:xfrm>
            <a:prstGeom prst="ellipse">
              <a:avLst/>
            </a:prstGeom>
            <a:gradFill rotWithShape="0">
              <a:gsLst>
                <a:gs pos="0">
                  <a:srgbClr val="1a5a25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6" name=""/>
            <p:cNvGrpSpPr/>
            <p:nvPr/>
          </p:nvGrpSpPr>
          <p:grpSpPr>
            <a:xfrm>
              <a:off x="6394320" y="2339640"/>
              <a:ext cx="87120" cy="329040"/>
              <a:chOff x="6394320" y="2339640"/>
              <a:chExt cx="87120" cy="329040"/>
            </a:xfrm>
          </p:grpSpPr>
          <p:sp>
            <p:nvSpPr>
              <p:cNvPr id="1197" name=""/>
              <p:cNvSpPr/>
              <p:nvPr/>
            </p:nvSpPr>
            <p:spPr>
              <a:xfrm>
                <a:off x="6481440" y="2340000"/>
                <a:ext cx="0" cy="32868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6394320" y="2339640"/>
                <a:ext cx="0" cy="32868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6089760" y="272088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892080" y="2567160"/>
            <a:ext cx="762120" cy="838080"/>
            <a:chOff x="892080" y="2567160"/>
            <a:chExt cx="762120" cy="838080"/>
          </a:xfrm>
        </p:grpSpPr>
        <p:sp>
          <p:nvSpPr>
            <p:cNvPr id="1201" name=""/>
            <p:cNvSpPr/>
            <p:nvPr/>
          </p:nvSpPr>
          <p:spPr>
            <a:xfrm>
              <a:off x="892080" y="2567160"/>
              <a:ext cx="762120" cy="83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19480" y="2889360"/>
              <a:ext cx="1080" cy="2412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43800" y="2953800"/>
              <a:ext cx="58680" cy="6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493360" y="3557520"/>
            <a:ext cx="761040" cy="533520"/>
            <a:chOff x="2493360" y="3557520"/>
            <a:chExt cx="761040" cy="533520"/>
          </a:xfrm>
        </p:grpSpPr>
        <p:sp>
          <p:nvSpPr>
            <p:cNvPr id="1205" name=""/>
            <p:cNvSpPr/>
            <p:nvPr/>
          </p:nvSpPr>
          <p:spPr>
            <a:xfrm>
              <a:off x="2493360" y="3557520"/>
              <a:ext cx="7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97200" y="3557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797200" y="4091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254400" y="36338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6153120" y="3633840"/>
            <a:ext cx="1139760" cy="533160"/>
            <a:chOff x="6153120" y="3633840"/>
            <a:chExt cx="1139760" cy="533160"/>
          </a:xfrm>
        </p:grpSpPr>
        <p:sp>
          <p:nvSpPr>
            <p:cNvPr id="1210" name=""/>
            <p:cNvSpPr/>
            <p:nvPr/>
          </p:nvSpPr>
          <p:spPr>
            <a:xfrm>
              <a:off x="6153120" y="3633840"/>
              <a:ext cx="112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35680" y="36338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35680" y="4167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92880" y="37098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530760" y="3862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970200" y="355752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371600" y="990720"/>
            <a:ext cx="1295280" cy="1295280"/>
            <a:chOff x="1371600" y="990720"/>
            <a:chExt cx="1295280" cy="1295280"/>
          </a:xfrm>
        </p:grpSpPr>
        <p:grpSp>
          <p:nvGrpSpPr>
            <p:cNvPr id="212" name=""/>
            <p:cNvGrpSpPr/>
            <p:nvPr/>
          </p:nvGrpSpPr>
          <p:grpSpPr>
            <a:xfrm>
              <a:off x="1371600" y="990720"/>
              <a:ext cx="1295280" cy="1295280"/>
              <a:chOff x="1371600" y="990720"/>
              <a:chExt cx="1295280" cy="1295280"/>
            </a:xfrm>
          </p:grpSpPr>
          <p:sp>
            <p:nvSpPr>
              <p:cNvPr id="213" name=""/>
              <p:cNvSpPr/>
              <p:nvPr/>
            </p:nvSpPr>
            <p:spPr>
              <a:xfrm>
                <a:off x="1371600" y="990720"/>
                <a:ext cx="1295280" cy="129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81080" y="16002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1752480" y="144792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914400" y="3352680"/>
            <a:ext cx="2193840" cy="2295360"/>
            <a:chOff x="914400" y="3352680"/>
            <a:chExt cx="2193840" cy="2295360"/>
          </a:xfrm>
        </p:grpSpPr>
        <p:grpSp>
          <p:nvGrpSpPr>
            <p:cNvPr id="217" name=""/>
            <p:cNvGrpSpPr/>
            <p:nvPr/>
          </p:nvGrpSpPr>
          <p:grpSpPr>
            <a:xfrm>
              <a:off x="914400" y="3352680"/>
              <a:ext cx="2193840" cy="2295360"/>
              <a:chOff x="914400" y="3352680"/>
              <a:chExt cx="2193840" cy="2295360"/>
            </a:xfrm>
          </p:grpSpPr>
          <p:sp>
            <p:nvSpPr>
              <p:cNvPr id="218" name=""/>
              <p:cNvSpPr/>
              <p:nvPr/>
            </p:nvSpPr>
            <p:spPr>
              <a:xfrm>
                <a:off x="914400" y="3352680"/>
                <a:ext cx="2190600" cy="2295360"/>
              </a:xfrm>
              <a:prstGeom prst="ellipse">
                <a:avLst/>
              </a:prstGeom>
              <a:gradFill rotWithShape="0">
                <a:gsLst>
                  <a:gs pos="0">
                    <a:srgbClr val="d3d3d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08240" y="4049640"/>
                <a:ext cx="900000" cy="94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1809720" y="4300200"/>
                <a:ext cx="406440" cy="412920"/>
                <a:chOff x="1809720" y="4300200"/>
                <a:chExt cx="406440" cy="4129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809720" y="4300200"/>
                  <a:ext cx="406440" cy="41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983600" y="4476960"/>
                  <a:ext cx="57960" cy="5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1965240" y="4422600"/>
              <a:ext cx="1440" cy="23796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60280" y="4352760"/>
              <a:ext cx="1800" cy="22392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666880" y="434304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WM – Beispie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4876920" y="533520"/>
            <a:ext cx="2404800" cy="23749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908680" y="1106640"/>
            <a:ext cx="984240" cy="10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6508800" y="1269720"/>
            <a:ext cx="85320" cy="246240"/>
            <a:chOff x="6508800" y="1269720"/>
            <a:chExt cx="85320" cy="246240"/>
          </a:xfrm>
        </p:grpSpPr>
        <p:sp>
          <p:nvSpPr>
            <p:cNvPr id="1219" name=""/>
            <p:cNvSpPr/>
            <p:nvPr/>
          </p:nvSpPr>
          <p:spPr>
            <a:xfrm>
              <a:off x="6508800" y="1270080"/>
              <a:ext cx="0" cy="245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6594120" y="1269720"/>
              <a:ext cx="0" cy="245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962680" y="1528920"/>
            <a:ext cx="406440" cy="414360"/>
            <a:chOff x="5962680" y="1528920"/>
            <a:chExt cx="406440" cy="414360"/>
          </a:xfrm>
        </p:grpSpPr>
        <p:sp>
          <p:nvSpPr>
            <p:cNvPr id="1222" name=""/>
            <p:cNvSpPr/>
            <p:nvPr/>
          </p:nvSpPr>
          <p:spPr>
            <a:xfrm>
              <a:off x="5962680" y="1528920"/>
              <a:ext cx="406440" cy="41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36560" y="1706400"/>
              <a:ext cx="57960" cy="5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5889600" y="1500120"/>
            <a:ext cx="415800" cy="401760"/>
            <a:chOff x="5889600" y="1500120"/>
            <a:chExt cx="415800" cy="401760"/>
          </a:xfrm>
        </p:grpSpPr>
        <p:sp>
          <p:nvSpPr>
            <p:cNvPr id="1225" name=""/>
            <p:cNvSpPr/>
            <p:nvPr/>
          </p:nvSpPr>
          <p:spPr>
            <a:xfrm>
              <a:off x="5889600" y="1500120"/>
              <a:ext cx="415800" cy="40176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5902560" y="1500120"/>
              <a:ext cx="363960" cy="377640"/>
              <a:chOff x="5902560" y="1500120"/>
              <a:chExt cx="363960" cy="377640"/>
            </a:xfrm>
          </p:grpSpPr>
          <p:sp>
            <p:nvSpPr>
              <p:cNvPr id="1227" name=""/>
              <p:cNvSpPr/>
              <p:nvPr/>
            </p:nvSpPr>
            <p:spPr>
              <a:xfrm>
                <a:off x="6079320" y="161928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902560" y="165888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9" name=""/>
              <p:cNvGrpSpPr/>
              <p:nvPr/>
            </p:nvGrpSpPr>
            <p:grpSpPr>
              <a:xfrm>
                <a:off x="6068880" y="1668960"/>
                <a:ext cx="72720" cy="69480"/>
                <a:chOff x="6068880" y="1668960"/>
                <a:chExt cx="72720" cy="6948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6068880" y="1668960"/>
                  <a:ext cx="72720" cy="6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099840" y="1698840"/>
                  <a:ext cx="10440" cy="9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960" bIns="-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6016680" y="1500120"/>
                <a:ext cx="176760" cy="16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079320" y="1698840"/>
                <a:ext cx="187200" cy="17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4" name=""/>
          <p:cNvSpPr/>
          <p:nvPr/>
        </p:nvSpPr>
        <p:spPr>
          <a:xfrm>
            <a:off x="5478480" y="533520"/>
            <a:ext cx="984240" cy="9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6594480" y="2008080"/>
            <a:ext cx="85320" cy="326880"/>
            <a:chOff x="6594480" y="2008080"/>
            <a:chExt cx="85320" cy="326880"/>
          </a:xfrm>
        </p:grpSpPr>
        <p:sp>
          <p:nvSpPr>
            <p:cNvPr id="1236" name=""/>
            <p:cNvSpPr/>
            <p:nvPr/>
          </p:nvSpPr>
          <p:spPr>
            <a:xfrm>
              <a:off x="6594480" y="2008080"/>
              <a:ext cx="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6679800" y="2008080"/>
              <a:ext cx="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80040" y="1598760"/>
            <a:ext cx="1071720" cy="106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594480" y="2008080"/>
            <a:ext cx="85320" cy="246240"/>
            <a:chOff x="6594480" y="2008080"/>
            <a:chExt cx="85320" cy="246240"/>
          </a:xfrm>
        </p:grpSpPr>
        <p:sp>
          <p:nvSpPr>
            <p:cNvPr id="1240" name=""/>
            <p:cNvSpPr/>
            <p:nvPr/>
          </p:nvSpPr>
          <p:spPr>
            <a:xfrm>
              <a:off x="6594480" y="200808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679800" y="200808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908680" y="860400"/>
            <a:ext cx="83880" cy="246240"/>
            <a:chOff x="5908680" y="860400"/>
            <a:chExt cx="83880" cy="246240"/>
          </a:xfrm>
        </p:grpSpPr>
        <p:sp>
          <p:nvSpPr>
            <p:cNvPr id="1243" name=""/>
            <p:cNvSpPr/>
            <p:nvPr/>
          </p:nvSpPr>
          <p:spPr>
            <a:xfrm>
              <a:off x="5908680" y="86040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992560" y="86040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 rot="19384200">
            <a:off x="4959360" y="1698480"/>
            <a:ext cx="1114560" cy="770040"/>
          </a:xfrm>
          <a:prstGeom prst="ellipse">
            <a:avLst/>
          </a:prstGeom>
          <a:gradFill rotWithShape="0">
            <a:gsLst>
              <a:gs pos="0">
                <a:srgbClr val="1a5a25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5562720" y="1828440"/>
            <a:ext cx="87120" cy="329040"/>
            <a:chOff x="5562720" y="1828440"/>
            <a:chExt cx="87120" cy="329040"/>
          </a:xfrm>
        </p:grpSpPr>
        <p:sp>
          <p:nvSpPr>
            <p:cNvPr id="1247" name=""/>
            <p:cNvSpPr/>
            <p:nvPr/>
          </p:nvSpPr>
          <p:spPr>
            <a:xfrm>
              <a:off x="5649840" y="1828800"/>
              <a:ext cx="0" cy="328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5562720" y="1828440"/>
              <a:ext cx="0" cy="328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525780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7547040" y="1371600"/>
            <a:ext cx="1139760" cy="533160"/>
            <a:chOff x="7547040" y="1371600"/>
            <a:chExt cx="1139760" cy="533160"/>
          </a:xfrm>
        </p:grpSpPr>
        <p:sp>
          <p:nvSpPr>
            <p:cNvPr id="1251" name=""/>
            <p:cNvSpPr/>
            <p:nvPr/>
          </p:nvSpPr>
          <p:spPr>
            <a:xfrm>
              <a:off x="7547040" y="1371600"/>
              <a:ext cx="112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229600" y="1371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229600" y="19047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686800" y="14475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924680" y="16002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2147040" y="625680"/>
            <a:ext cx="2052000" cy="2602440"/>
            <a:chOff x="2147040" y="625680"/>
            <a:chExt cx="2052000" cy="2602440"/>
          </a:xfrm>
        </p:grpSpPr>
        <p:sp>
          <p:nvSpPr>
            <p:cNvPr id="1257" name=""/>
            <p:cNvSpPr/>
            <p:nvPr/>
          </p:nvSpPr>
          <p:spPr>
            <a:xfrm flipH="1" flipV="1">
              <a:off x="2361960" y="731520"/>
              <a:ext cx="151596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 rot="10800000">
              <a:off x="2994120" y="1269720"/>
              <a:ext cx="9144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 rot="14515800">
              <a:off x="2103120" y="975960"/>
              <a:ext cx="1116000" cy="534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2854440" y="1677960"/>
              <a:ext cx="380880" cy="457200"/>
              <a:chOff x="2854440" y="1677960"/>
              <a:chExt cx="380880" cy="457200"/>
            </a:xfrm>
          </p:grpSpPr>
          <p:sp>
            <p:nvSpPr>
              <p:cNvPr id="1261" name=""/>
              <p:cNvSpPr/>
              <p:nvPr/>
            </p:nvSpPr>
            <p:spPr>
              <a:xfrm flipV="1" rot="10800000">
                <a:off x="2854440" y="1677960"/>
                <a:ext cx="38088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 rot="10800000">
                <a:off x="3017880" y="1873440"/>
                <a:ext cx="54360" cy="6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 flipV="1" rot="7344000">
              <a:off x="2134800" y="2252880"/>
              <a:ext cx="1143000" cy="599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361600" y="1411200"/>
              <a:ext cx="1515960" cy="18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362320" y="2090520"/>
              <a:ext cx="183672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 rot="10800000">
              <a:off x="2574720" y="2743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384280" y="73584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 rot="10800000">
              <a:off x="2498400" y="991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2668680" y="1220400"/>
              <a:ext cx="85320" cy="246240"/>
              <a:chOff x="2668680" y="1220400"/>
              <a:chExt cx="85320" cy="246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2668680" y="122076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754000" y="122040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354480" y="1296720"/>
              <a:ext cx="85320" cy="246240"/>
              <a:chOff x="3354480" y="1296720"/>
              <a:chExt cx="85320" cy="246240"/>
            </a:xfrm>
          </p:grpSpPr>
          <p:sp>
            <p:nvSpPr>
              <p:cNvPr id="1273" name=""/>
              <p:cNvSpPr/>
              <p:nvPr/>
            </p:nvSpPr>
            <p:spPr>
              <a:xfrm>
                <a:off x="3354480" y="129672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3439800" y="129672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2744640" y="2287440"/>
              <a:ext cx="85680" cy="246240"/>
              <a:chOff x="2744640" y="2287440"/>
              <a:chExt cx="85680" cy="246240"/>
            </a:xfrm>
          </p:grpSpPr>
          <p:sp>
            <p:nvSpPr>
              <p:cNvPr id="1276" name=""/>
              <p:cNvSpPr/>
              <p:nvPr/>
            </p:nvSpPr>
            <p:spPr>
              <a:xfrm>
                <a:off x="2744640" y="228744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2830320" y="228744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3049560" y="1373040"/>
              <a:ext cx="1130040" cy="1003320"/>
              <a:chOff x="3049560" y="1373040"/>
              <a:chExt cx="1130040" cy="1003320"/>
            </a:xfrm>
          </p:grpSpPr>
          <p:sp>
            <p:nvSpPr>
              <p:cNvPr id="1279" name=""/>
              <p:cNvSpPr/>
              <p:nvPr/>
            </p:nvSpPr>
            <p:spPr>
              <a:xfrm flipH="1" flipV="1">
                <a:off x="3858840" y="1373040"/>
                <a:ext cx="320760" cy="68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 rot="10800000">
                <a:off x="3049560" y="1385640"/>
                <a:ext cx="99072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3486240" y="1793520"/>
                <a:ext cx="85320" cy="246240"/>
                <a:chOff x="3486240" y="1793520"/>
                <a:chExt cx="85320" cy="24624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486240" y="1793520"/>
                  <a:ext cx="0" cy="246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V="1">
                  <a:off x="3571560" y="1793520"/>
                  <a:ext cx="0" cy="246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4" name=""/>
            <p:cNvSpPr/>
            <p:nvPr/>
          </p:nvSpPr>
          <p:spPr>
            <a:xfrm>
              <a:off x="2362320" y="729360"/>
              <a:ext cx="1836720" cy="13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223000" y="3902400"/>
            <a:ext cx="2087280" cy="2602440"/>
            <a:chOff x="2223000" y="3902400"/>
            <a:chExt cx="2087280" cy="2602440"/>
          </a:xfrm>
        </p:grpSpPr>
        <p:sp>
          <p:nvSpPr>
            <p:cNvPr id="1286" name=""/>
            <p:cNvSpPr/>
            <p:nvPr/>
          </p:nvSpPr>
          <p:spPr>
            <a:xfrm flipV="1">
              <a:off x="2437560" y="4687920"/>
              <a:ext cx="1515960" cy="18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37920" y="4008240"/>
              <a:ext cx="1515960" cy="67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 rot="10800000">
              <a:off x="3070080" y="4545720"/>
              <a:ext cx="91440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 rot="14515800">
              <a:off x="2179080" y="4252680"/>
              <a:ext cx="1116000" cy="53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0" name=""/>
            <p:cNvGrpSpPr/>
            <p:nvPr/>
          </p:nvGrpSpPr>
          <p:grpSpPr>
            <a:xfrm>
              <a:off x="2930400" y="4954680"/>
              <a:ext cx="380880" cy="457200"/>
              <a:chOff x="2930400" y="4954680"/>
              <a:chExt cx="380880" cy="457200"/>
            </a:xfrm>
          </p:grpSpPr>
          <p:sp>
            <p:nvSpPr>
              <p:cNvPr id="1291" name=""/>
              <p:cNvSpPr/>
              <p:nvPr/>
            </p:nvSpPr>
            <p:spPr>
              <a:xfrm flipV="1" rot="10800000">
                <a:off x="2930400" y="4954680"/>
                <a:ext cx="380880" cy="45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 rot="10800000">
                <a:off x="3093840" y="5150160"/>
                <a:ext cx="54360" cy="6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 flipV="1" rot="7344000">
              <a:off x="2210760" y="5529600"/>
              <a:ext cx="1143000" cy="599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 rot="10800000">
              <a:off x="2650680" y="6020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460240" y="401256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 rot="10800000">
              <a:off x="2574360" y="4267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7" name=""/>
            <p:cNvGrpSpPr/>
            <p:nvPr/>
          </p:nvGrpSpPr>
          <p:grpSpPr>
            <a:xfrm>
              <a:off x="2744640" y="4497120"/>
              <a:ext cx="85320" cy="246240"/>
              <a:chOff x="2744640" y="4497120"/>
              <a:chExt cx="85320" cy="246240"/>
            </a:xfrm>
          </p:grpSpPr>
          <p:sp>
            <p:nvSpPr>
              <p:cNvPr id="1298" name=""/>
              <p:cNvSpPr/>
              <p:nvPr/>
            </p:nvSpPr>
            <p:spPr>
              <a:xfrm>
                <a:off x="2744640" y="4497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2829960" y="449712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3504960" y="4647960"/>
              <a:ext cx="85320" cy="246240"/>
              <a:chOff x="3504960" y="4647960"/>
              <a:chExt cx="85320" cy="246240"/>
            </a:xfrm>
          </p:grpSpPr>
          <p:sp>
            <p:nvSpPr>
              <p:cNvPr id="1301" name=""/>
              <p:cNvSpPr/>
              <p:nvPr/>
            </p:nvSpPr>
            <p:spPr>
              <a:xfrm>
                <a:off x="3504960" y="464832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3590280" y="464796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2896920" y="5487840"/>
              <a:ext cx="85320" cy="246240"/>
              <a:chOff x="2896920" y="5487840"/>
              <a:chExt cx="85320" cy="246240"/>
            </a:xfrm>
          </p:grpSpPr>
          <p:sp>
            <p:nvSpPr>
              <p:cNvPr id="1304" name=""/>
              <p:cNvSpPr/>
              <p:nvPr/>
            </p:nvSpPr>
            <p:spPr>
              <a:xfrm>
                <a:off x="2896920" y="548784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2982240" y="5487840"/>
                <a:ext cx="0" cy="24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 flipH="1" flipV="1">
              <a:off x="3963240" y="4649760"/>
              <a:ext cx="3207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 rot="5971800">
              <a:off x="3428640" y="4718880"/>
              <a:ext cx="609840" cy="1067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38280" y="4006080"/>
              <a:ext cx="1836720" cy="13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504960" y="5105160"/>
              <a:ext cx="85320" cy="246240"/>
              <a:chOff x="3504960" y="5105160"/>
              <a:chExt cx="85320" cy="246240"/>
            </a:xfrm>
          </p:grpSpPr>
          <p:sp>
            <p:nvSpPr>
              <p:cNvPr id="1310" name=""/>
              <p:cNvSpPr/>
              <p:nvPr/>
            </p:nvSpPr>
            <p:spPr>
              <a:xfrm>
                <a:off x="3504960" y="510552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3590280" y="510516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3887640" y="52592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438280" y="5367240"/>
              <a:ext cx="183672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 flipH="1" rot="11949600">
            <a:off x="3526560" y="1567440"/>
            <a:ext cx="17812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6" y="4168"/>
                </a:moveTo>
                <a:arcTo wR="10800" hR="10800" stAng="-8526869" swAng="8161905"/>
                <a:lnTo>
                  <a:pt x="10800" y="10800"/>
                </a:lnTo>
                <a:close/>
              </a:path>
              <a:path fill="none" w="21600" h="21600">
                <a:moveTo>
                  <a:pt x="2276" y="4168"/>
                </a:moveTo>
                <a:arcTo wR="10800" hR="10800" stAng="-8526869" swAng="8161905"/>
              </a:path>
            </a:pathLst>
          </a:custGeom>
          <a:noFill/>
          <a:ln w="1260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72600" y="2438280"/>
            <a:ext cx="13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= Pro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4876920" y="3962520"/>
            <a:ext cx="2466720" cy="2435040"/>
            <a:chOff x="4876920" y="3962520"/>
            <a:chExt cx="2466720" cy="2435040"/>
          </a:xfrm>
        </p:grpSpPr>
        <p:sp>
          <p:nvSpPr>
            <p:cNvPr id="1317" name=""/>
            <p:cNvSpPr/>
            <p:nvPr/>
          </p:nvSpPr>
          <p:spPr>
            <a:xfrm>
              <a:off x="4876920" y="3962520"/>
              <a:ext cx="2466720" cy="243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62600" y="4944960"/>
              <a:ext cx="1098000" cy="1092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908680" y="4535640"/>
              <a:ext cx="1009080" cy="10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6508800" y="4698720"/>
              <a:ext cx="86400" cy="252720"/>
              <a:chOff x="6508800" y="4698720"/>
              <a:chExt cx="86400" cy="252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6508800" y="469908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6595200" y="469872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5962680" y="4957920"/>
              <a:ext cx="416880" cy="425160"/>
              <a:chOff x="5962680" y="4957920"/>
              <a:chExt cx="416880" cy="425160"/>
            </a:xfrm>
          </p:grpSpPr>
          <p:sp>
            <p:nvSpPr>
              <p:cNvPr id="1324" name=""/>
              <p:cNvSpPr/>
              <p:nvPr/>
            </p:nvSpPr>
            <p:spPr>
              <a:xfrm>
                <a:off x="5962680" y="4957920"/>
                <a:ext cx="416880" cy="425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41240" y="5140080"/>
                <a:ext cx="59400" cy="60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5889600" y="4929120"/>
              <a:ext cx="426600" cy="411120"/>
              <a:chOff x="5889600" y="4929120"/>
              <a:chExt cx="426600" cy="411120"/>
            </a:xfrm>
          </p:grpSpPr>
          <p:sp>
            <p:nvSpPr>
              <p:cNvPr id="1327" name=""/>
              <p:cNvSpPr/>
              <p:nvPr/>
            </p:nvSpPr>
            <p:spPr>
              <a:xfrm>
                <a:off x="5889600" y="4929120"/>
                <a:ext cx="426600" cy="41112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8" name=""/>
              <p:cNvGrpSpPr/>
              <p:nvPr/>
            </p:nvGrpSpPr>
            <p:grpSpPr>
              <a:xfrm>
                <a:off x="5902560" y="4929120"/>
                <a:ext cx="373320" cy="386280"/>
                <a:chOff x="5902560" y="4929120"/>
                <a:chExt cx="373320" cy="3862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6084000" y="5051160"/>
                  <a:ext cx="18144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902560" y="5091840"/>
                  <a:ext cx="18144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6073200" y="5101920"/>
                  <a:ext cx="74520" cy="70920"/>
                  <a:chOff x="6073200" y="5101920"/>
                  <a:chExt cx="74520" cy="709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6073200" y="5101920"/>
                    <a:ext cx="74520" cy="70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6105240" y="5132160"/>
                    <a:ext cx="10440" cy="10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4" name=""/>
                <p:cNvSpPr/>
                <p:nvPr/>
              </p:nvSpPr>
              <p:spPr>
                <a:xfrm>
                  <a:off x="6019920" y="4929120"/>
                  <a:ext cx="181440" cy="17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6084000" y="5132520"/>
                  <a:ext cx="19188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6" name=""/>
            <p:cNvSpPr/>
            <p:nvPr/>
          </p:nvSpPr>
          <p:spPr>
            <a:xfrm>
              <a:off x="5478480" y="3962520"/>
              <a:ext cx="1009080" cy="102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594480" y="5437080"/>
              <a:ext cx="86400" cy="334800"/>
              <a:chOff x="6594480" y="5437080"/>
              <a:chExt cx="86400" cy="334800"/>
            </a:xfrm>
          </p:grpSpPr>
          <p:sp>
            <p:nvSpPr>
              <p:cNvPr id="1338" name=""/>
              <p:cNvSpPr/>
              <p:nvPr/>
            </p:nvSpPr>
            <p:spPr>
              <a:xfrm>
                <a:off x="6594480" y="5437080"/>
                <a:ext cx="0" cy="334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6680880" y="5437080"/>
                <a:ext cx="0" cy="334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"/>
            <p:cNvSpPr/>
            <p:nvPr/>
          </p:nvSpPr>
          <p:spPr>
            <a:xfrm>
              <a:off x="6080040" y="5027760"/>
              <a:ext cx="109836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6594480" y="5437080"/>
              <a:ext cx="86400" cy="252720"/>
              <a:chOff x="6594480" y="5437080"/>
              <a:chExt cx="86400" cy="252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6594480" y="5437080"/>
                <a:ext cx="0" cy="25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680880" y="5437080"/>
                <a:ext cx="0" cy="25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5908680" y="4289040"/>
              <a:ext cx="84960" cy="252720"/>
              <a:chOff x="5908680" y="4289040"/>
              <a:chExt cx="84960" cy="252720"/>
            </a:xfrm>
          </p:grpSpPr>
          <p:sp>
            <p:nvSpPr>
              <p:cNvPr id="1345" name=""/>
              <p:cNvSpPr/>
              <p:nvPr/>
            </p:nvSpPr>
            <p:spPr>
              <a:xfrm>
                <a:off x="5908680" y="428940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993640" y="428904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5410080" y="5333760"/>
              <a:ext cx="86760" cy="252720"/>
              <a:chOff x="5410080" y="5333760"/>
              <a:chExt cx="86760" cy="252720"/>
            </a:xfrm>
          </p:grpSpPr>
          <p:sp>
            <p:nvSpPr>
              <p:cNvPr id="1348" name=""/>
              <p:cNvSpPr/>
              <p:nvPr/>
            </p:nvSpPr>
            <p:spPr>
              <a:xfrm>
                <a:off x="5410080" y="533412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496840" y="5333760"/>
                <a:ext cx="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0" name=""/>
          <p:cNvGrpSpPr/>
          <p:nvPr/>
        </p:nvGrpSpPr>
        <p:grpSpPr>
          <a:xfrm>
            <a:off x="7698240" y="4800600"/>
            <a:ext cx="1010520" cy="624960"/>
            <a:chOff x="7698240" y="4800600"/>
            <a:chExt cx="1010520" cy="624960"/>
          </a:xfrm>
        </p:grpSpPr>
        <p:sp>
          <p:nvSpPr>
            <p:cNvPr id="1351" name=""/>
            <p:cNvSpPr/>
            <p:nvPr/>
          </p:nvSpPr>
          <p:spPr>
            <a:xfrm>
              <a:off x="7698240" y="4876560"/>
              <a:ext cx="6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7848360" y="4800600"/>
              <a:ext cx="860400" cy="624960"/>
              <a:chOff x="7848360" y="4800600"/>
              <a:chExt cx="860400" cy="6249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8474400" y="4800600"/>
                <a:ext cx="234360" cy="234360"/>
                <a:chOff x="8474400" y="4800600"/>
                <a:chExt cx="234360" cy="2343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8474400" y="4800600"/>
                  <a:ext cx="2343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474400" y="4894920"/>
                  <a:ext cx="234360" cy="471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7926480" y="4878720"/>
                <a:ext cx="39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26480" y="5425560"/>
                <a:ext cx="39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395920" y="495684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848360" y="495684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0" name=""/>
          <p:cNvGrpSpPr/>
          <p:nvPr/>
        </p:nvGrpSpPr>
        <p:grpSpPr>
          <a:xfrm>
            <a:off x="839880" y="1295280"/>
            <a:ext cx="1074240" cy="1434960"/>
            <a:chOff x="839880" y="1295280"/>
            <a:chExt cx="1074240" cy="1434960"/>
          </a:xfrm>
        </p:grpSpPr>
        <p:sp>
          <p:nvSpPr>
            <p:cNvPr id="1361" name=""/>
            <p:cNvSpPr/>
            <p:nvPr/>
          </p:nvSpPr>
          <p:spPr>
            <a:xfrm>
              <a:off x="839880" y="1295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01520" y="22096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49360" y="15998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28320" y="159984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380960" y="1981080"/>
              <a:ext cx="228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685520" y="159984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1761840" y="182808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11280" y="4419720"/>
            <a:ext cx="1761480" cy="1434960"/>
            <a:chOff x="611280" y="4419720"/>
            <a:chExt cx="1761480" cy="1434960"/>
          </a:xfrm>
        </p:grpSpPr>
        <p:sp>
          <p:nvSpPr>
            <p:cNvPr id="1369" name=""/>
            <p:cNvSpPr/>
            <p:nvPr/>
          </p:nvSpPr>
          <p:spPr>
            <a:xfrm>
              <a:off x="611280" y="4419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3280" y="53341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20760" y="4724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00080" y="4724280"/>
              <a:ext cx="3045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1152360" y="5105520"/>
              <a:ext cx="2286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80960" y="472428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916280" y="50292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609560" y="510552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7" name=""/>
            <p:cNvGrpSpPr/>
            <p:nvPr/>
          </p:nvGrpSpPr>
          <p:grpSpPr>
            <a:xfrm>
              <a:off x="1380960" y="5181480"/>
              <a:ext cx="228600" cy="228600"/>
              <a:chOff x="1380960" y="5181480"/>
              <a:chExt cx="22860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1380960" y="5181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380960" y="5181480"/>
                <a:ext cx="228600" cy="228600"/>
              </a:xfrm>
              <a:prstGeom prst="plus">
                <a:avLst>
                  <a:gd name="adj" fmla="val 41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: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Chlorwasserstoff gibt an Wasser ein Proton a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"/>
          <p:cNvGrpSpPr/>
          <p:nvPr/>
        </p:nvGrpSpPr>
        <p:grpSpPr>
          <a:xfrm>
            <a:off x="8229600" y="5029200"/>
            <a:ext cx="492120" cy="504720"/>
            <a:chOff x="8229600" y="5029200"/>
            <a:chExt cx="492120" cy="504720"/>
          </a:xfrm>
        </p:grpSpPr>
        <p:sp>
          <p:nvSpPr>
            <p:cNvPr id="1382" name=""/>
            <p:cNvSpPr/>
            <p:nvPr/>
          </p:nvSpPr>
          <p:spPr>
            <a:xfrm>
              <a:off x="8229600" y="5029200"/>
              <a:ext cx="492120" cy="50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440200" y="5245200"/>
              <a:ext cx="70200" cy="7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8381880" y="2514600"/>
            <a:ext cx="246240" cy="228600"/>
            <a:chOff x="8381880" y="2514600"/>
            <a:chExt cx="246240" cy="228600"/>
          </a:xfrm>
        </p:grpSpPr>
        <p:sp>
          <p:nvSpPr>
            <p:cNvPr id="1385" name=""/>
            <p:cNvSpPr/>
            <p:nvPr/>
          </p:nvSpPr>
          <p:spPr>
            <a:xfrm>
              <a:off x="8381880" y="2628720"/>
              <a:ext cx="246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505000" y="251460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8229600" y="1905120"/>
            <a:ext cx="53352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381880" y="2057400"/>
            <a:ext cx="228600" cy="763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8229600" y="990720"/>
            <a:ext cx="533520" cy="380880"/>
            <a:chOff x="8229600" y="990720"/>
            <a:chExt cx="533520" cy="380880"/>
          </a:xfrm>
        </p:grpSpPr>
        <p:sp>
          <p:nvSpPr>
            <p:cNvPr id="1390" name=""/>
            <p:cNvSpPr/>
            <p:nvPr/>
          </p:nvSpPr>
          <p:spPr>
            <a:xfrm>
              <a:off x="8229600" y="990720"/>
              <a:ext cx="533520" cy="380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381880" y="1143000"/>
              <a:ext cx="228600" cy="7632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8153280" y="2895480"/>
            <a:ext cx="704880" cy="68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8370720" y="3106800"/>
            <a:ext cx="270000" cy="263520"/>
            <a:chOff x="8370720" y="3106800"/>
            <a:chExt cx="270000" cy="263520"/>
          </a:xfrm>
        </p:grpSpPr>
        <p:sp>
          <p:nvSpPr>
            <p:cNvPr id="1394" name=""/>
            <p:cNvSpPr/>
            <p:nvPr/>
          </p:nvSpPr>
          <p:spPr>
            <a:xfrm>
              <a:off x="8370720" y="3238560"/>
              <a:ext cx="270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505720" y="3106800"/>
              <a:ext cx="0" cy="26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8153280" y="3886200"/>
            <a:ext cx="704880" cy="685800"/>
            <a:chOff x="8153280" y="3886200"/>
            <a:chExt cx="704880" cy="685800"/>
          </a:xfrm>
        </p:grpSpPr>
        <p:sp>
          <p:nvSpPr>
            <p:cNvPr id="1397" name=""/>
            <p:cNvSpPr/>
            <p:nvPr/>
          </p:nvSpPr>
          <p:spPr>
            <a:xfrm>
              <a:off x="8153280" y="3886200"/>
              <a:ext cx="7048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8370000" y="4097160"/>
              <a:ext cx="271080" cy="263520"/>
              <a:chOff x="8370000" y="4097160"/>
              <a:chExt cx="271080" cy="263520"/>
            </a:xfrm>
          </p:grpSpPr>
          <p:sp>
            <p:nvSpPr>
              <p:cNvPr id="1399" name=""/>
              <p:cNvSpPr/>
              <p:nvPr/>
            </p:nvSpPr>
            <p:spPr>
              <a:xfrm>
                <a:off x="8370000" y="4228920"/>
                <a:ext cx="271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505720" y="4097160"/>
                <a:ext cx="0" cy="26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1219320" y="1447920"/>
            <a:ext cx="2743200" cy="2819160"/>
            <a:chOff x="1219320" y="1447920"/>
            <a:chExt cx="2743200" cy="2819160"/>
          </a:xfrm>
        </p:grpSpPr>
        <p:sp>
          <p:nvSpPr>
            <p:cNvPr id="1402" name=""/>
            <p:cNvSpPr/>
            <p:nvPr/>
          </p:nvSpPr>
          <p:spPr>
            <a:xfrm>
              <a:off x="1219320" y="1447920"/>
              <a:ext cx="2740320" cy="281916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048120" y="2286000"/>
              <a:ext cx="91440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29360" y="2819160"/>
              <a:ext cx="228600" cy="0"/>
            </a:xfrm>
            <a:prstGeom prst="line">
              <a:avLst/>
            </a:prstGeom>
            <a:ln w="57240">
              <a:solidFill>
                <a:srgbClr val="00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2133720" y="2361960"/>
              <a:ext cx="914400" cy="914040"/>
              <a:chOff x="2133720" y="2361960"/>
              <a:chExt cx="914400" cy="914040"/>
            </a:xfrm>
          </p:grpSpPr>
          <p:sp>
            <p:nvSpPr>
              <p:cNvPr id="1406" name=""/>
              <p:cNvSpPr/>
              <p:nvPr/>
            </p:nvSpPr>
            <p:spPr>
              <a:xfrm>
                <a:off x="2133720" y="2361960"/>
                <a:ext cx="914400" cy="91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2395440" y="2623320"/>
                <a:ext cx="420480" cy="389880"/>
                <a:chOff x="2395440" y="2623320"/>
                <a:chExt cx="420480" cy="38988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2395440" y="2818080"/>
                  <a:ext cx="420480" cy="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605680" y="2623320"/>
                  <a:ext cx="0" cy="3898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0" name=""/>
            <p:cNvGrpSpPr/>
            <p:nvPr/>
          </p:nvGrpSpPr>
          <p:grpSpPr>
            <a:xfrm>
              <a:off x="1524240" y="1676160"/>
              <a:ext cx="914400" cy="990360"/>
              <a:chOff x="1524240" y="1676160"/>
              <a:chExt cx="914400" cy="990360"/>
            </a:xfrm>
          </p:grpSpPr>
          <p:sp>
            <p:nvSpPr>
              <p:cNvPr id="1411" name=""/>
              <p:cNvSpPr/>
              <p:nvPr/>
            </p:nvSpPr>
            <p:spPr>
              <a:xfrm>
                <a:off x="1524240" y="1676160"/>
                <a:ext cx="91440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829160" y="2209320"/>
                <a:ext cx="228600" cy="0"/>
              </a:xfrm>
              <a:prstGeom prst="line">
                <a:avLst/>
              </a:prstGeom>
              <a:ln w="57240">
                <a:solidFill>
                  <a:srgbClr val="00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1752840" y="3200400"/>
              <a:ext cx="914400" cy="990000"/>
              <a:chOff x="1752840" y="3200400"/>
              <a:chExt cx="914400" cy="990000"/>
            </a:xfrm>
          </p:grpSpPr>
          <p:sp>
            <p:nvSpPr>
              <p:cNvPr id="1414" name=""/>
              <p:cNvSpPr/>
              <p:nvPr/>
            </p:nvSpPr>
            <p:spPr>
              <a:xfrm>
                <a:off x="1752840" y="3200400"/>
                <a:ext cx="91440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134080" y="3733200"/>
                <a:ext cx="228600" cy="0"/>
              </a:xfrm>
              <a:prstGeom prst="line">
                <a:avLst/>
              </a:prstGeom>
              <a:ln w="57240">
                <a:solidFill>
                  <a:srgbClr val="00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6" name=""/>
          <p:cNvSpPr/>
          <p:nvPr/>
        </p:nvSpPr>
        <p:spPr>
          <a:xfrm>
            <a:off x="609480" y="5410080"/>
            <a:ext cx="971640" cy="97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5638680"/>
            <a:ext cx="571680" cy="57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5480" y="5410080"/>
            <a:ext cx="971640" cy="97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458200" y="58672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752480" y="5562720"/>
            <a:ext cx="685800" cy="74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00600" y="3581280"/>
            <a:ext cx="2739960" cy="2819520"/>
          </a:xfrm>
          <a:prstGeom prst="ellipse">
            <a:avLst/>
          </a:prstGeom>
          <a:gradFill rotWithShape="0">
            <a:gsLst>
              <a:gs pos="0">
                <a:srgbClr val="d3d3d3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telbogen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8229600" y="1447920"/>
            <a:ext cx="533520" cy="3808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81880" y="1600200"/>
            <a:ext cx="228600" cy="763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295280" y="3733920"/>
            <a:ext cx="1752480" cy="1828800"/>
            <a:chOff x="1295280" y="3733920"/>
            <a:chExt cx="1752480" cy="1828800"/>
          </a:xfrm>
        </p:grpSpPr>
        <p:grpSp>
          <p:nvGrpSpPr>
            <p:cNvPr id="228" name=""/>
            <p:cNvGrpSpPr/>
            <p:nvPr/>
          </p:nvGrpSpPr>
          <p:grpSpPr>
            <a:xfrm>
              <a:off x="1295280" y="3733920"/>
              <a:ext cx="1752480" cy="1828800"/>
              <a:chOff x="1295280" y="3733920"/>
              <a:chExt cx="1752480" cy="1828800"/>
            </a:xfrm>
          </p:grpSpPr>
          <p:sp>
            <p:nvSpPr>
              <p:cNvPr id="229" name=""/>
              <p:cNvSpPr/>
              <p:nvPr/>
            </p:nvSpPr>
            <p:spPr>
              <a:xfrm>
                <a:off x="1295280" y="3733920"/>
                <a:ext cx="1752480" cy="1828800"/>
              </a:xfrm>
              <a:prstGeom prst="ellipse">
                <a:avLst/>
              </a:prstGeom>
              <a:gradFill rotWithShape="0">
                <a:gsLst>
                  <a:gs pos="0">
                    <a:srgbClr val="d3d3d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295280" y="3733920"/>
                <a:ext cx="1580760" cy="1653480"/>
                <a:chOff x="1295280" y="3733920"/>
                <a:chExt cx="1580760" cy="1653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295280" y="4412160"/>
                  <a:ext cx="767880" cy="72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08160" y="4242600"/>
                  <a:ext cx="722520" cy="67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2017800" y="4454640"/>
                  <a:ext cx="316080" cy="296640"/>
                  <a:chOff x="2017800" y="4454640"/>
                  <a:chExt cx="316080" cy="2966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2017800" y="4454640"/>
                    <a:ext cx="316080" cy="29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153160" y="4581720"/>
                    <a:ext cx="45000" cy="42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2063160" y="4624200"/>
                  <a:ext cx="812880" cy="763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792080" y="3733920"/>
                  <a:ext cx="767880" cy="72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1600200" y="4611600"/>
              <a:ext cx="85320" cy="236160"/>
              <a:chOff x="1600200" y="4611600"/>
              <a:chExt cx="85320" cy="236160"/>
            </a:xfrm>
          </p:grpSpPr>
          <p:sp>
            <p:nvSpPr>
              <p:cNvPr id="239" name=""/>
              <p:cNvSpPr/>
              <p:nvPr/>
            </p:nvSpPr>
            <p:spPr>
              <a:xfrm>
                <a:off x="1600200" y="4611600"/>
                <a:ext cx="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685520" y="4611600"/>
                <a:ext cx="0" cy="23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V="1">
              <a:off x="2590560" y="4318920"/>
              <a:ext cx="0" cy="23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438280" y="4830840"/>
              <a:ext cx="0" cy="23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133360" y="3953160"/>
              <a:ext cx="0" cy="236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8400" y="450036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46544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19320" y="914400"/>
            <a:ext cx="1828800" cy="1904760"/>
            <a:chOff x="1219320" y="914400"/>
            <a:chExt cx="1828800" cy="1904760"/>
          </a:xfrm>
        </p:grpSpPr>
        <p:grpSp>
          <p:nvGrpSpPr>
            <p:cNvPr id="247" name=""/>
            <p:cNvGrpSpPr/>
            <p:nvPr/>
          </p:nvGrpSpPr>
          <p:grpSpPr>
            <a:xfrm>
              <a:off x="1219320" y="914400"/>
              <a:ext cx="1828800" cy="1904760"/>
              <a:chOff x="1219320" y="914400"/>
              <a:chExt cx="1828800" cy="1904760"/>
            </a:xfrm>
          </p:grpSpPr>
          <p:sp>
            <p:nvSpPr>
              <p:cNvPr id="248" name=""/>
              <p:cNvSpPr/>
              <p:nvPr/>
            </p:nvSpPr>
            <p:spPr>
              <a:xfrm>
                <a:off x="1219320" y="914400"/>
                <a:ext cx="1828800" cy="1904760"/>
              </a:xfrm>
              <a:prstGeom prst="ellipse">
                <a:avLst/>
              </a:prstGeom>
              <a:gradFill rotWithShape="0">
                <a:gsLst>
                  <a:gs pos="0">
                    <a:srgbClr val="d3d3d3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1295640" y="914400"/>
                <a:ext cx="1532880" cy="1785960"/>
                <a:chOff x="1295640" y="914400"/>
                <a:chExt cx="1532880" cy="1785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084040" y="1478160"/>
                  <a:ext cx="700920" cy="75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1996560" y="1713240"/>
                  <a:ext cx="306360" cy="329040"/>
                  <a:chOff x="1996560" y="1713240"/>
                  <a:chExt cx="306360" cy="32904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1996560" y="1713240"/>
                    <a:ext cx="306360" cy="329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127600" y="1854000"/>
                    <a:ext cx="43560" cy="46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040120" y="1854360"/>
                  <a:ext cx="788400" cy="84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295640" y="1666080"/>
                  <a:ext cx="744480" cy="79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77320" y="914400"/>
                  <a:ext cx="744840" cy="79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 flipV="1">
              <a:off x="2133720" y="121896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676520" y="190476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38640" y="2209680"/>
              <a:ext cx="0" cy="246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14600" y="1599840"/>
              <a:ext cx="0" cy="245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90880" y="1765080"/>
              <a:ext cx="1440" cy="23832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81240" y="1733400"/>
              <a:ext cx="1800" cy="223920"/>
            </a:xfrm>
            <a:custGeom>
              <a:avLst/>
              <a:gdLst/>
              <a:ahLst/>
              <a:rect l="l" t="t" r="r" b="b"/>
              <a:pathLst>
                <a:path w="1" h="141">
                  <a:moveTo>
                    <a:pt x="0" y="14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WM – Beispie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457200" y="3352680"/>
            <a:ext cx="2133720" cy="2286000"/>
            <a:chOff x="457200" y="3352680"/>
            <a:chExt cx="2133720" cy="2286000"/>
          </a:xfrm>
        </p:grpSpPr>
        <p:sp>
          <p:nvSpPr>
            <p:cNvPr id="265" name=""/>
            <p:cNvSpPr/>
            <p:nvPr/>
          </p:nvSpPr>
          <p:spPr>
            <a:xfrm>
              <a:off x="457200" y="3352680"/>
              <a:ext cx="2133720" cy="2286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341720" y="4223520"/>
              <a:ext cx="364320" cy="435240"/>
              <a:chOff x="1341720" y="4223520"/>
              <a:chExt cx="364320" cy="435240"/>
            </a:xfrm>
          </p:grpSpPr>
          <p:sp>
            <p:nvSpPr>
              <p:cNvPr id="267" name=""/>
              <p:cNvSpPr/>
              <p:nvPr/>
            </p:nvSpPr>
            <p:spPr>
              <a:xfrm>
                <a:off x="1341720" y="4223520"/>
                <a:ext cx="364320" cy="43524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352880" y="4223520"/>
                <a:ext cx="318960" cy="408960"/>
                <a:chOff x="1352880" y="4223520"/>
                <a:chExt cx="318960" cy="408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507680" y="4352760"/>
                  <a:ext cx="15480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352880" y="4395600"/>
                  <a:ext cx="15480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1498680" y="4406400"/>
                  <a:ext cx="63720" cy="75240"/>
                  <a:chOff x="1498680" y="4406400"/>
                  <a:chExt cx="63720" cy="752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498680" y="4406400"/>
                    <a:ext cx="63720" cy="7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26040" y="4438440"/>
                    <a:ext cx="9000" cy="10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1452960" y="4223520"/>
                  <a:ext cx="15480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507680" y="4438800"/>
                  <a:ext cx="164160" cy="19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1706040" y="4005720"/>
              <a:ext cx="884520" cy="925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1080" y="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00000"/>
                </a:solidFill>
                <a:latin typeface="Arial Black"/>
              </a:rPr>
              <a:t>Kugelwolkenmod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5280" y="533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7440" y="5638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19720" y="3429000"/>
            <a:ext cx="2133360" cy="2209680"/>
            <a:chOff x="4419720" y="3429000"/>
            <a:chExt cx="2133360" cy="2209680"/>
          </a:xfrm>
        </p:grpSpPr>
        <p:sp>
          <p:nvSpPr>
            <p:cNvPr id="281" name=""/>
            <p:cNvSpPr/>
            <p:nvPr/>
          </p:nvSpPr>
          <p:spPr>
            <a:xfrm>
              <a:off x="4419720" y="3429000"/>
              <a:ext cx="2133360" cy="220968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57800" y="4038480"/>
              <a:ext cx="874800" cy="93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383080" y="4356000"/>
              <a:ext cx="360360" cy="384120"/>
              <a:chOff x="5383080" y="4356000"/>
              <a:chExt cx="360360" cy="384120"/>
            </a:xfrm>
          </p:grpSpPr>
          <p:sp>
            <p:nvSpPr>
              <p:cNvPr id="284" name=""/>
              <p:cNvSpPr/>
              <p:nvPr/>
            </p:nvSpPr>
            <p:spPr>
              <a:xfrm>
                <a:off x="5383080" y="4356000"/>
                <a:ext cx="360360" cy="384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37520" y="4520520"/>
                <a:ext cx="51480" cy="5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318280" y="4329000"/>
              <a:ext cx="368280" cy="372960"/>
              <a:chOff x="5318280" y="4329000"/>
              <a:chExt cx="368280" cy="372960"/>
            </a:xfrm>
          </p:grpSpPr>
          <p:sp>
            <p:nvSpPr>
              <p:cNvPr id="287" name=""/>
              <p:cNvSpPr/>
              <p:nvPr/>
            </p:nvSpPr>
            <p:spPr>
              <a:xfrm>
                <a:off x="5318280" y="4329000"/>
                <a:ext cx="368280" cy="37296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5329440" y="4329000"/>
                <a:ext cx="322200" cy="350280"/>
                <a:chOff x="5329440" y="4329000"/>
                <a:chExt cx="322200" cy="350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486040" y="4439520"/>
                  <a:ext cx="156600" cy="15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329440" y="4476240"/>
                  <a:ext cx="156600" cy="15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5476680" y="4485600"/>
                  <a:ext cx="64440" cy="64440"/>
                  <a:chOff x="5476680" y="4485600"/>
                  <a:chExt cx="64440" cy="644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5476680" y="4485600"/>
                    <a:ext cx="64440" cy="6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504400" y="4513320"/>
                    <a:ext cx="900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5430600" y="4329000"/>
                  <a:ext cx="156600" cy="15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86040" y="4513320"/>
                  <a:ext cx="16560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5072040" y="3429000"/>
              <a:ext cx="874800" cy="92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86400" y="4419360"/>
              <a:ext cx="95076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95680" y="4343400"/>
              <a:ext cx="92556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259240" y="56386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" y="28605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66680" y="990720"/>
            <a:ext cx="7090920" cy="1374120"/>
            <a:chOff x="1066680" y="990720"/>
            <a:chExt cx="7090920" cy="1374120"/>
          </a:xfrm>
        </p:grpSpPr>
        <p:grpSp>
          <p:nvGrpSpPr>
            <p:cNvPr id="302" name=""/>
            <p:cNvGrpSpPr/>
            <p:nvPr/>
          </p:nvGrpSpPr>
          <p:grpSpPr>
            <a:xfrm>
              <a:off x="4952880" y="1143360"/>
              <a:ext cx="685800" cy="685800"/>
              <a:chOff x="4952880" y="1143360"/>
              <a:chExt cx="685800" cy="685800"/>
            </a:xfrm>
          </p:grpSpPr>
          <p:sp>
            <p:nvSpPr>
              <p:cNvPr id="303" name=""/>
              <p:cNvSpPr/>
              <p:nvPr/>
            </p:nvSpPr>
            <p:spPr>
              <a:xfrm>
                <a:off x="4952880" y="1143360"/>
                <a:ext cx="685800" cy="6858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4952880" y="1143360"/>
                <a:ext cx="621720" cy="644400"/>
                <a:chOff x="4952880" y="1143360"/>
                <a:chExt cx="621720" cy="6444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952880" y="1407600"/>
                  <a:ext cx="302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72560" y="1341720"/>
                  <a:ext cx="284040" cy="26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5236920" y="1424160"/>
                  <a:ext cx="124200" cy="115560"/>
                  <a:chOff x="5236920" y="1424160"/>
                  <a:chExt cx="124200" cy="1155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5236920" y="1424160"/>
                    <a:ext cx="124200" cy="115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290200" y="1473480"/>
                    <a:ext cx="17640" cy="16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5254920" y="1490400"/>
                  <a:ext cx="319680" cy="29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148360" y="1143360"/>
                  <a:ext cx="302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5791320" y="1143360"/>
              <a:ext cx="685800" cy="685800"/>
              <a:chOff x="5791320" y="1143360"/>
              <a:chExt cx="685800" cy="685800"/>
            </a:xfrm>
          </p:grpSpPr>
          <p:sp>
            <p:nvSpPr>
              <p:cNvPr id="313" name=""/>
              <p:cNvSpPr/>
              <p:nvPr/>
            </p:nvSpPr>
            <p:spPr>
              <a:xfrm>
                <a:off x="5791320" y="1143360"/>
                <a:ext cx="685800" cy="6858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5791320" y="1143360"/>
                <a:ext cx="621720" cy="644400"/>
                <a:chOff x="5791320" y="1143360"/>
                <a:chExt cx="621720" cy="6444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791320" y="1414800"/>
                  <a:ext cx="302040" cy="28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11000" y="1346760"/>
                  <a:ext cx="28404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"/>
                <p:cNvGrpSpPr/>
                <p:nvPr/>
              </p:nvGrpSpPr>
              <p:grpSpPr>
                <a:xfrm>
                  <a:off x="6075360" y="1431720"/>
                  <a:ext cx="124200" cy="118440"/>
                  <a:chOff x="6075360" y="1431720"/>
                  <a:chExt cx="124200" cy="1184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075360" y="1431720"/>
                    <a:ext cx="1242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128640" y="1482480"/>
                    <a:ext cx="17640" cy="16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093360" y="1482480"/>
                  <a:ext cx="319680" cy="3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986440" y="1143360"/>
                  <a:ext cx="302040" cy="288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705720" y="1219320"/>
              <a:ext cx="664920" cy="611280"/>
              <a:chOff x="6705720" y="1219320"/>
              <a:chExt cx="664920" cy="611280"/>
            </a:xfrm>
          </p:grpSpPr>
          <p:sp>
            <p:nvSpPr>
              <p:cNvPr id="323" name=""/>
              <p:cNvSpPr/>
              <p:nvPr/>
            </p:nvSpPr>
            <p:spPr>
              <a:xfrm>
                <a:off x="6705720" y="1219320"/>
                <a:ext cx="664920" cy="61128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726240" y="1219320"/>
                <a:ext cx="581760" cy="573840"/>
                <a:chOff x="6726240" y="1219320"/>
                <a:chExt cx="581760" cy="5738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008840" y="1400400"/>
                  <a:ext cx="2826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26240" y="1461240"/>
                  <a:ext cx="2826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992280" y="1476000"/>
                  <a:ext cx="116280" cy="105840"/>
                  <a:chOff x="6992280" y="1476000"/>
                  <a:chExt cx="116280" cy="1058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92280" y="1476000"/>
                    <a:ext cx="116280" cy="10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041960" y="1521360"/>
                    <a:ext cx="16560" cy="151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0" name=""/>
                <p:cNvSpPr/>
                <p:nvPr/>
              </p:nvSpPr>
              <p:spPr>
                <a:xfrm>
                  <a:off x="7008840" y="1521360"/>
                  <a:ext cx="299160" cy="2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909120" y="1219320"/>
                  <a:ext cx="282600" cy="25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543800" y="1219320"/>
              <a:ext cx="609480" cy="594000"/>
              <a:chOff x="7543800" y="1219320"/>
              <a:chExt cx="609480" cy="594000"/>
            </a:xfrm>
          </p:grpSpPr>
          <p:sp>
            <p:nvSpPr>
              <p:cNvPr id="333" name=""/>
              <p:cNvSpPr/>
              <p:nvPr/>
            </p:nvSpPr>
            <p:spPr>
              <a:xfrm>
                <a:off x="7543800" y="1219320"/>
                <a:ext cx="609480" cy="5940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562520" y="1219320"/>
                <a:ext cx="533520" cy="558000"/>
                <a:chOff x="7562520" y="1219320"/>
                <a:chExt cx="533520" cy="5580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1720" y="1395360"/>
                  <a:ext cx="2592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62520" y="1454040"/>
                  <a:ext cx="2592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7806240" y="1468800"/>
                  <a:ext cx="106560" cy="102600"/>
                  <a:chOff x="7806240" y="1468800"/>
                  <a:chExt cx="106560" cy="10260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7806240" y="1468800"/>
                    <a:ext cx="106560" cy="102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851960" y="1512720"/>
                    <a:ext cx="15120" cy="14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7729920" y="1219320"/>
                  <a:ext cx="259200" cy="24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821720" y="1513080"/>
                  <a:ext cx="274320" cy="26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"/>
            <p:cNvGrpSpPr/>
            <p:nvPr/>
          </p:nvGrpSpPr>
          <p:grpSpPr>
            <a:xfrm>
              <a:off x="1066680" y="990720"/>
              <a:ext cx="831960" cy="906480"/>
              <a:chOff x="1066680" y="990720"/>
              <a:chExt cx="831960" cy="906480"/>
            </a:xfrm>
          </p:grpSpPr>
          <p:sp>
            <p:nvSpPr>
              <p:cNvPr id="343" name=""/>
              <p:cNvSpPr/>
              <p:nvPr/>
            </p:nvSpPr>
            <p:spPr>
              <a:xfrm>
                <a:off x="1066680" y="990720"/>
                <a:ext cx="830880" cy="90648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000" y="1266120"/>
                <a:ext cx="341640" cy="37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b4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1406160" y="1364400"/>
                <a:ext cx="153720" cy="163080"/>
                <a:chOff x="1406160" y="1364400"/>
                <a:chExt cx="153720" cy="1630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1406160" y="1364400"/>
                  <a:ext cx="153720" cy="16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72040" y="1434240"/>
                  <a:ext cx="21960" cy="23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2057400" y="1067040"/>
              <a:ext cx="776160" cy="831960"/>
              <a:chOff x="2057400" y="1067040"/>
              <a:chExt cx="776160" cy="831960"/>
            </a:xfrm>
          </p:grpSpPr>
          <p:sp>
            <p:nvSpPr>
              <p:cNvPr id="349" name=""/>
              <p:cNvSpPr/>
              <p:nvPr/>
            </p:nvSpPr>
            <p:spPr>
              <a:xfrm>
                <a:off x="2057400" y="1067040"/>
                <a:ext cx="776160" cy="8319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057400" y="1304640"/>
                <a:ext cx="776160" cy="336960"/>
                <a:chOff x="2057400" y="1304640"/>
                <a:chExt cx="776160" cy="33696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2379240" y="1403640"/>
                  <a:ext cx="132480" cy="138600"/>
                  <a:chOff x="2379240" y="1403640"/>
                  <a:chExt cx="132480" cy="1386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2379240" y="1403640"/>
                    <a:ext cx="132480" cy="13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436120" y="1463040"/>
                    <a:ext cx="18720" cy="19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>
                  <a:off x="2057400" y="1304640"/>
                  <a:ext cx="321840" cy="33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11720" y="1304640"/>
                  <a:ext cx="321840" cy="33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3048120" y="1067040"/>
              <a:ext cx="765000" cy="831960"/>
              <a:chOff x="3048120" y="1067040"/>
              <a:chExt cx="765000" cy="831960"/>
            </a:xfrm>
          </p:grpSpPr>
          <p:sp>
            <p:nvSpPr>
              <p:cNvPr id="357" name=""/>
              <p:cNvSpPr/>
              <p:nvPr/>
            </p:nvSpPr>
            <p:spPr>
              <a:xfrm>
                <a:off x="3048120" y="1067040"/>
                <a:ext cx="765000" cy="831960"/>
              </a:xfrm>
              <a:prstGeom prst="ellipse">
                <a:avLst/>
              </a:prstGeom>
              <a:solidFill>
                <a:srgbClr val="b2b2b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3096000" y="1067040"/>
                <a:ext cx="669240" cy="727920"/>
                <a:chOff x="3096000" y="1067040"/>
                <a:chExt cx="669240" cy="727920"/>
              </a:xfrm>
            </p:grpSpPr>
            <p:grpSp>
              <p:nvGrpSpPr>
                <p:cNvPr id="359" name=""/>
                <p:cNvGrpSpPr/>
                <p:nvPr/>
              </p:nvGrpSpPr>
              <p:grpSpPr>
                <a:xfrm>
                  <a:off x="3367080" y="1410840"/>
                  <a:ext cx="126360" cy="141480"/>
                  <a:chOff x="3367080" y="1410840"/>
                  <a:chExt cx="126360" cy="1414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367080" y="1410840"/>
                    <a:ext cx="126360" cy="14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421080" y="1471320"/>
                    <a:ext cx="18000" cy="20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" name=""/>
                <p:cNvSpPr/>
                <p:nvPr/>
              </p:nvSpPr>
              <p:spPr>
                <a:xfrm>
                  <a:off x="3457800" y="1451160"/>
                  <a:ext cx="307440" cy="34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276720" y="1067040"/>
                  <a:ext cx="307440" cy="34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096000" y="1451160"/>
                  <a:ext cx="307440" cy="34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3962520" y="1067040"/>
              <a:ext cx="852480" cy="806400"/>
              <a:chOff x="3962520" y="1067040"/>
              <a:chExt cx="852480" cy="806400"/>
            </a:xfrm>
          </p:grpSpPr>
          <p:sp>
            <p:nvSpPr>
              <p:cNvPr id="366" name=""/>
              <p:cNvSpPr/>
              <p:nvPr/>
            </p:nvSpPr>
            <p:spPr>
              <a:xfrm>
                <a:off x="3962520" y="1067040"/>
                <a:ext cx="852480" cy="80640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3962520" y="1067040"/>
                <a:ext cx="745920" cy="756000"/>
                <a:chOff x="3962520" y="1067040"/>
                <a:chExt cx="745920" cy="756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346280" y="1305720"/>
                  <a:ext cx="340920" cy="31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4303440" y="1405080"/>
                  <a:ext cx="149040" cy="139320"/>
                  <a:chOff x="4303440" y="1405080"/>
                  <a:chExt cx="149040" cy="1393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4303440" y="1405080"/>
                    <a:ext cx="149040" cy="13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367160" y="1464840"/>
                    <a:ext cx="21240" cy="198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" name=""/>
                <p:cNvSpPr/>
                <p:nvPr/>
              </p:nvSpPr>
              <p:spPr>
                <a:xfrm>
                  <a:off x="4324680" y="1464840"/>
                  <a:ext cx="383760" cy="35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962520" y="1385280"/>
                  <a:ext cx="362160" cy="33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196880" y="1067040"/>
                  <a:ext cx="362160" cy="33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b4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5" name=""/>
            <p:cNvSpPr/>
            <p:nvPr/>
          </p:nvSpPr>
          <p:spPr>
            <a:xfrm>
              <a:off x="1296360" y="1905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11120" y="1905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7852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2920" y="1905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07680" y="1905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45760" y="1905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9800" y="1905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1920" y="1905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934320" y="3505320"/>
            <a:ext cx="1980720" cy="2133000"/>
            <a:chOff x="6934320" y="3505320"/>
            <a:chExt cx="1980720" cy="2133000"/>
          </a:xfrm>
        </p:grpSpPr>
        <p:sp>
          <p:nvSpPr>
            <p:cNvPr id="384" name=""/>
            <p:cNvSpPr/>
            <p:nvPr/>
          </p:nvSpPr>
          <p:spPr>
            <a:xfrm>
              <a:off x="6934320" y="3505320"/>
              <a:ext cx="1980720" cy="213300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3360" y="4093200"/>
              <a:ext cx="811440" cy="89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7828200" y="4401000"/>
              <a:ext cx="335160" cy="370800"/>
              <a:chOff x="7828200" y="4401000"/>
              <a:chExt cx="335160" cy="370800"/>
            </a:xfrm>
          </p:grpSpPr>
          <p:sp>
            <p:nvSpPr>
              <p:cNvPr id="387" name=""/>
              <p:cNvSpPr/>
              <p:nvPr/>
            </p:nvSpPr>
            <p:spPr>
              <a:xfrm>
                <a:off x="7828200" y="4401000"/>
                <a:ext cx="335160" cy="37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971840" y="4559760"/>
                <a:ext cx="47880" cy="52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768440" y="4373280"/>
              <a:ext cx="342360" cy="360720"/>
              <a:chOff x="7768440" y="4373280"/>
              <a:chExt cx="342360" cy="360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768440" y="4373280"/>
                <a:ext cx="342360" cy="36072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7778880" y="4373280"/>
                <a:ext cx="299520" cy="338760"/>
                <a:chOff x="7778880" y="4373280"/>
                <a:chExt cx="299520" cy="338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924320" y="4480200"/>
                  <a:ext cx="14544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778880" y="4515840"/>
                  <a:ext cx="14544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7915680" y="4524840"/>
                  <a:ext cx="59760" cy="62280"/>
                  <a:chOff x="7915680" y="4524840"/>
                  <a:chExt cx="59760" cy="622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7915680" y="4524840"/>
                    <a:ext cx="59760" cy="62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a5a2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941240" y="4551480"/>
                    <a:ext cx="8280" cy="8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>
                  <a:off x="7872840" y="4373280"/>
                  <a:ext cx="145440" cy="15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24320" y="4551480"/>
                  <a:ext cx="154080" cy="16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a5a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"/>
            <p:cNvSpPr/>
            <p:nvPr/>
          </p:nvSpPr>
          <p:spPr>
            <a:xfrm>
              <a:off x="7512120" y="3505320"/>
              <a:ext cx="813240" cy="89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4680" y="4460400"/>
              <a:ext cx="882360" cy="9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16760" y="4407840"/>
              <a:ext cx="882000" cy="95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98240" y="56386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19520" y="5638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838080" y="2590920"/>
            <a:ext cx="1295280" cy="1295280"/>
            <a:chOff x="838080" y="2590920"/>
            <a:chExt cx="1295280" cy="1295280"/>
          </a:xfrm>
        </p:grpSpPr>
        <p:sp>
          <p:nvSpPr>
            <p:cNvPr id="405" name=""/>
            <p:cNvSpPr/>
            <p:nvPr/>
          </p:nvSpPr>
          <p:spPr>
            <a:xfrm>
              <a:off x="838080" y="2590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47560" y="320040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666880" y="2590920"/>
            <a:ext cx="1295280" cy="1295280"/>
            <a:chOff x="2666880" y="2590920"/>
            <a:chExt cx="1295280" cy="1295280"/>
          </a:xfrm>
        </p:grpSpPr>
        <p:sp>
          <p:nvSpPr>
            <p:cNvPr id="408" name=""/>
            <p:cNvSpPr/>
            <p:nvPr/>
          </p:nvSpPr>
          <p:spPr>
            <a:xfrm>
              <a:off x="2666880" y="2590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76360" y="3200400"/>
              <a:ext cx="76320" cy="7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705720" y="2666880"/>
            <a:ext cx="1600200" cy="1219320"/>
            <a:chOff x="6705720" y="2666880"/>
            <a:chExt cx="1600200" cy="1219320"/>
          </a:xfrm>
        </p:grpSpPr>
        <p:sp>
          <p:nvSpPr>
            <p:cNvPr id="411" name=""/>
            <p:cNvSpPr/>
            <p:nvPr/>
          </p:nvSpPr>
          <p:spPr>
            <a:xfrm>
              <a:off x="6705720" y="2666880"/>
              <a:ext cx="1600200" cy="121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6600" y="3247920"/>
              <a:ext cx="7632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48720" y="3276360"/>
              <a:ext cx="76320" cy="95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Wasser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380880" y="2057400"/>
            <a:ext cx="1752480" cy="2013120"/>
            <a:chOff x="380880" y="2057400"/>
            <a:chExt cx="1752480" cy="2013120"/>
          </a:xfrm>
        </p:grpSpPr>
        <p:sp>
          <p:nvSpPr>
            <p:cNvPr id="416" name=""/>
            <p:cNvSpPr/>
            <p:nvPr/>
          </p:nvSpPr>
          <p:spPr>
            <a:xfrm>
              <a:off x="533160" y="2590920"/>
              <a:ext cx="8380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990000" y="2895120"/>
              <a:ext cx="344520" cy="376200"/>
              <a:chOff x="990000" y="2895120"/>
              <a:chExt cx="344520" cy="376200"/>
            </a:xfrm>
          </p:grpSpPr>
          <p:sp>
            <p:nvSpPr>
              <p:cNvPr id="418" name=""/>
              <p:cNvSpPr/>
              <p:nvPr/>
            </p:nvSpPr>
            <p:spPr>
              <a:xfrm rot="10800000">
                <a:off x="990000" y="2895120"/>
                <a:ext cx="34452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0800000">
                <a:off x="1137960" y="305676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rot="10800000">
              <a:off x="1295280" y="2590920"/>
              <a:ext cx="8380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304812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205740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514600" y="2057400"/>
            <a:ext cx="1752480" cy="2013120"/>
            <a:chOff x="2514600" y="2057400"/>
            <a:chExt cx="1752480" cy="2013120"/>
          </a:xfrm>
        </p:grpSpPr>
        <p:sp>
          <p:nvSpPr>
            <p:cNvPr id="424" name=""/>
            <p:cNvSpPr/>
            <p:nvPr/>
          </p:nvSpPr>
          <p:spPr>
            <a:xfrm rot="10800000">
              <a:off x="3276720" y="2622600"/>
              <a:ext cx="8380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313440" y="2856600"/>
              <a:ext cx="344520" cy="376200"/>
              <a:chOff x="3313440" y="2856600"/>
              <a:chExt cx="344520" cy="376200"/>
            </a:xfrm>
          </p:grpSpPr>
          <p:sp>
            <p:nvSpPr>
              <p:cNvPr id="426" name=""/>
              <p:cNvSpPr/>
              <p:nvPr/>
            </p:nvSpPr>
            <p:spPr>
              <a:xfrm>
                <a:off x="3313440" y="2856600"/>
                <a:ext cx="34452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61040" y="301752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514600" y="2622600"/>
              <a:ext cx="8380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800000">
              <a:off x="3330720" y="205740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0800000">
              <a:off x="3330720" y="304812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638680" y="2590920"/>
            <a:ext cx="8384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095520" y="2895120"/>
            <a:ext cx="344520" cy="376200"/>
            <a:chOff x="6095520" y="2895120"/>
            <a:chExt cx="344520" cy="376200"/>
          </a:xfrm>
        </p:grpSpPr>
        <p:sp>
          <p:nvSpPr>
            <p:cNvPr id="433" name=""/>
            <p:cNvSpPr/>
            <p:nvPr/>
          </p:nvSpPr>
          <p:spPr>
            <a:xfrm rot="10800000">
              <a:off x="6095520" y="2895120"/>
              <a:ext cx="344520" cy="37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0800000">
              <a:off x="6243480" y="3056760"/>
              <a:ext cx="48960" cy="53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5486400" y="3048120"/>
            <a:ext cx="936720" cy="102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2057400"/>
            <a:ext cx="936720" cy="1022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7391160" y="2133360"/>
            <a:ext cx="990000" cy="2013120"/>
            <a:chOff x="7391160" y="2133360"/>
            <a:chExt cx="990000" cy="2013120"/>
          </a:xfrm>
        </p:grpSpPr>
        <p:sp>
          <p:nvSpPr>
            <p:cNvPr id="438" name=""/>
            <p:cNvSpPr/>
            <p:nvPr/>
          </p:nvSpPr>
          <p:spPr>
            <a:xfrm rot="10800000">
              <a:off x="7391160" y="2698560"/>
              <a:ext cx="83772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426080" y="2930400"/>
              <a:ext cx="344160" cy="376200"/>
              <a:chOff x="7426080" y="2930400"/>
              <a:chExt cx="344160" cy="376200"/>
            </a:xfrm>
          </p:grpSpPr>
          <p:sp>
            <p:nvSpPr>
              <p:cNvPr id="440" name=""/>
              <p:cNvSpPr/>
              <p:nvPr/>
            </p:nvSpPr>
            <p:spPr>
              <a:xfrm>
                <a:off x="7426080" y="2930400"/>
                <a:ext cx="344160" cy="376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573320" y="309132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rot="10800000">
              <a:off x="7444800" y="2133360"/>
              <a:ext cx="936360" cy="102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7444800" y="3124080"/>
              <a:ext cx="936360" cy="1022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rot="10800000">
            <a:off x="6400440" y="266688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Flu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 flipH="1">
            <a:off x="2603160" y="2489040"/>
            <a:ext cx="1562040" cy="1903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78240" y="2357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5040" y="243360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50520" y="2579760"/>
            <a:ext cx="1515960" cy="18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66840" y="1900080"/>
            <a:ext cx="0" cy="24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330120" y="3260880"/>
            <a:ext cx="18367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0120" y="2579760"/>
            <a:ext cx="3207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50880" y="1900080"/>
            <a:ext cx="1515960" cy="6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386000" y="2943360"/>
            <a:ext cx="312480" cy="323640"/>
            <a:chOff x="1386000" y="2943360"/>
            <a:chExt cx="312480" cy="323640"/>
          </a:xfrm>
        </p:grpSpPr>
        <p:sp>
          <p:nvSpPr>
            <p:cNvPr id="455" name=""/>
            <p:cNvSpPr/>
            <p:nvPr/>
          </p:nvSpPr>
          <p:spPr>
            <a:xfrm>
              <a:off x="1386000" y="2943360"/>
              <a:ext cx="312480" cy="323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19920" y="3081960"/>
              <a:ext cx="44640" cy="4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295280" y="3124080"/>
            <a:ext cx="87156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19040" y="2127240"/>
            <a:ext cx="847800" cy="92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15400" y="1900080"/>
            <a:ext cx="15620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03520" y="1900080"/>
            <a:ext cx="0" cy="24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4165200" y="2489040"/>
            <a:ext cx="32076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603520" y="3077640"/>
            <a:ext cx="1882800" cy="13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107880" y="2987640"/>
            <a:ext cx="312840" cy="325440"/>
            <a:chOff x="3107880" y="2987640"/>
            <a:chExt cx="312840" cy="325440"/>
          </a:xfrm>
        </p:grpSpPr>
        <p:sp>
          <p:nvSpPr>
            <p:cNvPr id="464" name=""/>
            <p:cNvSpPr/>
            <p:nvPr/>
          </p:nvSpPr>
          <p:spPr>
            <a:xfrm rot="10800000">
              <a:off x="3107880" y="2987640"/>
              <a:ext cx="312840" cy="3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00000">
              <a:off x="3242160" y="3127320"/>
              <a:ext cx="44640" cy="4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 rot="10800000">
            <a:off x="2603160" y="2127240"/>
            <a:ext cx="87300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0800000">
            <a:off x="2603160" y="3124080"/>
            <a:ext cx="873000" cy="86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b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2590920"/>
            <a:ext cx="91440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01920" y="2509920"/>
            <a:ext cx="99072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03520" y="1900080"/>
            <a:ext cx="188280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0120" y="1900080"/>
            <a:ext cx="1836720" cy="13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7086240" y="2493360"/>
            <a:ext cx="1562040" cy="190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772400" y="2362320"/>
            <a:ext cx="9270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98480" y="1905120"/>
            <a:ext cx="15620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7086600" y="1904760"/>
            <a:ext cx="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8648280" y="2494080"/>
            <a:ext cx="32076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7086600" y="3047760"/>
            <a:ext cx="1882800" cy="13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543800" y="2895480"/>
            <a:ext cx="388800" cy="401760"/>
            <a:chOff x="7543800" y="2895480"/>
            <a:chExt cx="388800" cy="401760"/>
          </a:xfrm>
        </p:grpSpPr>
        <p:sp>
          <p:nvSpPr>
            <p:cNvPr id="479" name=""/>
            <p:cNvSpPr/>
            <p:nvPr/>
          </p:nvSpPr>
          <p:spPr>
            <a:xfrm rot="10800000">
              <a:off x="7543800" y="2895480"/>
              <a:ext cx="388800" cy="40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0800000">
              <a:off x="7710840" y="3067920"/>
              <a:ext cx="55440" cy="5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7785000" y="2514600"/>
            <a:ext cx="105408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86600" y="1905120"/>
            <a:ext cx="1882800" cy="11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243828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5590800" y="2579760"/>
            <a:ext cx="1515960" cy="18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086600" y="1905120"/>
            <a:ext cx="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5270400" y="3260880"/>
            <a:ext cx="1836720" cy="11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270400" y="2579760"/>
            <a:ext cx="3207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591160" y="1900080"/>
            <a:ext cx="1515960" cy="6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24480" y="2895480"/>
            <a:ext cx="381240" cy="457200"/>
            <a:chOff x="6324480" y="2895480"/>
            <a:chExt cx="381240" cy="457200"/>
          </a:xfrm>
        </p:grpSpPr>
        <p:sp>
          <p:nvSpPr>
            <p:cNvPr id="490" name=""/>
            <p:cNvSpPr/>
            <p:nvPr/>
          </p:nvSpPr>
          <p:spPr>
            <a:xfrm>
              <a:off x="6324480" y="2895480"/>
              <a:ext cx="38124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87560" y="3091320"/>
              <a:ext cx="54360" cy="6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5410080" y="2590920"/>
            <a:ext cx="99072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270400" y="1900080"/>
            <a:ext cx="1836720" cy="136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3124080"/>
            <a:ext cx="1447920" cy="99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00800" y="2133720"/>
            <a:ext cx="1447920" cy="99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1a5a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086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Sauer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28600" y="1752480"/>
            <a:ext cx="2133360" cy="2667600"/>
            <a:chOff x="228600" y="1752480"/>
            <a:chExt cx="2133360" cy="2667600"/>
          </a:xfrm>
        </p:grpSpPr>
        <p:sp>
          <p:nvSpPr>
            <p:cNvPr id="499" name=""/>
            <p:cNvSpPr/>
            <p:nvPr/>
          </p:nvSpPr>
          <p:spPr>
            <a:xfrm flipH="1">
              <a:off x="2222280" y="1752840"/>
              <a:ext cx="138960" cy="131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222280" y="3064680"/>
              <a:ext cx="138960" cy="135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8600" y="3063960"/>
              <a:ext cx="199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8600" y="3064320"/>
              <a:ext cx="2132640" cy="13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61240" y="1752840"/>
              <a:ext cx="720" cy="26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28600" y="1752480"/>
              <a:ext cx="213264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514240" y="1751760"/>
            <a:ext cx="2058120" cy="2667600"/>
            <a:chOff x="2514240" y="1751760"/>
            <a:chExt cx="2058120" cy="2667600"/>
          </a:xfrm>
        </p:grpSpPr>
        <p:sp>
          <p:nvSpPr>
            <p:cNvPr id="506" name=""/>
            <p:cNvSpPr/>
            <p:nvPr/>
          </p:nvSpPr>
          <p:spPr>
            <a:xfrm flipV="1">
              <a:off x="2515320" y="3107520"/>
              <a:ext cx="133920" cy="131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15320" y="1751760"/>
              <a:ext cx="133920" cy="135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649240" y="3107880"/>
              <a:ext cx="1922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514960" y="1752120"/>
              <a:ext cx="2056680" cy="13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514240" y="1795680"/>
              <a:ext cx="720" cy="262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515680" y="3107880"/>
              <a:ext cx="205668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33520" y="2133720"/>
            <a:ext cx="1752480" cy="1904400"/>
            <a:chOff x="533520" y="2133720"/>
            <a:chExt cx="1752480" cy="1904400"/>
          </a:xfrm>
        </p:grpSpPr>
        <p:sp>
          <p:nvSpPr>
            <p:cNvPr id="513" name=""/>
            <p:cNvSpPr/>
            <p:nvPr/>
          </p:nvSpPr>
          <p:spPr>
            <a:xfrm>
              <a:off x="1447920" y="2666880"/>
              <a:ext cx="838080" cy="83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0800000">
              <a:off x="533520" y="259020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1371600" y="2895480"/>
              <a:ext cx="344520" cy="375840"/>
              <a:chOff x="1371600" y="2895480"/>
              <a:chExt cx="344520" cy="375840"/>
            </a:xfrm>
          </p:grpSpPr>
          <p:sp>
            <p:nvSpPr>
              <p:cNvPr id="516" name=""/>
              <p:cNvSpPr/>
              <p:nvPr/>
            </p:nvSpPr>
            <p:spPr>
              <a:xfrm>
                <a:off x="1371600" y="2895480"/>
                <a:ext cx="344520" cy="37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19200" y="305640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447920" y="213372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47920" y="312408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514600" y="2133720"/>
            <a:ext cx="1752480" cy="1904400"/>
            <a:chOff x="2514600" y="2133720"/>
            <a:chExt cx="1752480" cy="1904400"/>
          </a:xfrm>
        </p:grpSpPr>
        <p:sp>
          <p:nvSpPr>
            <p:cNvPr id="521" name=""/>
            <p:cNvSpPr/>
            <p:nvPr/>
          </p:nvSpPr>
          <p:spPr>
            <a:xfrm rot="10800000">
              <a:off x="2514600" y="2667240"/>
              <a:ext cx="838080" cy="83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9000" y="266760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84480" y="2900520"/>
              <a:ext cx="344520" cy="375840"/>
              <a:chOff x="3084480" y="2900520"/>
              <a:chExt cx="344520" cy="375840"/>
            </a:xfrm>
          </p:grpSpPr>
          <p:sp>
            <p:nvSpPr>
              <p:cNvPr id="524" name=""/>
              <p:cNvSpPr/>
              <p:nvPr/>
            </p:nvSpPr>
            <p:spPr>
              <a:xfrm rot="10800000">
                <a:off x="3084480" y="2900520"/>
                <a:ext cx="344520" cy="37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0800000">
                <a:off x="3232440" y="3061800"/>
                <a:ext cx="48960" cy="53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10800000">
              <a:off x="2514600" y="312408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0800000">
              <a:off x="2514600" y="2133720"/>
              <a:ext cx="8380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b4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800600" y="1752120"/>
            <a:ext cx="4114800" cy="2743200"/>
            <a:chOff x="4800600" y="1752120"/>
            <a:chExt cx="4114800" cy="2743200"/>
          </a:xfrm>
        </p:grpSpPr>
        <p:sp>
          <p:nvSpPr>
            <p:cNvPr id="529" name=""/>
            <p:cNvSpPr/>
            <p:nvPr/>
          </p:nvSpPr>
          <p:spPr>
            <a:xfrm>
              <a:off x="4800600" y="3100680"/>
              <a:ext cx="4114800" cy="6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00600" y="3100680"/>
              <a:ext cx="209376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94360" y="1752480"/>
              <a:ext cx="1800" cy="269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800600" y="1752120"/>
              <a:ext cx="209376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6895800" y="1752480"/>
              <a:ext cx="201924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895800" y="3146400"/>
              <a:ext cx="201924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0800000">
              <a:off x="6096960" y="2643840"/>
              <a:ext cx="1600200" cy="96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0800000">
              <a:off x="5335560" y="2643480"/>
              <a:ext cx="838080" cy="88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6173640" y="2940120"/>
              <a:ext cx="344520" cy="366120"/>
              <a:chOff x="6173640" y="2940120"/>
              <a:chExt cx="344520" cy="366120"/>
            </a:xfrm>
          </p:grpSpPr>
          <p:sp>
            <p:nvSpPr>
              <p:cNvPr id="538" name=""/>
              <p:cNvSpPr/>
              <p:nvPr/>
            </p:nvSpPr>
            <p:spPr>
              <a:xfrm>
                <a:off x="6173640" y="2940120"/>
                <a:ext cx="344520" cy="36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21240" y="3096720"/>
                <a:ext cx="48960" cy="52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7619760" y="2716200"/>
              <a:ext cx="838440" cy="889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7273440" y="2941920"/>
              <a:ext cx="344520" cy="365760"/>
              <a:chOff x="7273440" y="2941920"/>
              <a:chExt cx="344520" cy="365760"/>
            </a:xfrm>
          </p:grpSpPr>
          <p:sp>
            <p:nvSpPr>
              <p:cNvPr id="542" name=""/>
              <p:cNvSpPr/>
              <p:nvPr/>
            </p:nvSpPr>
            <p:spPr>
              <a:xfrm rot="10800000">
                <a:off x="7273440" y="2941920"/>
                <a:ext cx="344520" cy="36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a5a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0800000">
                <a:off x="7421400" y="3098880"/>
                <a:ext cx="48960" cy="52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 rot="10800000">
              <a:off x="6173640" y="1974240"/>
              <a:ext cx="1447920" cy="111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0800000">
              <a:off x="6173640" y="3162240"/>
              <a:ext cx="1447920" cy="111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a5a2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6894000" y="1798920"/>
              <a:ext cx="1800" cy="26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gelwolkenmodelle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 Black"/>
              </a:rPr>
              <a:t>Stickst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0:30:41Z</dcterms:created>
  <dc:creator>Peter Maisenbacher</dc:creator>
  <dc:description/>
  <dc:language>en-US</dc:language>
  <cp:lastModifiedBy>Maisenbacher</cp:lastModifiedBy>
  <dcterms:modified xsi:type="dcterms:W3CDTF">2004-10-26T12:19:59Z</dcterms:modified>
  <cp:revision>23</cp:revision>
  <dc:subject/>
  <dc:title>PowerPoint-Präsentation</dc:title>
</cp:coreProperties>
</file>