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FBE54-468A-4439-ABEE-CF7F4199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DD330-7917-48D0-A3DF-4C934FA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384B6-BC99-4534-905F-17853E8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AC49-9977-4EA7-A31B-E4BB9A2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82A83-4F96-4112-AFF1-A738048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C8288-7AF6-4D63-A825-710EF53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4B571-7FAC-4E07-AF68-BFA4B5A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9E54A-FFBF-4569-9B58-167A1DD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92E2-BF01-48AD-B730-1FCA00C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AD0C0-D313-4DEA-A52E-8EBAD2F5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4724C-DC01-45C5-A234-413166F6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8EDAA-A4DE-476A-A427-A1630824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E0E-0341-4F4C-BBDE-B7146FB45FE0}" type="slidenum">
              <a:rPr b="0" lang="de-DE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66880"/>
            <a:ext cx="3826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en als Feststo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ischen St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2320" y="2131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ten Wä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1600" y="167472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verformbar (dukti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600" y="3570120"/>
            <a:ext cx="4118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steigender Temperat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mmt ihre Leitfähigk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lektrischen Strom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120" y="117936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änzen typ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Arial"/>
              </a:rPr>
              <a:t>Metalleigenscha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16509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477120" y="1300680"/>
            <a:ext cx="2393640" cy="1975680"/>
            <a:chOff x="6477120" y="1300680"/>
            <a:chExt cx="2393640" cy="1975680"/>
          </a:xfrm>
        </p:grpSpPr>
        <p:sp>
          <p:nvSpPr>
            <p:cNvPr id="91" name=""/>
            <p:cNvSpPr/>
            <p:nvPr/>
          </p:nvSpPr>
          <p:spPr>
            <a:xfrm rot="20622600">
              <a:off x="7460640" y="1610640"/>
              <a:ext cx="1115640" cy="678600"/>
            </a:xfrm>
            <a:custGeom>
              <a:avLst/>
              <a:gdLst/>
              <a:ahLst/>
              <a:rect l="l" t="t" r="r" b="b"/>
              <a:pathLst>
                <a:path w="2492" h="1574">
                  <a:moveTo>
                    <a:pt x="2309" y="1071"/>
                  </a:moveTo>
                  <a:cubicBezTo>
                    <a:pt x="2228" y="1040"/>
                    <a:pt x="2314" y="1083"/>
                    <a:pt x="2260" y="1032"/>
                  </a:cubicBezTo>
                  <a:cubicBezTo>
                    <a:pt x="2247" y="1017"/>
                    <a:pt x="2228" y="1018"/>
                    <a:pt x="2215" y="1007"/>
                  </a:cubicBezTo>
                  <a:cubicBezTo>
                    <a:pt x="2148" y="954"/>
                    <a:pt x="2101" y="856"/>
                    <a:pt x="2023" y="820"/>
                  </a:cubicBezTo>
                  <a:cubicBezTo>
                    <a:pt x="2016" y="755"/>
                    <a:pt x="1954" y="729"/>
                    <a:pt x="1912" y="712"/>
                  </a:cubicBezTo>
                  <a:cubicBezTo>
                    <a:pt x="1890" y="688"/>
                    <a:pt x="1872" y="672"/>
                    <a:pt x="1844" y="659"/>
                  </a:cubicBezTo>
                  <a:cubicBezTo>
                    <a:pt x="1822" y="631"/>
                    <a:pt x="1796" y="624"/>
                    <a:pt x="1772" y="597"/>
                  </a:cubicBezTo>
                  <a:cubicBezTo>
                    <a:pt x="1756" y="552"/>
                    <a:pt x="1722" y="531"/>
                    <a:pt x="1690" y="511"/>
                  </a:cubicBezTo>
                  <a:cubicBezTo>
                    <a:pt x="1651" y="465"/>
                    <a:pt x="1606" y="395"/>
                    <a:pt x="1558" y="376"/>
                  </a:cubicBezTo>
                  <a:cubicBezTo>
                    <a:pt x="1528" y="346"/>
                    <a:pt x="1497" y="330"/>
                    <a:pt x="1467" y="312"/>
                  </a:cubicBezTo>
                  <a:cubicBezTo>
                    <a:pt x="1432" y="287"/>
                    <a:pt x="1405" y="246"/>
                    <a:pt x="1371" y="231"/>
                  </a:cubicBezTo>
                  <a:cubicBezTo>
                    <a:pt x="1310" y="181"/>
                    <a:pt x="1196" y="34"/>
                    <a:pt x="1114" y="0"/>
                  </a:cubicBezTo>
                  <a:cubicBezTo>
                    <a:pt x="1047" y="6"/>
                    <a:pt x="927" y="11"/>
                    <a:pt x="860" y="27"/>
                  </a:cubicBezTo>
                  <a:cubicBezTo>
                    <a:pt x="787" y="53"/>
                    <a:pt x="650" y="16"/>
                    <a:pt x="546" y="55"/>
                  </a:cubicBezTo>
                  <a:cubicBezTo>
                    <a:pt x="449" y="88"/>
                    <a:pt x="228" y="69"/>
                    <a:pt x="150" y="147"/>
                  </a:cubicBezTo>
                  <a:cubicBezTo>
                    <a:pt x="121" y="192"/>
                    <a:pt x="26" y="474"/>
                    <a:pt x="0" y="547"/>
                  </a:cubicBezTo>
                  <a:cubicBezTo>
                    <a:pt x="5" y="607"/>
                    <a:pt x="27" y="700"/>
                    <a:pt x="31" y="763"/>
                  </a:cubicBezTo>
                  <a:cubicBezTo>
                    <a:pt x="13" y="991"/>
                    <a:pt x="122" y="967"/>
                    <a:pt x="251" y="1111"/>
                  </a:cubicBezTo>
                  <a:cubicBezTo>
                    <a:pt x="303" y="1194"/>
                    <a:pt x="434" y="1279"/>
                    <a:pt x="476" y="1279"/>
                  </a:cubicBezTo>
                  <a:cubicBezTo>
                    <a:pt x="514" y="1269"/>
                    <a:pt x="574" y="1268"/>
                    <a:pt x="598" y="1241"/>
                  </a:cubicBezTo>
                  <a:cubicBezTo>
                    <a:pt x="635" y="1144"/>
                    <a:pt x="648" y="1080"/>
                    <a:pt x="608" y="1037"/>
                  </a:cubicBezTo>
                  <a:cubicBezTo>
                    <a:pt x="552" y="958"/>
                    <a:pt x="513" y="973"/>
                    <a:pt x="480" y="953"/>
                  </a:cubicBezTo>
                  <a:cubicBezTo>
                    <a:pt x="445" y="940"/>
                    <a:pt x="457" y="922"/>
                    <a:pt x="441" y="925"/>
                  </a:cubicBezTo>
                  <a:cubicBezTo>
                    <a:pt x="425" y="916"/>
                    <a:pt x="398" y="821"/>
                    <a:pt x="379" y="895"/>
                  </a:cubicBezTo>
                  <a:cubicBezTo>
                    <a:pt x="372" y="839"/>
                    <a:pt x="310" y="857"/>
                    <a:pt x="329" y="829"/>
                  </a:cubicBezTo>
                  <a:cubicBezTo>
                    <a:pt x="343" y="789"/>
                    <a:pt x="443" y="764"/>
                    <a:pt x="466" y="731"/>
                  </a:cubicBezTo>
                  <a:cubicBezTo>
                    <a:pt x="519" y="740"/>
                    <a:pt x="484" y="722"/>
                    <a:pt x="546" y="762"/>
                  </a:cubicBezTo>
                  <a:cubicBezTo>
                    <a:pt x="590" y="784"/>
                    <a:pt x="671" y="815"/>
                    <a:pt x="721" y="863"/>
                  </a:cubicBezTo>
                  <a:cubicBezTo>
                    <a:pt x="752" y="898"/>
                    <a:pt x="811" y="1011"/>
                    <a:pt x="852" y="1032"/>
                  </a:cubicBezTo>
                  <a:cubicBezTo>
                    <a:pt x="861" y="1047"/>
                    <a:pt x="991" y="1140"/>
                    <a:pt x="1007" y="1143"/>
                  </a:cubicBezTo>
                  <a:cubicBezTo>
                    <a:pt x="1023" y="1153"/>
                    <a:pt x="1056" y="1169"/>
                    <a:pt x="1056" y="1169"/>
                  </a:cubicBezTo>
                  <a:cubicBezTo>
                    <a:pt x="1095" y="1231"/>
                    <a:pt x="1167" y="1262"/>
                    <a:pt x="1230" y="1274"/>
                  </a:cubicBezTo>
                  <a:cubicBezTo>
                    <a:pt x="1292" y="1289"/>
                    <a:pt x="1483" y="1316"/>
                    <a:pt x="1419" y="1307"/>
                  </a:cubicBezTo>
                  <a:cubicBezTo>
                    <a:pt x="1292" y="1292"/>
                    <a:pt x="1199" y="1281"/>
                    <a:pt x="1068" y="1201"/>
                  </a:cubicBezTo>
                  <a:cubicBezTo>
                    <a:pt x="1006" y="1186"/>
                    <a:pt x="1070" y="1138"/>
                    <a:pt x="1069" y="1135"/>
                  </a:cubicBezTo>
                  <a:cubicBezTo>
                    <a:pt x="1067" y="1132"/>
                    <a:pt x="1044" y="1203"/>
                    <a:pt x="1060" y="1177"/>
                  </a:cubicBezTo>
                  <a:cubicBezTo>
                    <a:pt x="1087" y="1114"/>
                    <a:pt x="1123" y="1016"/>
                    <a:pt x="1165" y="974"/>
                  </a:cubicBezTo>
                  <a:cubicBezTo>
                    <a:pt x="1192" y="910"/>
                    <a:pt x="1231" y="865"/>
                    <a:pt x="1260" y="803"/>
                  </a:cubicBezTo>
                  <a:cubicBezTo>
                    <a:pt x="1264" y="794"/>
                    <a:pt x="1254" y="820"/>
                    <a:pt x="1250" y="828"/>
                  </a:cubicBezTo>
                  <a:cubicBezTo>
                    <a:pt x="1242" y="846"/>
                    <a:pt x="1232" y="860"/>
                    <a:pt x="1224" y="877"/>
                  </a:cubicBezTo>
                  <a:cubicBezTo>
                    <a:pt x="1199" y="919"/>
                    <a:pt x="1172" y="927"/>
                    <a:pt x="1135" y="943"/>
                  </a:cubicBezTo>
                  <a:cubicBezTo>
                    <a:pt x="1112" y="1009"/>
                    <a:pt x="1147" y="932"/>
                    <a:pt x="1099" y="975"/>
                  </a:cubicBezTo>
                  <a:cubicBezTo>
                    <a:pt x="1087" y="986"/>
                    <a:pt x="1069" y="972"/>
                    <a:pt x="1069" y="972"/>
                  </a:cubicBezTo>
                  <a:cubicBezTo>
                    <a:pt x="1022" y="891"/>
                    <a:pt x="996" y="906"/>
                    <a:pt x="968" y="819"/>
                  </a:cubicBezTo>
                  <a:cubicBezTo>
                    <a:pt x="961" y="752"/>
                    <a:pt x="933" y="805"/>
                    <a:pt x="909" y="736"/>
                  </a:cubicBezTo>
                  <a:cubicBezTo>
                    <a:pt x="891" y="673"/>
                    <a:pt x="953" y="352"/>
                    <a:pt x="928" y="289"/>
                  </a:cubicBezTo>
                  <a:cubicBezTo>
                    <a:pt x="912" y="373"/>
                    <a:pt x="915" y="651"/>
                    <a:pt x="882" y="731"/>
                  </a:cubicBezTo>
                  <a:cubicBezTo>
                    <a:pt x="873" y="801"/>
                    <a:pt x="935" y="773"/>
                    <a:pt x="885" y="768"/>
                  </a:cubicBezTo>
                  <a:cubicBezTo>
                    <a:pt x="888" y="707"/>
                    <a:pt x="637" y="733"/>
                    <a:pt x="588" y="702"/>
                  </a:cubicBezTo>
                  <a:cubicBezTo>
                    <a:pt x="535" y="623"/>
                    <a:pt x="514" y="348"/>
                    <a:pt x="489" y="352"/>
                  </a:cubicBezTo>
                  <a:cubicBezTo>
                    <a:pt x="486" y="341"/>
                    <a:pt x="587" y="671"/>
                    <a:pt x="582" y="680"/>
                  </a:cubicBezTo>
                  <a:cubicBezTo>
                    <a:pt x="588" y="731"/>
                    <a:pt x="533" y="696"/>
                    <a:pt x="499" y="702"/>
                  </a:cubicBezTo>
                  <a:cubicBezTo>
                    <a:pt x="469" y="709"/>
                    <a:pt x="431" y="745"/>
                    <a:pt x="390" y="732"/>
                  </a:cubicBezTo>
                  <a:cubicBezTo>
                    <a:pt x="324" y="723"/>
                    <a:pt x="285" y="610"/>
                    <a:pt x="257" y="619"/>
                  </a:cubicBezTo>
                  <a:cubicBezTo>
                    <a:pt x="255" y="642"/>
                    <a:pt x="366" y="738"/>
                    <a:pt x="379" y="758"/>
                  </a:cubicBezTo>
                  <a:cubicBezTo>
                    <a:pt x="419" y="791"/>
                    <a:pt x="419" y="660"/>
                    <a:pt x="665" y="813"/>
                  </a:cubicBezTo>
                  <a:cubicBezTo>
                    <a:pt x="780" y="882"/>
                    <a:pt x="798" y="1045"/>
                    <a:pt x="1066" y="1171"/>
                  </a:cubicBezTo>
                  <a:cubicBezTo>
                    <a:pt x="1337" y="1291"/>
                    <a:pt x="2079" y="1573"/>
                    <a:pt x="2284" y="1556"/>
                  </a:cubicBezTo>
                  <a:cubicBezTo>
                    <a:pt x="2491" y="1539"/>
                    <a:pt x="2303" y="1171"/>
                    <a:pt x="2309" y="1071"/>
                  </a:cubicBezTo>
                  <a:lnTo>
                    <a:pt x="2309" y="1071"/>
                  </a:ln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622600">
              <a:off x="7344000" y="1556280"/>
              <a:ext cx="1115640" cy="693360"/>
            </a:xfrm>
            <a:custGeom>
              <a:avLst/>
              <a:gdLst/>
              <a:ahLst/>
              <a:rect l="l" t="t" r="r" b="b"/>
              <a:pathLst>
                <a:path w="2491" h="1610">
                  <a:moveTo>
                    <a:pt x="2312" y="1089"/>
                  </a:moveTo>
                  <a:cubicBezTo>
                    <a:pt x="2233" y="1063"/>
                    <a:pt x="2316" y="1108"/>
                    <a:pt x="2264" y="1050"/>
                  </a:cubicBezTo>
                  <a:cubicBezTo>
                    <a:pt x="2248" y="1041"/>
                    <a:pt x="2233" y="1041"/>
                    <a:pt x="2217" y="1028"/>
                  </a:cubicBezTo>
                  <a:cubicBezTo>
                    <a:pt x="2154" y="974"/>
                    <a:pt x="2102" y="871"/>
                    <a:pt x="2026" y="839"/>
                  </a:cubicBezTo>
                  <a:cubicBezTo>
                    <a:pt x="2022" y="768"/>
                    <a:pt x="1955" y="741"/>
                    <a:pt x="1915" y="728"/>
                  </a:cubicBezTo>
                  <a:cubicBezTo>
                    <a:pt x="1891" y="701"/>
                    <a:pt x="1876" y="687"/>
                    <a:pt x="1848" y="670"/>
                  </a:cubicBezTo>
                  <a:cubicBezTo>
                    <a:pt x="1824" y="643"/>
                    <a:pt x="1800" y="634"/>
                    <a:pt x="1777" y="607"/>
                  </a:cubicBezTo>
                  <a:cubicBezTo>
                    <a:pt x="1761" y="563"/>
                    <a:pt x="1725" y="541"/>
                    <a:pt x="1697" y="518"/>
                  </a:cubicBezTo>
                  <a:cubicBezTo>
                    <a:pt x="1657" y="473"/>
                    <a:pt x="1610" y="402"/>
                    <a:pt x="1562" y="380"/>
                  </a:cubicBezTo>
                  <a:cubicBezTo>
                    <a:pt x="1534" y="352"/>
                    <a:pt x="1503" y="335"/>
                    <a:pt x="1471" y="317"/>
                  </a:cubicBezTo>
                  <a:cubicBezTo>
                    <a:pt x="1435" y="290"/>
                    <a:pt x="1412" y="254"/>
                    <a:pt x="1372" y="232"/>
                  </a:cubicBezTo>
                  <a:cubicBezTo>
                    <a:pt x="1312" y="182"/>
                    <a:pt x="1202" y="30"/>
                    <a:pt x="1118" y="0"/>
                  </a:cubicBezTo>
                  <a:cubicBezTo>
                    <a:pt x="1051" y="4"/>
                    <a:pt x="932" y="13"/>
                    <a:pt x="864" y="26"/>
                  </a:cubicBezTo>
                  <a:cubicBezTo>
                    <a:pt x="793" y="53"/>
                    <a:pt x="658" y="17"/>
                    <a:pt x="551" y="58"/>
                  </a:cubicBezTo>
                  <a:cubicBezTo>
                    <a:pt x="456" y="93"/>
                    <a:pt x="230" y="76"/>
                    <a:pt x="155" y="160"/>
                  </a:cubicBezTo>
                  <a:cubicBezTo>
                    <a:pt x="127" y="200"/>
                    <a:pt x="27" y="495"/>
                    <a:pt x="0" y="567"/>
                  </a:cubicBezTo>
                  <a:cubicBezTo>
                    <a:pt x="7" y="630"/>
                    <a:pt x="27" y="728"/>
                    <a:pt x="32" y="791"/>
                  </a:cubicBezTo>
                  <a:cubicBezTo>
                    <a:pt x="12" y="1023"/>
                    <a:pt x="123" y="1000"/>
                    <a:pt x="249" y="1148"/>
                  </a:cubicBezTo>
                  <a:cubicBezTo>
                    <a:pt x="302" y="1233"/>
                    <a:pt x="432" y="1318"/>
                    <a:pt x="471" y="1322"/>
                  </a:cubicBezTo>
                  <a:cubicBezTo>
                    <a:pt x="511" y="1313"/>
                    <a:pt x="571" y="1309"/>
                    <a:pt x="595" y="1278"/>
                  </a:cubicBezTo>
                  <a:cubicBezTo>
                    <a:pt x="634" y="1183"/>
                    <a:pt x="619" y="1152"/>
                    <a:pt x="578" y="1113"/>
                  </a:cubicBezTo>
                  <a:cubicBezTo>
                    <a:pt x="587" y="1076"/>
                    <a:pt x="559" y="1009"/>
                    <a:pt x="524" y="987"/>
                  </a:cubicBezTo>
                  <a:cubicBezTo>
                    <a:pt x="488" y="974"/>
                    <a:pt x="468" y="965"/>
                    <a:pt x="444" y="956"/>
                  </a:cubicBezTo>
                  <a:cubicBezTo>
                    <a:pt x="420" y="947"/>
                    <a:pt x="397" y="848"/>
                    <a:pt x="381" y="929"/>
                  </a:cubicBezTo>
                  <a:cubicBezTo>
                    <a:pt x="369" y="867"/>
                    <a:pt x="310" y="889"/>
                    <a:pt x="329" y="853"/>
                  </a:cubicBezTo>
                  <a:cubicBezTo>
                    <a:pt x="345" y="817"/>
                    <a:pt x="444" y="786"/>
                    <a:pt x="468" y="759"/>
                  </a:cubicBezTo>
                  <a:cubicBezTo>
                    <a:pt x="519" y="763"/>
                    <a:pt x="488" y="746"/>
                    <a:pt x="547" y="786"/>
                  </a:cubicBezTo>
                  <a:cubicBezTo>
                    <a:pt x="591" y="808"/>
                    <a:pt x="670" y="839"/>
                    <a:pt x="721" y="889"/>
                  </a:cubicBezTo>
                  <a:cubicBezTo>
                    <a:pt x="754" y="929"/>
                    <a:pt x="813" y="1041"/>
                    <a:pt x="853" y="1063"/>
                  </a:cubicBezTo>
                  <a:cubicBezTo>
                    <a:pt x="861" y="1076"/>
                    <a:pt x="991" y="1174"/>
                    <a:pt x="1003" y="1174"/>
                  </a:cubicBezTo>
                  <a:cubicBezTo>
                    <a:pt x="1023" y="1189"/>
                    <a:pt x="1055" y="1202"/>
                    <a:pt x="1055" y="1202"/>
                  </a:cubicBezTo>
                  <a:cubicBezTo>
                    <a:pt x="1090" y="1269"/>
                    <a:pt x="1162" y="1300"/>
                    <a:pt x="1225" y="1309"/>
                  </a:cubicBezTo>
                  <a:cubicBezTo>
                    <a:pt x="1292" y="1326"/>
                    <a:pt x="1483" y="1348"/>
                    <a:pt x="1420" y="1344"/>
                  </a:cubicBezTo>
                  <a:cubicBezTo>
                    <a:pt x="1292" y="1331"/>
                    <a:pt x="1198" y="1318"/>
                    <a:pt x="1067" y="1237"/>
                  </a:cubicBezTo>
                  <a:cubicBezTo>
                    <a:pt x="1003" y="1224"/>
                    <a:pt x="1070" y="1170"/>
                    <a:pt x="1067" y="1170"/>
                  </a:cubicBezTo>
                  <a:cubicBezTo>
                    <a:pt x="1067" y="1166"/>
                    <a:pt x="1047" y="1237"/>
                    <a:pt x="1059" y="1211"/>
                  </a:cubicBezTo>
                  <a:cubicBezTo>
                    <a:pt x="1086" y="1148"/>
                    <a:pt x="1122" y="1045"/>
                    <a:pt x="1166" y="1000"/>
                  </a:cubicBezTo>
                  <a:cubicBezTo>
                    <a:pt x="1193" y="933"/>
                    <a:pt x="1233" y="889"/>
                    <a:pt x="1261" y="822"/>
                  </a:cubicBezTo>
                  <a:cubicBezTo>
                    <a:pt x="1265" y="817"/>
                    <a:pt x="1257" y="839"/>
                    <a:pt x="1249" y="848"/>
                  </a:cubicBezTo>
                  <a:cubicBezTo>
                    <a:pt x="1241" y="871"/>
                    <a:pt x="1233" y="884"/>
                    <a:pt x="1225" y="902"/>
                  </a:cubicBezTo>
                  <a:cubicBezTo>
                    <a:pt x="1198" y="947"/>
                    <a:pt x="1174" y="952"/>
                    <a:pt x="1138" y="974"/>
                  </a:cubicBezTo>
                  <a:cubicBezTo>
                    <a:pt x="1111" y="1041"/>
                    <a:pt x="1150" y="956"/>
                    <a:pt x="1098" y="1005"/>
                  </a:cubicBezTo>
                  <a:cubicBezTo>
                    <a:pt x="1086" y="1013"/>
                    <a:pt x="1070" y="1000"/>
                    <a:pt x="1070" y="1000"/>
                  </a:cubicBezTo>
                  <a:cubicBezTo>
                    <a:pt x="1023" y="915"/>
                    <a:pt x="999" y="933"/>
                    <a:pt x="968" y="844"/>
                  </a:cubicBezTo>
                  <a:cubicBezTo>
                    <a:pt x="960" y="772"/>
                    <a:pt x="932" y="830"/>
                    <a:pt x="912" y="754"/>
                  </a:cubicBezTo>
                  <a:cubicBezTo>
                    <a:pt x="892" y="692"/>
                    <a:pt x="956" y="361"/>
                    <a:pt x="932" y="295"/>
                  </a:cubicBezTo>
                  <a:cubicBezTo>
                    <a:pt x="916" y="384"/>
                    <a:pt x="916" y="670"/>
                    <a:pt x="884" y="754"/>
                  </a:cubicBezTo>
                  <a:cubicBezTo>
                    <a:pt x="872" y="826"/>
                    <a:pt x="935" y="795"/>
                    <a:pt x="889" y="791"/>
                  </a:cubicBezTo>
                  <a:cubicBezTo>
                    <a:pt x="889" y="728"/>
                    <a:pt x="639" y="759"/>
                    <a:pt x="587" y="728"/>
                  </a:cubicBezTo>
                  <a:cubicBezTo>
                    <a:pt x="535" y="648"/>
                    <a:pt x="516" y="361"/>
                    <a:pt x="491" y="365"/>
                  </a:cubicBezTo>
                  <a:cubicBezTo>
                    <a:pt x="488" y="357"/>
                    <a:pt x="587" y="697"/>
                    <a:pt x="583" y="701"/>
                  </a:cubicBezTo>
                  <a:cubicBezTo>
                    <a:pt x="591" y="754"/>
                    <a:pt x="532" y="719"/>
                    <a:pt x="499" y="724"/>
                  </a:cubicBezTo>
                  <a:cubicBezTo>
                    <a:pt x="468" y="732"/>
                    <a:pt x="428" y="772"/>
                    <a:pt x="392" y="754"/>
                  </a:cubicBezTo>
                  <a:cubicBezTo>
                    <a:pt x="325" y="750"/>
                    <a:pt x="285" y="630"/>
                    <a:pt x="257" y="643"/>
                  </a:cubicBezTo>
                  <a:cubicBezTo>
                    <a:pt x="254" y="665"/>
                    <a:pt x="364" y="763"/>
                    <a:pt x="377" y="786"/>
                  </a:cubicBezTo>
                  <a:cubicBezTo>
                    <a:pt x="420" y="817"/>
                    <a:pt x="420" y="687"/>
                    <a:pt x="662" y="835"/>
                  </a:cubicBezTo>
                  <a:cubicBezTo>
                    <a:pt x="781" y="911"/>
                    <a:pt x="797" y="1076"/>
                    <a:pt x="1063" y="1206"/>
                  </a:cubicBezTo>
                  <a:cubicBezTo>
                    <a:pt x="1336" y="1326"/>
                    <a:pt x="2078" y="1609"/>
                    <a:pt x="2284" y="1590"/>
                  </a:cubicBezTo>
                  <a:cubicBezTo>
                    <a:pt x="2490" y="1572"/>
                    <a:pt x="2304" y="1193"/>
                    <a:pt x="2312" y="1089"/>
                  </a:cubicBezTo>
                  <a:lnTo>
                    <a:pt x="2312" y="1089"/>
                  </a:lnTo>
                </a:path>
              </a:pathLst>
            </a:custGeom>
            <a:solidFill>
              <a:srgbClr val="66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622600">
              <a:off x="7228440" y="1569960"/>
              <a:ext cx="1115640" cy="677880"/>
            </a:xfrm>
            <a:custGeom>
              <a:avLst/>
              <a:gdLst/>
              <a:ahLst/>
              <a:rect l="l" t="t" r="r" b="b"/>
              <a:pathLst>
                <a:path w="2491" h="1575">
                  <a:moveTo>
                    <a:pt x="2308" y="1073"/>
                  </a:moveTo>
                  <a:cubicBezTo>
                    <a:pt x="2228" y="1046"/>
                    <a:pt x="2312" y="1091"/>
                    <a:pt x="2261" y="1032"/>
                  </a:cubicBezTo>
                  <a:cubicBezTo>
                    <a:pt x="2245" y="1023"/>
                    <a:pt x="2228" y="1023"/>
                    <a:pt x="2213" y="1010"/>
                  </a:cubicBezTo>
                  <a:cubicBezTo>
                    <a:pt x="2149" y="956"/>
                    <a:pt x="2098" y="858"/>
                    <a:pt x="2023" y="827"/>
                  </a:cubicBezTo>
                  <a:cubicBezTo>
                    <a:pt x="2014" y="760"/>
                    <a:pt x="1951" y="728"/>
                    <a:pt x="1912" y="715"/>
                  </a:cubicBezTo>
                  <a:cubicBezTo>
                    <a:pt x="1888" y="693"/>
                    <a:pt x="1868" y="675"/>
                    <a:pt x="1844" y="662"/>
                  </a:cubicBezTo>
                  <a:cubicBezTo>
                    <a:pt x="1820" y="634"/>
                    <a:pt x="1792" y="626"/>
                    <a:pt x="1769" y="599"/>
                  </a:cubicBezTo>
                  <a:cubicBezTo>
                    <a:pt x="1753" y="558"/>
                    <a:pt x="1717" y="532"/>
                    <a:pt x="1690" y="514"/>
                  </a:cubicBezTo>
                  <a:cubicBezTo>
                    <a:pt x="1649" y="469"/>
                    <a:pt x="1602" y="397"/>
                    <a:pt x="1559" y="380"/>
                  </a:cubicBezTo>
                  <a:cubicBezTo>
                    <a:pt x="1527" y="349"/>
                    <a:pt x="1495" y="336"/>
                    <a:pt x="1463" y="313"/>
                  </a:cubicBezTo>
                  <a:cubicBezTo>
                    <a:pt x="1427" y="290"/>
                    <a:pt x="1404" y="245"/>
                    <a:pt x="1364" y="232"/>
                  </a:cubicBezTo>
                  <a:cubicBezTo>
                    <a:pt x="1309" y="184"/>
                    <a:pt x="1194" y="36"/>
                    <a:pt x="1111" y="0"/>
                  </a:cubicBezTo>
                  <a:cubicBezTo>
                    <a:pt x="1043" y="9"/>
                    <a:pt x="928" y="14"/>
                    <a:pt x="856" y="31"/>
                  </a:cubicBezTo>
                  <a:cubicBezTo>
                    <a:pt x="785" y="53"/>
                    <a:pt x="650" y="18"/>
                    <a:pt x="543" y="53"/>
                  </a:cubicBezTo>
                  <a:cubicBezTo>
                    <a:pt x="448" y="90"/>
                    <a:pt x="226" y="71"/>
                    <a:pt x="147" y="152"/>
                  </a:cubicBezTo>
                  <a:cubicBezTo>
                    <a:pt x="119" y="192"/>
                    <a:pt x="24" y="478"/>
                    <a:pt x="0" y="550"/>
                  </a:cubicBezTo>
                  <a:cubicBezTo>
                    <a:pt x="4" y="608"/>
                    <a:pt x="24" y="702"/>
                    <a:pt x="27" y="764"/>
                  </a:cubicBezTo>
                  <a:cubicBezTo>
                    <a:pt x="8" y="993"/>
                    <a:pt x="119" y="970"/>
                    <a:pt x="249" y="1113"/>
                  </a:cubicBezTo>
                  <a:cubicBezTo>
                    <a:pt x="297" y="1198"/>
                    <a:pt x="448" y="1229"/>
                    <a:pt x="488" y="1229"/>
                  </a:cubicBezTo>
                  <a:cubicBezTo>
                    <a:pt x="527" y="1220"/>
                    <a:pt x="738" y="1202"/>
                    <a:pt x="757" y="1176"/>
                  </a:cubicBezTo>
                  <a:cubicBezTo>
                    <a:pt x="797" y="1082"/>
                    <a:pt x="710" y="1010"/>
                    <a:pt x="670" y="970"/>
                  </a:cubicBezTo>
                  <a:cubicBezTo>
                    <a:pt x="611" y="889"/>
                    <a:pt x="519" y="715"/>
                    <a:pt x="488" y="693"/>
                  </a:cubicBezTo>
                  <a:cubicBezTo>
                    <a:pt x="448" y="680"/>
                    <a:pt x="460" y="889"/>
                    <a:pt x="440" y="925"/>
                  </a:cubicBezTo>
                  <a:cubicBezTo>
                    <a:pt x="420" y="961"/>
                    <a:pt x="397" y="823"/>
                    <a:pt x="377" y="898"/>
                  </a:cubicBezTo>
                  <a:cubicBezTo>
                    <a:pt x="369" y="840"/>
                    <a:pt x="305" y="863"/>
                    <a:pt x="325" y="832"/>
                  </a:cubicBezTo>
                  <a:cubicBezTo>
                    <a:pt x="341" y="791"/>
                    <a:pt x="440" y="764"/>
                    <a:pt x="464" y="737"/>
                  </a:cubicBezTo>
                  <a:cubicBezTo>
                    <a:pt x="516" y="742"/>
                    <a:pt x="484" y="724"/>
                    <a:pt x="543" y="764"/>
                  </a:cubicBezTo>
                  <a:cubicBezTo>
                    <a:pt x="591" y="782"/>
                    <a:pt x="670" y="817"/>
                    <a:pt x="721" y="867"/>
                  </a:cubicBezTo>
                  <a:cubicBezTo>
                    <a:pt x="749" y="902"/>
                    <a:pt x="809" y="1010"/>
                    <a:pt x="848" y="1037"/>
                  </a:cubicBezTo>
                  <a:cubicBezTo>
                    <a:pt x="861" y="1046"/>
                    <a:pt x="991" y="1144"/>
                    <a:pt x="1003" y="1148"/>
                  </a:cubicBezTo>
                  <a:cubicBezTo>
                    <a:pt x="1023" y="1158"/>
                    <a:pt x="1055" y="1167"/>
                    <a:pt x="1055" y="1167"/>
                  </a:cubicBezTo>
                  <a:cubicBezTo>
                    <a:pt x="1090" y="1234"/>
                    <a:pt x="1162" y="1265"/>
                    <a:pt x="1225" y="1274"/>
                  </a:cubicBezTo>
                  <a:cubicBezTo>
                    <a:pt x="1292" y="1291"/>
                    <a:pt x="1479" y="1319"/>
                    <a:pt x="1420" y="1309"/>
                  </a:cubicBezTo>
                  <a:cubicBezTo>
                    <a:pt x="1289" y="1296"/>
                    <a:pt x="1194" y="1287"/>
                    <a:pt x="1067" y="1202"/>
                  </a:cubicBezTo>
                  <a:cubicBezTo>
                    <a:pt x="1003" y="1189"/>
                    <a:pt x="1070" y="1139"/>
                    <a:pt x="1067" y="1139"/>
                  </a:cubicBezTo>
                  <a:cubicBezTo>
                    <a:pt x="1067" y="1135"/>
                    <a:pt x="1043" y="1206"/>
                    <a:pt x="1059" y="1180"/>
                  </a:cubicBezTo>
                  <a:cubicBezTo>
                    <a:pt x="1087" y="1117"/>
                    <a:pt x="1122" y="1019"/>
                    <a:pt x="1162" y="974"/>
                  </a:cubicBezTo>
                  <a:cubicBezTo>
                    <a:pt x="1190" y="912"/>
                    <a:pt x="1229" y="867"/>
                    <a:pt x="1257" y="804"/>
                  </a:cubicBezTo>
                  <a:cubicBezTo>
                    <a:pt x="1261" y="800"/>
                    <a:pt x="1253" y="823"/>
                    <a:pt x="1245" y="832"/>
                  </a:cubicBezTo>
                  <a:cubicBezTo>
                    <a:pt x="1238" y="849"/>
                    <a:pt x="1233" y="863"/>
                    <a:pt x="1221" y="880"/>
                  </a:cubicBezTo>
                  <a:cubicBezTo>
                    <a:pt x="1198" y="921"/>
                    <a:pt x="1170" y="925"/>
                    <a:pt x="1134" y="947"/>
                  </a:cubicBezTo>
                  <a:cubicBezTo>
                    <a:pt x="1111" y="1015"/>
                    <a:pt x="1146" y="934"/>
                    <a:pt x="1095" y="978"/>
                  </a:cubicBezTo>
                  <a:cubicBezTo>
                    <a:pt x="1087" y="988"/>
                    <a:pt x="1067" y="974"/>
                    <a:pt x="1067" y="974"/>
                  </a:cubicBezTo>
                  <a:cubicBezTo>
                    <a:pt x="1019" y="893"/>
                    <a:pt x="996" y="912"/>
                    <a:pt x="963" y="823"/>
                  </a:cubicBezTo>
                  <a:cubicBezTo>
                    <a:pt x="956" y="756"/>
                    <a:pt x="932" y="809"/>
                    <a:pt x="908" y="737"/>
                  </a:cubicBezTo>
                  <a:cubicBezTo>
                    <a:pt x="889" y="675"/>
                    <a:pt x="948" y="353"/>
                    <a:pt x="924" y="290"/>
                  </a:cubicBezTo>
                  <a:cubicBezTo>
                    <a:pt x="908" y="375"/>
                    <a:pt x="912" y="652"/>
                    <a:pt x="881" y="737"/>
                  </a:cubicBezTo>
                  <a:cubicBezTo>
                    <a:pt x="868" y="804"/>
                    <a:pt x="932" y="778"/>
                    <a:pt x="884" y="769"/>
                  </a:cubicBezTo>
                  <a:cubicBezTo>
                    <a:pt x="884" y="710"/>
                    <a:pt x="634" y="737"/>
                    <a:pt x="583" y="706"/>
                  </a:cubicBezTo>
                  <a:cubicBezTo>
                    <a:pt x="532" y="626"/>
                    <a:pt x="511" y="349"/>
                    <a:pt x="488" y="353"/>
                  </a:cubicBezTo>
                  <a:cubicBezTo>
                    <a:pt x="484" y="344"/>
                    <a:pt x="583" y="675"/>
                    <a:pt x="583" y="684"/>
                  </a:cubicBezTo>
                  <a:cubicBezTo>
                    <a:pt x="587" y="733"/>
                    <a:pt x="532" y="697"/>
                    <a:pt x="496" y="702"/>
                  </a:cubicBezTo>
                  <a:cubicBezTo>
                    <a:pt x="464" y="710"/>
                    <a:pt x="428" y="747"/>
                    <a:pt x="389" y="733"/>
                  </a:cubicBezTo>
                  <a:cubicBezTo>
                    <a:pt x="321" y="724"/>
                    <a:pt x="282" y="612"/>
                    <a:pt x="257" y="621"/>
                  </a:cubicBezTo>
                  <a:cubicBezTo>
                    <a:pt x="254" y="643"/>
                    <a:pt x="361" y="742"/>
                    <a:pt x="377" y="760"/>
                  </a:cubicBezTo>
                  <a:cubicBezTo>
                    <a:pt x="417" y="791"/>
                    <a:pt x="417" y="666"/>
                    <a:pt x="662" y="813"/>
                  </a:cubicBezTo>
                  <a:cubicBezTo>
                    <a:pt x="777" y="885"/>
                    <a:pt x="793" y="1050"/>
                    <a:pt x="1063" y="1171"/>
                  </a:cubicBezTo>
                  <a:cubicBezTo>
                    <a:pt x="1336" y="1291"/>
                    <a:pt x="2078" y="1574"/>
                    <a:pt x="2284" y="1560"/>
                  </a:cubicBezTo>
                  <a:cubicBezTo>
                    <a:pt x="2490" y="1542"/>
                    <a:pt x="2300" y="1171"/>
                    <a:pt x="2308" y="1073"/>
                  </a:cubicBezTo>
                  <a:lnTo>
                    <a:pt x="2308" y="107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622600">
              <a:off x="7136640" y="1448640"/>
              <a:ext cx="1165680" cy="767880"/>
            </a:xfrm>
            <a:custGeom>
              <a:avLst/>
              <a:gdLst/>
              <a:ahLst/>
              <a:rect l="l" t="t" r="r" b="b"/>
              <a:pathLst>
                <a:path w="2603" h="1782">
                  <a:moveTo>
                    <a:pt x="2447" y="1062"/>
                  </a:moveTo>
                  <a:cubicBezTo>
                    <a:pt x="2360" y="1030"/>
                    <a:pt x="2447" y="1076"/>
                    <a:pt x="2392" y="1017"/>
                  </a:cubicBezTo>
                  <a:cubicBezTo>
                    <a:pt x="2379" y="1008"/>
                    <a:pt x="2360" y="1004"/>
                    <a:pt x="2348" y="995"/>
                  </a:cubicBezTo>
                  <a:cubicBezTo>
                    <a:pt x="2277" y="941"/>
                    <a:pt x="2221" y="848"/>
                    <a:pt x="2142" y="811"/>
                  </a:cubicBezTo>
                  <a:cubicBezTo>
                    <a:pt x="2130" y="745"/>
                    <a:pt x="2067" y="722"/>
                    <a:pt x="2019" y="700"/>
                  </a:cubicBezTo>
                  <a:cubicBezTo>
                    <a:pt x="1995" y="678"/>
                    <a:pt x="1979" y="665"/>
                    <a:pt x="1948" y="652"/>
                  </a:cubicBezTo>
                  <a:cubicBezTo>
                    <a:pt x="1928" y="624"/>
                    <a:pt x="1896" y="615"/>
                    <a:pt x="1872" y="589"/>
                  </a:cubicBezTo>
                  <a:cubicBezTo>
                    <a:pt x="1853" y="548"/>
                    <a:pt x="1817" y="526"/>
                    <a:pt x="1785" y="504"/>
                  </a:cubicBezTo>
                  <a:cubicBezTo>
                    <a:pt x="1741" y="459"/>
                    <a:pt x="1690" y="392"/>
                    <a:pt x="1642" y="374"/>
                  </a:cubicBezTo>
                  <a:cubicBezTo>
                    <a:pt x="1611" y="343"/>
                    <a:pt x="1575" y="326"/>
                    <a:pt x="1547" y="307"/>
                  </a:cubicBezTo>
                  <a:cubicBezTo>
                    <a:pt x="1507" y="280"/>
                    <a:pt x="1479" y="245"/>
                    <a:pt x="1440" y="231"/>
                  </a:cubicBezTo>
                  <a:cubicBezTo>
                    <a:pt x="1376" y="178"/>
                    <a:pt x="1257" y="39"/>
                    <a:pt x="1166" y="0"/>
                  </a:cubicBezTo>
                  <a:cubicBezTo>
                    <a:pt x="1095" y="4"/>
                    <a:pt x="968" y="8"/>
                    <a:pt x="900" y="22"/>
                  </a:cubicBezTo>
                  <a:cubicBezTo>
                    <a:pt x="825" y="44"/>
                    <a:pt x="678" y="8"/>
                    <a:pt x="567" y="44"/>
                  </a:cubicBezTo>
                  <a:cubicBezTo>
                    <a:pt x="468" y="74"/>
                    <a:pt x="234" y="48"/>
                    <a:pt x="150" y="124"/>
                  </a:cubicBezTo>
                  <a:cubicBezTo>
                    <a:pt x="119" y="169"/>
                    <a:pt x="24" y="441"/>
                    <a:pt x="0" y="508"/>
                  </a:cubicBezTo>
                  <a:cubicBezTo>
                    <a:pt x="7" y="571"/>
                    <a:pt x="27" y="660"/>
                    <a:pt x="32" y="718"/>
                  </a:cubicBezTo>
                  <a:cubicBezTo>
                    <a:pt x="16" y="941"/>
                    <a:pt x="131" y="919"/>
                    <a:pt x="274" y="1062"/>
                  </a:cubicBezTo>
                  <a:cubicBezTo>
                    <a:pt x="329" y="1143"/>
                    <a:pt x="464" y="1228"/>
                    <a:pt x="512" y="1228"/>
                  </a:cubicBezTo>
                  <a:cubicBezTo>
                    <a:pt x="551" y="1218"/>
                    <a:pt x="746" y="1289"/>
                    <a:pt x="765" y="1263"/>
                  </a:cubicBezTo>
                  <a:cubicBezTo>
                    <a:pt x="797" y="1165"/>
                    <a:pt x="793" y="1106"/>
                    <a:pt x="749" y="1067"/>
                  </a:cubicBezTo>
                  <a:cubicBezTo>
                    <a:pt x="690" y="986"/>
                    <a:pt x="543" y="932"/>
                    <a:pt x="512" y="915"/>
                  </a:cubicBezTo>
                  <a:cubicBezTo>
                    <a:pt x="471" y="897"/>
                    <a:pt x="488" y="883"/>
                    <a:pt x="471" y="883"/>
                  </a:cubicBezTo>
                  <a:cubicBezTo>
                    <a:pt x="452" y="874"/>
                    <a:pt x="420" y="785"/>
                    <a:pt x="404" y="852"/>
                  </a:cubicBezTo>
                  <a:cubicBezTo>
                    <a:pt x="397" y="798"/>
                    <a:pt x="333" y="817"/>
                    <a:pt x="349" y="789"/>
                  </a:cubicBezTo>
                  <a:cubicBezTo>
                    <a:pt x="361" y="750"/>
                    <a:pt x="464" y="731"/>
                    <a:pt x="496" y="700"/>
                  </a:cubicBezTo>
                  <a:cubicBezTo>
                    <a:pt x="547" y="709"/>
                    <a:pt x="515" y="687"/>
                    <a:pt x="579" y="726"/>
                  </a:cubicBezTo>
                  <a:cubicBezTo>
                    <a:pt x="627" y="750"/>
                    <a:pt x="710" y="785"/>
                    <a:pt x="769" y="830"/>
                  </a:cubicBezTo>
                  <a:cubicBezTo>
                    <a:pt x="797" y="865"/>
                    <a:pt x="864" y="972"/>
                    <a:pt x="904" y="995"/>
                  </a:cubicBezTo>
                  <a:cubicBezTo>
                    <a:pt x="917" y="1013"/>
                    <a:pt x="1055" y="1102"/>
                    <a:pt x="1075" y="1106"/>
                  </a:cubicBezTo>
                  <a:cubicBezTo>
                    <a:pt x="1086" y="1115"/>
                    <a:pt x="1122" y="1128"/>
                    <a:pt x="1122" y="1128"/>
                  </a:cubicBezTo>
                  <a:cubicBezTo>
                    <a:pt x="1166" y="1191"/>
                    <a:pt x="1241" y="1222"/>
                    <a:pt x="1309" y="1236"/>
                  </a:cubicBezTo>
                  <a:cubicBezTo>
                    <a:pt x="1372" y="1254"/>
                    <a:pt x="1575" y="1280"/>
                    <a:pt x="1507" y="1272"/>
                  </a:cubicBezTo>
                  <a:cubicBezTo>
                    <a:pt x="1372" y="1258"/>
                    <a:pt x="1273" y="1245"/>
                    <a:pt x="1139" y="1165"/>
                  </a:cubicBezTo>
                  <a:cubicBezTo>
                    <a:pt x="1071" y="1147"/>
                    <a:pt x="1139" y="1102"/>
                    <a:pt x="1134" y="1102"/>
                  </a:cubicBezTo>
                  <a:cubicBezTo>
                    <a:pt x="1131" y="1098"/>
                    <a:pt x="1111" y="1165"/>
                    <a:pt x="1126" y="1137"/>
                  </a:cubicBezTo>
                  <a:cubicBezTo>
                    <a:pt x="1154" y="1076"/>
                    <a:pt x="1193" y="986"/>
                    <a:pt x="1234" y="946"/>
                  </a:cubicBezTo>
                  <a:cubicBezTo>
                    <a:pt x="1261" y="883"/>
                    <a:pt x="1305" y="843"/>
                    <a:pt x="1333" y="780"/>
                  </a:cubicBezTo>
                  <a:cubicBezTo>
                    <a:pt x="1336" y="772"/>
                    <a:pt x="1328" y="798"/>
                    <a:pt x="1325" y="798"/>
                  </a:cubicBezTo>
                  <a:cubicBezTo>
                    <a:pt x="1317" y="821"/>
                    <a:pt x="1305" y="839"/>
                    <a:pt x="1300" y="856"/>
                  </a:cubicBezTo>
                  <a:cubicBezTo>
                    <a:pt x="1269" y="897"/>
                    <a:pt x="1241" y="897"/>
                    <a:pt x="1206" y="915"/>
                  </a:cubicBezTo>
                  <a:cubicBezTo>
                    <a:pt x="1178" y="977"/>
                    <a:pt x="1218" y="902"/>
                    <a:pt x="1166" y="946"/>
                  </a:cubicBezTo>
                  <a:cubicBezTo>
                    <a:pt x="1150" y="954"/>
                    <a:pt x="1134" y="941"/>
                    <a:pt x="1134" y="941"/>
                  </a:cubicBezTo>
                  <a:cubicBezTo>
                    <a:pt x="1078" y="865"/>
                    <a:pt x="1055" y="878"/>
                    <a:pt x="1027" y="789"/>
                  </a:cubicBezTo>
                  <a:cubicBezTo>
                    <a:pt x="1015" y="726"/>
                    <a:pt x="988" y="780"/>
                    <a:pt x="964" y="709"/>
                  </a:cubicBezTo>
                  <a:cubicBezTo>
                    <a:pt x="943" y="646"/>
                    <a:pt x="1004" y="339"/>
                    <a:pt x="976" y="276"/>
                  </a:cubicBezTo>
                  <a:cubicBezTo>
                    <a:pt x="960" y="361"/>
                    <a:pt x="968" y="628"/>
                    <a:pt x="932" y="700"/>
                  </a:cubicBezTo>
                  <a:cubicBezTo>
                    <a:pt x="924" y="772"/>
                    <a:pt x="988" y="745"/>
                    <a:pt x="936" y="741"/>
                  </a:cubicBezTo>
                  <a:cubicBezTo>
                    <a:pt x="940" y="682"/>
                    <a:pt x="674" y="700"/>
                    <a:pt x="622" y="669"/>
                  </a:cubicBezTo>
                  <a:cubicBezTo>
                    <a:pt x="563" y="593"/>
                    <a:pt x="539" y="326"/>
                    <a:pt x="512" y="326"/>
                  </a:cubicBezTo>
                  <a:cubicBezTo>
                    <a:pt x="507" y="316"/>
                    <a:pt x="619" y="642"/>
                    <a:pt x="619" y="652"/>
                  </a:cubicBezTo>
                  <a:cubicBezTo>
                    <a:pt x="622" y="700"/>
                    <a:pt x="563" y="660"/>
                    <a:pt x="527" y="669"/>
                  </a:cubicBezTo>
                  <a:cubicBezTo>
                    <a:pt x="496" y="674"/>
                    <a:pt x="456" y="709"/>
                    <a:pt x="412" y="696"/>
                  </a:cubicBezTo>
                  <a:cubicBezTo>
                    <a:pt x="341" y="691"/>
                    <a:pt x="297" y="571"/>
                    <a:pt x="274" y="580"/>
                  </a:cubicBezTo>
                  <a:cubicBezTo>
                    <a:pt x="269" y="602"/>
                    <a:pt x="389" y="700"/>
                    <a:pt x="400" y="722"/>
                  </a:cubicBezTo>
                  <a:cubicBezTo>
                    <a:pt x="444" y="754"/>
                    <a:pt x="444" y="624"/>
                    <a:pt x="702" y="780"/>
                  </a:cubicBezTo>
                  <a:cubicBezTo>
                    <a:pt x="825" y="848"/>
                    <a:pt x="856" y="968"/>
                    <a:pt x="1134" y="1133"/>
                  </a:cubicBezTo>
                  <a:cubicBezTo>
                    <a:pt x="1412" y="1294"/>
                    <a:pt x="2165" y="1781"/>
                    <a:pt x="2384" y="1767"/>
                  </a:cubicBezTo>
                  <a:cubicBezTo>
                    <a:pt x="2602" y="1758"/>
                    <a:pt x="2435" y="1209"/>
                    <a:pt x="2447" y="1062"/>
                  </a:cubicBezTo>
                  <a:lnTo>
                    <a:pt x="2447" y="106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13800" y="1447920"/>
              <a:ext cx="405720" cy="696960"/>
            </a:xfrm>
            <a:prstGeom prst="ellipse">
              <a:avLst/>
            </a:prstGeom>
            <a:gradFill rotWithShape="0">
              <a:gsLst>
                <a:gs pos="0">
                  <a:srgbClr val="543020"/>
                </a:gs>
                <a:gs pos="50000">
                  <a:srgbClr val="b86946"/>
                </a:gs>
                <a:gs pos="100000">
                  <a:srgbClr val="54302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72120" y="1447920"/>
              <a:ext cx="405720" cy="696960"/>
            </a:xfrm>
            <a:prstGeom prst="ellipse">
              <a:avLst/>
            </a:prstGeom>
            <a:gradFill rotWithShape="0">
              <a:gsLst>
                <a:gs pos="0">
                  <a:srgbClr val="b86f60"/>
                </a:gs>
                <a:gs pos="100000">
                  <a:srgbClr val="79493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201080" y="1453320"/>
              <a:ext cx="1150200" cy="1005480"/>
              <a:chOff x="7201080" y="1453320"/>
              <a:chExt cx="1150200" cy="1005480"/>
            </a:xfrm>
          </p:grpSpPr>
          <p:sp>
            <p:nvSpPr>
              <p:cNvPr id="98" name=""/>
              <p:cNvSpPr/>
              <p:nvPr/>
            </p:nvSpPr>
            <p:spPr>
              <a:xfrm rot="20622600">
                <a:off x="7288200" y="1574640"/>
                <a:ext cx="975600" cy="762480"/>
              </a:xfrm>
              <a:custGeom>
                <a:avLst/>
                <a:gdLst/>
                <a:ahLst/>
                <a:rect l="l" t="t" r="r" b="b"/>
                <a:pathLst>
                  <a:path w="2178" h="1767">
                    <a:moveTo>
                      <a:pt x="222" y="627"/>
                    </a:moveTo>
                    <a:cubicBezTo>
                      <a:pt x="268" y="679"/>
                      <a:pt x="325" y="686"/>
                      <a:pt x="386" y="719"/>
                    </a:cubicBezTo>
                    <a:cubicBezTo>
                      <a:pt x="393" y="726"/>
                      <a:pt x="401" y="731"/>
                      <a:pt x="408" y="738"/>
                    </a:cubicBezTo>
                    <a:cubicBezTo>
                      <a:pt x="415" y="747"/>
                      <a:pt x="423" y="753"/>
                      <a:pt x="429" y="759"/>
                    </a:cubicBezTo>
                    <a:cubicBezTo>
                      <a:pt x="442" y="767"/>
                      <a:pt x="482" y="775"/>
                      <a:pt x="494" y="782"/>
                    </a:cubicBezTo>
                    <a:cubicBezTo>
                      <a:pt x="515" y="788"/>
                      <a:pt x="657" y="996"/>
                      <a:pt x="657" y="996"/>
                    </a:cubicBezTo>
                    <a:cubicBezTo>
                      <a:pt x="700" y="1064"/>
                      <a:pt x="693" y="1073"/>
                      <a:pt x="755" y="1181"/>
                    </a:cubicBezTo>
                    <a:cubicBezTo>
                      <a:pt x="808" y="1275"/>
                      <a:pt x="849" y="1373"/>
                      <a:pt x="928" y="1458"/>
                    </a:cubicBezTo>
                    <a:cubicBezTo>
                      <a:pt x="939" y="1467"/>
                      <a:pt x="1395" y="1708"/>
                      <a:pt x="1395" y="1708"/>
                    </a:cubicBezTo>
                    <a:cubicBezTo>
                      <a:pt x="1860" y="1728"/>
                      <a:pt x="1596" y="1758"/>
                      <a:pt x="1858" y="1690"/>
                    </a:cubicBezTo>
                    <a:cubicBezTo>
                      <a:pt x="1949" y="1672"/>
                      <a:pt x="1909" y="1766"/>
                      <a:pt x="1949" y="1751"/>
                    </a:cubicBezTo>
                    <a:cubicBezTo>
                      <a:pt x="1991" y="1737"/>
                      <a:pt x="2087" y="1661"/>
                      <a:pt x="2098" y="1601"/>
                    </a:cubicBezTo>
                    <a:cubicBezTo>
                      <a:pt x="2177" y="1546"/>
                      <a:pt x="2043" y="1475"/>
                      <a:pt x="2012" y="1400"/>
                    </a:cubicBezTo>
                    <a:lnTo>
                      <a:pt x="1879" y="896"/>
                    </a:lnTo>
                    <a:cubicBezTo>
                      <a:pt x="1655" y="712"/>
                      <a:pt x="1786" y="773"/>
                      <a:pt x="1595" y="697"/>
                    </a:cubicBezTo>
                    <a:cubicBezTo>
                      <a:pt x="1403" y="615"/>
                      <a:pt x="935" y="504"/>
                      <a:pt x="737" y="405"/>
                    </a:cubicBezTo>
                    <a:cubicBezTo>
                      <a:pt x="541" y="309"/>
                      <a:pt x="504" y="176"/>
                      <a:pt x="405" y="110"/>
                    </a:cubicBezTo>
                    <a:cubicBezTo>
                      <a:pt x="304" y="44"/>
                      <a:pt x="205" y="0"/>
                      <a:pt x="140" y="14"/>
                    </a:cubicBezTo>
                    <a:cubicBezTo>
                      <a:pt x="74" y="26"/>
                      <a:pt x="21" y="117"/>
                      <a:pt x="11" y="185"/>
                    </a:cubicBezTo>
                    <a:cubicBezTo>
                      <a:pt x="0" y="256"/>
                      <a:pt x="45" y="363"/>
                      <a:pt x="78" y="440"/>
                    </a:cubicBezTo>
                    <a:cubicBezTo>
                      <a:pt x="113" y="513"/>
                      <a:pt x="190" y="590"/>
                      <a:pt x="222" y="627"/>
                    </a:cubicBezTo>
                    <a:lnTo>
                      <a:pt x="222" y="627"/>
                    </a:ln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622600">
                <a:off x="7285680" y="1728720"/>
                <a:ext cx="162000" cy="189720"/>
              </a:xfrm>
              <a:custGeom>
                <a:avLst/>
                <a:gdLst/>
                <a:ahLst/>
                <a:rect l="l" t="t" r="r" b="b"/>
                <a:pathLst>
                  <a:path w="361" h="440">
                    <a:moveTo>
                      <a:pt x="269" y="98"/>
                    </a:moveTo>
                    <a:cubicBezTo>
                      <a:pt x="323" y="143"/>
                      <a:pt x="360" y="139"/>
                      <a:pt x="332" y="189"/>
                    </a:cubicBezTo>
                    <a:cubicBezTo>
                      <a:pt x="324" y="223"/>
                      <a:pt x="302" y="282"/>
                      <a:pt x="273" y="303"/>
                    </a:cubicBezTo>
                    <a:cubicBezTo>
                      <a:pt x="260" y="315"/>
                      <a:pt x="173" y="439"/>
                      <a:pt x="173" y="439"/>
                    </a:cubicBezTo>
                    <a:cubicBezTo>
                      <a:pt x="76" y="420"/>
                      <a:pt x="109" y="438"/>
                      <a:pt x="64" y="369"/>
                    </a:cubicBezTo>
                    <a:cubicBezTo>
                      <a:pt x="52" y="303"/>
                      <a:pt x="11" y="271"/>
                      <a:pt x="0" y="204"/>
                    </a:cubicBezTo>
                    <a:cubicBezTo>
                      <a:pt x="9" y="149"/>
                      <a:pt x="78" y="17"/>
                      <a:pt x="123" y="0"/>
                    </a:cubicBezTo>
                    <a:cubicBezTo>
                      <a:pt x="176" y="6"/>
                      <a:pt x="245" y="48"/>
                      <a:pt x="269" y="98"/>
                    </a:cubicBezTo>
                    <a:lnTo>
                      <a:pt x="269" y="9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rot="20622600">
              <a:off x="8150400" y="1643400"/>
              <a:ext cx="612000" cy="859320"/>
            </a:xfrm>
            <a:custGeom>
              <a:avLst/>
              <a:gdLst/>
              <a:ahLst/>
              <a:rect l="l" t="t" r="r" b="b"/>
              <a:pathLst>
                <a:path w="1366" h="1991">
                  <a:moveTo>
                    <a:pt x="363" y="19"/>
                  </a:moveTo>
                  <a:cubicBezTo>
                    <a:pt x="352" y="91"/>
                    <a:pt x="342" y="136"/>
                    <a:pt x="315" y="199"/>
                  </a:cubicBezTo>
                  <a:cubicBezTo>
                    <a:pt x="301" y="280"/>
                    <a:pt x="309" y="293"/>
                    <a:pt x="281" y="339"/>
                  </a:cubicBezTo>
                  <a:cubicBezTo>
                    <a:pt x="271" y="446"/>
                    <a:pt x="273" y="437"/>
                    <a:pt x="245" y="566"/>
                  </a:cubicBezTo>
                  <a:cubicBezTo>
                    <a:pt x="237" y="602"/>
                    <a:pt x="210" y="671"/>
                    <a:pt x="210" y="671"/>
                  </a:cubicBezTo>
                  <a:cubicBezTo>
                    <a:pt x="194" y="756"/>
                    <a:pt x="177" y="923"/>
                    <a:pt x="113" y="997"/>
                  </a:cubicBezTo>
                  <a:cubicBezTo>
                    <a:pt x="102" y="1024"/>
                    <a:pt x="80" y="1045"/>
                    <a:pt x="69" y="1076"/>
                  </a:cubicBezTo>
                  <a:cubicBezTo>
                    <a:pt x="46" y="1133"/>
                    <a:pt x="55" y="1177"/>
                    <a:pt x="0" y="1189"/>
                  </a:cubicBezTo>
                  <a:cubicBezTo>
                    <a:pt x="4" y="1253"/>
                    <a:pt x="59" y="1271"/>
                    <a:pt x="103" y="1282"/>
                  </a:cubicBezTo>
                  <a:cubicBezTo>
                    <a:pt x="142" y="1301"/>
                    <a:pt x="180" y="1307"/>
                    <a:pt x="223" y="1317"/>
                  </a:cubicBezTo>
                  <a:cubicBezTo>
                    <a:pt x="237" y="1324"/>
                    <a:pt x="253" y="1331"/>
                    <a:pt x="266" y="1337"/>
                  </a:cubicBezTo>
                  <a:cubicBezTo>
                    <a:pt x="271" y="1339"/>
                    <a:pt x="282" y="1343"/>
                    <a:pt x="282" y="1343"/>
                  </a:cubicBezTo>
                  <a:cubicBezTo>
                    <a:pt x="331" y="1386"/>
                    <a:pt x="376" y="1392"/>
                    <a:pt x="439" y="1408"/>
                  </a:cubicBezTo>
                  <a:cubicBezTo>
                    <a:pt x="455" y="1421"/>
                    <a:pt x="469" y="1441"/>
                    <a:pt x="485" y="1452"/>
                  </a:cubicBezTo>
                  <a:cubicBezTo>
                    <a:pt x="501" y="1471"/>
                    <a:pt x="505" y="1480"/>
                    <a:pt x="522" y="1494"/>
                  </a:cubicBezTo>
                  <a:cubicBezTo>
                    <a:pt x="532" y="1504"/>
                    <a:pt x="552" y="1519"/>
                    <a:pt x="552" y="1519"/>
                  </a:cubicBezTo>
                  <a:cubicBezTo>
                    <a:pt x="562" y="1550"/>
                    <a:pt x="593" y="1587"/>
                    <a:pt x="619" y="1602"/>
                  </a:cubicBezTo>
                  <a:cubicBezTo>
                    <a:pt x="638" y="1624"/>
                    <a:pt x="663" y="1656"/>
                    <a:pt x="686" y="1670"/>
                  </a:cubicBezTo>
                  <a:cubicBezTo>
                    <a:pt x="694" y="1697"/>
                    <a:pt x="711" y="1675"/>
                    <a:pt x="728" y="1670"/>
                  </a:cubicBezTo>
                  <a:cubicBezTo>
                    <a:pt x="743" y="1667"/>
                    <a:pt x="770" y="1662"/>
                    <a:pt x="770" y="1662"/>
                  </a:cubicBezTo>
                  <a:cubicBezTo>
                    <a:pt x="816" y="1674"/>
                    <a:pt x="813" y="1676"/>
                    <a:pt x="844" y="1695"/>
                  </a:cubicBezTo>
                  <a:cubicBezTo>
                    <a:pt x="865" y="1748"/>
                    <a:pt x="922" y="1793"/>
                    <a:pt x="957" y="1831"/>
                  </a:cubicBezTo>
                  <a:cubicBezTo>
                    <a:pt x="970" y="1845"/>
                    <a:pt x="992" y="1869"/>
                    <a:pt x="1006" y="1880"/>
                  </a:cubicBezTo>
                  <a:cubicBezTo>
                    <a:pt x="1014" y="1884"/>
                    <a:pt x="1031" y="1892"/>
                    <a:pt x="1031" y="1892"/>
                  </a:cubicBezTo>
                  <a:cubicBezTo>
                    <a:pt x="1043" y="1906"/>
                    <a:pt x="1042" y="1908"/>
                    <a:pt x="1057" y="1917"/>
                  </a:cubicBezTo>
                  <a:cubicBezTo>
                    <a:pt x="1065" y="1921"/>
                    <a:pt x="1082" y="1928"/>
                    <a:pt x="1082" y="1928"/>
                  </a:cubicBezTo>
                  <a:cubicBezTo>
                    <a:pt x="1104" y="1956"/>
                    <a:pt x="1131" y="1967"/>
                    <a:pt x="1156" y="1990"/>
                  </a:cubicBezTo>
                  <a:cubicBezTo>
                    <a:pt x="1173" y="1981"/>
                    <a:pt x="1172" y="1966"/>
                    <a:pt x="1188" y="1956"/>
                  </a:cubicBezTo>
                  <a:cubicBezTo>
                    <a:pt x="1200" y="1926"/>
                    <a:pt x="1205" y="1890"/>
                    <a:pt x="1215" y="1858"/>
                  </a:cubicBezTo>
                  <a:cubicBezTo>
                    <a:pt x="1238" y="1710"/>
                    <a:pt x="1256" y="1549"/>
                    <a:pt x="1291" y="1402"/>
                  </a:cubicBezTo>
                  <a:cubicBezTo>
                    <a:pt x="1305" y="1282"/>
                    <a:pt x="1365" y="1025"/>
                    <a:pt x="1326" y="877"/>
                  </a:cubicBezTo>
                  <a:cubicBezTo>
                    <a:pt x="1325" y="828"/>
                    <a:pt x="1334" y="701"/>
                    <a:pt x="1296" y="679"/>
                  </a:cubicBezTo>
                  <a:cubicBezTo>
                    <a:pt x="1281" y="662"/>
                    <a:pt x="1261" y="648"/>
                    <a:pt x="1242" y="637"/>
                  </a:cubicBezTo>
                  <a:cubicBezTo>
                    <a:pt x="1227" y="618"/>
                    <a:pt x="1209" y="615"/>
                    <a:pt x="1191" y="601"/>
                  </a:cubicBezTo>
                  <a:cubicBezTo>
                    <a:pt x="1144" y="561"/>
                    <a:pt x="1099" y="530"/>
                    <a:pt x="1047" y="503"/>
                  </a:cubicBezTo>
                  <a:cubicBezTo>
                    <a:pt x="1024" y="481"/>
                    <a:pt x="995" y="460"/>
                    <a:pt x="968" y="449"/>
                  </a:cubicBezTo>
                  <a:cubicBezTo>
                    <a:pt x="946" y="429"/>
                    <a:pt x="923" y="405"/>
                    <a:pt x="896" y="395"/>
                  </a:cubicBezTo>
                  <a:cubicBezTo>
                    <a:pt x="836" y="334"/>
                    <a:pt x="766" y="274"/>
                    <a:pt x="694" y="232"/>
                  </a:cubicBezTo>
                  <a:cubicBezTo>
                    <a:pt x="665" y="196"/>
                    <a:pt x="608" y="187"/>
                    <a:pt x="572" y="160"/>
                  </a:cubicBezTo>
                  <a:cubicBezTo>
                    <a:pt x="550" y="140"/>
                    <a:pt x="531" y="110"/>
                    <a:pt x="508" y="96"/>
                  </a:cubicBezTo>
                  <a:cubicBezTo>
                    <a:pt x="490" y="85"/>
                    <a:pt x="470" y="75"/>
                    <a:pt x="454" y="62"/>
                  </a:cubicBezTo>
                  <a:cubicBezTo>
                    <a:pt x="438" y="49"/>
                    <a:pt x="428" y="35"/>
                    <a:pt x="409" y="27"/>
                  </a:cubicBezTo>
                  <a:cubicBezTo>
                    <a:pt x="397" y="12"/>
                    <a:pt x="390" y="0"/>
                    <a:pt x="371" y="8"/>
                  </a:cubicBezTo>
                  <a:cubicBezTo>
                    <a:pt x="361" y="29"/>
                    <a:pt x="363" y="19"/>
                    <a:pt x="361" y="41"/>
                  </a:cubicBezTo>
                  <a:lnTo>
                    <a:pt x="378" y="32"/>
                  </a:lnTo>
                  <a:cubicBezTo>
                    <a:pt x="378" y="32"/>
                    <a:pt x="363" y="19"/>
                    <a:pt x="363" y="19"/>
                  </a:cubicBezTo>
                  <a:lnTo>
                    <a:pt x="363" y="19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6477120" y="1752840"/>
              <a:ext cx="697320" cy="1523520"/>
              <a:chOff x="6477120" y="1752840"/>
              <a:chExt cx="697320" cy="1523520"/>
            </a:xfrm>
          </p:grpSpPr>
          <p:sp>
            <p:nvSpPr>
              <p:cNvPr id="102" name=""/>
              <p:cNvSpPr/>
              <p:nvPr/>
            </p:nvSpPr>
            <p:spPr>
              <a:xfrm>
                <a:off x="6477120" y="2552760"/>
                <a:ext cx="660240" cy="723600"/>
              </a:xfrm>
              <a:custGeom>
                <a:avLst/>
                <a:gdLst/>
                <a:ahLst/>
                <a:rect l="l" t="t" r="r" b="b"/>
                <a:pathLst>
                  <a:path w="1638" h="1720">
                    <a:moveTo>
                      <a:pt x="110" y="57"/>
                    </a:moveTo>
                    <a:cubicBezTo>
                      <a:pt x="63" y="67"/>
                      <a:pt x="54" y="74"/>
                      <a:pt x="37" y="103"/>
                    </a:cubicBezTo>
                    <a:cubicBezTo>
                      <a:pt x="54" y="264"/>
                      <a:pt x="0" y="439"/>
                      <a:pt x="62" y="596"/>
                    </a:cubicBezTo>
                    <a:cubicBezTo>
                      <a:pt x="86" y="798"/>
                      <a:pt x="76" y="1180"/>
                      <a:pt x="98" y="1324"/>
                    </a:cubicBezTo>
                    <a:cubicBezTo>
                      <a:pt x="95" y="1372"/>
                      <a:pt x="92" y="1435"/>
                      <a:pt x="98" y="1483"/>
                    </a:cubicBezTo>
                    <a:cubicBezTo>
                      <a:pt x="99" y="1493"/>
                      <a:pt x="210" y="1559"/>
                      <a:pt x="221" y="1567"/>
                    </a:cubicBezTo>
                    <a:cubicBezTo>
                      <a:pt x="274" y="1607"/>
                      <a:pt x="389" y="1665"/>
                      <a:pt x="462" y="1673"/>
                    </a:cubicBezTo>
                    <a:cubicBezTo>
                      <a:pt x="663" y="1719"/>
                      <a:pt x="997" y="1685"/>
                      <a:pt x="1204" y="1688"/>
                    </a:cubicBezTo>
                    <a:cubicBezTo>
                      <a:pt x="1297" y="1685"/>
                      <a:pt x="1404" y="1649"/>
                      <a:pt x="1497" y="1642"/>
                    </a:cubicBezTo>
                    <a:cubicBezTo>
                      <a:pt x="1538" y="1640"/>
                      <a:pt x="1554" y="1552"/>
                      <a:pt x="1594" y="1544"/>
                    </a:cubicBezTo>
                    <a:cubicBezTo>
                      <a:pt x="1637" y="1462"/>
                      <a:pt x="1556" y="1368"/>
                      <a:pt x="1618" y="1294"/>
                    </a:cubicBezTo>
                    <a:cubicBezTo>
                      <a:pt x="1626" y="1147"/>
                      <a:pt x="1605" y="790"/>
                      <a:pt x="1594" y="664"/>
                    </a:cubicBezTo>
                    <a:cubicBezTo>
                      <a:pt x="1586" y="621"/>
                      <a:pt x="1586" y="579"/>
                      <a:pt x="1582" y="535"/>
                    </a:cubicBezTo>
                    <a:cubicBezTo>
                      <a:pt x="1571" y="404"/>
                      <a:pt x="1602" y="272"/>
                      <a:pt x="1594" y="141"/>
                    </a:cubicBezTo>
                    <a:cubicBezTo>
                      <a:pt x="1591" y="84"/>
                      <a:pt x="1476" y="71"/>
                      <a:pt x="1412" y="57"/>
                    </a:cubicBezTo>
                    <a:cubicBezTo>
                      <a:pt x="1151" y="0"/>
                      <a:pt x="860" y="52"/>
                      <a:pt x="585" y="50"/>
                    </a:cubicBezTo>
                    <a:cubicBezTo>
                      <a:pt x="534" y="43"/>
                      <a:pt x="488" y="30"/>
                      <a:pt x="439" y="20"/>
                    </a:cubicBezTo>
                    <a:cubicBezTo>
                      <a:pt x="357" y="23"/>
                      <a:pt x="276" y="22"/>
                      <a:pt x="195" y="27"/>
                    </a:cubicBezTo>
                    <a:cubicBezTo>
                      <a:pt x="170" y="29"/>
                      <a:pt x="122" y="43"/>
                      <a:pt x="122" y="43"/>
                    </a:cubicBezTo>
                    <a:cubicBezTo>
                      <a:pt x="95" y="68"/>
                      <a:pt x="87" y="71"/>
                      <a:pt x="110" y="57"/>
                    </a:cubicBezTo>
                    <a:lnTo>
                      <a:pt x="110" y="57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528600" y="1752840"/>
                <a:ext cx="555480" cy="788400"/>
              </a:xfrm>
              <a:custGeom>
                <a:avLst/>
                <a:gdLst/>
                <a:ahLst/>
                <a:rect l="l" t="t" r="r" b="b"/>
                <a:pathLst>
                  <a:path w="1376" h="1875">
                    <a:moveTo>
                      <a:pt x="402" y="742"/>
                    </a:moveTo>
                    <a:cubicBezTo>
                      <a:pt x="428" y="731"/>
                      <a:pt x="344" y="777"/>
                      <a:pt x="512" y="663"/>
                    </a:cubicBezTo>
                    <a:cubicBezTo>
                      <a:pt x="606" y="510"/>
                      <a:pt x="554" y="515"/>
                      <a:pt x="592" y="429"/>
                    </a:cubicBezTo>
                    <a:cubicBezTo>
                      <a:pt x="704" y="323"/>
                      <a:pt x="674" y="77"/>
                      <a:pt x="838" y="0"/>
                    </a:cubicBezTo>
                    <a:cubicBezTo>
                      <a:pt x="872" y="111"/>
                      <a:pt x="1276" y="578"/>
                      <a:pt x="1149" y="672"/>
                    </a:cubicBezTo>
                    <a:cubicBezTo>
                      <a:pt x="1109" y="851"/>
                      <a:pt x="1130" y="858"/>
                      <a:pt x="1243" y="1039"/>
                    </a:cubicBezTo>
                    <a:cubicBezTo>
                      <a:pt x="1300" y="1130"/>
                      <a:pt x="1289" y="1321"/>
                      <a:pt x="1352" y="1412"/>
                    </a:cubicBezTo>
                    <a:cubicBezTo>
                      <a:pt x="1375" y="1512"/>
                      <a:pt x="1303" y="1660"/>
                      <a:pt x="1187" y="1735"/>
                    </a:cubicBezTo>
                    <a:cubicBezTo>
                      <a:pt x="1070" y="1810"/>
                      <a:pt x="806" y="1849"/>
                      <a:pt x="652" y="1861"/>
                    </a:cubicBezTo>
                    <a:cubicBezTo>
                      <a:pt x="498" y="1874"/>
                      <a:pt x="358" y="1854"/>
                      <a:pt x="263" y="1812"/>
                    </a:cubicBezTo>
                    <a:cubicBezTo>
                      <a:pt x="167" y="1770"/>
                      <a:pt x="101" y="1717"/>
                      <a:pt x="78" y="1608"/>
                    </a:cubicBezTo>
                    <a:cubicBezTo>
                      <a:pt x="0" y="1527"/>
                      <a:pt x="73" y="1303"/>
                      <a:pt x="127" y="1159"/>
                    </a:cubicBezTo>
                    <a:cubicBezTo>
                      <a:pt x="180" y="1015"/>
                      <a:pt x="346" y="829"/>
                      <a:pt x="402" y="742"/>
                    </a:cubicBezTo>
                    <a:lnTo>
                      <a:pt x="402" y="742"/>
                    </a:lnTo>
                  </a:path>
                </a:pathLst>
              </a:custGeom>
              <a:gradFill rotWithShape="0">
                <a:gsLst>
                  <a:gs pos="0">
                    <a:srgbClr val="e1dc00"/>
                  </a:gs>
                  <a:gs pos="100000">
                    <a:srgbClr val="0000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1200" y="1823400"/>
                <a:ext cx="480240" cy="716040"/>
              </a:xfrm>
              <a:custGeom>
                <a:avLst/>
                <a:gdLst/>
                <a:ahLst/>
                <a:rect l="l" t="t" r="r" b="b"/>
                <a:pathLst>
                  <a:path w="1192" h="1704">
                    <a:moveTo>
                      <a:pt x="347" y="640"/>
                    </a:moveTo>
                    <a:cubicBezTo>
                      <a:pt x="426" y="555"/>
                      <a:pt x="460" y="552"/>
                      <a:pt x="505" y="509"/>
                    </a:cubicBezTo>
                    <a:cubicBezTo>
                      <a:pt x="539" y="489"/>
                      <a:pt x="569" y="389"/>
                      <a:pt x="599" y="366"/>
                    </a:cubicBezTo>
                    <a:cubicBezTo>
                      <a:pt x="698" y="281"/>
                      <a:pt x="628" y="71"/>
                      <a:pt x="765" y="0"/>
                    </a:cubicBezTo>
                    <a:cubicBezTo>
                      <a:pt x="794" y="103"/>
                      <a:pt x="803" y="443"/>
                      <a:pt x="920" y="668"/>
                    </a:cubicBezTo>
                    <a:cubicBezTo>
                      <a:pt x="988" y="900"/>
                      <a:pt x="836" y="851"/>
                      <a:pt x="930" y="1020"/>
                    </a:cubicBezTo>
                    <a:cubicBezTo>
                      <a:pt x="977" y="1104"/>
                      <a:pt x="1120" y="1253"/>
                      <a:pt x="1173" y="1336"/>
                    </a:cubicBezTo>
                    <a:cubicBezTo>
                      <a:pt x="1191" y="1431"/>
                      <a:pt x="1168" y="1510"/>
                      <a:pt x="1068" y="1567"/>
                    </a:cubicBezTo>
                    <a:cubicBezTo>
                      <a:pt x="967" y="1625"/>
                      <a:pt x="739" y="1703"/>
                      <a:pt x="575" y="1677"/>
                    </a:cubicBezTo>
                    <a:cubicBezTo>
                      <a:pt x="411" y="1651"/>
                      <a:pt x="143" y="1529"/>
                      <a:pt x="65" y="1417"/>
                    </a:cubicBezTo>
                    <a:cubicBezTo>
                      <a:pt x="0" y="1341"/>
                      <a:pt x="61" y="1135"/>
                      <a:pt x="104" y="1006"/>
                    </a:cubicBezTo>
                    <a:cubicBezTo>
                      <a:pt x="150" y="877"/>
                      <a:pt x="301" y="715"/>
                      <a:pt x="347" y="640"/>
                    </a:cubicBezTo>
                    <a:lnTo>
                      <a:pt x="347" y="640"/>
                    </a:lnTo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60640" y="2324520"/>
                <a:ext cx="455760" cy="2109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39040" y="1891800"/>
                <a:ext cx="514440" cy="552960"/>
              </a:xfrm>
              <a:custGeom>
                <a:avLst/>
                <a:gdLst/>
                <a:ahLst/>
                <a:rect l="l" t="t" r="r" b="b"/>
                <a:pathLst>
                  <a:path w="1274" h="1315">
                    <a:moveTo>
                      <a:pt x="326" y="562"/>
                    </a:moveTo>
                    <a:cubicBezTo>
                      <a:pt x="406" y="491"/>
                      <a:pt x="464" y="485"/>
                      <a:pt x="510" y="448"/>
                    </a:cubicBezTo>
                    <a:cubicBezTo>
                      <a:pt x="544" y="431"/>
                      <a:pt x="528" y="366"/>
                      <a:pt x="557" y="347"/>
                    </a:cubicBezTo>
                    <a:cubicBezTo>
                      <a:pt x="658" y="276"/>
                      <a:pt x="635" y="59"/>
                      <a:pt x="771" y="0"/>
                    </a:cubicBezTo>
                    <a:cubicBezTo>
                      <a:pt x="800" y="86"/>
                      <a:pt x="1137" y="452"/>
                      <a:pt x="1031" y="526"/>
                    </a:cubicBezTo>
                    <a:cubicBezTo>
                      <a:pt x="997" y="665"/>
                      <a:pt x="1026" y="779"/>
                      <a:pt x="1121" y="922"/>
                    </a:cubicBezTo>
                    <a:cubicBezTo>
                      <a:pt x="1273" y="1167"/>
                      <a:pt x="1114" y="1160"/>
                      <a:pt x="1167" y="1232"/>
                    </a:cubicBezTo>
                    <a:cubicBezTo>
                      <a:pt x="1177" y="1284"/>
                      <a:pt x="1210" y="1286"/>
                      <a:pt x="1182" y="1264"/>
                    </a:cubicBezTo>
                    <a:cubicBezTo>
                      <a:pt x="1135" y="1248"/>
                      <a:pt x="997" y="1165"/>
                      <a:pt x="894" y="1136"/>
                    </a:cubicBezTo>
                    <a:cubicBezTo>
                      <a:pt x="792" y="1106"/>
                      <a:pt x="673" y="1092"/>
                      <a:pt x="563" y="1092"/>
                    </a:cubicBezTo>
                    <a:cubicBezTo>
                      <a:pt x="452" y="1092"/>
                      <a:pt x="313" y="1105"/>
                      <a:pt x="231" y="1136"/>
                    </a:cubicBezTo>
                    <a:cubicBezTo>
                      <a:pt x="148" y="1166"/>
                      <a:pt x="89" y="1314"/>
                      <a:pt x="64" y="1275"/>
                    </a:cubicBezTo>
                    <a:cubicBezTo>
                      <a:pt x="0" y="1209"/>
                      <a:pt x="36" y="1020"/>
                      <a:pt x="81" y="901"/>
                    </a:cubicBezTo>
                    <a:cubicBezTo>
                      <a:pt x="125" y="781"/>
                      <a:pt x="221" y="638"/>
                      <a:pt x="326" y="562"/>
                    </a:cubicBezTo>
                    <a:lnTo>
                      <a:pt x="326" y="562"/>
                    </a:lnTo>
                  </a:path>
                </a:pathLst>
              </a:custGeom>
              <a:solidFill>
                <a:srgbClr val="fdf4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3480" y="2584080"/>
                <a:ext cx="570960" cy="294840"/>
              </a:xfrm>
              <a:custGeom>
                <a:avLst/>
                <a:gdLst/>
                <a:ahLst/>
                <a:rect l="l" t="t" r="r" b="b"/>
                <a:pathLst>
                  <a:path w="1414" h="701">
                    <a:moveTo>
                      <a:pt x="342" y="0"/>
                    </a:moveTo>
                    <a:cubicBezTo>
                      <a:pt x="621" y="7"/>
                      <a:pt x="778" y="6"/>
                      <a:pt x="1056" y="12"/>
                    </a:cubicBezTo>
                    <a:cubicBezTo>
                      <a:pt x="1115" y="13"/>
                      <a:pt x="1242" y="73"/>
                      <a:pt x="1291" y="81"/>
                    </a:cubicBezTo>
                    <a:cubicBezTo>
                      <a:pt x="1341" y="164"/>
                      <a:pt x="1406" y="525"/>
                      <a:pt x="1413" y="604"/>
                    </a:cubicBezTo>
                    <a:cubicBezTo>
                      <a:pt x="1404" y="694"/>
                      <a:pt x="1282" y="700"/>
                      <a:pt x="1240" y="623"/>
                    </a:cubicBezTo>
                    <a:cubicBezTo>
                      <a:pt x="1180" y="620"/>
                      <a:pt x="1234" y="142"/>
                      <a:pt x="1173" y="137"/>
                    </a:cubicBezTo>
                    <a:cubicBezTo>
                      <a:pt x="1152" y="135"/>
                      <a:pt x="1109" y="126"/>
                      <a:pt x="1088" y="123"/>
                    </a:cubicBezTo>
                    <a:cubicBezTo>
                      <a:pt x="1062" y="119"/>
                      <a:pt x="1050" y="138"/>
                      <a:pt x="1021" y="139"/>
                    </a:cubicBezTo>
                    <a:cubicBezTo>
                      <a:pt x="992" y="140"/>
                      <a:pt x="946" y="125"/>
                      <a:pt x="914" y="130"/>
                    </a:cubicBezTo>
                    <a:cubicBezTo>
                      <a:pt x="882" y="135"/>
                      <a:pt x="887" y="157"/>
                      <a:pt x="830" y="166"/>
                    </a:cubicBezTo>
                    <a:cubicBezTo>
                      <a:pt x="741" y="161"/>
                      <a:pt x="669" y="191"/>
                      <a:pt x="571" y="186"/>
                    </a:cubicBezTo>
                    <a:cubicBezTo>
                      <a:pt x="474" y="181"/>
                      <a:pt x="329" y="146"/>
                      <a:pt x="246" y="133"/>
                    </a:cubicBezTo>
                    <a:cubicBezTo>
                      <a:pt x="164" y="122"/>
                      <a:pt x="115" y="124"/>
                      <a:pt x="75" y="109"/>
                    </a:cubicBezTo>
                    <a:cubicBezTo>
                      <a:pt x="36" y="94"/>
                      <a:pt x="0" y="57"/>
                      <a:pt x="12" y="41"/>
                    </a:cubicBezTo>
                    <a:cubicBezTo>
                      <a:pt x="64" y="25"/>
                      <a:pt x="86" y="14"/>
                      <a:pt x="145" y="13"/>
                    </a:cubicBezTo>
                    <a:cubicBezTo>
                      <a:pt x="182" y="8"/>
                      <a:pt x="232" y="5"/>
                      <a:pt x="269" y="6"/>
                    </a:cubicBezTo>
                    <a:cubicBezTo>
                      <a:pt x="256" y="8"/>
                      <a:pt x="109" y="19"/>
                      <a:pt x="60" y="26"/>
                    </a:cubicBezTo>
                    <a:cubicBezTo>
                      <a:pt x="17" y="35"/>
                      <a:pt x="22" y="53"/>
                      <a:pt x="15" y="58"/>
                    </a:cubicBezTo>
                    <a:cubicBezTo>
                      <a:pt x="18" y="54"/>
                      <a:pt x="2" y="58"/>
                      <a:pt x="11" y="56"/>
                    </a:cubicBezTo>
                    <a:cubicBezTo>
                      <a:pt x="20" y="47"/>
                      <a:pt x="20" y="38"/>
                      <a:pt x="32" y="33"/>
                    </a:cubicBezTo>
                    <a:cubicBezTo>
                      <a:pt x="43" y="27"/>
                      <a:pt x="72" y="23"/>
                      <a:pt x="82" y="21"/>
                    </a:cubicBezTo>
                    <a:lnTo>
                      <a:pt x="342" y="0"/>
                    </a:lnTo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0000">
                <a:off x="6698880" y="2598840"/>
                <a:ext cx="257760" cy="5184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07080" y="2376360"/>
                <a:ext cx="271800" cy="254160"/>
              </a:xfrm>
              <a:custGeom>
                <a:avLst/>
                <a:gdLst/>
                <a:ahLst/>
                <a:rect l="l" t="t" r="r" b="b"/>
                <a:pathLst>
                  <a:path w="673" h="605">
                    <a:moveTo>
                      <a:pt x="9" y="163"/>
                    </a:moveTo>
                    <a:cubicBezTo>
                      <a:pt x="54" y="141"/>
                      <a:pt x="24" y="61"/>
                      <a:pt x="90" y="52"/>
                    </a:cubicBezTo>
                    <a:cubicBezTo>
                      <a:pt x="114" y="49"/>
                      <a:pt x="183" y="35"/>
                      <a:pt x="183" y="35"/>
                    </a:cubicBezTo>
                    <a:cubicBezTo>
                      <a:pt x="256" y="0"/>
                      <a:pt x="382" y="9"/>
                      <a:pt x="473" y="16"/>
                    </a:cubicBezTo>
                    <a:cubicBezTo>
                      <a:pt x="491" y="26"/>
                      <a:pt x="581" y="85"/>
                      <a:pt x="581" y="85"/>
                    </a:cubicBezTo>
                    <a:cubicBezTo>
                      <a:pt x="641" y="127"/>
                      <a:pt x="587" y="203"/>
                      <a:pt x="617" y="255"/>
                    </a:cubicBezTo>
                    <a:cubicBezTo>
                      <a:pt x="611" y="349"/>
                      <a:pt x="672" y="377"/>
                      <a:pt x="617" y="431"/>
                    </a:cubicBezTo>
                    <a:cubicBezTo>
                      <a:pt x="593" y="481"/>
                      <a:pt x="629" y="587"/>
                      <a:pt x="590" y="594"/>
                    </a:cubicBezTo>
                    <a:cubicBezTo>
                      <a:pt x="566" y="592"/>
                      <a:pt x="500" y="604"/>
                      <a:pt x="491" y="592"/>
                    </a:cubicBezTo>
                    <a:cubicBezTo>
                      <a:pt x="482" y="578"/>
                      <a:pt x="500" y="604"/>
                      <a:pt x="515" y="575"/>
                    </a:cubicBezTo>
                    <a:cubicBezTo>
                      <a:pt x="530" y="462"/>
                      <a:pt x="527" y="349"/>
                      <a:pt x="542" y="238"/>
                    </a:cubicBezTo>
                    <a:cubicBezTo>
                      <a:pt x="539" y="172"/>
                      <a:pt x="515" y="87"/>
                      <a:pt x="406" y="78"/>
                    </a:cubicBezTo>
                    <a:cubicBezTo>
                      <a:pt x="325" y="80"/>
                      <a:pt x="328" y="99"/>
                      <a:pt x="265" y="106"/>
                    </a:cubicBezTo>
                    <a:cubicBezTo>
                      <a:pt x="226" y="122"/>
                      <a:pt x="181" y="129"/>
                      <a:pt x="162" y="144"/>
                    </a:cubicBezTo>
                    <a:cubicBezTo>
                      <a:pt x="159" y="151"/>
                      <a:pt x="147" y="174"/>
                      <a:pt x="138" y="179"/>
                    </a:cubicBezTo>
                    <a:cubicBezTo>
                      <a:pt x="129" y="184"/>
                      <a:pt x="84" y="233"/>
                      <a:pt x="84" y="233"/>
                    </a:cubicBezTo>
                    <a:cubicBezTo>
                      <a:pt x="0" y="229"/>
                      <a:pt x="21" y="219"/>
                      <a:pt x="6" y="186"/>
                    </a:cubicBezTo>
                    <a:cubicBezTo>
                      <a:pt x="12" y="122"/>
                      <a:pt x="69" y="68"/>
                      <a:pt x="66" y="63"/>
                    </a:cubicBezTo>
                    <a:lnTo>
                      <a:pt x="9" y="163"/>
                    </a:lnTo>
                    <a:lnTo>
                      <a:pt x="9" y="16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0880" y="2355840"/>
                <a:ext cx="254520" cy="272880"/>
              </a:xfrm>
              <a:custGeom>
                <a:avLst/>
                <a:gdLst/>
                <a:ahLst/>
                <a:rect l="l" t="t" r="r" b="b"/>
                <a:pathLst>
                  <a:path w="632" h="647">
                    <a:moveTo>
                      <a:pt x="621" y="646"/>
                    </a:moveTo>
                    <a:cubicBezTo>
                      <a:pt x="606" y="552"/>
                      <a:pt x="631" y="146"/>
                      <a:pt x="534" y="73"/>
                    </a:cubicBezTo>
                    <a:cubicBezTo>
                      <a:pt x="437" y="0"/>
                      <a:pt x="79" y="198"/>
                      <a:pt x="39" y="201"/>
                    </a:cubicBezTo>
                    <a:cubicBezTo>
                      <a:pt x="0" y="203"/>
                      <a:pt x="299" y="95"/>
                      <a:pt x="299" y="95"/>
                    </a:cubicBezTo>
                    <a:cubicBezTo>
                      <a:pt x="299" y="95"/>
                      <a:pt x="93" y="179"/>
                      <a:pt x="39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60000">
                <a:off x="6594120" y="2418840"/>
                <a:ext cx="60480" cy="518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60000">
                <a:off x="6600960" y="2422440"/>
                <a:ext cx="60480" cy="51840"/>
              </a:xfrm>
              <a:prstGeom prst="ellipse">
                <a:avLst/>
              </a:prstGeom>
              <a:gradFill rotWithShape="0">
                <a:gsLst>
                  <a:gs pos="0">
                    <a:srgbClr val="fdf43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6859440" y="228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e1" descr=""/>
          <p:cNvPicPr/>
          <p:nvPr/>
        </p:nvPicPr>
        <p:blipFill>
          <a:blip r:embed="rId2"/>
          <a:stretch/>
        </p:blipFill>
        <p:spPr>
          <a:xfrm>
            <a:off x="4419720" y="3495600"/>
            <a:ext cx="426708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1960" y="684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t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000760"/>
            <a:ext cx="4800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hre Legierungen sind o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rter als die rei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8:27:12Z</dcterms:created>
  <dc:creator>Peter Maisenbacher</dc:creator>
  <dc:description/>
  <dc:language>en-US</dc:language>
  <cp:lastModifiedBy>Peter Maisenbacher</cp:lastModifiedBy>
  <dcterms:modified xsi:type="dcterms:W3CDTF">2005-10-26T19:41:27Z</dcterms:modified>
  <cp:revision>8</cp:revision>
  <dc:subject/>
  <dc:title>PowerPoint-Präsentation</dc:title>
</cp:coreProperties>
</file>