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DEB78-A74A-4F62-B9FC-5DEEF69DA5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CD04C-12BF-4D31-A43B-55D3D43D4A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09F49-CC48-4FC7-B2DA-BCE5DDD1DA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50D5F-1C1A-4F80-8F37-C388B83CC8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4E69B-3520-40F3-89C7-384A795AB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9D068-33CE-43F6-8735-C1DB489E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6D4E0-4192-4FB2-9D87-4368F2D1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B9F85-DC6A-410F-847A-095A878A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6F0FD-DE85-4EFD-AEE8-4405947D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F41F5-D063-452C-B0CD-E57E1731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11047-D58F-4A90-A101-8DDD8CEB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ACC54-B94D-49BA-827C-C49C2BCBA7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17315-57CE-47E5-9DE8-F371205C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6F3CE-15FC-4CFB-8DBD-B47382B4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7BF66-EF63-4DBE-8AF5-99D6C926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32A67-3F41-460F-9F31-24299FCF2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50779-292E-4679-8B51-8A3B857AA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F1D01-9CEB-404C-8587-4A4C956157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7C75C-DB8F-4183-AD0D-6F0C5DAFE1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47730-FFDC-4A59-B721-C2902CBDCC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AF164-93CE-48B6-8E52-069DEB21EA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67911-9BE8-4406-BE49-04EB7A6257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E7F88-9B85-411D-8864-878D895E3C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6BCA7-D1C6-43CD-BC7E-7FC34306DD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Autor: Peter Maisenbac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                        </a:t>
            </a: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Folie </a:t>
            </a:r>
            <a:fld id="{2636C775-ADD5-44D9-9B8A-DFFDF276BEF5}" type="slidenum">
              <a:rPr b="0" lang="de-DE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3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ftr" idx="4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66B6-B3C6-447F-937B-521D009F2E2A}" type="slidenum">
              <a:rPr b="0" lang="de-DE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3" name="Expbanna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EXPHORSA" descr=""/>
            <p:cNvPicPr/>
            <p:nvPr/>
          </p:nvPicPr>
          <p:blipFill>
            <a:blip r:embed="rId3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EXPHORSA" descr=""/>
          <p:cNvPicPr/>
          <p:nvPr/>
        </p:nvPicPr>
        <p:blipFill>
          <a:blip r:embed="rId4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4-Metallbindun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0" y="6238800"/>
          <a:ext cx="2714760" cy="61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238800"/>
                    <a:ext cx="271476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0" y="6553080"/>
            <a:ext cx="1752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Autor: Peter Maisenbac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eter Maisenbac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B083C-DE2A-4263-B566-9FC28734383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5-Metallbindung%20animier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0" y="6238800"/>
          <a:ext cx="2714760" cy="61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238800"/>
                    <a:ext cx="271476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0" y="6553080"/>
            <a:ext cx="1752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Autor: Peter Maisenbac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eter Maisenbac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F5143-F64F-478C-B3C1-6213625B70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6T20:19:15Z</dcterms:created>
  <dc:creator>Peter Maisenbacher</dc:creator>
  <dc:description/>
  <dc:language>en-US</dc:language>
  <cp:lastModifiedBy>Peter Maisenbacher</cp:lastModifiedBy>
  <dcterms:modified xsi:type="dcterms:W3CDTF">2005-10-16T20:22:40Z</dcterms:modified>
  <cp:revision>1</cp:revision>
  <dc:subject/>
  <dc:title>PowerPoint-Präsentation</dc:title>
</cp:coreProperties>
</file>