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6FB8-F692-42DE-AF8A-AA69A6CE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254E-13A1-4C50-8A24-05B3558D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5F71-2E76-43B2-9BA1-BBB24E3A5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2513-9441-49BD-881B-E8AE419D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1063-2A6F-43EA-ACAA-865889A3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A3AB-7502-46E4-B40A-7E17ADF7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A903-19E1-4F31-B38A-62BE963E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2498-282D-4266-ABA2-0D5C8E1A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0454-6A95-46FB-8915-97130EE1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7DF5-9A97-43EA-9A83-2542ACA7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936A-7784-4135-B61F-028B781D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983E-A401-4672-8D24-1EFD6F1B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134B-FA6A-436E-B8E0-961B269AB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-Modelle%20von%20Lithium%20-%20Atome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3-Lithiumatom%20animier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17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 Black"/>
              </a:rPr>
              <a:t>Lithium -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4-Metallbindun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5-Metallbindung%20animier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2T22:44:52Z</dcterms:created>
  <dc:creator>Peter Maisenbacher</dc:creator>
  <dc:description/>
  <dc:language>en-US</dc:language>
  <cp:lastModifiedBy>Peter Maisenbacher</cp:lastModifiedBy>
  <dcterms:modified xsi:type="dcterms:W3CDTF">2005-10-26T19:51:33Z</dcterms:modified>
  <cp:revision>2</cp:revision>
  <dc:subject/>
  <dc:title>PowerPoint-Präsentation</dc:title>
</cp:coreProperties>
</file>