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CA3-A7B0-4841-9961-B386E32C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561-FD91-4C68-AF7E-099B1431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85C-2B75-4C72-AC6F-857EA8F7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26D-0C32-4F9C-AA59-1CBD83D0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BF7-2A46-4FC5-B167-19755133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5A6-B7B9-4C5D-8E8E-5C649C95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F57-8829-4EA9-8BBE-5BBF78E1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CF0-3444-4109-A8C2-282895FD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42A-95EE-4099-AF07-E063EC99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CF3-1AD7-4E3B-9867-9B70D840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F3E-EFD4-4921-928D-EBA0F3FA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463-1136-4940-BDDE-46A5221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07F3-A968-4556-BBFD-2A00D9A64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-Metallverformu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6324480"/>
            <a:ext cx="1752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5308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Autor: Peter Maisenba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2:44:52Z</dcterms:created>
  <dc:creator>Peter Maisenbacher</dc:creator>
  <dc:description/>
  <dc:language>en-US</dc:language>
  <cp:lastModifiedBy>Peter Maisenbacher</cp:lastModifiedBy>
  <dcterms:modified xsi:type="dcterms:W3CDTF">2005-10-16T20:23:52Z</dcterms:modified>
  <cp:revision>2</cp:revision>
  <dc:subject/>
  <dc:title>PowerPoint-Präsentation</dc:title>
</cp:coreProperties>
</file>