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7E25D-0CF9-4FBD-9DD7-6B0ADC68C3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4D8C3-F181-42F6-8111-84FA3FA366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66983-3035-4D96-8178-A0DFD23B8F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7D920-34C3-4EB7-A2FB-283B045ED6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2C2AF-C13A-48CF-A306-67BB3224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602F5-3C3C-40CF-A3E7-AD10AB25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40AAE-6DB1-4D7B-A8FE-2E23693D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EFAD0-A8EB-4460-B5CA-BE641905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E86E2-4DCB-4A91-8C23-DD6644E3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13D08-DE5F-4F51-BD63-6A4658D2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1A2F7-FEAD-41EB-9C19-4FAAD44C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FE5B0-268F-4D72-9E73-28CFDB520E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33FFE-2F83-45E5-BA06-D4D1AA5C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E2F8C-C181-4D27-B30F-2713D55C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6B792C-4005-4A22-BED9-7C7B36AC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04106-0B31-4325-A111-5BD7DE9EC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7C6D0-FD45-4615-8B42-C67A20F4B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FFCF7-9556-44A2-BA2E-222452028A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CC952-60E2-4A7F-ACDF-8D5F363902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EB804-2603-4C5E-9AD9-7830CBA644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0E9D9-2168-40C2-82D3-35D3F1506B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05EFB-B238-45BD-8A78-25777C6D74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49AC5-5FA9-44A4-843F-46B7B16E46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F1BEA-EB41-4D3C-A7DB-92D9C8B3F4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292929"/>
                </a:solidFill>
                <a:latin typeface="Freestyle Scrip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92929"/>
                </a:solidFill>
                <a:latin typeface="Freestyle Script"/>
              </a:rPr>
              <a:t>Autor:  Peter Maisenbac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82400"/>
                </a:solidFill>
                <a:latin typeface="Arial"/>
              </a:rPr>
              <a:t>                        </a:t>
            </a:r>
            <a:r>
              <a:rPr b="0" lang="de-DE" sz="1400" spc="-1" strike="noStrike">
                <a:solidFill>
                  <a:srgbClr val="482400"/>
                </a:solidFill>
                <a:latin typeface="Freestyle Script"/>
              </a:rPr>
              <a:t>Folie </a:t>
            </a:r>
            <a:fld id="{BB00C0B5-A5A8-4237-9AD6-6D7CC50F3349}" type="slidenum">
              <a:rPr b="0" lang="de-DE" sz="1400" spc="-1" strike="noStrike">
                <a:solidFill>
                  <a:srgbClr val="4824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FA98-D36E-44FC-9E68-35CBE200C35B}" type="slidenum">
              <a:rPr b="0" lang="de-DE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5" name="Expbanna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EXPHORSA" descr=""/>
            <p:cNvPicPr/>
            <p:nvPr/>
          </p:nvPicPr>
          <p:blipFill>
            <a:blip r:embed="rId3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EXPHORSA" descr=""/>
          <p:cNvPicPr/>
          <p:nvPr/>
        </p:nvPicPr>
        <p:blipFill>
          <a:blip r:embed="rId4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957240" y="2428920"/>
            <a:ext cx="7489800" cy="2980800"/>
            <a:chOff x="957240" y="2428920"/>
            <a:chExt cx="7489800" cy="2980800"/>
          </a:xfrm>
        </p:grpSpPr>
        <p:grpSp>
          <p:nvGrpSpPr>
            <p:cNvPr id="85" name=""/>
            <p:cNvGrpSpPr/>
            <p:nvPr/>
          </p:nvGrpSpPr>
          <p:grpSpPr>
            <a:xfrm>
              <a:off x="2573280" y="4921200"/>
              <a:ext cx="4315680" cy="488520"/>
              <a:chOff x="2573280" y="4921200"/>
              <a:chExt cx="4315680" cy="488520"/>
            </a:xfrm>
          </p:grpSpPr>
          <p:sp>
            <p:nvSpPr>
              <p:cNvPr id="86" name=""/>
              <p:cNvSpPr/>
              <p:nvPr/>
            </p:nvSpPr>
            <p:spPr>
              <a:xfrm>
                <a:off x="473796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358680" y="4921200"/>
                <a:ext cx="530280" cy="47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83092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28012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57328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194000" y="4925160"/>
                <a:ext cx="530280" cy="475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665880" y="493560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114720" y="4931280"/>
                <a:ext cx="52812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6915240" y="330372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64480" y="246240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94360" y="410688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957240" y="2441520"/>
              <a:ext cx="6203160" cy="2585160"/>
              <a:chOff x="957240" y="2441520"/>
              <a:chExt cx="6203160" cy="258516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751040" y="2464200"/>
                <a:ext cx="4300200" cy="2562480"/>
                <a:chOff x="1751040" y="2464200"/>
                <a:chExt cx="4300200" cy="256248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365220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2288160" y="288504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75104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015280" y="2472120"/>
                  <a:ext cx="52992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015280" y="330048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559240" y="330048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283212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55924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6475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11040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3742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3742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9160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41893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9160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566080" y="4136760"/>
                  <a:ext cx="52992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02896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292840" y="3723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292840" y="4551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83680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11040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836800" y="3723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78800" y="28771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44204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705920" y="2464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4705920" y="3292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249880" y="3292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52348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2498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731120" y="413280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19364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457520" y="371736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520" y="45457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002200" y="45457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27508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002200" y="37173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11508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929760" y="453132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37896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652200" y="41241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1734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" name=""/>
              <p:cNvSpPr/>
              <p:nvPr/>
            </p:nvSpPr>
            <p:spPr>
              <a:xfrm>
                <a:off x="1494360" y="247896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957240" y="246600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221120" y="2881080"/>
                <a:ext cx="529920" cy="475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762560" y="372204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489680" y="330696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810760" y="24498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806080" y="32882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088320" y="369108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61560" y="32760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074640" y="28630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613920" y="28544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366240" y="4110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630120" y="3695400"/>
                <a:ext cx="53028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630120" y="4523400"/>
                <a:ext cx="53028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102360" y="4509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824080" y="41022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45360" y="244152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558040" y="4536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530680" y="3705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7142040" y="287496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91520" y="2457360"/>
              <a:ext cx="5270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84920" y="2849760"/>
              <a:ext cx="527040" cy="47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464240" y="3267000"/>
              <a:ext cx="5288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197840" y="371016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18560" y="2428920"/>
              <a:ext cx="52848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219320" y="2585880"/>
            <a:ext cx="6463440" cy="2581200"/>
            <a:chOff x="1219320" y="2585880"/>
            <a:chExt cx="6463440" cy="2581200"/>
          </a:xfrm>
        </p:grpSpPr>
        <p:sp>
          <p:nvSpPr>
            <p:cNvPr id="166" name=""/>
            <p:cNvSpPr/>
            <p:nvPr/>
          </p:nvSpPr>
          <p:spPr>
            <a:xfrm>
              <a:off x="1219320" y="2611080"/>
              <a:ext cx="531360" cy="4748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1484280" y="2585880"/>
              <a:ext cx="6198480" cy="2581200"/>
              <a:chOff x="1484280" y="2585880"/>
              <a:chExt cx="6198480" cy="2581200"/>
            </a:xfrm>
          </p:grpSpPr>
          <p:sp>
            <p:nvSpPr>
              <p:cNvPr id="168" name=""/>
              <p:cNvSpPr/>
              <p:nvPr/>
            </p:nvSpPr>
            <p:spPr>
              <a:xfrm>
                <a:off x="6624360" y="261108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260680" y="3024000"/>
                <a:ext cx="5299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532120" y="343980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805000" y="302400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53212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619320" y="343692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082920" y="343692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46440" y="302400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346440" y="3852720"/>
                <a:ext cx="528120" cy="4744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538240" y="427644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65360" y="386208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265360" y="469080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809680" y="469080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082920" y="427644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809680" y="386208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08760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355800" y="4668480"/>
                <a:ext cx="5284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" name=""/>
              <p:cNvGrpSpPr/>
              <p:nvPr/>
            </p:nvGrpSpPr>
            <p:grpSpPr>
              <a:xfrm>
                <a:off x="1484280" y="2593800"/>
                <a:ext cx="4051800" cy="2563560"/>
                <a:chOff x="1484280" y="2593800"/>
                <a:chExt cx="4051800" cy="256356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38508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021040" y="301536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48428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748160" y="260208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748160" y="343044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292120" y="343044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56536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29212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38040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84292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1071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31071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6489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92256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6489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2298960" y="426708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025720" y="385380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569680" y="468252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842920" y="42670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2569680" y="385380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712400" y="300672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174920" y="300672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438800" y="259380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438800" y="342216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983120" y="34221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98312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464000" y="426276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92652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191120" y="384768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191120" y="467604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735080" y="467604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00796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735080" y="38476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284760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662640" y="466164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111840" y="468252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385080" y="4254840"/>
                  <a:ext cx="527760" cy="4766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90636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4" name=""/>
              <p:cNvSpPr/>
              <p:nvPr/>
            </p:nvSpPr>
            <p:spPr>
              <a:xfrm>
                <a:off x="6906960" y="300816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154640" y="258588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" name=""/>
          <p:cNvGrpSpPr/>
          <p:nvPr/>
        </p:nvGrpSpPr>
        <p:grpSpPr>
          <a:xfrm>
            <a:off x="3119400" y="2438280"/>
            <a:ext cx="4294080" cy="2158920"/>
            <a:chOff x="3119400" y="2438280"/>
            <a:chExt cx="4294080" cy="2158920"/>
          </a:xfrm>
        </p:grpSpPr>
        <p:sp>
          <p:nvSpPr>
            <p:cNvPr id="227" name=""/>
            <p:cNvSpPr/>
            <p:nvPr/>
          </p:nvSpPr>
          <p:spPr>
            <a:xfrm>
              <a:off x="5823000" y="327816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49760" y="3692520"/>
              <a:ext cx="52704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91200" y="3692520"/>
              <a:ext cx="52848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364440" y="327816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91200" y="286380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284800" y="411624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827680" y="4103640"/>
              <a:ext cx="5270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48240" y="2442960"/>
              <a:ext cx="528840" cy="474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57600" y="328104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84360" y="3697200"/>
              <a:ext cx="5270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25800" y="369720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99040" y="328104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25800" y="286848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19400" y="412092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989600" y="286056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51400" y="286056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716360" y="244620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716360" y="327492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59240" y="327492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533920" y="286056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59240" y="244620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741920" y="4116240"/>
              <a:ext cx="5302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203720" y="4116240"/>
              <a:ext cx="5284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67240" y="3700440"/>
              <a:ext cx="53172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91320" y="244620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11560" y="3700440"/>
              <a:ext cx="5288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662280" y="410832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83200" y="244620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16800" y="285588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885000" y="243828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1501920" y="2449440"/>
            <a:ext cx="2688480" cy="2142360"/>
            <a:chOff x="1501920" y="2449440"/>
            <a:chExt cx="2688480" cy="2142360"/>
          </a:xfrm>
        </p:grpSpPr>
        <p:sp>
          <p:nvSpPr>
            <p:cNvPr id="258" name=""/>
            <p:cNvSpPr/>
            <p:nvPr/>
          </p:nvSpPr>
          <p:spPr>
            <a:xfrm>
              <a:off x="2851920" y="2858400"/>
              <a:ext cx="527760" cy="477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1501920" y="2449440"/>
              <a:ext cx="2688480" cy="2142360"/>
              <a:chOff x="1501920" y="2449440"/>
              <a:chExt cx="2688480" cy="2142360"/>
            </a:xfrm>
          </p:grpSpPr>
          <p:sp>
            <p:nvSpPr>
              <p:cNvPr id="260" name=""/>
              <p:cNvSpPr/>
              <p:nvPr/>
            </p:nvSpPr>
            <p:spPr>
              <a:xfrm>
                <a:off x="366264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298960" y="2862000"/>
                <a:ext cx="52992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761480" y="2862000"/>
                <a:ext cx="52776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025360" y="2449440"/>
                <a:ext cx="5299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025360" y="3277800"/>
                <a:ext cx="5299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569680" y="327780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56968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120480" y="3275640"/>
                <a:ext cx="52776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384360" y="2862000"/>
                <a:ext cx="528120" cy="4755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576520" y="4114800"/>
                <a:ext cx="530280" cy="477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302920" y="3701520"/>
                <a:ext cx="53028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847240" y="3701520"/>
                <a:ext cx="5281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12516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501920" y="2453040"/>
                <a:ext cx="53028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82400"/>
                </a:solidFill>
                <a:latin typeface="Times New Roman"/>
              </a:rPr>
              <a:t>Kugelpackungen</a:t>
            </a: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eter Maisenb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97924-7D82-4F41-8BF2-461535E53F3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5" name=""/>
          <p:cNvGrpSpPr/>
          <p:nvPr/>
        </p:nvGrpSpPr>
        <p:grpSpPr>
          <a:xfrm>
            <a:off x="957240" y="2428920"/>
            <a:ext cx="7489800" cy="2980800"/>
            <a:chOff x="957240" y="2428920"/>
            <a:chExt cx="7489800" cy="2980800"/>
          </a:xfrm>
        </p:grpSpPr>
        <p:grpSp>
          <p:nvGrpSpPr>
            <p:cNvPr id="1806" name=""/>
            <p:cNvGrpSpPr/>
            <p:nvPr/>
          </p:nvGrpSpPr>
          <p:grpSpPr>
            <a:xfrm>
              <a:off x="2573280" y="4921200"/>
              <a:ext cx="4315680" cy="488520"/>
              <a:chOff x="2573280" y="4921200"/>
              <a:chExt cx="4315680" cy="488520"/>
            </a:xfrm>
          </p:grpSpPr>
          <p:sp>
            <p:nvSpPr>
              <p:cNvPr id="1807" name=""/>
              <p:cNvSpPr/>
              <p:nvPr/>
            </p:nvSpPr>
            <p:spPr>
              <a:xfrm>
                <a:off x="473796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6358680" y="4921200"/>
                <a:ext cx="530280" cy="47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83092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528012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257328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194000" y="4925160"/>
                <a:ext cx="530280" cy="475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3665880" y="493560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3114720" y="4931280"/>
                <a:ext cx="52812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5" name=""/>
            <p:cNvSpPr/>
            <p:nvPr/>
          </p:nvSpPr>
          <p:spPr>
            <a:xfrm>
              <a:off x="6915240" y="330372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6864480" y="246240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6894360" y="410688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8" name=""/>
            <p:cNvGrpSpPr/>
            <p:nvPr/>
          </p:nvGrpSpPr>
          <p:grpSpPr>
            <a:xfrm>
              <a:off x="957240" y="2441520"/>
              <a:ext cx="6203160" cy="2585160"/>
              <a:chOff x="957240" y="2441520"/>
              <a:chExt cx="6203160" cy="2585160"/>
            </a:xfrm>
          </p:grpSpPr>
          <p:grpSp>
            <p:nvGrpSpPr>
              <p:cNvPr id="1819" name=""/>
              <p:cNvGrpSpPr/>
              <p:nvPr/>
            </p:nvGrpSpPr>
            <p:grpSpPr>
              <a:xfrm>
                <a:off x="1751040" y="2464200"/>
                <a:ext cx="4300200" cy="2562480"/>
                <a:chOff x="1751040" y="2464200"/>
                <a:chExt cx="4300200" cy="2562480"/>
              </a:xfrm>
            </p:grpSpPr>
            <p:sp>
              <p:nvSpPr>
                <p:cNvPr id="1820" name=""/>
                <p:cNvSpPr/>
                <p:nvPr/>
              </p:nvSpPr>
              <p:spPr>
                <a:xfrm>
                  <a:off x="365220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2288160" y="288504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175104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2015280" y="2472120"/>
                  <a:ext cx="52992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2015280" y="330048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2559240" y="330048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283212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255924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>
                  <a:off x="36475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311040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33742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33742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39160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41893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39160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2566080" y="4136760"/>
                  <a:ext cx="52992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>
                  <a:off x="202896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2292840" y="3723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2292840" y="4551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283680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311040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2836800" y="3723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4978800" y="28771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444204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4705920" y="2464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4705920" y="3292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5249880" y="3292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552348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>
                  <a:off x="52498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4731120" y="413280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419364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>
                  <a:off x="4457520" y="371736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4457520" y="45457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5002200" y="45457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527508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5002200" y="37173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311508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>
                  <a:off x="3929760" y="453132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337896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3652200" y="41241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41734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1" name=""/>
              <p:cNvSpPr/>
              <p:nvPr/>
            </p:nvSpPr>
            <p:spPr>
              <a:xfrm>
                <a:off x="1494360" y="247896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957240" y="246600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1221120" y="2881080"/>
                <a:ext cx="529920" cy="475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1762560" y="372204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1489680" y="330696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5810760" y="24498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5806080" y="32882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6088320" y="369108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6361560" y="32760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6074640" y="28630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6613920" y="28544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6366240" y="4110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6630120" y="3695400"/>
                <a:ext cx="53028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6630120" y="4523400"/>
                <a:ext cx="53028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6102360" y="4509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5824080" y="41022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6345360" y="244152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5558040" y="4536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5530680" y="3705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0" name=""/>
            <p:cNvSpPr/>
            <p:nvPr/>
          </p:nvSpPr>
          <p:spPr>
            <a:xfrm>
              <a:off x="7142040" y="287496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391520" y="2457360"/>
              <a:ext cx="5270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684920" y="2849760"/>
              <a:ext cx="527040" cy="47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7464240" y="3267000"/>
              <a:ext cx="5288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7197840" y="371016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7918560" y="2428920"/>
              <a:ext cx="52848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6" name=""/>
          <p:cNvGrpSpPr/>
          <p:nvPr/>
        </p:nvGrpSpPr>
        <p:grpSpPr>
          <a:xfrm>
            <a:off x="1219320" y="2585880"/>
            <a:ext cx="6463440" cy="2581200"/>
            <a:chOff x="1219320" y="2585880"/>
            <a:chExt cx="6463440" cy="2581200"/>
          </a:xfrm>
        </p:grpSpPr>
        <p:sp>
          <p:nvSpPr>
            <p:cNvPr id="1887" name=""/>
            <p:cNvSpPr/>
            <p:nvPr/>
          </p:nvSpPr>
          <p:spPr>
            <a:xfrm>
              <a:off x="1219320" y="2611080"/>
              <a:ext cx="531360" cy="4748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8" name=""/>
            <p:cNvGrpSpPr/>
            <p:nvPr/>
          </p:nvGrpSpPr>
          <p:grpSpPr>
            <a:xfrm>
              <a:off x="1484280" y="2585880"/>
              <a:ext cx="6198480" cy="2581200"/>
              <a:chOff x="1484280" y="2585880"/>
              <a:chExt cx="6198480" cy="2581200"/>
            </a:xfrm>
          </p:grpSpPr>
          <p:sp>
            <p:nvSpPr>
              <p:cNvPr id="1889" name=""/>
              <p:cNvSpPr/>
              <p:nvPr/>
            </p:nvSpPr>
            <p:spPr>
              <a:xfrm>
                <a:off x="6624360" y="261108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5260680" y="3024000"/>
                <a:ext cx="5299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5532120" y="343980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5805000" y="302400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553212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6619320" y="343692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6082920" y="343692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6346440" y="302400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6346440" y="3852720"/>
                <a:ext cx="528120" cy="4744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5538240" y="427644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5265360" y="386208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5265360" y="469080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5809680" y="469080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6082920" y="427644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5809680" y="386208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608760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6355800" y="4668480"/>
                <a:ext cx="5284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06" name=""/>
              <p:cNvGrpSpPr/>
              <p:nvPr/>
            </p:nvGrpSpPr>
            <p:grpSpPr>
              <a:xfrm>
                <a:off x="1484280" y="2593800"/>
                <a:ext cx="4051800" cy="2563560"/>
                <a:chOff x="1484280" y="2593800"/>
                <a:chExt cx="4051800" cy="2563560"/>
              </a:xfrm>
            </p:grpSpPr>
            <p:sp>
              <p:nvSpPr>
                <p:cNvPr id="1907" name=""/>
                <p:cNvSpPr/>
                <p:nvPr/>
              </p:nvSpPr>
              <p:spPr>
                <a:xfrm>
                  <a:off x="338508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2021040" y="301536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148428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1748160" y="260208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1748160" y="343044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2292120" y="343044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256536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229212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338040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284292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31071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31071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36489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392256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36489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2298960" y="426708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2025720" y="385380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2569680" y="468252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2842920" y="42670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2569680" y="385380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4712400" y="300672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4174920" y="300672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4438800" y="259380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4438800" y="342216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4983120" y="34221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498312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4464000" y="426276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392652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>
                  <a:off x="4191120" y="384768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4191120" y="467604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4735080" y="467604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500796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4735080" y="38476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284760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3662640" y="466164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3111840" y="468252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3385080" y="4254840"/>
                  <a:ext cx="527760" cy="4766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390636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5" name=""/>
              <p:cNvSpPr/>
              <p:nvPr/>
            </p:nvSpPr>
            <p:spPr>
              <a:xfrm>
                <a:off x="6906960" y="300816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7154640" y="258588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47" name=""/>
          <p:cNvGrpSpPr/>
          <p:nvPr/>
        </p:nvGrpSpPr>
        <p:grpSpPr>
          <a:xfrm>
            <a:off x="3119400" y="2727360"/>
            <a:ext cx="4294080" cy="2158920"/>
            <a:chOff x="3119400" y="2727360"/>
            <a:chExt cx="4294080" cy="2158920"/>
          </a:xfrm>
        </p:grpSpPr>
        <p:sp>
          <p:nvSpPr>
            <p:cNvPr id="1948" name=""/>
            <p:cNvSpPr/>
            <p:nvPr/>
          </p:nvSpPr>
          <p:spPr>
            <a:xfrm>
              <a:off x="5823000" y="356724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5549760" y="3981600"/>
              <a:ext cx="52704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091200" y="3981600"/>
              <a:ext cx="52848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6364440" y="356724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6091200" y="315288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284800" y="440532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827680" y="4392720"/>
              <a:ext cx="5270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6348240" y="2732040"/>
              <a:ext cx="528840" cy="474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3657600" y="357012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384360" y="3986280"/>
              <a:ext cx="5270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925800" y="398628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4199040" y="357012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925800" y="315756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3119400" y="441000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989600" y="314964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4451400" y="314964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716360" y="273528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4716360" y="356400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259240" y="356400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533920" y="314964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259240" y="273528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4741920" y="4405320"/>
              <a:ext cx="5302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4203720" y="4405320"/>
              <a:ext cx="5284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4467240" y="3989520"/>
              <a:ext cx="53172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791320" y="273528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011560" y="3989520"/>
              <a:ext cx="5288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662280" y="439740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4183200" y="273528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6616800" y="314496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885000" y="272736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8" name=""/>
          <p:cNvGrpSpPr/>
          <p:nvPr/>
        </p:nvGrpSpPr>
        <p:grpSpPr>
          <a:xfrm>
            <a:off x="1501920" y="2449440"/>
            <a:ext cx="2688480" cy="2142360"/>
            <a:chOff x="1501920" y="2449440"/>
            <a:chExt cx="2688480" cy="2142360"/>
          </a:xfrm>
        </p:grpSpPr>
        <p:sp>
          <p:nvSpPr>
            <p:cNvPr id="1979" name=""/>
            <p:cNvSpPr/>
            <p:nvPr/>
          </p:nvSpPr>
          <p:spPr>
            <a:xfrm>
              <a:off x="2851920" y="2858400"/>
              <a:ext cx="527760" cy="477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0" name=""/>
            <p:cNvGrpSpPr/>
            <p:nvPr/>
          </p:nvGrpSpPr>
          <p:grpSpPr>
            <a:xfrm>
              <a:off x="1501920" y="2449440"/>
              <a:ext cx="2688480" cy="2142360"/>
              <a:chOff x="1501920" y="2449440"/>
              <a:chExt cx="2688480" cy="2142360"/>
            </a:xfrm>
          </p:grpSpPr>
          <p:sp>
            <p:nvSpPr>
              <p:cNvPr id="1981" name=""/>
              <p:cNvSpPr/>
              <p:nvPr/>
            </p:nvSpPr>
            <p:spPr>
              <a:xfrm>
                <a:off x="366264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2298960" y="2862000"/>
                <a:ext cx="52992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1761480" y="2862000"/>
                <a:ext cx="52776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2025360" y="2449440"/>
                <a:ext cx="5299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2025360" y="3277800"/>
                <a:ext cx="5299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569680" y="327780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256968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3120480" y="3275640"/>
                <a:ext cx="52776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3384360" y="2862000"/>
                <a:ext cx="528120" cy="4755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2576520" y="4114800"/>
                <a:ext cx="530280" cy="477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2302920" y="3701520"/>
                <a:ext cx="53028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847240" y="3701520"/>
                <a:ext cx="5281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312516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1501920" y="2453040"/>
                <a:ext cx="53028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95" name=""/>
          <p:cNvGrpSpPr/>
          <p:nvPr/>
        </p:nvGrpSpPr>
        <p:grpSpPr>
          <a:xfrm>
            <a:off x="3352680" y="2495520"/>
            <a:ext cx="3214800" cy="2583000"/>
            <a:chOff x="3352680" y="2495520"/>
            <a:chExt cx="3214800" cy="2583000"/>
          </a:xfrm>
        </p:grpSpPr>
        <p:sp>
          <p:nvSpPr>
            <p:cNvPr id="1996" name=""/>
            <p:cNvSpPr/>
            <p:nvPr/>
          </p:nvSpPr>
          <p:spPr>
            <a:xfrm>
              <a:off x="4709880" y="4157640"/>
              <a:ext cx="528840" cy="474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5778360" y="4170600"/>
              <a:ext cx="527040" cy="4744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4163760" y="3322800"/>
              <a:ext cx="527040" cy="477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3890880" y="3738600"/>
              <a:ext cx="527040" cy="474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4431960" y="3738600"/>
              <a:ext cx="528840" cy="474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4705200" y="3322800"/>
              <a:ext cx="528480" cy="477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4431960" y="2909880"/>
              <a:ext cx="528840" cy="474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3352680" y="4577040"/>
              <a:ext cx="528480" cy="4744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625560" y="4160880"/>
              <a:ext cx="528840" cy="47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4957560" y="2901960"/>
              <a:ext cx="528840" cy="47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5222880" y="3316320"/>
              <a:ext cx="529920" cy="474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246640" y="4157640"/>
              <a:ext cx="531720" cy="474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4973400" y="3741840"/>
              <a:ext cx="530280" cy="477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4973400" y="4570560"/>
              <a:ext cx="530280" cy="477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5518080" y="3741840"/>
              <a:ext cx="528480" cy="477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4446360" y="4556160"/>
              <a:ext cx="527040" cy="474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895560" y="4577040"/>
              <a:ext cx="527040" cy="4744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4168440" y="4149720"/>
              <a:ext cx="527400" cy="47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502240" y="4604040"/>
              <a:ext cx="528480" cy="4744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6038640" y="4578480"/>
              <a:ext cx="528840" cy="47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4689360" y="2495520"/>
              <a:ext cx="528480" cy="47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82400"/>
                </a:solidFill>
                <a:latin typeface="Times New Roman"/>
              </a:rPr>
              <a:t>Kugelpackungen</a:t>
            </a: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4569840" y="160020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vierte Sch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 rot="5400000">
            <a:off x="2628720" y="876240"/>
            <a:ext cx="304920" cy="2666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2211480" y="1600200"/>
            <a:ext cx="101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hexag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2586240" y="5724360"/>
            <a:ext cx="48182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Kugeln in der vierten L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liegen genau über denen in der ers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eter Maisenb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39641-75CE-469B-A551-5916B4AD9F3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2" name=""/>
          <p:cNvGrpSpPr/>
          <p:nvPr/>
        </p:nvGrpSpPr>
        <p:grpSpPr>
          <a:xfrm>
            <a:off x="957240" y="2428920"/>
            <a:ext cx="7489800" cy="2980800"/>
            <a:chOff x="957240" y="2428920"/>
            <a:chExt cx="7489800" cy="2980800"/>
          </a:xfrm>
        </p:grpSpPr>
        <p:grpSp>
          <p:nvGrpSpPr>
            <p:cNvPr id="2023" name=""/>
            <p:cNvGrpSpPr/>
            <p:nvPr/>
          </p:nvGrpSpPr>
          <p:grpSpPr>
            <a:xfrm>
              <a:off x="2573280" y="4921200"/>
              <a:ext cx="4315680" cy="488520"/>
              <a:chOff x="2573280" y="4921200"/>
              <a:chExt cx="4315680" cy="488520"/>
            </a:xfrm>
          </p:grpSpPr>
          <p:sp>
            <p:nvSpPr>
              <p:cNvPr id="2024" name=""/>
              <p:cNvSpPr/>
              <p:nvPr/>
            </p:nvSpPr>
            <p:spPr>
              <a:xfrm>
                <a:off x="473796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6358680" y="4921200"/>
                <a:ext cx="530280" cy="47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583092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528012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257328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4194000" y="4925160"/>
                <a:ext cx="530280" cy="475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3665880" y="493560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3114720" y="4931280"/>
                <a:ext cx="52812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2" name=""/>
            <p:cNvSpPr/>
            <p:nvPr/>
          </p:nvSpPr>
          <p:spPr>
            <a:xfrm>
              <a:off x="6915240" y="330372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6864480" y="246240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6894360" y="410688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5" name=""/>
            <p:cNvGrpSpPr/>
            <p:nvPr/>
          </p:nvGrpSpPr>
          <p:grpSpPr>
            <a:xfrm>
              <a:off x="957240" y="2441520"/>
              <a:ext cx="6203160" cy="2585160"/>
              <a:chOff x="957240" y="2441520"/>
              <a:chExt cx="6203160" cy="2585160"/>
            </a:xfrm>
          </p:grpSpPr>
          <p:grpSp>
            <p:nvGrpSpPr>
              <p:cNvPr id="2036" name=""/>
              <p:cNvGrpSpPr/>
              <p:nvPr/>
            </p:nvGrpSpPr>
            <p:grpSpPr>
              <a:xfrm>
                <a:off x="1751040" y="2464200"/>
                <a:ext cx="4300200" cy="2562480"/>
                <a:chOff x="1751040" y="2464200"/>
                <a:chExt cx="4300200" cy="2562480"/>
              </a:xfrm>
            </p:grpSpPr>
            <p:sp>
              <p:nvSpPr>
                <p:cNvPr id="2037" name=""/>
                <p:cNvSpPr/>
                <p:nvPr/>
              </p:nvSpPr>
              <p:spPr>
                <a:xfrm>
                  <a:off x="365220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2288160" y="288504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175104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2015280" y="2472120"/>
                  <a:ext cx="52992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2015280" y="330048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2559240" y="330048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283212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255924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36475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311040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33742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33742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39160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41893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39160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2566080" y="4136760"/>
                  <a:ext cx="52992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202896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2292840" y="3723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2292840" y="4551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283680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311040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2836800" y="3723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4978800" y="28771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444204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>
                  <a:off x="4705920" y="2464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4705920" y="3292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5249880" y="3292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552348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52498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4731120" y="413280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419364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4457520" y="371736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4457520" y="45457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5002200" y="45457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527508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5002200" y="37173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311508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3929760" y="453132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337896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3652200" y="41241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41734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8" name=""/>
              <p:cNvSpPr/>
              <p:nvPr/>
            </p:nvSpPr>
            <p:spPr>
              <a:xfrm>
                <a:off x="1494360" y="247896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957240" y="246600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1221120" y="2881080"/>
                <a:ext cx="529920" cy="475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1762560" y="372204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1489680" y="330696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5810760" y="24498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806080" y="32882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6088320" y="369108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6361560" y="32760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6074640" y="28630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6613920" y="28544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6366240" y="4110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6630120" y="3695400"/>
                <a:ext cx="53028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6630120" y="4523400"/>
                <a:ext cx="53028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6102360" y="4509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5824080" y="41022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6345360" y="244152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5558040" y="4536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5530680" y="3705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7" name=""/>
            <p:cNvSpPr/>
            <p:nvPr/>
          </p:nvSpPr>
          <p:spPr>
            <a:xfrm>
              <a:off x="7142040" y="287496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391520" y="2457360"/>
              <a:ext cx="5270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7684920" y="2849760"/>
              <a:ext cx="527040" cy="47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7464240" y="3267000"/>
              <a:ext cx="5288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197840" y="371016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7918560" y="2428920"/>
              <a:ext cx="52848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3" name=""/>
          <p:cNvGrpSpPr/>
          <p:nvPr/>
        </p:nvGrpSpPr>
        <p:grpSpPr>
          <a:xfrm>
            <a:off x="1219320" y="2585880"/>
            <a:ext cx="6463440" cy="2581200"/>
            <a:chOff x="1219320" y="2585880"/>
            <a:chExt cx="6463440" cy="2581200"/>
          </a:xfrm>
        </p:grpSpPr>
        <p:sp>
          <p:nvSpPr>
            <p:cNvPr id="2104" name=""/>
            <p:cNvSpPr/>
            <p:nvPr/>
          </p:nvSpPr>
          <p:spPr>
            <a:xfrm>
              <a:off x="1219320" y="2611080"/>
              <a:ext cx="531360" cy="4748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5" name=""/>
            <p:cNvGrpSpPr/>
            <p:nvPr/>
          </p:nvGrpSpPr>
          <p:grpSpPr>
            <a:xfrm>
              <a:off x="1484280" y="2585880"/>
              <a:ext cx="6198480" cy="2581200"/>
              <a:chOff x="1484280" y="2585880"/>
              <a:chExt cx="6198480" cy="2581200"/>
            </a:xfrm>
          </p:grpSpPr>
          <p:sp>
            <p:nvSpPr>
              <p:cNvPr id="2106" name=""/>
              <p:cNvSpPr/>
              <p:nvPr/>
            </p:nvSpPr>
            <p:spPr>
              <a:xfrm>
                <a:off x="6624360" y="261108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5260680" y="3024000"/>
                <a:ext cx="5299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5532120" y="343980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5805000" y="302400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553212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6619320" y="343692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6082920" y="343692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6346440" y="302400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6346440" y="3852720"/>
                <a:ext cx="528120" cy="4744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5538240" y="427644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5265360" y="386208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5265360" y="469080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5809680" y="469080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6082920" y="427644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5809680" y="386208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608760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6355800" y="4668480"/>
                <a:ext cx="5284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23" name=""/>
              <p:cNvGrpSpPr/>
              <p:nvPr/>
            </p:nvGrpSpPr>
            <p:grpSpPr>
              <a:xfrm>
                <a:off x="1484280" y="2593800"/>
                <a:ext cx="4051800" cy="2563560"/>
                <a:chOff x="1484280" y="2593800"/>
                <a:chExt cx="4051800" cy="2563560"/>
              </a:xfrm>
            </p:grpSpPr>
            <p:sp>
              <p:nvSpPr>
                <p:cNvPr id="2124" name=""/>
                <p:cNvSpPr/>
                <p:nvPr/>
              </p:nvSpPr>
              <p:spPr>
                <a:xfrm>
                  <a:off x="338508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2021040" y="301536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148428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1748160" y="260208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1748160" y="343044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292120" y="343044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256536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229212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338040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284292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31071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31071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36489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392256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36489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298960" y="426708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2025720" y="385380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2569680" y="468252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2842920" y="42670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2569680" y="385380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4712400" y="300672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4174920" y="300672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4438800" y="259380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4438800" y="342216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4983120" y="34221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498312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4464000" y="426276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392652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4191120" y="384768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4191120" y="467604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4735080" y="467604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500796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4735080" y="38476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284760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3662640" y="466164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3111840" y="468252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3385080" y="4254840"/>
                  <a:ext cx="527760" cy="4766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390636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2" name=""/>
              <p:cNvSpPr/>
              <p:nvPr/>
            </p:nvSpPr>
            <p:spPr>
              <a:xfrm>
                <a:off x="6906960" y="300816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7154640" y="258588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4" name=""/>
          <p:cNvGrpSpPr/>
          <p:nvPr/>
        </p:nvGrpSpPr>
        <p:grpSpPr>
          <a:xfrm>
            <a:off x="3119400" y="2727360"/>
            <a:ext cx="4294080" cy="2158920"/>
            <a:chOff x="3119400" y="2727360"/>
            <a:chExt cx="4294080" cy="2158920"/>
          </a:xfrm>
        </p:grpSpPr>
        <p:sp>
          <p:nvSpPr>
            <p:cNvPr id="2165" name=""/>
            <p:cNvSpPr/>
            <p:nvPr/>
          </p:nvSpPr>
          <p:spPr>
            <a:xfrm>
              <a:off x="5823000" y="356724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549760" y="3981600"/>
              <a:ext cx="52704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6091200" y="3981600"/>
              <a:ext cx="52848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6364440" y="356724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6091200" y="315288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284800" y="440532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827680" y="4392720"/>
              <a:ext cx="5270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6348240" y="2732040"/>
              <a:ext cx="528840" cy="474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3657600" y="357012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384360" y="3986280"/>
              <a:ext cx="5270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3925800" y="398628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4199040" y="357012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925800" y="315756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119400" y="441000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4989600" y="314964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451400" y="314964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4716360" y="273528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4716360" y="356400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259240" y="356400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533920" y="314964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259240" y="273528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4741920" y="4405320"/>
              <a:ext cx="5302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4203720" y="4405320"/>
              <a:ext cx="5284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4467240" y="3989520"/>
              <a:ext cx="53172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791320" y="273528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011560" y="3989520"/>
              <a:ext cx="5288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3662280" y="439740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4183200" y="273528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6616800" y="314496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885000" y="272736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5" name=""/>
          <p:cNvGrpSpPr/>
          <p:nvPr/>
        </p:nvGrpSpPr>
        <p:grpSpPr>
          <a:xfrm>
            <a:off x="1501920" y="2449440"/>
            <a:ext cx="2688480" cy="2142360"/>
            <a:chOff x="1501920" y="2449440"/>
            <a:chExt cx="2688480" cy="2142360"/>
          </a:xfrm>
        </p:grpSpPr>
        <p:sp>
          <p:nvSpPr>
            <p:cNvPr id="2196" name=""/>
            <p:cNvSpPr/>
            <p:nvPr/>
          </p:nvSpPr>
          <p:spPr>
            <a:xfrm>
              <a:off x="2851920" y="2858400"/>
              <a:ext cx="527760" cy="477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7" name=""/>
            <p:cNvGrpSpPr/>
            <p:nvPr/>
          </p:nvGrpSpPr>
          <p:grpSpPr>
            <a:xfrm>
              <a:off x="1501920" y="2449440"/>
              <a:ext cx="2688480" cy="2142360"/>
              <a:chOff x="1501920" y="2449440"/>
              <a:chExt cx="2688480" cy="2142360"/>
            </a:xfrm>
          </p:grpSpPr>
          <p:sp>
            <p:nvSpPr>
              <p:cNvPr id="2198" name=""/>
              <p:cNvSpPr/>
              <p:nvPr/>
            </p:nvSpPr>
            <p:spPr>
              <a:xfrm>
                <a:off x="366264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2298960" y="2862000"/>
                <a:ext cx="52992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1761480" y="2862000"/>
                <a:ext cx="52776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2025360" y="2449440"/>
                <a:ext cx="5299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2025360" y="3277800"/>
                <a:ext cx="5299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2569680" y="327780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256968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3120480" y="3275640"/>
                <a:ext cx="52776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3384360" y="2862000"/>
                <a:ext cx="528120" cy="4755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2576520" y="4114800"/>
                <a:ext cx="530280" cy="477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2302920" y="3701520"/>
                <a:ext cx="53028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2847240" y="3701520"/>
                <a:ext cx="5281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312516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1501920" y="2453040"/>
                <a:ext cx="53028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12" name=""/>
          <p:cNvSpPr/>
          <p:nvPr/>
        </p:nvSpPr>
        <p:spPr>
          <a:xfrm>
            <a:off x="4710240" y="4157640"/>
            <a:ext cx="52848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5778360" y="4170240"/>
            <a:ext cx="52704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4164120" y="3322800"/>
            <a:ext cx="52704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3890880" y="3738600"/>
            <a:ext cx="527040" cy="474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4432320" y="3738600"/>
            <a:ext cx="528480" cy="474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705200" y="3322800"/>
            <a:ext cx="52884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4432320" y="2909880"/>
            <a:ext cx="52848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3352680" y="4576680"/>
            <a:ext cx="52884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3625920" y="4160880"/>
            <a:ext cx="52848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4957920" y="2901960"/>
            <a:ext cx="528480" cy="476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5222880" y="3316320"/>
            <a:ext cx="530280" cy="474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5246640" y="4157640"/>
            <a:ext cx="53172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4973760" y="3741840"/>
            <a:ext cx="53028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4973760" y="4570560"/>
            <a:ext cx="53028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5518080" y="3741840"/>
            <a:ext cx="52884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4446720" y="4556160"/>
            <a:ext cx="527040" cy="474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3895560" y="4576680"/>
            <a:ext cx="52704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4168800" y="4149720"/>
            <a:ext cx="527040" cy="476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5502240" y="4603680"/>
            <a:ext cx="52884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6039000" y="4578480"/>
            <a:ext cx="528480" cy="476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4724280" y="1143000"/>
            <a:ext cx="52884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82400"/>
                </a:solidFill>
                <a:latin typeface="Times New Roman"/>
              </a:rPr>
              <a:t>Kugelpackungen</a:t>
            </a: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4569840" y="160020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vierte Sch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 rot="5400000">
            <a:off x="2628720" y="876240"/>
            <a:ext cx="304920" cy="2666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2211480" y="1600200"/>
            <a:ext cx="101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hexag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2586240" y="5724360"/>
            <a:ext cx="48182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Kugeln in der vierten L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liegen genau über denen in der ers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eter Maisenb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91C39-28EC-4ACF-9F58-126F3E1A4B7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8" name=""/>
          <p:cNvGrpSpPr/>
          <p:nvPr/>
        </p:nvGrpSpPr>
        <p:grpSpPr>
          <a:xfrm>
            <a:off x="957240" y="2428920"/>
            <a:ext cx="7489800" cy="2980800"/>
            <a:chOff x="957240" y="2428920"/>
            <a:chExt cx="7489800" cy="2980800"/>
          </a:xfrm>
        </p:grpSpPr>
        <p:grpSp>
          <p:nvGrpSpPr>
            <p:cNvPr id="2239" name=""/>
            <p:cNvGrpSpPr/>
            <p:nvPr/>
          </p:nvGrpSpPr>
          <p:grpSpPr>
            <a:xfrm>
              <a:off x="2573280" y="4921200"/>
              <a:ext cx="4315680" cy="488520"/>
              <a:chOff x="2573280" y="4921200"/>
              <a:chExt cx="4315680" cy="488520"/>
            </a:xfrm>
          </p:grpSpPr>
          <p:sp>
            <p:nvSpPr>
              <p:cNvPr id="2240" name=""/>
              <p:cNvSpPr/>
              <p:nvPr/>
            </p:nvSpPr>
            <p:spPr>
              <a:xfrm>
                <a:off x="473796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6358680" y="4921200"/>
                <a:ext cx="530280" cy="47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583092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528012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257328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4194000" y="4925160"/>
                <a:ext cx="530280" cy="475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3665880" y="493560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3114720" y="4931280"/>
                <a:ext cx="52812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8" name=""/>
            <p:cNvSpPr/>
            <p:nvPr/>
          </p:nvSpPr>
          <p:spPr>
            <a:xfrm>
              <a:off x="6915240" y="330372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6864480" y="246240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6894360" y="410688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1" name=""/>
            <p:cNvGrpSpPr/>
            <p:nvPr/>
          </p:nvGrpSpPr>
          <p:grpSpPr>
            <a:xfrm>
              <a:off x="957240" y="2441520"/>
              <a:ext cx="6203160" cy="2585160"/>
              <a:chOff x="957240" y="2441520"/>
              <a:chExt cx="6203160" cy="2585160"/>
            </a:xfrm>
          </p:grpSpPr>
          <p:grpSp>
            <p:nvGrpSpPr>
              <p:cNvPr id="2252" name=""/>
              <p:cNvGrpSpPr/>
              <p:nvPr/>
            </p:nvGrpSpPr>
            <p:grpSpPr>
              <a:xfrm>
                <a:off x="1751040" y="2464200"/>
                <a:ext cx="4300200" cy="2562480"/>
                <a:chOff x="1751040" y="2464200"/>
                <a:chExt cx="4300200" cy="2562480"/>
              </a:xfrm>
            </p:grpSpPr>
            <p:sp>
              <p:nvSpPr>
                <p:cNvPr id="2253" name=""/>
                <p:cNvSpPr/>
                <p:nvPr/>
              </p:nvSpPr>
              <p:spPr>
                <a:xfrm>
                  <a:off x="365220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>
                  <a:off x="2288160" y="288504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175104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>
                  <a:off x="2015280" y="2472120"/>
                  <a:ext cx="52992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>
                  <a:off x="2015280" y="330048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>
                  <a:off x="2559240" y="330048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>
                  <a:off x="283212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>
                  <a:off x="255924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>
                  <a:off x="36475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>
                  <a:off x="311040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>
                  <a:off x="33742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>
                  <a:off x="33742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>
                  <a:off x="39160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>
                  <a:off x="41893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>
                  <a:off x="39160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>
                  <a:off x="2566080" y="4136760"/>
                  <a:ext cx="52992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>
                  <a:off x="202896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>
                  <a:off x="2292840" y="3723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>
                  <a:off x="2292840" y="4551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>
                  <a:off x="283680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311040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>
                  <a:off x="2836800" y="3723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>
                  <a:off x="4978800" y="28771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>
                  <a:off x="444204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>
                  <a:off x="4705920" y="2464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>
                  <a:off x="4705920" y="3292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>
                  <a:off x="5249880" y="3292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>
                  <a:off x="552348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>
                  <a:off x="52498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>
                  <a:off x="4731120" y="413280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3" name=""/>
                <p:cNvSpPr/>
                <p:nvPr/>
              </p:nvSpPr>
              <p:spPr>
                <a:xfrm>
                  <a:off x="419364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>
                  <a:off x="4457520" y="371736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>
                  <a:off x="4457520" y="45457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>
                  <a:off x="5002200" y="45457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>
                  <a:off x="527508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>
                  <a:off x="5002200" y="37173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>
                  <a:off x="311508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>
                  <a:off x="3929760" y="453132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>
                  <a:off x="337896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>
                  <a:off x="3652200" y="41241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>
                  <a:off x="41734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94" name=""/>
              <p:cNvSpPr/>
              <p:nvPr/>
            </p:nvSpPr>
            <p:spPr>
              <a:xfrm>
                <a:off x="1494360" y="247896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957240" y="246600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1221120" y="2881080"/>
                <a:ext cx="529920" cy="475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1762560" y="372204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1489680" y="330696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5810760" y="24498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5806080" y="32882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6088320" y="369108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6361560" y="32760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6074640" y="28630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6613920" y="28544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6366240" y="4110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6630120" y="3695400"/>
                <a:ext cx="53028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6630120" y="4523400"/>
                <a:ext cx="53028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6102360" y="4509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5824080" y="41022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6345360" y="244152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5558040" y="4536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5530680" y="3705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3" name=""/>
            <p:cNvSpPr/>
            <p:nvPr/>
          </p:nvSpPr>
          <p:spPr>
            <a:xfrm>
              <a:off x="7142040" y="287496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7391520" y="2457360"/>
              <a:ext cx="5270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7684920" y="2849760"/>
              <a:ext cx="527040" cy="47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7464240" y="3267000"/>
              <a:ext cx="5288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7197840" y="371016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7918560" y="2428920"/>
              <a:ext cx="52848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9" name=""/>
          <p:cNvGrpSpPr/>
          <p:nvPr/>
        </p:nvGrpSpPr>
        <p:grpSpPr>
          <a:xfrm>
            <a:off x="1219320" y="2585880"/>
            <a:ext cx="6463440" cy="2581200"/>
            <a:chOff x="1219320" y="2585880"/>
            <a:chExt cx="6463440" cy="2581200"/>
          </a:xfrm>
        </p:grpSpPr>
        <p:sp>
          <p:nvSpPr>
            <p:cNvPr id="2320" name=""/>
            <p:cNvSpPr/>
            <p:nvPr/>
          </p:nvSpPr>
          <p:spPr>
            <a:xfrm>
              <a:off x="1219320" y="2611080"/>
              <a:ext cx="531360" cy="4748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1" name=""/>
            <p:cNvGrpSpPr/>
            <p:nvPr/>
          </p:nvGrpSpPr>
          <p:grpSpPr>
            <a:xfrm>
              <a:off x="1484280" y="2585880"/>
              <a:ext cx="6198480" cy="2581200"/>
              <a:chOff x="1484280" y="2585880"/>
              <a:chExt cx="6198480" cy="2581200"/>
            </a:xfrm>
          </p:grpSpPr>
          <p:sp>
            <p:nvSpPr>
              <p:cNvPr id="2322" name=""/>
              <p:cNvSpPr/>
              <p:nvPr/>
            </p:nvSpPr>
            <p:spPr>
              <a:xfrm>
                <a:off x="6624360" y="261108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5260680" y="3024000"/>
                <a:ext cx="5299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5532120" y="343980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5805000" y="302400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553212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6619320" y="343692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6082920" y="343692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6346440" y="302400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6346440" y="3852720"/>
                <a:ext cx="528120" cy="4744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5538240" y="427644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5265360" y="386208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5265360" y="469080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5809680" y="469080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6082920" y="427644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5809680" y="386208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608760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6355800" y="4668480"/>
                <a:ext cx="5284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39" name=""/>
              <p:cNvGrpSpPr/>
              <p:nvPr/>
            </p:nvGrpSpPr>
            <p:grpSpPr>
              <a:xfrm>
                <a:off x="1484280" y="2593800"/>
                <a:ext cx="4051800" cy="2563560"/>
                <a:chOff x="1484280" y="2593800"/>
                <a:chExt cx="4051800" cy="2563560"/>
              </a:xfrm>
            </p:grpSpPr>
            <p:sp>
              <p:nvSpPr>
                <p:cNvPr id="2340" name=""/>
                <p:cNvSpPr/>
                <p:nvPr/>
              </p:nvSpPr>
              <p:spPr>
                <a:xfrm>
                  <a:off x="338508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>
                  <a:off x="2021040" y="301536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>
                  <a:off x="148428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>
                  <a:off x="1748160" y="260208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>
                  <a:off x="1748160" y="343044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>
                  <a:off x="2292120" y="343044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>
                  <a:off x="256536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>
                  <a:off x="229212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>
                  <a:off x="338040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>
                  <a:off x="284292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>
                  <a:off x="31071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31071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36489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>
                  <a:off x="392256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>
                  <a:off x="36489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>
                  <a:off x="2298960" y="426708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>
                  <a:off x="2025720" y="385380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2569680" y="468252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2842920" y="42670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>
                  <a:off x="2569680" y="385380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4712400" y="300672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>
                  <a:off x="4174920" y="300672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>
                  <a:off x="4438800" y="259380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>
                  <a:off x="4438800" y="342216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4983120" y="34221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>
                  <a:off x="498312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>
                  <a:off x="4464000" y="426276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>
                  <a:off x="392652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>
                  <a:off x="4191120" y="384768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4191120" y="467604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4735080" y="467604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>
                  <a:off x="500796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4735080" y="38476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>
                  <a:off x="284760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>
                  <a:off x="3662640" y="466164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>
                  <a:off x="3111840" y="468252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>
                  <a:off x="3385080" y="4254840"/>
                  <a:ext cx="527760" cy="4766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>
                  <a:off x="390636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78" name=""/>
              <p:cNvSpPr/>
              <p:nvPr/>
            </p:nvSpPr>
            <p:spPr>
              <a:xfrm>
                <a:off x="6906960" y="300816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7154640" y="258588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80" name=""/>
          <p:cNvGrpSpPr/>
          <p:nvPr/>
        </p:nvGrpSpPr>
        <p:grpSpPr>
          <a:xfrm>
            <a:off x="3119400" y="2727360"/>
            <a:ext cx="4294080" cy="2158920"/>
            <a:chOff x="3119400" y="2727360"/>
            <a:chExt cx="4294080" cy="2158920"/>
          </a:xfrm>
        </p:grpSpPr>
        <p:sp>
          <p:nvSpPr>
            <p:cNvPr id="2381" name=""/>
            <p:cNvSpPr/>
            <p:nvPr/>
          </p:nvSpPr>
          <p:spPr>
            <a:xfrm>
              <a:off x="5823000" y="356724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5549760" y="3981600"/>
              <a:ext cx="52704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6091200" y="3981600"/>
              <a:ext cx="52848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6364440" y="356724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6091200" y="315288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284800" y="440532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5827680" y="4392720"/>
              <a:ext cx="5270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6348240" y="2732040"/>
              <a:ext cx="528840" cy="474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3657600" y="357012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3384360" y="3986280"/>
              <a:ext cx="5270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3925800" y="398628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4199040" y="357012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3925800" y="315756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3119400" y="441000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4989600" y="314964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4451400" y="314964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4716360" y="273528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716360" y="356400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259240" y="356400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533920" y="314964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259240" y="273528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4741920" y="4405320"/>
              <a:ext cx="5302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4203720" y="4405320"/>
              <a:ext cx="5284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4467240" y="3989520"/>
              <a:ext cx="53172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5791320" y="273528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5011560" y="3989520"/>
              <a:ext cx="5288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662280" y="439740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4183200" y="273528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6616800" y="314496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6885000" y="272736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1" name=""/>
          <p:cNvGrpSpPr/>
          <p:nvPr/>
        </p:nvGrpSpPr>
        <p:grpSpPr>
          <a:xfrm>
            <a:off x="1501920" y="2449440"/>
            <a:ext cx="2688480" cy="2142360"/>
            <a:chOff x="1501920" y="2449440"/>
            <a:chExt cx="2688480" cy="2142360"/>
          </a:xfrm>
        </p:grpSpPr>
        <p:sp>
          <p:nvSpPr>
            <p:cNvPr id="2412" name=""/>
            <p:cNvSpPr/>
            <p:nvPr/>
          </p:nvSpPr>
          <p:spPr>
            <a:xfrm>
              <a:off x="2851920" y="2858400"/>
              <a:ext cx="527760" cy="477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3" name=""/>
            <p:cNvGrpSpPr/>
            <p:nvPr/>
          </p:nvGrpSpPr>
          <p:grpSpPr>
            <a:xfrm>
              <a:off x="1501920" y="2449440"/>
              <a:ext cx="2688480" cy="2142360"/>
              <a:chOff x="1501920" y="2449440"/>
              <a:chExt cx="2688480" cy="2142360"/>
            </a:xfrm>
          </p:grpSpPr>
          <p:sp>
            <p:nvSpPr>
              <p:cNvPr id="2414" name=""/>
              <p:cNvSpPr/>
              <p:nvPr/>
            </p:nvSpPr>
            <p:spPr>
              <a:xfrm>
                <a:off x="366264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2298960" y="2862000"/>
                <a:ext cx="52992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1761480" y="2862000"/>
                <a:ext cx="52776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2025360" y="2449440"/>
                <a:ext cx="5299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2025360" y="3277800"/>
                <a:ext cx="5299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2569680" y="327780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256968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3120480" y="3275640"/>
                <a:ext cx="52776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3384360" y="2862000"/>
                <a:ext cx="528120" cy="4755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2576520" y="4114800"/>
                <a:ext cx="530280" cy="477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2302920" y="3701520"/>
                <a:ext cx="53028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2847240" y="3701520"/>
                <a:ext cx="5281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312516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1501920" y="2453040"/>
                <a:ext cx="53028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28" name=""/>
          <p:cNvSpPr/>
          <p:nvPr/>
        </p:nvSpPr>
        <p:spPr>
          <a:xfrm>
            <a:off x="4710240" y="4157640"/>
            <a:ext cx="52848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5778360" y="4170240"/>
            <a:ext cx="52704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4164120" y="3322800"/>
            <a:ext cx="52704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3890880" y="3738600"/>
            <a:ext cx="527040" cy="474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4432320" y="3738600"/>
            <a:ext cx="528480" cy="474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4705200" y="3322800"/>
            <a:ext cx="52884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4432320" y="2909880"/>
            <a:ext cx="52848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3352680" y="4576680"/>
            <a:ext cx="52884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3625920" y="4160880"/>
            <a:ext cx="52848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4957920" y="2901960"/>
            <a:ext cx="528480" cy="476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5222880" y="3316320"/>
            <a:ext cx="530280" cy="474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5246640" y="4157640"/>
            <a:ext cx="53172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4973760" y="3741840"/>
            <a:ext cx="53028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4973760" y="4570560"/>
            <a:ext cx="53028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5518080" y="3741840"/>
            <a:ext cx="52884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4446720" y="4556160"/>
            <a:ext cx="527040" cy="474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3895560" y="4576680"/>
            <a:ext cx="52704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4168800" y="4149720"/>
            <a:ext cx="527040" cy="476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5502240" y="4603680"/>
            <a:ext cx="52884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6039000" y="4578480"/>
            <a:ext cx="528480" cy="476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4686480" y="2486160"/>
            <a:ext cx="52848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82400"/>
                </a:solidFill>
                <a:latin typeface="Times New Roman"/>
              </a:rPr>
              <a:t>Kugelpackungen</a:t>
            </a: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4569840" y="160020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vierte Sch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 rot="5400000">
            <a:off x="2628720" y="876240"/>
            <a:ext cx="304920" cy="2666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2211480" y="1600200"/>
            <a:ext cx="101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hexag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2586240" y="5724360"/>
            <a:ext cx="48182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Kugeln in der vierten L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liegen genau über denen in der ers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eter Maisenb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00CBC-1821-49C7-8415-15E25ABA89C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4" name=""/>
          <p:cNvGrpSpPr/>
          <p:nvPr/>
        </p:nvGrpSpPr>
        <p:grpSpPr>
          <a:xfrm>
            <a:off x="957240" y="2428920"/>
            <a:ext cx="7489800" cy="2980800"/>
            <a:chOff x="957240" y="2428920"/>
            <a:chExt cx="7489800" cy="2980800"/>
          </a:xfrm>
        </p:grpSpPr>
        <p:grpSp>
          <p:nvGrpSpPr>
            <p:cNvPr id="2455" name=""/>
            <p:cNvGrpSpPr/>
            <p:nvPr/>
          </p:nvGrpSpPr>
          <p:grpSpPr>
            <a:xfrm>
              <a:off x="2573280" y="4921200"/>
              <a:ext cx="4315680" cy="488520"/>
              <a:chOff x="2573280" y="4921200"/>
              <a:chExt cx="4315680" cy="488520"/>
            </a:xfrm>
          </p:grpSpPr>
          <p:sp>
            <p:nvSpPr>
              <p:cNvPr id="2456" name=""/>
              <p:cNvSpPr/>
              <p:nvPr/>
            </p:nvSpPr>
            <p:spPr>
              <a:xfrm>
                <a:off x="473796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6358680" y="4921200"/>
                <a:ext cx="530280" cy="47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583092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528012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257328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4194000" y="4925160"/>
                <a:ext cx="530280" cy="475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3665880" y="493560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3114720" y="4931280"/>
                <a:ext cx="52812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4" name=""/>
            <p:cNvSpPr/>
            <p:nvPr/>
          </p:nvSpPr>
          <p:spPr>
            <a:xfrm>
              <a:off x="6915240" y="330372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6864480" y="246240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6894360" y="410688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7" name=""/>
            <p:cNvGrpSpPr/>
            <p:nvPr/>
          </p:nvGrpSpPr>
          <p:grpSpPr>
            <a:xfrm>
              <a:off x="957240" y="2441520"/>
              <a:ext cx="6203160" cy="2585160"/>
              <a:chOff x="957240" y="2441520"/>
              <a:chExt cx="6203160" cy="2585160"/>
            </a:xfrm>
          </p:grpSpPr>
          <p:grpSp>
            <p:nvGrpSpPr>
              <p:cNvPr id="2468" name=""/>
              <p:cNvGrpSpPr/>
              <p:nvPr/>
            </p:nvGrpSpPr>
            <p:grpSpPr>
              <a:xfrm>
                <a:off x="1751040" y="2464200"/>
                <a:ext cx="4300200" cy="2562480"/>
                <a:chOff x="1751040" y="2464200"/>
                <a:chExt cx="4300200" cy="2562480"/>
              </a:xfrm>
            </p:grpSpPr>
            <p:sp>
              <p:nvSpPr>
                <p:cNvPr id="2469" name=""/>
                <p:cNvSpPr/>
                <p:nvPr/>
              </p:nvSpPr>
              <p:spPr>
                <a:xfrm>
                  <a:off x="365220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>
                  <a:off x="2288160" y="288504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175104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>
                  <a:off x="2015280" y="2472120"/>
                  <a:ext cx="52992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>
                  <a:off x="2015280" y="330048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2559240" y="330048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>
                  <a:off x="283212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>
                  <a:off x="255924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>
                  <a:off x="36475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>
                  <a:off x="311040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>
                  <a:off x="33742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>
                  <a:off x="33742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>
                  <a:off x="39160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>
                  <a:off x="41893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>
                  <a:off x="39160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4" name=""/>
                <p:cNvSpPr/>
                <p:nvPr/>
              </p:nvSpPr>
              <p:spPr>
                <a:xfrm>
                  <a:off x="2566080" y="4136760"/>
                  <a:ext cx="52992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>
                  <a:off x="202896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>
                  <a:off x="2292840" y="3723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>
                  <a:off x="2292840" y="4551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>
                  <a:off x="283680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>
                  <a:off x="311040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>
                  <a:off x="2836800" y="3723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1" name=""/>
                <p:cNvSpPr/>
                <p:nvPr/>
              </p:nvSpPr>
              <p:spPr>
                <a:xfrm>
                  <a:off x="4978800" y="28771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>
                  <a:off x="444204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>
                  <a:off x="4705920" y="2464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>
                  <a:off x="4705920" y="3292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>
                  <a:off x="5249880" y="3292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>
                  <a:off x="552348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>
                  <a:off x="52498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>
                  <a:off x="4731120" y="413280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>
                  <a:off x="419364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>
                  <a:off x="4457520" y="371736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>
                  <a:off x="4457520" y="45457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2" name=""/>
                <p:cNvSpPr/>
                <p:nvPr/>
              </p:nvSpPr>
              <p:spPr>
                <a:xfrm>
                  <a:off x="5002200" y="45457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>
                  <a:off x="527508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>
                  <a:off x="5002200" y="37173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5" name=""/>
                <p:cNvSpPr/>
                <p:nvPr/>
              </p:nvSpPr>
              <p:spPr>
                <a:xfrm>
                  <a:off x="311508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>
                  <a:off x="3929760" y="453132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7" name=""/>
                <p:cNvSpPr/>
                <p:nvPr/>
              </p:nvSpPr>
              <p:spPr>
                <a:xfrm>
                  <a:off x="337896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8" name=""/>
                <p:cNvSpPr/>
                <p:nvPr/>
              </p:nvSpPr>
              <p:spPr>
                <a:xfrm>
                  <a:off x="3652200" y="41241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>
                  <a:off x="41734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10" name=""/>
              <p:cNvSpPr/>
              <p:nvPr/>
            </p:nvSpPr>
            <p:spPr>
              <a:xfrm>
                <a:off x="1494360" y="247896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957240" y="246600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1221120" y="2881080"/>
                <a:ext cx="529920" cy="475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1762560" y="372204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1489680" y="330696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5810760" y="24498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5806080" y="32882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6088320" y="369108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6361560" y="32760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6074640" y="28630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6613920" y="28544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6366240" y="4110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6630120" y="3695400"/>
                <a:ext cx="53028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6630120" y="4523400"/>
                <a:ext cx="53028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6102360" y="4509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5824080" y="41022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6345360" y="244152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5558040" y="4536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5530680" y="3705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9" name=""/>
            <p:cNvSpPr/>
            <p:nvPr/>
          </p:nvSpPr>
          <p:spPr>
            <a:xfrm>
              <a:off x="7142040" y="287496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7391520" y="2457360"/>
              <a:ext cx="5270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7684920" y="2849760"/>
              <a:ext cx="527040" cy="47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7464240" y="3267000"/>
              <a:ext cx="5288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7197840" y="371016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7918560" y="2428920"/>
              <a:ext cx="52848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5" name=""/>
          <p:cNvGrpSpPr/>
          <p:nvPr/>
        </p:nvGrpSpPr>
        <p:grpSpPr>
          <a:xfrm>
            <a:off x="1219320" y="2585880"/>
            <a:ext cx="6463440" cy="2581200"/>
            <a:chOff x="1219320" y="2585880"/>
            <a:chExt cx="6463440" cy="2581200"/>
          </a:xfrm>
        </p:grpSpPr>
        <p:sp>
          <p:nvSpPr>
            <p:cNvPr id="2536" name=""/>
            <p:cNvSpPr/>
            <p:nvPr/>
          </p:nvSpPr>
          <p:spPr>
            <a:xfrm>
              <a:off x="1219320" y="2611080"/>
              <a:ext cx="531360" cy="4748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7" name=""/>
            <p:cNvGrpSpPr/>
            <p:nvPr/>
          </p:nvGrpSpPr>
          <p:grpSpPr>
            <a:xfrm>
              <a:off x="1484280" y="2585880"/>
              <a:ext cx="6198480" cy="2581200"/>
              <a:chOff x="1484280" y="2585880"/>
              <a:chExt cx="6198480" cy="2581200"/>
            </a:xfrm>
          </p:grpSpPr>
          <p:sp>
            <p:nvSpPr>
              <p:cNvPr id="2538" name=""/>
              <p:cNvSpPr/>
              <p:nvPr/>
            </p:nvSpPr>
            <p:spPr>
              <a:xfrm>
                <a:off x="6624360" y="261108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5260680" y="3024000"/>
                <a:ext cx="5299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532120" y="343980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5805000" y="302400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53212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6619320" y="343692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6082920" y="343692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6346440" y="302400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6346440" y="3852720"/>
                <a:ext cx="528120" cy="4744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538240" y="427644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5265360" y="386208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5265360" y="469080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809680" y="469080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6082920" y="427644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809680" y="386208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608760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6355800" y="4668480"/>
                <a:ext cx="5284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55" name=""/>
              <p:cNvGrpSpPr/>
              <p:nvPr/>
            </p:nvGrpSpPr>
            <p:grpSpPr>
              <a:xfrm>
                <a:off x="1484280" y="2593800"/>
                <a:ext cx="4051800" cy="2563560"/>
                <a:chOff x="1484280" y="2593800"/>
                <a:chExt cx="4051800" cy="2563560"/>
              </a:xfrm>
            </p:grpSpPr>
            <p:sp>
              <p:nvSpPr>
                <p:cNvPr id="2556" name=""/>
                <p:cNvSpPr/>
                <p:nvPr/>
              </p:nvSpPr>
              <p:spPr>
                <a:xfrm>
                  <a:off x="338508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7" name=""/>
                <p:cNvSpPr/>
                <p:nvPr/>
              </p:nvSpPr>
              <p:spPr>
                <a:xfrm>
                  <a:off x="2021040" y="301536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>
                  <a:off x="148428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>
                  <a:off x="1748160" y="260208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>
                  <a:off x="1748160" y="343044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>
                  <a:off x="2292120" y="343044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>
                  <a:off x="256536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>
                  <a:off x="229212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>
                  <a:off x="338040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>
                  <a:off x="284292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>
                  <a:off x="31071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>
                  <a:off x="31071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8" name=""/>
                <p:cNvSpPr/>
                <p:nvPr/>
              </p:nvSpPr>
              <p:spPr>
                <a:xfrm>
                  <a:off x="36489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9" name=""/>
                <p:cNvSpPr/>
                <p:nvPr/>
              </p:nvSpPr>
              <p:spPr>
                <a:xfrm>
                  <a:off x="392256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>
                  <a:off x="36489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1" name=""/>
                <p:cNvSpPr/>
                <p:nvPr/>
              </p:nvSpPr>
              <p:spPr>
                <a:xfrm>
                  <a:off x="2298960" y="426708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>
                  <a:off x="2025720" y="385380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>
                  <a:off x="2569680" y="468252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4" name=""/>
                <p:cNvSpPr/>
                <p:nvPr/>
              </p:nvSpPr>
              <p:spPr>
                <a:xfrm>
                  <a:off x="2842920" y="42670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>
                  <a:off x="2569680" y="385380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>
                  <a:off x="4712400" y="300672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7" name=""/>
                <p:cNvSpPr/>
                <p:nvPr/>
              </p:nvSpPr>
              <p:spPr>
                <a:xfrm>
                  <a:off x="4174920" y="300672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>
                  <a:off x="4438800" y="259380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>
                  <a:off x="4438800" y="342216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>
                  <a:off x="4983120" y="34221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1" name=""/>
                <p:cNvSpPr/>
                <p:nvPr/>
              </p:nvSpPr>
              <p:spPr>
                <a:xfrm>
                  <a:off x="498312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2" name=""/>
                <p:cNvSpPr/>
                <p:nvPr/>
              </p:nvSpPr>
              <p:spPr>
                <a:xfrm>
                  <a:off x="4464000" y="426276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3" name=""/>
                <p:cNvSpPr/>
                <p:nvPr/>
              </p:nvSpPr>
              <p:spPr>
                <a:xfrm>
                  <a:off x="392652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4" name=""/>
                <p:cNvSpPr/>
                <p:nvPr/>
              </p:nvSpPr>
              <p:spPr>
                <a:xfrm>
                  <a:off x="4191120" y="384768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5" name=""/>
                <p:cNvSpPr/>
                <p:nvPr/>
              </p:nvSpPr>
              <p:spPr>
                <a:xfrm>
                  <a:off x="4191120" y="467604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6" name=""/>
                <p:cNvSpPr/>
                <p:nvPr/>
              </p:nvSpPr>
              <p:spPr>
                <a:xfrm>
                  <a:off x="4735080" y="467604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>
                  <a:off x="500796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>
                  <a:off x="4735080" y="38476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>
                  <a:off x="284760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>
                  <a:off x="3662640" y="466164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>
                  <a:off x="3111840" y="468252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>
                  <a:off x="3385080" y="4254840"/>
                  <a:ext cx="527760" cy="4766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>
                  <a:off x="390636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94" name=""/>
              <p:cNvSpPr/>
              <p:nvPr/>
            </p:nvSpPr>
            <p:spPr>
              <a:xfrm>
                <a:off x="6906960" y="300816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7154640" y="258588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96" name=""/>
          <p:cNvGrpSpPr/>
          <p:nvPr/>
        </p:nvGrpSpPr>
        <p:grpSpPr>
          <a:xfrm>
            <a:off x="3119400" y="2727360"/>
            <a:ext cx="4294080" cy="2158920"/>
            <a:chOff x="3119400" y="2727360"/>
            <a:chExt cx="4294080" cy="2158920"/>
          </a:xfrm>
        </p:grpSpPr>
        <p:sp>
          <p:nvSpPr>
            <p:cNvPr id="2597" name=""/>
            <p:cNvSpPr/>
            <p:nvPr/>
          </p:nvSpPr>
          <p:spPr>
            <a:xfrm>
              <a:off x="5823000" y="356724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5549760" y="3981600"/>
              <a:ext cx="52704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6091200" y="3981600"/>
              <a:ext cx="52848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6364440" y="356724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6091200" y="315288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5284800" y="440532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5827680" y="4392720"/>
              <a:ext cx="5270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6348240" y="2732040"/>
              <a:ext cx="528840" cy="474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3657600" y="357012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3384360" y="3986280"/>
              <a:ext cx="5270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3925800" y="398628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4199040" y="357012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3925800" y="315756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3119400" y="441000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4989600" y="314964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4451400" y="314964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4716360" y="273528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4716360" y="356400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5259240" y="356400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5533920" y="314964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5259240" y="273528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4741920" y="4405320"/>
              <a:ext cx="5302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4203720" y="4405320"/>
              <a:ext cx="5284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4467240" y="3989520"/>
              <a:ext cx="53172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5791320" y="273528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5011560" y="3989520"/>
              <a:ext cx="5288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3662280" y="439740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4183200" y="273528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6616800" y="314496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6885000" y="272736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7" name=""/>
          <p:cNvGrpSpPr/>
          <p:nvPr/>
        </p:nvGrpSpPr>
        <p:grpSpPr>
          <a:xfrm>
            <a:off x="1501920" y="2449440"/>
            <a:ext cx="2688480" cy="2142360"/>
            <a:chOff x="1501920" y="2449440"/>
            <a:chExt cx="2688480" cy="2142360"/>
          </a:xfrm>
        </p:grpSpPr>
        <p:sp>
          <p:nvSpPr>
            <p:cNvPr id="2628" name=""/>
            <p:cNvSpPr/>
            <p:nvPr/>
          </p:nvSpPr>
          <p:spPr>
            <a:xfrm>
              <a:off x="2851920" y="2858400"/>
              <a:ext cx="527760" cy="477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9" name=""/>
            <p:cNvGrpSpPr/>
            <p:nvPr/>
          </p:nvGrpSpPr>
          <p:grpSpPr>
            <a:xfrm>
              <a:off x="1501920" y="2449440"/>
              <a:ext cx="2688480" cy="2142360"/>
              <a:chOff x="1501920" y="2449440"/>
              <a:chExt cx="2688480" cy="2142360"/>
            </a:xfrm>
          </p:grpSpPr>
          <p:sp>
            <p:nvSpPr>
              <p:cNvPr id="2630" name=""/>
              <p:cNvSpPr/>
              <p:nvPr/>
            </p:nvSpPr>
            <p:spPr>
              <a:xfrm>
                <a:off x="366264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2298960" y="2862000"/>
                <a:ext cx="52992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1761480" y="2862000"/>
                <a:ext cx="52776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2025360" y="2449440"/>
                <a:ext cx="5299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2025360" y="3277800"/>
                <a:ext cx="5299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2569680" y="327780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256968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3120480" y="3275640"/>
                <a:ext cx="52776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3384360" y="2862000"/>
                <a:ext cx="528120" cy="4755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2576520" y="4114800"/>
                <a:ext cx="530280" cy="477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2302920" y="3701520"/>
                <a:ext cx="53028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2847240" y="3701520"/>
                <a:ext cx="5281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312516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1501920" y="2453040"/>
                <a:ext cx="53028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44" name=""/>
          <p:cNvSpPr/>
          <p:nvPr/>
        </p:nvSpPr>
        <p:spPr>
          <a:xfrm>
            <a:off x="4710240" y="4157640"/>
            <a:ext cx="52848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5778360" y="4170240"/>
            <a:ext cx="52704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4164120" y="3322800"/>
            <a:ext cx="52704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3890880" y="3738600"/>
            <a:ext cx="527040" cy="474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4432320" y="3738600"/>
            <a:ext cx="528480" cy="474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4705200" y="3322800"/>
            <a:ext cx="52884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4432320" y="2909880"/>
            <a:ext cx="52848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3352680" y="4576680"/>
            <a:ext cx="52884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3625920" y="4160880"/>
            <a:ext cx="52848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4957920" y="2901960"/>
            <a:ext cx="528480" cy="476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5222880" y="3316320"/>
            <a:ext cx="530280" cy="474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5246640" y="4157640"/>
            <a:ext cx="53172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4973760" y="3741840"/>
            <a:ext cx="53028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4973760" y="4570560"/>
            <a:ext cx="53028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5518080" y="3741840"/>
            <a:ext cx="52884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4446720" y="4556160"/>
            <a:ext cx="527040" cy="474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3895560" y="4576680"/>
            <a:ext cx="52704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4168800" y="4149720"/>
            <a:ext cx="527040" cy="476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5502240" y="4603680"/>
            <a:ext cx="52884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6039000" y="4578480"/>
            <a:ext cx="528480" cy="476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4686480" y="2486160"/>
            <a:ext cx="52848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82400"/>
                </a:solidFill>
                <a:latin typeface="Times New Roman"/>
              </a:rPr>
              <a:t>Kugelpackungen</a:t>
            </a: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 rot="5400000">
            <a:off x="2628720" y="876240"/>
            <a:ext cx="304920" cy="2666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2211480" y="1600200"/>
            <a:ext cx="101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hexag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2586240" y="5724360"/>
            <a:ext cx="48182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Kugeln in der vierten L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liegen genau über denen in der ers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4373640" y="1219320"/>
            <a:ext cx="46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Schichtenfolge:</a:t>
            </a:r>
            <a:r>
              <a:rPr b="0" lang="de-DE" sz="2400" spc="-1" strike="noStrike">
                <a:solidFill>
                  <a:srgbClr val="0066ff"/>
                </a:solidFill>
                <a:latin typeface="Times New Roman"/>
              </a:rPr>
              <a:t>   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de-DE" sz="24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1" lang="de-DE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de-DE" sz="2400" spc="-1" strike="noStrike">
                <a:solidFill>
                  <a:srgbClr val="0066ff"/>
                </a:solidFill>
                <a:latin typeface="Times New Roman"/>
              </a:rPr>
              <a:t>   C   </a:t>
            </a:r>
            <a:r>
              <a:rPr b="1" lang="de-DE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4370400" y="1676520"/>
            <a:ext cx="4472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=  kubisch dichteste Kugelpack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eter Maisenb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D5EC1-A421-4A3B-954B-208A533F3BF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1" name=""/>
          <p:cNvGrpSpPr/>
          <p:nvPr/>
        </p:nvGrpSpPr>
        <p:grpSpPr>
          <a:xfrm>
            <a:off x="957240" y="2428920"/>
            <a:ext cx="7489800" cy="2980800"/>
            <a:chOff x="957240" y="2428920"/>
            <a:chExt cx="7489800" cy="2980800"/>
          </a:xfrm>
        </p:grpSpPr>
        <p:grpSp>
          <p:nvGrpSpPr>
            <p:cNvPr id="2672" name=""/>
            <p:cNvGrpSpPr/>
            <p:nvPr/>
          </p:nvGrpSpPr>
          <p:grpSpPr>
            <a:xfrm>
              <a:off x="2573280" y="4921200"/>
              <a:ext cx="4315680" cy="488520"/>
              <a:chOff x="2573280" y="4921200"/>
              <a:chExt cx="4315680" cy="488520"/>
            </a:xfrm>
          </p:grpSpPr>
          <p:sp>
            <p:nvSpPr>
              <p:cNvPr id="2673" name=""/>
              <p:cNvSpPr/>
              <p:nvPr/>
            </p:nvSpPr>
            <p:spPr>
              <a:xfrm>
                <a:off x="473796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6358680" y="4921200"/>
                <a:ext cx="530280" cy="47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583092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528012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257328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4194000" y="4925160"/>
                <a:ext cx="530280" cy="475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3665880" y="493560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3114720" y="4931280"/>
                <a:ext cx="52812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1" name=""/>
            <p:cNvSpPr/>
            <p:nvPr/>
          </p:nvSpPr>
          <p:spPr>
            <a:xfrm>
              <a:off x="6915240" y="330372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6864480" y="246240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6894360" y="410688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4" name=""/>
            <p:cNvGrpSpPr/>
            <p:nvPr/>
          </p:nvGrpSpPr>
          <p:grpSpPr>
            <a:xfrm>
              <a:off x="957240" y="2441520"/>
              <a:ext cx="6203160" cy="2585160"/>
              <a:chOff x="957240" y="2441520"/>
              <a:chExt cx="6203160" cy="2585160"/>
            </a:xfrm>
          </p:grpSpPr>
          <p:grpSp>
            <p:nvGrpSpPr>
              <p:cNvPr id="2685" name=""/>
              <p:cNvGrpSpPr/>
              <p:nvPr/>
            </p:nvGrpSpPr>
            <p:grpSpPr>
              <a:xfrm>
                <a:off x="1751040" y="2464200"/>
                <a:ext cx="4300200" cy="2562480"/>
                <a:chOff x="1751040" y="2464200"/>
                <a:chExt cx="4300200" cy="2562480"/>
              </a:xfrm>
            </p:grpSpPr>
            <p:sp>
              <p:nvSpPr>
                <p:cNvPr id="2686" name=""/>
                <p:cNvSpPr/>
                <p:nvPr/>
              </p:nvSpPr>
              <p:spPr>
                <a:xfrm>
                  <a:off x="365220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>
                  <a:off x="2288160" y="288504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8" name=""/>
                <p:cNvSpPr/>
                <p:nvPr/>
              </p:nvSpPr>
              <p:spPr>
                <a:xfrm>
                  <a:off x="175104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>
                  <a:off x="2015280" y="2472120"/>
                  <a:ext cx="52992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0" name=""/>
                <p:cNvSpPr/>
                <p:nvPr/>
              </p:nvSpPr>
              <p:spPr>
                <a:xfrm>
                  <a:off x="2015280" y="330048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1" name=""/>
                <p:cNvSpPr/>
                <p:nvPr/>
              </p:nvSpPr>
              <p:spPr>
                <a:xfrm>
                  <a:off x="2559240" y="330048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>
                  <a:off x="283212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3" name=""/>
                <p:cNvSpPr/>
                <p:nvPr/>
              </p:nvSpPr>
              <p:spPr>
                <a:xfrm>
                  <a:off x="255924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4" name=""/>
                <p:cNvSpPr/>
                <p:nvPr/>
              </p:nvSpPr>
              <p:spPr>
                <a:xfrm>
                  <a:off x="36475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>
                  <a:off x="311040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6" name=""/>
                <p:cNvSpPr/>
                <p:nvPr/>
              </p:nvSpPr>
              <p:spPr>
                <a:xfrm>
                  <a:off x="33742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7" name=""/>
                <p:cNvSpPr/>
                <p:nvPr/>
              </p:nvSpPr>
              <p:spPr>
                <a:xfrm>
                  <a:off x="33742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>
                  <a:off x="39160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9" name=""/>
                <p:cNvSpPr/>
                <p:nvPr/>
              </p:nvSpPr>
              <p:spPr>
                <a:xfrm>
                  <a:off x="41893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0" name=""/>
                <p:cNvSpPr/>
                <p:nvPr/>
              </p:nvSpPr>
              <p:spPr>
                <a:xfrm>
                  <a:off x="39160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>
                  <a:off x="2566080" y="4136760"/>
                  <a:ext cx="52992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2" name=""/>
                <p:cNvSpPr/>
                <p:nvPr/>
              </p:nvSpPr>
              <p:spPr>
                <a:xfrm>
                  <a:off x="202896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3" name=""/>
                <p:cNvSpPr/>
                <p:nvPr/>
              </p:nvSpPr>
              <p:spPr>
                <a:xfrm>
                  <a:off x="2292840" y="3723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>
                  <a:off x="2292840" y="4551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>
                  <a:off x="283680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6" name=""/>
                <p:cNvSpPr/>
                <p:nvPr/>
              </p:nvSpPr>
              <p:spPr>
                <a:xfrm>
                  <a:off x="311040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7" name=""/>
                <p:cNvSpPr/>
                <p:nvPr/>
              </p:nvSpPr>
              <p:spPr>
                <a:xfrm>
                  <a:off x="2836800" y="3723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>
                  <a:off x="4978800" y="28771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9" name=""/>
                <p:cNvSpPr/>
                <p:nvPr/>
              </p:nvSpPr>
              <p:spPr>
                <a:xfrm>
                  <a:off x="444204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0" name=""/>
                <p:cNvSpPr/>
                <p:nvPr/>
              </p:nvSpPr>
              <p:spPr>
                <a:xfrm>
                  <a:off x="4705920" y="2464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>
                  <a:off x="4705920" y="3292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2" name=""/>
                <p:cNvSpPr/>
                <p:nvPr/>
              </p:nvSpPr>
              <p:spPr>
                <a:xfrm>
                  <a:off x="5249880" y="3292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3" name=""/>
                <p:cNvSpPr/>
                <p:nvPr/>
              </p:nvSpPr>
              <p:spPr>
                <a:xfrm>
                  <a:off x="552348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>
                  <a:off x="52498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5" name=""/>
                <p:cNvSpPr/>
                <p:nvPr/>
              </p:nvSpPr>
              <p:spPr>
                <a:xfrm>
                  <a:off x="4731120" y="413280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6" name=""/>
                <p:cNvSpPr/>
                <p:nvPr/>
              </p:nvSpPr>
              <p:spPr>
                <a:xfrm>
                  <a:off x="419364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7" name=""/>
                <p:cNvSpPr/>
                <p:nvPr/>
              </p:nvSpPr>
              <p:spPr>
                <a:xfrm>
                  <a:off x="4457520" y="371736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8" name=""/>
                <p:cNvSpPr/>
                <p:nvPr/>
              </p:nvSpPr>
              <p:spPr>
                <a:xfrm>
                  <a:off x="4457520" y="45457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>
                  <a:off x="5002200" y="45457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>
                  <a:off x="527508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1" name=""/>
                <p:cNvSpPr/>
                <p:nvPr/>
              </p:nvSpPr>
              <p:spPr>
                <a:xfrm>
                  <a:off x="5002200" y="37173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2" name=""/>
                <p:cNvSpPr/>
                <p:nvPr/>
              </p:nvSpPr>
              <p:spPr>
                <a:xfrm>
                  <a:off x="311508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>
                  <a:off x="3929760" y="453132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4" name=""/>
                <p:cNvSpPr/>
                <p:nvPr/>
              </p:nvSpPr>
              <p:spPr>
                <a:xfrm>
                  <a:off x="337896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>
                  <a:off x="3652200" y="41241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>
                  <a:off x="41734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7" name=""/>
              <p:cNvSpPr/>
              <p:nvPr/>
            </p:nvSpPr>
            <p:spPr>
              <a:xfrm>
                <a:off x="1494360" y="247896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957240" y="246600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1221120" y="2881080"/>
                <a:ext cx="529920" cy="475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1762560" y="372204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1489680" y="330696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5810760" y="24498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5806080" y="32882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6088320" y="369108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6361560" y="32760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6074640" y="28630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6613920" y="28544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6366240" y="4110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6630120" y="3695400"/>
                <a:ext cx="53028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6630120" y="4523400"/>
                <a:ext cx="53028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6102360" y="4509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5824080" y="41022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6345360" y="244152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5558040" y="4536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5530680" y="3705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6" name=""/>
            <p:cNvSpPr/>
            <p:nvPr/>
          </p:nvSpPr>
          <p:spPr>
            <a:xfrm>
              <a:off x="7142040" y="287496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7391520" y="2457360"/>
              <a:ext cx="5270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7684920" y="2849760"/>
              <a:ext cx="527040" cy="47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7464240" y="3267000"/>
              <a:ext cx="5288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7197840" y="371016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7918560" y="2428920"/>
              <a:ext cx="52848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2" name=""/>
          <p:cNvGrpSpPr/>
          <p:nvPr/>
        </p:nvGrpSpPr>
        <p:grpSpPr>
          <a:xfrm>
            <a:off x="1219320" y="2585880"/>
            <a:ext cx="6463440" cy="2581200"/>
            <a:chOff x="1219320" y="2585880"/>
            <a:chExt cx="6463440" cy="2581200"/>
          </a:xfrm>
        </p:grpSpPr>
        <p:sp>
          <p:nvSpPr>
            <p:cNvPr id="2753" name=""/>
            <p:cNvSpPr/>
            <p:nvPr/>
          </p:nvSpPr>
          <p:spPr>
            <a:xfrm>
              <a:off x="1219320" y="2611080"/>
              <a:ext cx="531360" cy="4748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4" name=""/>
            <p:cNvGrpSpPr/>
            <p:nvPr/>
          </p:nvGrpSpPr>
          <p:grpSpPr>
            <a:xfrm>
              <a:off x="1484280" y="2585880"/>
              <a:ext cx="6198480" cy="2581200"/>
              <a:chOff x="1484280" y="2585880"/>
              <a:chExt cx="6198480" cy="2581200"/>
            </a:xfrm>
          </p:grpSpPr>
          <p:sp>
            <p:nvSpPr>
              <p:cNvPr id="2755" name=""/>
              <p:cNvSpPr/>
              <p:nvPr/>
            </p:nvSpPr>
            <p:spPr>
              <a:xfrm>
                <a:off x="6624360" y="261108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5260680" y="3024000"/>
                <a:ext cx="5299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5532120" y="343980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5805000" y="302400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553212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6619320" y="343692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6082920" y="343692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6346440" y="302400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6346440" y="3852720"/>
                <a:ext cx="528120" cy="4744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5538240" y="427644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5265360" y="386208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5265360" y="469080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5809680" y="469080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6082920" y="427644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5809680" y="386208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608760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6355800" y="4668480"/>
                <a:ext cx="5284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72" name=""/>
              <p:cNvGrpSpPr/>
              <p:nvPr/>
            </p:nvGrpSpPr>
            <p:grpSpPr>
              <a:xfrm>
                <a:off x="1484280" y="2593800"/>
                <a:ext cx="4051800" cy="2563560"/>
                <a:chOff x="1484280" y="2593800"/>
                <a:chExt cx="4051800" cy="2563560"/>
              </a:xfrm>
            </p:grpSpPr>
            <p:sp>
              <p:nvSpPr>
                <p:cNvPr id="2773" name=""/>
                <p:cNvSpPr/>
                <p:nvPr/>
              </p:nvSpPr>
              <p:spPr>
                <a:xfrm>
                  <a:off x="338508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4" name=""/>
                <p:cNvSpPr/>
                <p:nvPr/>
              </p:nvSpPr>
              <p:spPr>
                <a:xfrm>
                  <a:off x="2021040" y="301536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5" name=""/>
                <p:cNvSpPr/>
                <p:nvPr/>
              </p:nvSpPr>
              <p:spPr>
                <a:xfrm>
                  <a:off x="148428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>
                  <a:off x="1748160" y="260208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7" name=""/>
                <p:cNvSpPr/>
                <p:nvPr/>
              </p:nvSpPr>
              <p:spPr>
                <a:xfrm>
                  <a:off x="1748160" y="343044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8" name=""/>
                <p:cNvSpPr/>
                <p:nvPr/>
              </p:nvSpPr>
              <p:spPr>
                <a:xfrm>
                  <a:off x="2292120" y="343044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9" name=""/>
                <p:cNvSpPr/>
                <p:nvPr/>
              </p:nvSpPr>
              <p:spPr>
                <a:xfrm>
                  <a:off x="256536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0" name=""/>
                <p:cNvSpPr/>
                <p:nvPr/>
              </p:nvSpPr>
              <p:spPr>
                <a:xfrm>
                  <a:off x="229212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1" name=""/>
                <p:cNvSpPr/>
                <p:nvPr/>
              </p:nvSpPr>
              <p:spPr>
                <a:xfrm>
                  <a:off x="338040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2" name=""/>
                <p:cNvSpPr/>
                <p:nvPr/>
              </p:nvSpPr>
              <p:spPr>
                <a:xfrm>
                  <a:off x="284292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3" name=""/>
                <p:cNvSpPr/>
                <p:nvPr/>
              </p:nvSpPr>
              <p:spPr>
                <a:xfrm>
                  <a:off x="31071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>
                  <a:off x="31071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>
                  <a:off x="36489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6" name=""/>
                <p:cNvSpPr/>
                <p:nvPr/>
              </p:nvSpPr>
              <p:spPr>
                <a:xfrm>
                  <a:off x="392256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>
                  <a:off x="36489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>
                  <a:off x="2298960" y="426708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9" name=""/>
                <p:cNvSpPr/>
                <p:nvPr/>
              </p:nvSpPr>
              <p:spPr>
                <a:xfrm>
                  <a:off x="2025720" y="385380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0" name=""/>
                <p:cNvSpPr/>
                <p:nvPr/>
              </p:nvSpPr>
              <p:spPr>
                <a:xfrm>
                  <a:off x="2569680" y="468252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1" name=""/>
                <p:cNvSpPr/>
                <p:nvPr/>
              </p:nvSpPr>
              <p:spPr>
                <a:xfrm>
                  <a:off x="2842920" y="42670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2" name=""/>
                <p:cNvSpPr/>
                <p:nvPr/>
              </p:nvSpPr>
              <p:spPr>
                <a:xfrm>
                  <a:off x="2569680" y="385380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>
                  <a:off x="4712400" y="300672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>
                  <a:off x="4174920" y="300672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>
                  <a:off x="4438800" y="259380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6" name=""/>
                <p:cNvSpPr/>
                <p:nvPr/>
              </p:nvSpPr>
              <p:spPr>
                <a:xfrm>
                  <a:off x="4438800" y="342216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>
                  <a:off x="4983120" y="34221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>
                  <a:off x="498312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9" name=""/>
                <p:cNvSpPr/>
                <p:nvPr/>
              </p:nvSpPr>
              <p:spPr>
                <a:xfrm>
                  <a:off x="4464000" y="426276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>
                  <a:off x="392652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1" name=""/>
                <p:cNvSpPr/>
                <p:nvPr/>
              </p:nvSpPr>
              <p:spPr>
                <a:xfrm>
                  <a:off x="4191120" y="384768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>
                  <a:off x="4191120" y="467604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>
                  <a:off x="4735080" y="467604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>
                  <a:off x="500796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>
                  <a:off x="4735080" y="38476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>
                  <a:off x="284760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7" name=""/>
                <p:cNvSpPr/>
                <p:nvPr/>
              </p:nvSpPr>
              <p:spPr>
                <a:xfrm>
                  <a:off x="3662640" y="466164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8" name=""/>
                <p:cNvSpPr/>
                <p:nvPr/>
              </p:nvSpPr>
              <p:spPr>
                <a:xfrm>
                  <a:off x="3111840" y="468252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>
                  <a:off x="3385080" y="4254840"/>
                  <a:ext cx="527760" cy="4766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>
                  <a:off x="390636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11" name=""/>
              <p:cNvSpPr/>
              <p:nvPr/>
            </p:nvSpPr>
            <p:spPr>
              <a:xfrm>
                <a:off x="6906960" y="300816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7154640" y="258588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13" name=""/>
          <p:cNvGrpSpPr/>
          <p:nvPr/>
        </p:nvGrpSpPr>
        <p:grpSpPr>
          <a:xfrm>
            <a:off x="3119400" y="2727360"/>
            <a:ext cx="4294080" cy="2158920"/>
            <a:chOff x="3119400" y="2727360"/>
            <a:chExt cx="4294080" cy="2158920"/>
          </a:xfrm>
        </p:grpSpPr>
        <p:sp>
          <p:nvSpPr>
            <p:cNvPr id="2814" name=""/>
            <p:cNvSpPr/>
            <p:nvPr/>
          </p:nvSpPr>
          <p:spPr>
            <a:xfrm>
              <a:off x="5823000" y="356724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5549760" y="3981600"/>
              <a:ext cx="52704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6091200" y="3981600"/>
              <a:ext cx="52848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6364440" y="356724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6091200" y="315288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5284800" y="440532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5827680" y="4392720"/>
              <a:ext cx="5270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6348240" y="2732040"/>
              <a:ext cx="528840" cy="474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3657600" y="357012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3384360" y="3986280"/>
              <a:ext cx="5270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3925800" y="398628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4199040" y="357012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3925800" y="315756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3119400" y="441000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989600" y="314964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451400" y="314964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716360" y="273528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716360" y="356400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5259240" y="356400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5533920" y="314964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5259240" y="273528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4741920" y="4405320"/>
              <a:ext cx="5302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4203720" y="4405320"/>
              <a:ext cx="5284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4467240" y="3989520"/>
              <a:ext cx="53172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5791320" y="273528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5011560" y="3989520"/>
              <a:ext cx="5288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3662280" y="439740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183200" y="273528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6616800" y="314496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6885000" y="272736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4" name=""/>
          <p:cNvGrpSpPr/>
          <p:nvPr/>
        </p:nvGrpSpPr>
        <p:grpSpPr>
          <a:xfrm>
            <a:off x="1501920" y="2449440"/>
            <a:ext cx="2688480" cy="2142360"/>
            <a:chOff x="1501920" y="2449440"/>
            <a:chExt cx="2688480" cy="2142360"/>
          </a:xfrm>
        </p:grpSpPr>
        <p:sp>
          <p:nvSpPr>
            <p:cNvPr id="2845" name=""/>
            <p:cNvSpPr/>
            <p:nvPr/>
          </p:nvSpPr>
          <p:spPr>
            <a:xfrm>
              <a:off x="2851920" y="2858400"/>
              <a:ext cx="527760" cy="477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6" name=""/>
            <p:cNvGrpSpPr/>
            <p:nvPr/>
          </p:nvGrpSpPr>
          <p:grpSpPr>
            <a:xfrm>
              <a:off x="1501920" y="2449440"/>
              <a:ext cx="2688480" cy="2142360"/>
              <a:chOff x="1501920" y="2449440"/>
              <a:chExt cx="2688480" cy="2142360"/>
            </a:xfrm>
          </p:grpSpPr>
          <p:sp>
            <p:nvSpPr>
              <p:cNvPr id="2847" name=""/>
              <p:cNvSpPr/>
              <p:nvPr/>
            </p:nvSpPr>
            <p:spPr>
              <a:xfrm>
                <a:off x="366264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2298960" y="2862000"/>
                <a:ext cx="52992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1761480" y="2862000"/>
                <a:ext cx="52776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2025360" y="2449440"/>
                <a:ext cx="5299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2025360" y="3277800"/>
                <a:ext cx="5299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2569680" y="327780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256968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3120480" y="3275640"/>
                <a:ext cx="52776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3384360" y="2862000"/>
                <a:ext cx="528120" cy="4755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2576520" y="4114800"/>
                <a:ext cx="530280" cy="477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2302920" y="3701520"/>
                <a:ext cx="53028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2847240" y="3701520"/>
                <a:ext cx="5281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312516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1501920" y="2453040"/>
                <a:ext cx="53028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61" name=""/>
          <p:cNvSpPr/>
          <p:nvPr/>
        </p:nvSpPr>
        <p:spPr>
          <a:xfrm>
            <a:off x="4710240" y="4157640"/>
            <a:ext cx="52848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5778360" y="4170240"/>
            <a:ext cx="52704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4164120" y="3322800"/>
            <a:ext cx="52704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3890880" y="3738600"/>
            <a:ext cx="527040" cy="474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4432320" y="3738600"/>
            <a:ext cx="528480" cy="474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4705200" y="3322800"/>
            <a:ext cx="52884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4432320" y="2909880"/>
            <a:ext cx="52848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3352680" y="4576680"/>
            <a:ext cx="52884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3625920" y="4160880"/>
            <a:ext cx="52848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4957920" y="2901960"/>
            <a:ext cx="528480" cy="476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5222880" y="3316320"/>
            <a:ext cx="530280" cy="474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5246640" y="4157640"/>
            <a:ext cx="53172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4973760" y="3741840"/>
            <a:ext cx="53028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4973760" y="4570560"/>
            <a:ext cx="53028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5518080" y="3741840"/>
            <a:ext cx="52884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4446720" y="4556160"/>
            <a:ext cx="527040" cy="474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3895560" y="4576680"/>
            <a:ext cx="52704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4168800" y="4149720"/>
            <a:ext cx="527040" cy="476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5502240" y="4603680"/>
            <a:ext cx="52884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6039000" y="4578480"/>
            <a:ext cx="528480" cy="476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4686480" y="2486160"/>
            <a:ext cx="52848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82400"/>
                </a:solidFill>
                <a:latin typeface="Times New Roman"/>
              </a:rPr>
              <a:t>Kugelpackungen</a:t>
            </a: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2883" name=""/>
          <p:cNvGrpSpPr/>
          <p:nvPr/>
        </p:nvGrpSpPr>
        <p:grpSpPr>
          <a:xfrm>
            <a:off x="1085760" y="1219320"/>
            <a:ext cx="3429000" cy="1143000"/>
            <a:chOff x="1085760" y="1219320"/>
            <a:chExt cx="3429000" cy="1143000"/>
          </a:xfrm>
        </p:grpSpPr>
        <p:sp>
          <p:nvSpPr>
            <p:cNvPr id="2884" name=""/>
            <p:cNvSpPr/>
            <p:nvPr/>
          </p:nvSpPr>
          <p:spPr>
            <a:xfrm rot="5400000">
              <a:off x="2628720" y="876240"/>
              <a:ext cx="304920" cy="26668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69480 h 2666880"/>
                <a:gd name="textAreaBottom" fmla="*/ 259740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1298160" y="1600200"/>
              <a:ext cx="302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Times New Roman"/>
                </a:rPr>
                <a:t>hexagonal dichteste Kugelpack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1085760" y="121932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66ff"/>
                  </a:solidFill>
                  <a:latin typeface="Times New Roman"/>
                </a:rPr>
                <a:t>Schichtenfolge:   </a:t>
              </a:r>
              <a:r>
                <a:rPr b="1" lang="de-DE" sz="2400" spc="-1" strike="noStrike">
                  <a:solidFill>
                    <a:srgbClr val="ffffff"/>
                  </a:solidFill>
                  <a:latin typeface="Times New Roman"/>
                </a:rPr>
                <a:t>A </a:t>
              </a:r>
              <a:r>
                <a:rPr b="1" lang="de-DE" sz="2400" spc="-1" strike="noStrike">
                  <a:solidFill>
                    <a:srgbClr val="0066ff"/>
                  </a:solidFill>
                  <a:latin typeface="Times New Roman"/>
                </a:rPr>
                <a:t>  </a:t>
              </a:r>
              <a:r>
                <a:rPr b="1" lang="de-DE" sz="24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r>
                <a:rPr b="1" lang="de-DE" sz="2400" spc="-1" strike="noStrike">
                  <a:solidFill>
                    <a:srgbClr val="0066ff"/>
                  </a:solidFill>
                  <a:latin typeface="Times New Roman"/>
                </a:rPr>
                <a:t>  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7" name=""/>
          <p:cNvGrpSpPr/>
          <p:nvPr/>
        </p:nvGrpSpPr>
        <p:grpSpPr>
          <a:xfrm>
            <a:off x="3067200" y="5486040"/>
            <a:ext cx="3876480" cy="1145880"/>
            <a:chOff x="3067200" y="5486040"/>
            <a:chExt cx="3876480" cy="1145880"/>
          </a:xfrm>
        </p:grpSpPr>
        <p:sp>
          <p:nvSpPr>
            <p:cNvPr id="2888" name=""/>
            <p:cNvSpPr/>
            <p:nvPr/>
          </p:nvSpPr>
          <p:spPr>
            <a:xfrm flipV="1" rot="16200000">
              <a:off x="4838400" y="4152240"/>
              <a:ext cx="304920" cy="29718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3584160" y="5835600"/>
              <a:ext cx="282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Times New Roman"/>
                </a:rPr>
                <a:t>kubisch dichteste Kugelpack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3067200" y="6172200"/>
              <a:ext cx="387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ff00"/>
                  </a:solidFill>
                  <a:latin typeface="Times New Roman"/>
                </a:rPr>
                <a:t>Schichtenfolge:</a:t>
              </a:r>
              <a:r>
                <a:rPr b="0" lang="de-DE" sz="2400" spc="-1" strike="noStrike">
                  <a:solidFill>
                    <a:srgbClr val="0066ff"/>
                  </a:solidFill>
                  <a:latin typeface="Times New Roman"/>
                </a:rPr>
                <a:t>   </a:t>
              </a:r>
              <a:r>
                <a:rPr b="1" lang="de-DE" sz="2400" spc="-1" strike="noStrike">
                  <a:solidFill>
                    <a:srgbClr val="ffffff"/>
                  </a:solidFill>
                  <a:latin typeface="Times New Roman"/>
                </a:rPr>
                <a:t>A </a:t>
              </a:r>
              <a:r>
                <a:rPr b="1" lang="de-DE" sz="2400" spc="-1" strike="noStrike">
                  <a:solidFill>
                    <a:srgbClr val="0066ff"/>
                  </a:solidFill>
                  <a:latin typeface="Times New Roman"/>
                </a:rPr>
                <a:t>  </a:t>
              </a:r>
              <a:r>
                <a:rPr b="1" lang="de-DE" sz="24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r>
                <a:rPr b="1" lang="de-DE" sz="2400" spc="-1" strike="noStrike">
                  <a:solidFill>
                    <a:srgbClr val="0066ff"/>
                  </a:solidFill>
                  <a:latin typeface="Times New Roman"/>
                </a:rPr>
                <a:t>   C   </a:t>
              </a:r>
              <a:r>
                <a:rPr b="1" lang="de-DE" sz="2400" spc="-1" strike="noStrike">
                  <a:solidFill>
                    <a:srgbClr val="00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eter Maisenb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8FE68-D83B-483C-9A16-2FD3C93D058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82400"/>
                </a:solidFill>
                <a:latin typeface="Times New Roman"/>
              </a:rPr>
              <a:t>Kugelpackungen</a:t>
            </a: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765000" y="1797120"/>
            <a:ext cx="30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hexagonal dichteste Kugelpack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533520" y="1371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ff"/>
                </a:solidFill>
                <a:latin typeface="Times New Roman"/>
              </a:rPr>
              <a:t>Schichtenfolge:   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de-DE" sz="24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1" lang="de-DE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de-DE" sz="2400" spc="-1" strike="noStrike">
                <a:solidFill>
                  <a:srgbClr val="0066ff"/>
                </a:solidFill>
                <a:latin typeface="Times New Roman"/>
              </a:rPr>
              <a:t> 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5641560" y="1797120"/>
            <a:ext cx="28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kubisch dichteste Kugelpack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5029200" y="1371600"/>
            <a:ext cx="387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Schichtenfolge:</a:t>
            </a:r>
            <a:r>
              <a:rPr b="0" lang="de-DE" sz="2400" spc="-1" strike="noStrike">
                <a:solidFill>
                  <a:srgbClr val="0066ff"/>
                </a:solidFill>
                <a:latin typeface="Times New Roman"/>
              </a:rPr>
              <a:t>   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de-DE" sz="24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1" lang="de-DE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de-DE" sz="2400" spc="-1" strike="noStrike">
                <a:solidFill>
                  <a:srgbClr val="0066ff"/>
                </a:solidFill>
                <a:latin typeface="Times New Roman"/>
              </a:rPr>
              <a:t>   C   </a:t>
            </a:r>
            <a:r>
              <a:rPr b="1" lang="de-DE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6" name="Folie1" descr=""/>
          <p:cNvPicPr/>
          <p:nvPr/>
        </p:nvPicPr>
        <p:blipFill>
          <a:blip r:embed="rId1"/>
          <a:srcRect l="6483" t="21606" r="56483" b="21606"/>
          <a:stretch/>
        </p:blipFill>
        <p:spPr>
          <a:xfrm>
            <a:off x="5638680" y="2362320"/>
            <a:ext cx="2784600" cy="3200400"/>
          </a:xfrm>
          <a:prstGeom prst="rect">
            <a:avLst/>
          </a:prstGeom>
          <a:ln w="0">
            <a:noFill/>
          </a:ln>
        </p:spPr>
      </p:pic>
      <p:pic>
        <p:nvPicPr>
          <p:cNvPr id="2897" name="Folie1" descr=""/>
          <p:cNvPicPr/>
          <p:nvPr/>
        </p:nvPicPr>
        <p:blipFill>
          <a:blip r:embed="rId2"/>
          <a:srcRect l="53706" t="21606" r="8331" b="21606"/>
          <a:stretch/>
        </p:blipFill>
        <p:spPr>
          <a:xfrm>
            <a:off x="838080" y="2362320"/>
            <a:ext cx="2855880" cy="320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eter Maisenb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B6E78-9E5A-4BBE-AFDF-79075E9632E0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957240" y="2428920"/>
            <a:ext cx="7489800" cy="2980800"/>
            <a:chOff x="957240" y="2428920"/>
            <a:chExt cx="7489800" cy="2980800"/>
          </a:xfrm>
        </p:grpSpPr>
        <p:grpSp>
          <p:nvGrpSpPr>
            <p:cNvPr id="276" name=""/>
            <p:cNvGrpSpPr/>
            <p:nvPr/>
          </p:nvGrpSpPr>
          <p:grpSpPr>
            <a:xfrm>
              <a:off x="2573280" y="4921200"/>
              <a:ext cx="4315680" cy="488520"/>
              <a:chOff x="2573280" y="4921200"/>
              <a:chExt cx="4315680" cy="488520"/>
            </a:xfrm>
          </p:grpSpPr>
          <p:sp>
            <p:nvSpPr>
              <p:cNvPr id="277" name=""/>
              <p:cNvSpPr/>
              <p:nvPr/>
            </p:nvSpPr>
            <p:spPr>
              <a:xfrm>
                <a:off x="473796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358680" y="4921200"/>
                <a:ext cx="530280" cy="47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83092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28012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57328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194000" y="4925160"/>
                <a:ext cx="530280" cy="475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665880" y="493560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114720" y="4931280"/>
                <a:ext cx="52812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6915240" y="330372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864480" y="246240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894360" y="410688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957240" y="2441520"/>
              <a:ext cx="6203160" cy="2585160"/>
              <a:chOff x="957240" y="2441520"/>
              <a:chExt cx="6203160" cy="2585160"/>
            </a:xfrm>
          </p:grpSpPr>
          <p:grpSp>
            <p:nvGrpSpPr>
              <p:cNvPr id="289" name=""/>
              <p:cNvGrpSpPr/>
              <p:nvPr/>
            </p:nvGrpSpPr>
            <p:grpSpPr>
              <a:xfrm>
                <a:off x="1751040" y="2464200"/>
                <a:ext cx="4300200" cy="2562480"/>
                <a:chOff x="1751040" y="2464200"/>
                <a:chExt cx="4300200" cy="25624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65220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288160" y="288504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175104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015280" y="2472120"/>
                  <a:ext cx="52992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015280" y="330048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559240" y="330048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83212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55924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6475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11040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3742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3742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9160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41893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9160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566080" y="4136760"/>
                  <a:ext cx="52992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02896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292840" y="3723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292840" y="4551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83680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311040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836800" y="3723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4978800" y="28771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44204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705920" y="2464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4705920" y="3292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249880" y="3292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52348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2498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4731120" y="413280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419364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4457520" y="371736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4457520" y="45457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5002200" y="45457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527508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5002200" y="37173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311508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929760" y="453132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37896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652200" y="41241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41734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1494360" y="247896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957240" y="246600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221120" y="2881080"/>
                <a:ext cx="529920" cy="475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762560" y="372204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489680" y="330696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810760" y="24498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806080" y="32882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088320" y="369108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361560" y="32760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74640" y="28630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613920" y="28544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366240" y="4110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630120" y="3695400"/>
                <a:ext cx="53028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630120" y="4523400"/>
                <a:ext cx="53028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102360" y="4509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824080" y="41022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345360" y="244152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558040" y="4536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530680" y="3705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7142040" y="287496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91520" y="2457360"/>
              <a:ext cx="5270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684920" y="2849760"/>
              <a:ext cx="527040" cy="47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464240" y="3267000"/>
              <a:ext cx="5288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197840" y="371016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18560" y="2428920"/>
              <a:ext cx="52848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1219320" y="2585880"/>
            <a:ext cx="6463440" cy="2581200"/>
            <a:chOff x="1219320" y="2585880"/>
            <a:chExt cx="6463440" cy="2581200"/>
          </a:xfrm>
        </p:grpSpPr>
        <p:sp>
          <p:nvSpPr>
            <p:cNvPr id="357" name=""/>
            <p:cNvSpPr/>
            <p:nvPr/>
          </p:nvSpPr>
          <p:spPr>
            <a:xfrm>
              <a:off x="1219320" y="2611080"/>
              <a:ext cx="531360" cy="4748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1484280" y="2585880"/>
              <a:ext cx="6198480" cy="2581200"/>
              <a:chOff x="1484280" y="2585880"/>
              <a:chExt cx="6198480" cy="2581200"/>
            </a:xfrm>
          </p:grpSpPr>
          <p:sp>
            <p:nvSpPr>
              <p:cNvPr id="359" name=""/>
              <p:cNvSpPr/>
              <p:nvPr/>
            </p:nvSpPr>
            <p:spPr>
              <a:xfrm>
                <a:off x="6624360" y="261108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260680" y="3024000"/>
                <a:ext cx="5299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532120" y="343980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805000" y="302400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53212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619320" y="343692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082920" y="343692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346440" y="302400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346440" y="3852720"/>
                <a:ext cx="528120" cy="4744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538240" y="427644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265360" y="386208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265360" y="469080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809680" y="469080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082920" y="427644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809680" y="386208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08760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355800" y="4668480"/>
                <a:ext cx="5284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6" name=""/>
              <p:cNvGrpSpPr/>
              <p:nvPr/>
            </p:nvGrpSpPr>
            <p:grpSpPr>
              <a:xfrm>
                <a:off x="1484280" y="2593800"/>
                <a:ext cx="4051800" cy="2563560"/>
                <a:chOff x="1484280" y="2593800"/>
                <a:chExt cx="4051800" cy="256356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338508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021040" y="301536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48428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748160" y="260208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748160" y="343044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292120" y="343044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56536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29212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338040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84292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31071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1071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36489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392256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36489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298960" y="426708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025720" y="385380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569680" y="468252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842920" y="42670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569680" y="385380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4712400" y="300672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4174920" y="300672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438800" y="259380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4438800" y="342216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983120" y="34221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498312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464000" y="426276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92652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191120" y="384768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191120" y="467604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735080" y="467604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500796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735080" y="38476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84760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3662640" y="466164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3111840" y="468252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385080" y="4254840"/>
                  <a:ext cx="527760" cy="4766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390636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6906960" y="300816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154640" y="258588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7" name=""/>
          <p:cNvGrpSpPr/>
          <p:nvPr/>
        </p:nvGrpSpPr>
        <p:grpSpPr>
          <a:xfrm>
            <a:off x="3119400" y="2438280"/>
            <a:ext cx="4294080" cy="2158920"/>
            <a:chOff x="3119400" y="2438280"/>
            <a:chExt cx="4294080" cy="2158920"/>
          </a:xfrm>
        </p:grpSpPr>
        <p:sp>
          <p:nvSpPr>
            <p:cNvPr id="418" name=""/>
            <p:cNvSpPr/>
            <p:nvPr/>
          </p:nvSpPr>
          <p:spPr>
            <a:xfrm>
              <a:off x="5823000" y="327816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549760" y="3692520"/>
              <a:ext cx="52704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91200" y="3692520"/>
              <a:ext cx="52848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364440" y="327816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091200" y="286380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84800" y="411624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827680" y="4103640"/>
              <a:ext cx="5270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48240" y="2442960"/>
              <a:ext cx="528840" cy="474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657600" y="328104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4360" y="3697200"/>
              <a:ext cx="5270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925800" y="369720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199040" y="328104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925800" y="286848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119400" y="412092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989600" y="286056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451400" y="286056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716360" y="244620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16360" y="327492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259240" y="327492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33920" y="286056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259240" y="244620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741920" y="4116240"/>
              <a:ext cx="5302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203720" y="4116240"/>
              <a:ext cx="5284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467240" y="3700440"/>
              <a:ext cx="53172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791320" y="244620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011560" y="3700440"/>
              <a:ext cx="5288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662280" y="410832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183200" y="244620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616800" y="285588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885000" y="243828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2852640" y="2859120"/>
            <a:ext cx="527040" cy="476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662280" y="2449440"/>
            <a:ext cx="52884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298600" y="2862360"/>
            <a:ext cx="530280" cy="477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760400" y="2862360"/>
            <a:ext cx="528840" cy="477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025720" y="2449440"/>
            <a:ext cx="53028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025720" y="3278160"/>
            <a:ext cx="53028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570040" y="3278160"/>
            <a:ext cx="52704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570040" y="2449440"/>
            <a:ext cx="52704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21200" y="3276720"/>
            <a:ext cx="528480" cy="476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384720" y="2862360"/>
            <a:ext cx="528480" cy="476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576520" y="4114800"/>
            <a:ext cx="530280" cy="477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303640" y="3701880"/>
            <a:ext cx="52992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847960" y="3701880"/>
            <a:ext cx="52704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125880" y="2449440"/>
            <a:ext cx="52704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501920" y="2454120"/>
            <a:ext cx="529920" cy="476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82400"/>
                </a:solidFill>
                <a:latin typeface="Times New Roman"/>
              </a:rPr>
              <a:t>Kugelpackungen</a:t>
            </a: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357640" y="1371600"/>
            <a:ext cx="48182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ff"/>
                </a:solidFill>
                <a:latin typeface="Times New Roman"/>
              </a:rPr>
              <a:t>Kugeln in der dritten L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ff"/>
                </a:solidFill>
                <a:latin typeface="Times New Roman"/>
              </a:rPr>
              <a:t>liegen genau über denen in der ers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eter Maisenb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AA176-F96E-4CF4-B5AC-D731CC88989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"/>
          <p:cNvGrpSpPr/>
          <p:nvPr/>
        </p:nvGrpSpPr>
        <p:grpSpPr>
          <a:xfrm>
            <a:off x="957240" y="2428920"/>
            <a:ext cx="7489800" cy="2980800"/>
            <a:chOff x="957240" y="2428920"/>
            <a:chExt cx="7489800" cy="2980800"/>
          </a:xfrm>
        </p:grpSpPr>
        <p:grpSp>
          <p:nvGrpSpPr>
            <p:cNvPr id="466" name=""/>
            <p:cNvGrpSpPr/>
            <p:nvPr/>
          </p:nvGrpSpPr>
          <p:grpSpPr>
            <a:xfrm>
              <a:off x="2573280" y="4921200"/>
              <a:ext cx="4315680" cy="488520"/>
              <a:chOff x="2573280" y="4921200"/>
              <a:chExt cx="4315680" cy="488520"/>
            </a:xfrm>
          </p:grpSpPr>
          <p:sp>
            <p:nvSpPr>
              <p:cNvPr id="467" name=""/>
              <p:cNvSpPr/>
              <p:nvPr/>
            </p:nvSpPr>
            <p:spPr>
              <a:xfrm>
                <a:off x="473796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358680" y="4921200"/>
                <a:ext cx="530280" cy="47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83092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28012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57328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194000" y="4925160"/>
                <a:ext cx="530280" cy="475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665880" y="493560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114720" y="4931280"/>
                <a:ext cx="52812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6915240" y="330372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864480" y="246240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94360" y="410688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957240" y="2441520"/>
              <a:ext cx="6203160" cy="2585160"/>
              <a:chOff x="957240" y="2441520"/>
              <a:chExt cx="6203160" cy="2585160"/>
            </a:xfrm>
          </p:grpSpPr>
          <p:grpSp>
            <p:nvGrpSpPr>
              <p:cNvPr id="479" name=""/>
              <p:cNvGrpSpPr/>
              <p:nvPr/>
            </p:nvGrpSpPr>
            <p:grpSpPr>
              <a:xfrm>
                <a:off x="1751040" y="2464200"/>
                <a:ext cx="4300200" cy="2562480"/>
                <a:chOff x="1751040" y="2464200"/>
                <a:chExt cx="4300200" cy="256248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365220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288160" y="288504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175104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2015280" y="2472120"/>
                  <a:ext cx="52992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2015280" y="330048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2559240" y="330048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283212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255924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36475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11040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3742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33742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39160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41893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39160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2566080" y="4136760"/>
                  <a:ext cx="52992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02896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292840" y="3723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2292840" y="4551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283680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11040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836800" y="3723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4978800" y="28771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444204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4705920" y="2464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4705920" y="3292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5249880" y="3292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552348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52498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4731120" y="413280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419364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457520" y="371736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4457520" y="45457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5002200" y="45457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527508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5002200" y="37173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311508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929760" y="453132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337896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652200" y="41241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41734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1" name=""/>
              <p:cNvSpPr/>
              <p:nvPr/>
            </p:nvSpPr>
            <p:spPr>
              <a:xfrm>
                <a:off x="1494360" y="247896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57240" y="246600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221120" y="2881080"/>
                <a:ext cx="529920" cy="475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762560" y="372204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489680" y="330696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810760" y="24498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806080" y="32882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088320" y="369108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361560" y="32760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074640" y="28630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613920" y="28544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366240" y="4110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630120" y="3695400"/>
                <a:ext cx="53028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630120" y="4523400"/>
                <a:ext cx="53028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102360" y="4509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824080" y="41022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345360" y="244152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558040" y="4536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530680" y="3705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7142040" y="287496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391520" y="2457360"/>
              <a:ext cx="5270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684920" y="2849760"/>
              <a:ext cx="527040" cy="47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464240" y="3267000"/>
              <a:ext cx="5288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197840" y="371016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918560" y="2428920"/>
              <a:ext cx="52848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1219320" y="2585880"/>
            <a:ext cx="6463440" cy="2581200"/>
            <a:chOff x="1219320" y="2585880"/>
            <a:chExt cx="6463440" cy="2581200"/>
          </a:xfrm>
        </p:grpSpPr>
        <p:sp>
          <p:nvSpPr>
            <p:cNvPr id="547" name=""/>
            <p:cNvSpPr/>
            <p:nvPr/>
          </p:nvSpPr>
          <p:spPr>
            <a:xfrm>
              <a:off x="1219320" y="2611080"/>
              <a:ext cx="531360" cy="4748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1484280" y="2585880"/>
              <a:ext cx="6198480" cy="2581200"/>
              <a:chOff x="1484280" y="2585880"/>
              <a:chExt cx="6198480" cy="2581200"/>
            </a:xfrm>
          </p:grpSpPr>
          <p:sp>
            <p:nvSpPr>
              <p:cNvPr id="549" name=""/>
              <p:cNvSpPr/>
              <p:nvPr/>
            </p:nvSpPr>
            <p:spPr>
              <a:xfrm>
                <a:off x="6624360" y="261108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260680" y="3024000"/>
                <a:ext cx="5299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532120" y="343980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805000" y="302400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53212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619320" y="343692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082920" y="343692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346440" y="302400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346440" y="3852720"/>
                <a:ext cx="528120" cy="4744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538240" y="427644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265360" y="386208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265360" y="469080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809680" y="469080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082920" y="427644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809680" y="386208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08760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355800" y="4668480"/>
                <a:ext cx="5284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6" name=""/>
              <p:cNvGrpSpPr/>
              <p:nvPr/>
            </p:nvGrpSpPr>
            <p:grpSpPr>
              <a:xfrm>
                <a:off x="1484280" y="2593800"/>
                <a:ext cx="4051800" cy="2563560"/>
                <a:chOff x="1484280" y="2593800"/>
                <a:chExt cx="4051800" cy="256356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338508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2021040" y="301536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148428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748160" y="260208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748160" y="343044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2292120" y="343044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56536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229212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338040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284292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31071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31071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36489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92256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6489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298960" y="426708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025720" y="385380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2569680" y="468252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2842920" y="42670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2569680" y="385380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4712400" y="300672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4174920" y="300672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4438800" y="259380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4438800" y="342216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4983120" y="34221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498312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4464000" y="426276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92652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4191120" y="384768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4191120" y="467604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4735080" y="467604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500796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4735080" y="38476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284760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3662640" y="466164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3111840" y="468252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385080" y="4254840"/>
                  <a:ext cx="527760" cy="4766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90636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5" name=""/>
              <p:cNvSpPr/>
              <p:nvPr/>
            </p:nvSpPr>
            <p:spPr>
              <a:xfrm>
                <a:off x="6906960" y="300816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154640" y="258588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7" name=""/>
          <p:cNvGrpSpPr/>
          <p:nvPr/>
        </p:nvGrpSpPr>
        <p:grpSpPr>
          <a:xfrm>
            <a:off x="3119400" y="2438280"/>
            <a:ext cx="4294080" cy="2158920"/>
            <a:chOff x="3119400" y="2438280"/>
            <a:chExt cx="4294080" cy="2158920"/>
          </a:xfrm>
        </p:grpSpPr>
        <p:sp>
          <p:nvSpPr>
            <p:cNvPr id="608" name=""/>
            <p:cNvSpPr/>
            <p:nvPr/>
          </p:nvSpPr>
          <p:spPr>
            <a:xfrm>
              <a:off x="5823000" y="327816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549760" y="3692520"/>
              <a:ext cx="52704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091200" y="3692520"/>
              <a:ext cx="52848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364440" y="327816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91200" y="286380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284800" y="411624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27680" y="4103640"/>
              <a:ext cx="5270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348240" y="2442960"/>
              <a:ext cx="528840" cy="474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657600" y="328104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384360" y="3697200"/>
              <a:ext cx="5270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925800" y="369720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199040" y="328104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925800" y="286848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119400" y="412092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89600" y="286056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451400" y="286056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716360" y="244620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716360" y="327492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259240" y="327492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533920" y="286056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259240" y="244620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741920" y="4116240"/>
              <a:ext cx="5302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203720" y="4116240"/>
              <a:ext cx="5284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467240" y="3700440"/>
              <a:ext cx="53172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791320" y="244620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011560" y="3700440"/>
              <a:ext cx="5288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662280" y="410832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183200" y="244620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616800" y="285588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885000" y="243828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2852640" y="2859120"/>
            <a:ext cx="527040" cy="476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662280" y="2449440"/>
            <a:ext cx="52884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298600" y="2862360"/>
            <a:ext cx="530280" cy="477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760400" y="2862360"/>
            <a:ext cx="528840" cy="477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025720" y="2449440"/>
            <a:ext cx="53028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025720" y="3278160"/>
            <a:ext cx="53028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570040" y="3278160"/>
            <a:ext cx="52704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570040" y="2449440"/>
            <a:ext cx="52704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121200" y="3276720"/>
            <a:ext cx="528480" cy="476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384720" y="2862360"/>
            <a:ext cx="528480" cy="476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76520" y="4114800"/>
            <a:ext cx="530280" cy="477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303640" y="3701880"/>
            <a:ext cx="52992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847960" y="3701880"/>
            <a:ext cx="52704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125880" y="2449440"/>
            <a:ext cx="52704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523880" y="1828800"/>
            <a:ext cx="530280" cy="476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82400"/>
                </a:solidFill>
                <a:latin typeface="Times New Roman"/>
              </a:rPr>
              <a:t>Kugelpackungen</a:t>
            </a: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357640" y="1371600"/>
            <a:ext cx="48182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ff"/>
                </a:solidFill>
                <a:latin typeface="Times New Roman"/>
              </a:rPr>
              <a:t>Kugeln in der dritten L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ff"/>
                </a:solidFill>
                <a:latin typeface="Times New Roman"/>
              </a:rPr>
              <a:t>liegen genau über denen in der ers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eter Maisenb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00074-0081-4B88-AB47-45470C25D60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"/>
          <p:cNvGrpSpPr/>
          <p:nvPr/>
        </p:nvGrpSpPr>
        <p:grpSpPr>
          <a:xfrm>
            <a:off x="957240" y="2428920"/>
            <a:ext cx="7489800" cy="2980800"/>
            <a:chOff x="957240" y="2428920"/>
            <a:chExt cx="7489800" cy="2980800"/>
          </a:xfrm>
        </p:grpSpPr>
        <p:grpSp>
          <p:nvGrpSpPr>
            <p:cNvPr id="656" name=""/>
            <p:cNvGrpSpPr/>
            <p:nvPr/>
          </p:nvGrpSpPr>
          <p:grpSpPr>
            <a:xfrm>
              <a:off x="2573280" y="4921200"/>
              <a:ext cx="4315680" cy="488520"/>
              <a:chOff x="2573280" y="4921200"/>
              <a:chExt cx="4315680" cy="488520"/>
            </a:xfrm>
          </p:grpSpPr>
          <p:sp>
            <p:nvSpPr>
              <p:cNvPr id="657" name=""/>
              <p:cNvSpPr/>
              <p:nvPr/>
            </p:nvSpPr>
            <p:spPr>
              <a:xfrm>
                <a:off x="473796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358680" y="4921200"/>
                <a:ext cx="530280" cy="47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83092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28012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57328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194000" y="4925160"/>
                <a:ext cx="530280" cy="475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665880" y="493560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114720" y="4931280"/>
                <a:ext cx="52812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6915240" y="330372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864480" y="246240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894360" y="410688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957240" y="2441520"/>
              <a:ext cx="6203160" cy="2585160"/>
              <a:chOff x="957240" y="2441520"/>
              <a:chExt cx="6203160" cy="2585160"/>
            </a:xfrm>
          </p:grpSpPr>
          <p:grpSp>
            <p:nvGrpSpPr>
              <p:cNvPr id="669" name=""/>
              <p:cNvGrpSpPr/>
              <p:nvPr/>
            </p:nvGrpSpPr>
            <p:grpSpPr>
              <a:xfrm>
                <a:off x="1751040" y="2464200"/>
                <a:ext cx="4300200" cy="2562480"/>
                <a:chOff x="1751040" y="2464200"/>
                <a:chExt cx="4300200" cy="256248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365220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2288160" y="288504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175104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2015280" y="2472120"/>
                  <a:ext cx="52992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2015280" y="330048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2559240" y="330048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283212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255924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6475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311040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33742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33742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39160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41893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39160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2566080" y="4136760"/>
                  <a:ext cx="52992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202896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2292840" y="3723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2292840" y="4551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283680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311040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2836800" y="3723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4978800" y="28771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44204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4705920" y="2464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4705920" y="3292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249880" y="3292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52348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2498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4731120" y="413280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419364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4457520" y="371736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4457520" y="45457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5002200" y="45457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27508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5002200" y="37173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311508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3929760" y="453132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337896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3652200" y="41241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41734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1" name=""/>
              <p:cNvSpPr/>
              <p:nvPr/>
            </p:nvSpPr>
            <p:spPr>
              <a:xfrm>
                <a:off x="1494360" y="247896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957240" y="246600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221120" y="2881080"/>
                <a:ext cx="529920" cy="475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762560" y="372204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489680" y="330696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810760" y="24498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806080" y="32882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088320" y="369108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361560" y="32760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074640" y="28630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613920" y="28544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366240" y="4110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630120" y="3695400"/>
                <a:ext cx="53028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630120" y="4523400"/>
                <a:ext cx="53028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102360" y="4509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824080" y="41022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345360" y="244152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558040" y="4536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530680" y="3705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7142040" y="287496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91520" y="2457360"/>
              <a:ext cx="5270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684920" y="2849760"/>
              <a:ext cx="527040" cy="47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464240" y="3267000"/>
              <a:ext cx="5288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197840" y="371016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918560" y="2428920"/>
              <a:ext cx="52848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1219320" y="2585880"/>
            <a:ext cx="6463440" cy="2581200"/>
            <a:chOff x="1219320" y="2585880"/>
            <a:chExt cx="6463440" cy="2581200"/>
          </a:xfrm>
        </p:grpSpPr>
        <p:sp>
          <p:nvSpPr>
            <p:cNvPr id="737" name=""/>
            <p:cNvSpPr/>
            <p:nvPr/>
          </p:nvSpPr>
          <p:spPr>
            <a:xfrm>
              <a:off x="1219320" y="2611080"/>
              <a:ext cx="531360" cy="4748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1484280" y="2585880"/>
              <a:ext cx="6198480" cy="2581200"/>
              <a:chOff x="1484280" y="2585880"/>
              <a:chExt cx="6198480" cy="2581200"/>
            </a:xfrm>
          </p:grpSpPr>
          <p:sp>
            <p:nvSpPr>
              <p:cNvPr id="739" name=""/>
              <p:cNvSpPr/>
              <p:nvPr/>
            </p:nvSpPr>
            <p:spPr>
              <a:xfrm>
                <a:off x="6624360" y="261108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260680" y="3024000"/>
                <a:ext cx="5299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532120" y="343980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805000" y="302400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53212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619320" y="343692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082920" y="343692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346440" y="302400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346440" y="3852720"/>
                <a:ext cx="528120" cy="4744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538240" y="427644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265360" y="386208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265360" y="469080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809680" y="469080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082920" y="427644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809680" y="386208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08760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355800" y="4668480"/>
                <a:ext cx="5284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6" name=""/>
              <p:cNvGrpSpPr/>
              <p:nvPr/>
            </p:nvGrpSpPr>
            <p:grpSpPr>
              <a:xfrm>
                <a:off x="1484280" y="2593800"/>
                <a:ext cx="4051800" cy="2563560"/>
                <a:chOff x="1484280" y="2593800"/>
                <a:chExt cx="4051800" cy="256356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338508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2021040" y="301536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148428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1748160" y="260208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1748160" y="343044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2292120" y="343044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256536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229212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338040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284292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31071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31071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36489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392256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36489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2298960" y="426708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2025720" y="385380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2569680" y="468252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2842920" y="42670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2569680" y="385380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4712400" y="300672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4174920" y="300672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4438800" y="259380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4438800" y="342216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4983120" y="34221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498312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4464000" y="426276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392652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4191120" y="384768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4191120" y="467604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4735080" y="467604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00796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4735080" y="38476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284760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3662640" y="466164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3111840" y="468252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3385080" y="4254840"/>
                  <a:ext cx="527760" cy="4766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390636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5" name=""/>
              <p:cNvSpPr/>
              <p:nvPr/>
            </p:nvSpPr>
            <p:spPr>
              <a:xfrm>
                <a:off x="6906960" y="300816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154640" y="258588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7" name=""/>
          <p:cNvGrpSpPr/>
          <p:nvPr/>
        </p:nvGrpSpPr>
        <p:grpSpPr>
          <a:xfrm>
            <a:off x="3119400" y="2438280"/>
            <a:ext cx="4294080" cy="2158920"/>
            <a:chOff x="3119400" y="2438280"/>
            <a:chExt cx="4294080" cy="2158920"/>
          </a:xfrm>
        </p:grpSpPr>
        <p:sp>
          <p:nvSpPr>
            <p:cNvPr id="798" name=""/>
            <p:cNvSpPr/>
            <p:nvPr/>
          </p:nvSpPr>
          <p:spPr>
            <a:xfrm>
              <a:off x="5823000" y="327816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549760" y="3692520"/>
              <a:ext cx="52704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091200" y="3692520"/>
              <a:ext cx="52848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364440" y="327816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091200" y="286380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284800" y="411624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827680" y="4103640"/>
              <a:ext cx="5270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348240" y="2442960"/>
              <a:ext cx="528840" cy="474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657600" y="328104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384360" y="3697200"/>
              <a:ext cx="5270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925800" y="369720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199040" y="328104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925800" y="286848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119400" y="412092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989600" y="286056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451400" y="286056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716360" y="244620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716360" y="327492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259240" y="327492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33920" y="286056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59240" y="244620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741920" y="4116240"/>
              <a:ext cx="5302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203720" y="4116240"/>
              <a:ext cx="5284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467240" y="3700440"/>
              <a:ext cx="53172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791320" y="244620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011560" y="3700440"/>
              <a:ext cx="5288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662280" y="410832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183200" y="244620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616800" y="285588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85000" y="243828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8" name=""/>
          <p:cNvSpPr/>
          <p:nvPr/>
        </p:nvSpPr>
        <p:spPr>
          <a:xfrm>
            <a:off x="2852640" y="2859120"/>
            <a:ext cx="527040" cy="476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662280" y="2449440"/>
            <a:ext cx="52884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298600" y="2862360"/>
            <a:ext cx="530280" cy="477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760400" y="2862360"/>
            <a:ext cx="528840" cy="477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025720" y="2449440"/>
            <a:ext cx="53028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025720" y="3278160"/>
            <a:ext cx="53028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570040" y="3278160"/>
            <a:ext cx="52704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570040" y="2449440"/>
            <a:ext cx="52704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121200" y="3276720"/>
            <a:ext cx="528480" cy="476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384720" y="2862360"/>
            <a:ext cx="528480" cy="476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576520" y="4114800"/>
            <a:ext cx="530280" cy="477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303640" y="3701880"/>
            <a:ext cx="52992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847960" y="3701880"/>
            <a:ext cx="52704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125880" y="2449440"/>
            <a:ext cx="52704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504800" y="2448000"/>
            <a:ext cx="530280" cy="476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82400"/>
                </a:solidFill>
                <a:latin typeface="Times New Roman"/>
              </a:rPr>
              <a:t>Kugelpackungen</a:t>
            </a: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362320" y="1371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ff"/>
                </a:solidFill>
                <a:latin typeface="Times New Roman"/>
              </a:rPr>
              <a:t>Schichtenfolge:   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de-DE" sz="24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1" lang="de-DE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de-DE" sz="2400" spc="-1" strike="noStrike">
                <a:solidFill>
                  <a:srgbClr val="0066ff"/>
                </a:solidFill>
                <a:latin typeface="Times New Roman"/>
              </a:rPr>
              <a:t> 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358000" y="1828800"/>
            <a:ext cx="4777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=  hexagonal dichteste Kugelpack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eter Maisenb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2A49B-1ECD-46D5-8B9B-155969EC71B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"/>
          <p:cNvGrpSpPr/>
          <p:nvPr/>
        </p:nvGrpSpPr>
        <p:grpSpPr>
          <a:xfrm>
            <a:off x="957240" y="2428920"/>
            <a:ext cx="7489800" cy="2980800"/>
            <a:chOff x="957240" y="2428920"/>
            <a:chExt cx="7489800" cy="2980800"/>
          </a:xfrm>
        </p:grpSpPr>
        <p:grpSp>
          <p:nvGrpSpPr>
            <p:cNvPr id="847" name=""/>
            <p:cNvGrpSpPr/>
            <p:nvPr/>
          </p:nvGrpSpPr>
          <p:grpSpPr>
            <a:xfrm>
              <a:off x="2573280" y="4921200"/>
              <a:ext cx="4315680" cy="488520"/>
              <a:chOff x="2573280" y="4921200"/>
              <a:chExt cx="4315680" cy="488520"/>
            </a:xfrm>
          </p:grpSpPr>
          <p:sp>
            <p:nvSpPr>
              <p:cNvPr id="848" name=""/>
              <p:cNvSpPr/>
              <p:nvPr/>
            </p:nvSpPr>
            <p:spPr>
              <a:xfrm>
                <a:off x="473796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358680" y="4921200"/>
                <a:ext cx="530280" cy="47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83092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28012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57328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194000" y="4925160"/>
                <a:ext cx="530280" cy="475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665880" y="493560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114720" y="4931280"/>
                <a:ext cx="52812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6915240" y="330372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864480" y="246240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894360" y="410688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9" name=""/>
            <p:cNvGrpSpPr/>
            <p:nvPr/>
          </p:nvGrpSpPr>
          <p:grpSpPr>
            <a:xfrm>
              <a:off x="957240" y="2441520"/>
              <a:ext cx="6203160" cy="2585160"/>
              <a:chOff x="957240" y="2441520"/>
              <a:chExt cx="6203160" cy="2585160"/>
            </a:xfrm>
          </p:grpSpPr>
          <p:grpSp>
            <p:nvGrpSpPr>
              <p:cNvPr id="860" name=""/>
              <p:cNvGrpSpPr/>
              <p:nvPr/>
            </p:nvGrpSpPr>
            <p:grpSpPr>
              <a:xfrm>
                <a:off x="1751040" y="2464200"/>
                <a:ext cx="4300200" cy="2562480"/>
                <a:chOff x="1751040" y="2464200"/>
                <a:chExt cx="4300200" cy="2562480"/>
              </a:xfrm>
            </p:grpSpPr>
            <p:sp>
              <p:nvSpPr>
                <p:cNvPr id="861" name=""/>
                <p:cNvSpPr/>
                <p:nvPr/>
              </p:nvSpPr>
              <p:spPr>
                <a:xfrm>
                  <a:off x="365220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2288160" y="288504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175104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2015280" y="2472120"/>
                  <a:ext cx="52992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2015280" y="330048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2559240" y="330048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83212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255924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36475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311040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33742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33742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39160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41893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39160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2566080" y="4136760"/>
                  <a:ext cx="52992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202896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2292840" y="3723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2292840" y="4551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283680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311040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2836800" y="3723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4978800" y="28771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444204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4705920" y="2464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4705920" y="3292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5249880" y="3292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552348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52498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4731120" y="413280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19364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4457520" y="371736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4457520" y="45457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002200" y="45457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527508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5002200" y="37173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311508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3929760" y="453132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337896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3652200" y="41241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41734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2" name=""/>
              <p:cNvSpPr/>
              <p:nvPr/>
            </p:nvSpPr>
            <p:spPr>
              <a:xfrm>
                <a:off x="1494360" y="247896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957240" y="246600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221120" y="2881080"/>
                <a:ext cx="529920" cy="475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762560" y="372204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89680" y="330696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810760" y="24498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806080" y="32882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6088320" y="369108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6361560" y="32760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074640" y="28630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6613920" y="28544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6366240" y="4110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6630120" y="3695400"/>
                <a:ext cx="53028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6630120" y="4523400"/>
                <a:ext cx="53028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6102360" y="4509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824080" y="41022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345360" y="244152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558040" y="4536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530680" y="3705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1" name=""/>
            <p:cNvSpPr/>
            <p:nvPr/>
          </p:nvSpPr>
          <p:spPr>
            <a:xfrm>
              <a:off x="7142040" y="287496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391520" y="2457360"/>
              <a:ext cx="5270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684920" y="2849760"/>
              <a:ext cx="527040" cy="47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464240" y="3267000"/>
              <a:ext cx="5288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197840" y="371016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918560" y="2428920"/>
              <a:ext cx="52848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1219320" y="2585880"/>
            <a:ext cx="6463440" cy="2581200"/>
            <a:chOff x="1219320" y="2585880"/>
            <a:chExt cx="6463440" cy="2581200"/>
          </a:xfrm>
        </p:grpSpPr>
        <p:sp>
          <p:nvSpPr>
            <p:cNvPr id="928" name=""/>
            <p:cNvSpPr/>
            <p:nvPr/>
          </p:nvSpPr>
          <p:spPr>
            <a:xfrm>
              <a:off x="1219320" y="2611080"/>
              <a:ext cx="531360" cy="4748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9" name=""/>
            <p:cNvGrpSpPr/>
            <p:nvPr/>
          </p:nvGrpSpPr>
          <p:grpSpPr>
            <a:xfrm>
              <a:off x="1484280" y="2585880"/>
              <a:ext cx="6198480" cy="2581200"/>
              <a:chOff x="1484280" y="2585880"/>
              <a:chExt cx="6198480" cy="2581200"/>
            </a:xfrm>
          </p:grpSpPr>
          <p:sp>
            <p:nvSpPr>
              <p:cNvPr id="930" name=""/>
              <p:cNvSpPr/>
              <p:nvPr/>
            </p:nvSpPr>
            <p:spPr>
              <a:xfrm>
                <a:off x="6624360" y="261108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260680" y="3024000"/>
                <a:ext cx="5299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532120" y="343980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05000" y="302400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53212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619320" y="343692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082920" y="343692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346440" y="302400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346440" y="3852720"/>
                <a:ext cx="528120" cy="4744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538240" y="427644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265360" y="386208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265360" y="469080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809680" y="469080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082920" y="427644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809680" y="386208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08760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355800" y="4668480"/>
                <a:ext cx="5284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7" name=""/>
              <p:cNvGrpSpPr/>
              <p:nvPr/>
            </p:nvGrpSpPr>
            <p:grpSpPr>
              <a:xfrm>
                <a:off x="1484280" y="2593800"/>
                <a:ext cx="4051800" cy="2563560"/>
                <a:chOff x="1484280" y="2593800"/>
                <a:chExt cx="4051800" cy="2563560"/>
              </a:xfrm>
            </p:grpSpPr>
            <p:sp>
              <p:nvSpPr>
                <p:cNvPr id="948" name=""/>
                <p:cNvSpPr/>
                <p:nvPr/>
              </p:nvSpPr>
              <p:spPr>
                <a:xfrm>
                  <a:off x="338508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2021040" y="301536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148428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1748160" y="260208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1748160" y="343044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2292120" y="343044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256536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229212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338040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284292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31071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31071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36489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392256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36489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2298960" y="426708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2025720" y="385380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2569680" y="468252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2842920" y="42670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2569680" y="385380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4712400" y="300672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4174920" y="300672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4438800" y="259380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4438800" y="342216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4983120" y="34221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498312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464000" y="426276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392652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4191120" y="384768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4191120" y="467604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4735080" y="467604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500796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4735080" y="38476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284760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3662640" y="466164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3111840" y="468252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3385080" y="4254840"/>
                  <a:ext cx="527760" cy="4766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390636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6" name=""/>
              <p:cNvSpPr/>
              <p:nvPr/>
            </p:nvSpPr>
            <p:spPr>
              <a:xfrm>
                <a:off x="6906960" y="300816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7154640" y="258588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8" name=""/>
          <p:cNvGrpSpPr/>
          <p:nvPr/>
        </p:nvGrpSpPr>
        <p:grpSpPr>
          <a:xfrm>
            <a:off x="3119400" y="2438280"/>
            <a:ext cx="4294080" cy="2158920"/>
            <a:chOff x="3119400" y="2438280"/>
            <a:chExt cx="4294080" cy="2158920"/>
          </a:xfrm>
        </p:grpSpPr>
        <p:sp>
          <p:nvSpPr>
            <p:cNvPr id="989" name=""/>
            <p:cNvSpPr/>
            <p:nvPr/>
          </p:nvSpPr>
          <p:spPr>
            <a:xfrm>
              <a:off x="5823000" y="327816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549760" y="3692520"/>
              <a:ext cx="52704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091200" y="3692520"/>
              <a:ext cx="52848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364440" y="327816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091200" y="286380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284800" y="411624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827680" y="4103640"/>
              <a:ext cx="5270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348240" y="2442960"/>
              <a:ext cx="528840" cy="474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657600" y="328104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384360" y="3697200"/>
              <a:ext cx="5270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925800" y="369720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199040" y="328104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925800" y="286848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119400" y="412092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989600" y="286056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451400" y="286056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716360" y="244620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716360" y="327492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259240" y="327492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533920" y="286056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259240" y="244620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741920" y="4116240"/>
              <a:ext cx="5302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203720" y="4116240"/>
              <a:ext cx="5284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467240" y="3700440"/>
              <a:ext cx="53172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791320" y="244620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011560" y="3700440"/>
              <a:ext cx="5288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662280" y="410832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183200" y="244620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616800" y="285588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885000" y="243828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9" name=""/>
          <p:cNvSpPr/>
          <p:nvPr/>
        </p:nvSpPr>
        <p:spPr>
          <a:xfrm>
            <a:off x="2852640" y="2859120"/>
            <a:ext cx="527040" cy="476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662280" y="2449440"/>
            <a:ext cx="52884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298600" y="2862360"/>
            <a:ext cx="530280" cy="477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760400" y="2862360"/>
            <a:ext cx="528840" cy="477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025720" y="2449440"/>
            <a:ext cx="53028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025720" y="3278160"/>
            <a:ext cx="53028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570040" y="3278160"/>
            <a:ext cx="52704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570040" y="2449440"/>
            <a:ext cx="52704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121200" y="3276720"/>
            <a:ext cx="528480" cy="476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384720" y="2862360"/>
            <a:ext cx="528480" cy="476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576520" y="4114800"/>
            <a:ext cx="530280" cy="477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303640" y="3701880"/>
            <a:ext cx="52992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847960" y="3701880"/>
            <a:ext cx="52704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125880" y="2449440"/>
            <a:ext cx="52704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504800" y="2448000"/>
            <a:ext cx="530280" cy="476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82400"/>
                </a:solidFill>
                <a:latin typeface="Times New Roman"/>
              </a:rPr>
              <a:t>Kugelpackungen</a:t>
            </a: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eter Maisenb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C5467-0ADB-4032-B6EC-DE7CBCE5950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5" name=""/>
          <p:cNvGrpSpPr/>
          <p:nvPr/>
        </p:nvGrpSpPr>
        <p:grpSpPr>
          <a:xfrm>
            <a:off x="957240" y="2428920"/>
            <a:ext cx="7489800" cy="2980800"/>
            <a:chOff x="957240" y="2428920"/>
            <a:chExt cx="7489800" cy="2980800"/>
          </a:xfrm>
        </p:grpSpPr>
        <p:grpSp>
          <p:nvGrpSpPr>
            <p:cNvPr id="1036" name=""/>
            <p:cNvGrpSpPr/>
            <p:nvPr/>
          </p:nvGrpSpPr>
          <p:grpSpPr>
            <a:xfrm>
              <a:off x="2573280" y="4921200"/>
              <a:ext cx="4315680" cy="488520"/>
              <a:chOff x="2573280" y="4921200"/>
              <a:chExt cx="4315680" cy="488520"/>
            </a:xfrm>
          </p:grpSpPr>
          <p:sp>
            <p:nvSpPr>
              <p:cNvPr id="1037" name=""/>
              <p:cNvSpPr/>
              <p:nvPr/>
            </p:nvSpPr>
            <p:spPr>
              <a:xfrm>
                <a:off x="473796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358680" y="4921200"/>
                <a:ext cx="530280" cy="47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83092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28012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57328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4194000" y="4925160"/>
                <a:ext cx="530280" cy="475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665880" y="493560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3114720" y="4931280"/>
                <a:ext cx="52812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5" name=""/>
            <p:cNvSpPr/>
            <p:nvPr/>
          </p:nvSpPr>
          <p:spPr>
            <a:xfrm>
              <a:off x="6915240" y="330372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864480" y="246240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894360" y="410688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957240" y="2441520"/>
              <a:ext cx="6203160" cy="2585160"/>
              <a:chOff x="957240" y="2441520"/>
              <a:chExt cx="6203160" cy="2585160"/>
            </a:xfrm>
          </p:grpSpPr>
          <p:grpSp>
            <p:nvGrpSpPr>
              <p:cNvPr id="1049" name=""/>
              <p:cNvGrpSpPr/>
              <p:nvPr/>
            </p:nvGrpSpPr>
            <p:grpSpPr>
              <a:xfrm>
                <a:off x="1751040" y="2464200"/>
                <a:ext cx="4300200" cy="2562480"/>
                <a:chOff x="1751040" y="2464200"/>
                <a:chExt cx="4300200" cy="2562480"/>
              </a:xfrm>
            </p:grpSpPr>
            <p:sp>
              <p:nvSpPr>
                <p:cNvPr id="1050" name=""/>
                <p:cNvSpPr/>
                <p:nvPr/>
              </p:nvSpPr>
              <p:spPr>
                <a:xfrm>
                  <a:off x="365220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2288160" y="288504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175104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2015280" y="2472120"/>
                  <a:ext cx="52992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2015280" y="330048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2559240" y="330048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283212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255924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6475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311040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33742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33742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39160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41893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39160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2566080" y="4136760"/>
                  <a:ext cx="52992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202896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2292840" y="3723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2292840" y="4551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283680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311040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2836800" y="3723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4978800" y="28771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444204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4705920" y="2464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4705920" y="3292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5249880" y="3292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552348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52498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4731120" y="413280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419364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4457520" y="371736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457520" y="45457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5002200" y="45457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527508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5002200" y="37173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311508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3929760" y="453132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337896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3652200" y="41241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41734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1" name=""/>
              <p:cNvSpPr/>
              <p:nvPr/>
            </p:nvSpPr>
            <p:spPr>
              <a:xfrm>
                <a:off x="1494360" y="247896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957240" y="246600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221120" y="2881080"/>
                <a:ext cx="529920" cy="475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762560" y="372204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489680" y="330696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810760" y="24498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806080" y="32882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6088320" y="369108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6361560" y="32760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6074640" y="28630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613920" y="28544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366240" y="4110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630120" y="3695400"/>
                <a:ext cx="53028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6630120" y="4523400"/>
                <a:ext cx="53028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6102360" y="4509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824080" y="41022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6345360" y="244152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558040" y="4536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530680" y="3705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0" name=""/>
            <p:cNvSpPr/>
            <p:nvPr/>
          </p:nvSpPr>
          <p:spPr>
            <a:xfrm>
              <a:off x="7142040" y="287496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391520" y="2457360"/>
              <a:ext cx="5270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684920" y="2849760"/>
              <a:ext cx="527040" cy="47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464240" y="3267000"/>
              <a:ext cx="5288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197840" y="371016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918560" y="2428920"/>
              <a:ext cx="52848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6" name=""/>
          <p:cNvGrpSpPr/>
          <p:nvPr/>
        </p:nvGrpSpPr>
        <p:grpSpPr>
          <a:xfrm>
            <a:off x="1219320" y="2585880"/>
            <a:ext cx="6463440" cy="2581200"/>
            <a:chOff x="1219320" y="2585880"/>
            <a:chExt cx="6463440" cy="2581200"/>
          </a:xfrm>
        </p:grpSpPr>
        <p:sp>
          <p:nvSpPr>
            <p:cNvPr id="1117" name=""/>
            <p:cNvSpPr/>
            <p:nvPr/>
          </p:nvSpPr>
          <p:spPr>
            <a:xfrm>
              <a:off x="1219320" y="2611080"/>
              <a:ext cx="531360" cy="4748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8" name=""/>
            <p:cNvGrpSpPr/>
            <p:nvPr/>
          </p:nvGrpSpPr>
          <p:grpSpPr>
            <a:xfrm>
              <a:off x="1484280" y="2585880"/>
              <a:ext cx="6198480" cy="2581200"/>
              <a:chOff x="1484280" y="2585880"/>
              <a:chExt cx="6198480" cy="2581200"/>
            </a:xfrm>
          </p:grpSpPr>
          <p:sp>
            <p:nvSpPr>
              <p:cNvPr id="1119" name=""/>
              <p:cNvSpPr/>
              <p:nvPr/>
            </p:nvSpPr>
            <p:spPr>
              <a:xfrm>
                <a:off x="6624360" y="261108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260680" y="3024000"/>
                <a:ext cx="5299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532120" y="343980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805000" y="302400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53212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619320" y="343692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082920" y="343692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346440" y="302400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346440" y="3852720"/>
                <a:ext cx="528120" cy="4744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538240" y="427644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265360" y="386208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265360" y="469080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809680" y="469080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082920" y="427644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5809680" y="386208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08760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355800" y="4668480"/>
                <a:ext cx="5284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6" name=""/>
              <p:cNvGrpSpPr/>
              <p:nvPr/>
            </p:nvGrpSpPr>
            <p:grpSpPr>
              <a:xfrm>
                <a:off x="1484280" y="2593800"/>
                <a:ext cx="4051800" cy="2563560"/>
                <a:chOff x="1484280" y="2593800"/>
                <a:chExt cx="4051800" cy="2563560"/>
              </a:xfrm>
            </p:grpSpPr>
            <p:sp>
              <p:nvSpPr>
                <p:cNvPr id="1137" name=""/>
                <p:cNvSpPr/>
                <p:nvPr/>
              </p:nvSpPr>
              <p:spPr>
                <a:xfrm>
                  <a:off x="338508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2021040" y="301536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148428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1748160" y="260208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1748160" y="343044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2292120" y="343044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256536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229212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338040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284292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31071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31071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36489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392256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36489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2298960" y="426708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2025720" y="385380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2569680" y="468252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2842920" y="42670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2569680" y="385380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4712400" y="300672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4174920" y="300672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4438800" y="259380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4438800" y="342216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4983120" y="34221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498312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4464000" y="426276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392652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4191120" y="384768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4191120" y="467604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4735080" y="467604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500796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4735080" y="38476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284760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3662640" y="466164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3111840" y="468252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3385080" y="4254840"/>
                  <a:ext cx="527760" cy="4766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390636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5" name=""/>
              <p:cNvSpPr/>
              <p:nvPr/>
            </p:nvSpPr>
            <p:spPr>
              <a:xfrm>
                <a:off x="6906960" y="300816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154640" y="258588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7" name=""/>
          <p:cNvGrpSpPr/>
          <p:nvPr/>
        </p:nvGrpSpPr>
        <p:grpSpPr>
          <a:xfrm>
            <a:off x="3119400" y="2727360"/>
            <a:ext cx="4294080" cy="2158920"/>
            <a:chOff x="3119400" y="2727360"/>
            <a:chExt cx="4294080" cy="2158920"/>
          </a:xfrm>
        </p:grpSpPr>
        <p:sp>
          <p:nvSpPr>
            <p:cNvPr id="1178" name=""/>
            <p:cNvSpPr/>
            <p:nvPr/>
          </p:nvSpPr>
          <p:spPr>
            <a:xfrm>
              <a:off x="5823000" y="356724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549760" y="3981600"/>
              <a:ext cx="52704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091200" y="3981600"/>
              <a:ext cx="52848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364440" y="356724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091200" y="315288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284800" y="440532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827680" y="4392720"/>
              <a:ext cx="5270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348240" y="2732040"/>
              <a:ext cx="528840" cy="474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657600" y="357012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384360" y="3986280"/>
              <a:ext cx="5270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925800" y="398628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99040" y="357012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925800" y="315756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119400" y="441000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989600" y="314964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451400" y="314964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716360" y="273528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716360" y="356400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259240" y="356400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533920" y="314964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259240" y="273528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741920" y="4405320"/>
              <a:ext cx="5302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203720" y="4405320"/>
              <a:ext cx="5284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67240" y="3989520"/>
              <a:ext cx="53172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791320" y="273528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011560" y="3989520"/>
              <a:ext cx="5288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662280" y="439740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183200" y="273528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616800" y="314496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885000" y="272736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1501920" y="2449440"/>
            <a:ext cx="2688480" cy="2142360"/>
            <a:chOff x="1501920" y="2449440"/>
            <a:chExt cx="2688480" cy="2142360"/>
          </a:xfrm>
        </p:grpSpPr>
        <p:sp>
          <p:nvSpPr>
            <p:cNvPr id="1209" name=""/>
            <p:cNvSpPr/>
            <p:nvPr/>
          </p:nvSpPr>
          <p:spPr>
            <a:xfrm>
              <a:off x="2851920" y="2858400"/>
              <a:ext cx="527760" cy="477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0" name=""/>
            <p:cNvGrpSpPr/>
            <p:nvPr/>
          </p:nvGrpSpPr>
          <p:grpSpPr>
            <a:xfrm>
              <a:off x="1501920" y="2449440"/>
              <a:ext cx="2688480" cy="2142360"/>
              <a:chOff x="1501920" y="2449440"/>
              <a:chExt cx="2688480" cy="2142360"/>
            </a:xfrm>
          </p:grpSpPr>
          <p:sp>
            <p:nvSpPr>
              <p:cNvPr id="1211" name=""/>
              <p:cNvSpPr/>
              <p:nvPr/>
            </p:nvSpPr>
            <p:spPr>
              <a:xfrm>
                <a:off x="366264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2298960" y="2862000"/>
                <a:ext cx="52992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761480" y="2862000"/>
                <a:ext cx="52776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2025360" y="2449440"/>
                <a:ext cx="5299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2025360" y="3277800"/>
                <a:ext cx="5299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2569680" y="327780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256968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120480" y="3275640"/>
                <a:ext cx="52776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3384360" y="2862000"/>
                <a:ext cx="528120" cy="4755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2576520" y="4114800"/>
                <a:ext cx="530280" cy="477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302920" y="3701520"/>
                <a:ext cx="53028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847240" y="3701520"/>
                <a:ext cx="5281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312516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1501920" y="2453040"/>
                <a:ext cx="53028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82400"/>
                </a:solidFill>
                <a:latin typeface="Times New Roman"/>
              </a:rPr>
              <a:t>Kugelpackungen</a:t>
            </a: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eter Maisenb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94D9B-2848-43E1-856D-13D7C773995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6" name=""/>
          <p:cNvGrpSpPr/>
          <p:nvPr/>
        </p:nvGrpSpPr>
        <p:grpSpPr>
          <a:xfrm>
            <a:off x="957240" y="2428920"/>
            <a:ext cx="7489800" cy="2980800"/>
            <a:chOff x="957240" y="2428920"/>
            <a:chExt cx="7489800" cy="2980800"/>
          </a:xfrm>
        </p:grpSpPr>
        <p:grpSp>
          <p:nvGrpSpPr>
            <p:cNvPr id="1227" name=""/>
            <p:cNvGrpSpPr/>
            <p:nvPr/>
          </p:nvGrpSpPr>
          <p:grpSpPr>
            <a:xfrm>
              <a:off x="2573280" y="4921200"/>
              <a:ext cx="4315680" cy="488520"/>
              <a:chOff x="2573280" y="4921200"/>
              <a:chExt cx="4315680" cy="488520"/>
            </a:xfrm>
          </p:grpSpPr>
          <p:sp>
            <p:nvSpPr>
              <p:cNvPr id="1228" name=""/>
              <p:cNvSpPr/>
              <p:nvPr/>
            </p:nvSpPr>
            <p:spPr>
              <a:xfrm>
                <a:off x="473796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358680" y="4921200"/>
                <a:ext cx="530280" cy="47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83092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28012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257328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4194000" y="4925160"/>
                <a:ext cx="530280" cy="475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665880" y="493560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114720" y="4931280"/>
                <a:ext cx="52812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6" name=""/>
            <p:cNvSpPr/>
            <p:nvPr/>
          </p:nvSpPr>
          <p:spPr>
            <a:xfrm>
              <a:off x="6915240" y="330372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864480" y="246240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894360" y="410688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9" name=""/>
            <p:cNvGrpSpPr/>
            <p:nvPr/>
          </p:nvGrpSpPr>
          <p:grpSpPr>
            <a:xfrm>
              <a:off x="957240" y="2441520"/>
              <a:ext cx="6203160" cy="2585160"/>
              <a:chOff x="957240" y="2441520"/>
              <a:chExt cx="6203160" cy="2585160"/>
            </a:xfrm>
          </p:grpSpPr>
          <p:grpSp>
            <p:nvGrpSpPr>
              <p:cNvPr id="1240" name=""/>
              <p:cNvGrpSpPr/>
              <p:nvPr/>
            </p:nvGrpSpPr>
            <p:grpSpPr>
              <a:xfrm>
                <a:off x="1751040" y="2464200"/>
                <a:ext cx="4300200" cy="2562480"/>
                <a:chOff x="1751040" y="2464200"/>
                <a:chExt cx="4300200" cy="256248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365220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2288160" y="288504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175104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2015280" y="2472120"/>
                  <a:ext cx="52992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2015280" y="330048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2559240" y="330048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283212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255924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36475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311040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33742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33742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39160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41893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39160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2566080" y="4136760"/>
                  <a:ext cx="52992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202896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2292840" y="3723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2292840" y="4551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283680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311040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2836800" y="3723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4978800" y="28771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444204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4705920" y="2464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4705920" y="3292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5249880" y="3292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552348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52498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4731120" y="413280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419364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4457520" y="371736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4457520" y="45457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5002200" y="45457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527508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5002200" y="37173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311508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3929760" y="453132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337896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3652200" y="41241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41734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2" name=""/>
              <p:cNvSpPr/>
              <p:nvPr/>
            </p:nvSpPr>
            <p:spPr>
              <a:xfrm>
                <a:off x="1494360" y="247896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957240" y="246600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1221120" y="2881080"/>
                <a:ext cx="529920" cy="475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1762560" y="372204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1489680" y="330696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810760" y="24498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806080" y="32882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6088320" y="369108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6361560" y="32760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6074640" y="28630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6613920" y="28544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366240" y="4110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630120" y="3695400"/>
                <a:ext cx="53028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630120" y="4523400"/>
                <a:ext cx="53028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102360" y="4509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824080" y="41022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6345360" y="244152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558040" y="4536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530680" y="3705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1" name=""/>
            <p:cNvSpPr/>
            <p:nvPr/>
          </p:nvSpPr>
          <p:spPr>
            <a:xfrm>
              <a:off x="7142040" y="287496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391520" y="2457360"/>
              <a:ext cx="5270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684920" y="2849760"/>
              <a:ext cx="527040" cy="47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464240" y="3267000"/>
              <a:ext cx="5288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197840" y="371016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918560" y="2428920"/>
              <a:ext cx="52848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7" name=""/>
          <p:cNvGrpSpPr/>
          <p:nvPr/>
        </p:nvGrpSpPr>
        <p:grpSpPr>
          <a:xfrm>
            <a:off x="1219320" y="2585880"/>
            <a:ext cx="6463440" cy="2581200"/>
            <a:chOff x="1219320" y="2585880"/>
            <a:chExt cx="6463440" cy="2581200"/>
          </a:xfrm>
        </p:grpSpPr>
        <p:sp>
          <p:nvSpPr>
            <p:cNvPr id="1308" name=""/>
            <p:cNvSpPr/>
            <p:nvPr/>
          </p:nvSpPr>
          <p:spPr>
            <a:xfrm>
              <a:off x="1219320" y="2611080"/>
              <a:ext cx="531360" cy="4748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9" name=""/>
            <p:cNvGrpSpPr/>
            <p:nvPr/>
          </p:nvGrpSpPr>
          <p:grpSpPr>
            <a:xfrm>
              <a:off x="1484280" y="2585880"/>
              <a:ext cx="6198480" cy="2581200"/>
              <a:chOff x="1484280" y="2585880"/>
              <a:chExt cx="6198480" cy="2581200"/>
            </a:xfrm>
          </p:grpSpPr>
          <p:sp>
            <p:nvSpPr>
              <p:cNvPr id="1310" name=""/>
              <p:cNvSpPr/>
              <p:nvPr/>
            </p:nvSpPr>
            <p:spPr>
              <a:xfrm>
                <a:off x="6624360" y="261108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5260680" y="3024000"/>
                <a:ext cx="5299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5532120" y="343980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5805000" y="302400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553212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619320" y="343692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082920" y="343692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346440" y="302400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346440" y="3852720"/>
                <a:ext cx="528120" cy="4744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5538240" y="427644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5265360" y="386208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5265360" y="469080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5809680" y="469080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6082920" y="427644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5809680" y="386208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08760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355800" y="4668480"/>
                <a:ext cx="5284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7" name=""/>
              <p:cNvGrpSpPr/>
              <p:nvPr/>
            </p:nvGrpSpPr>
            <p:grpSpPr>
              <a:xfrm>
                <a:off x="1484280" y="2593800"/>
                <a:ext cx="4051800" cy="2563560"/>
                <a:chOff x="1484280" y="2593800"/>
                <a:chExt cx="4051800" cy="2563560"/>
              </a:xfrm>
            </p:grpSpPr>
            <p:sp>
              <p:nvSpPr>
                <p:cNvPr id="1328" name=""/>
                <p:cNvSpPr/>
                <p:nvPr/>
              </p:nvSpPr>
              <p:spPr>
                <a:xfrm>
                  <a:off x="338508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2021040" y="301536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148428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1748160" y="260208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1748160" y="343044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2292120" y="343044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256536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229212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338040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284292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31071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31071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36489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392256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36489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2298960" y="426708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2025720" y="385380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2569680" y="468252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2842920" y="42670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2569680" y="385380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4712400" y="300672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4174920" y="300672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4438800" y="259380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4438800" y="342216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4983120" y="34221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498312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4464000" y="426276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392652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4191120" y="384768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4191120" y="467604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4735080" y="467604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500796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4735080" y="38476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284760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3662640" y="466164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3111840" y="468252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3385080" y="4254840"/>
                  <a:ext cx="527760" cy="4766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390636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6" name=""/>
              <p:cNvSpPr/>
              <p:nvPr/>
            </p:nvSpPr>
            <p:spPr>
              <a:xfrm>
                <a:off x="6906960" y="300816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7154640" y="258588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8" name=""/>
          <p:cNvGrpSpPr/>
          <p:nvPr/>
        </p:nvGrpSpPr>
        <p:grpSpPr>
          <a:xfrm>
            <a:off x="3119400" y="2727360"/>
            <a:ext cx="4294080" cy="2158920"/>
            <a:chOff x="3119400" y="2727360"/>
            <a:chExt cx="4294080" cy="2158920"/>
          </a:xfrm>
        </p:grpSpPr>
        <p:sp>
          <p:nvSpPr>
            <p:cNvPr id="1369" name=""/>
            <p:cNvSpPr/>
            <p:nvPr/>
          </p:nvSpPr>
          <p:spPr>
            <a:xfrm>
              <a:off x="5823000" y="356724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549760" y="3981600"/>
              <a:ext cx="52704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091200" y="3981600"/>
              <a:ext cx="52848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364440" y="356724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091200" y="315288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284800" y="440532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827680" y="4392720"/>
              <a:ext cx="5270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348240" y="2732040"/>
              <a:ext cx="528840" cy="474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657600" y="357012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384360" y="3986280"/>
              <a:ext cx="5270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925800" y="398628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199040" y="357012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925800" y="315756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119400" y="441000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989600" y="314964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451400" y="314964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716360" y="273528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716360" y="356400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259240" y="356400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533920" y="314964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259240" y="273528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741920" y="4405320"/>
              <a:ext cx="5302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203720" y="4405320"/>
              <a:ext cx="5284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467240" y="3989520"/>
              <a:ext cx="53172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791320" y="273528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011560" y="3989520"/>
              <a:ext cx="5288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662280" y="439740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183200" y="273528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616800" y="314496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885000" y="272736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9" name=""/>
          <p:cNvGrpSpPr/>
          <p:nvPr/>
        </p:nvGrpSpPr>
        <p:grpSpPr>
          <a:xfrm>
            <a:off x="1501920" y="2449440"/>
            <a:ext cx="2688480" cy="2142360"/>
            <a:chOff x="1501920" y="2449440"/>
            <a:chExt cx="2688480" cy="2142360"/>
          </a:xfrm>
        </p:grpSpPr>
        <p:sp>
          <p:nvSpPr>
            <p:cNvPr id="1400" name=""/>
            <p:cNvSpPr/>
            <p:nvPr/>
          </p:nvSpPr>
          <p:spPr>
            <a:xfrm>
              <a:off x="2851920" y="2858400"/>
              <a:ext cx="527760" cy="477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1" name=""/>
            <p:cNvGrpSpPr/>
            <p:nvPr/>
          </p:nvGrpSpPr>
          <p:grpSpPr>
            <a:xfrm>
              <a:off x="1501920" y="2449440"/>
              <a:ext cx="2688480" cy="2142360"/>
              <a:chOff x="1501920" y="2449440"/>
              <a:chExt cx="2688480" cy="2142360"/>
            </a:xfrm>
          </p:grpSpPr>
          <p:sp>
            <p:nvSpPr>
              <p:cNvPr id="1402" name=""/>
              <p:cNvSpPr/>
              <p:nvPr/>
            </p:nvSpPr>
            <p:spPr>
              <a:xfrm>
                <a:off x="366264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2298960" y="2862000"/>
                <a:ext cx="52992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1761480" y="2862000"/>
                <a:ext cx="52776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2025360" y="2449440"/>
                <a:ext cx="5299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2025360" y="3277800"/>
                <a:ext cx="5299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2569680" y="327780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256968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3120480" y="3275640"/>
                <a:ext cx="52776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3384360" y="2862000"/>
                <a:ext cx="528120" cy="4755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2576520" y="4114800"/>
                <a:ext cx="530280" cy="477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2302920" y="3701520"/>
                <a:ext cx="53028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2847240" y="3701520"/>
                <a:ext cx="5281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312516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1501920" y="2453040"/>
                <a:ext cx="53028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82400"/>
                </a:solidFill>
                <a:latin typeface="Times New Roman"/>
              </a:rPr>
              <a:t>Kugelpackungen</a:t>
            </a: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rot="5400000">
            <a:off x="2628720" y="876240"/>
            <a:ext cx="304920" cy="2666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211480" y="1600200"/>
            <a:ext cx="101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hexag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eter Maisenb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0E846-9E7D-43AA-ADE0-B1738D5BE96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9" name=""/>
          <p:cNvGrpSpPr/>
          <p:nvPr/>
        </p:nvGrpSpPr>
        <p:grpSpPr>
          <a:xfrm>
            <a:off x="957240" y="2428920"/>
            <a:ext cx="7489800" cy="2980800"/>
            <a:chOff x="957240" y="2428920"/>
            <a:chExt cx="7489800" cy="2980800"/>
          </a:xfrm>
        </p:grpSpPr>
        <p:grpSp>
          <p:nvGrpSpPr>
            <p:cNvPr id="1420" name=""/>
            <p:cNvGrpSpPr/>
            <p:nvPr/>
          </p:nvGrpSpPr>
          <p:grpSpPr>
            <a:xfrm>
              <a:off x="2573280" y="4921200"/>
              <a:ext cx="4315680" cy="488520"/>
              <a:chOff x="2573280" y="4921200"/>
              <a:chExt cx="4315680" cy="488520"/>
            </a:xfrm>
          </p:grpSpPr>
          <p:sp>
            <p:nvSpPr>
              <p:cNvPr id="1421" name=""/>
              <p:cNvSpPr/>
              <p:nvPr/>
            </p:nvSpPr>
            <p:spPr>
              <a:xfrm>
                <a:off x="473796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358680" y="4921200"/>
                <a:ext cx="530280" cy="47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583092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528012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257328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4194000" y="4925160"/>
                <a:ext cx="530280" cy="475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3665880" y="493560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3114720" y="4931280"/>
                <a:ext cx="52812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9" name=""/>
            <p:cNvSpPr/>
            <p:nvPr/>
          </p:nvSpPr>
          <p:spPr>
            <a:xfrm>
              <a:off x="6915240" y="330372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864480" y="246240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894360" y="410688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2" name=""/>
            <p:cNvGrpSpPr/>
            <p:nvPr/>
          </p:nvGrpSpPr>
          <p:grpSpPr>
            <a:xfrm>
              <a:off x="957240" y="2441520"/>
              <a:ext cx="6203160" cy="2585160"/>
              <a:chOff x="957240" y="2441520"/>
              <a:chExt cx="6203160" cy="2585160"/>
            </a:xfrm>
          </p:grpSpPr>
          <p:grpSp>
            <p:nvGrpSpPr>
              <p:cNvPr id="1433" name=""/>
              <p:cNvGrpSpPr/>
              <p:nvPr/>
            </p:nvGrpSpPr>
            <p:grpSpPr>
              <a:xfrm>
                <a:off x="1751040" y="2464200"/>
                <a:ext cx="4300200" cy="2562480"/>
                <a:chOff x="1751040" y="2464200"/>
                <a:chExt cx="4300200" cy="2562480"/>
              </a:xfrm>
            </p:grpSpPr>
            <p:sp>
              <p:nvSpPr>
                <p:cNvPr id="1434" name=""/>
                <p:cNvSpPr/>
                <p:nvPr/>
              </p:nvSpPr>
              <p:spPr>
                <a:xfrm>
                  <a:off x="365220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2288160" y="288504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175104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2015280" y="2472120"/>
                  <a:ext cx="52992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2015280" y="330048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2559240" y="330048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283212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255924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36475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311040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33742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33742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39160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41893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39160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2566080" y="4136760"/>
                  <a:ext cx="52992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202896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2292840" y="3723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2292840" y="4551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283680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311040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2836800" y="3723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4978800" y="28771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444204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4705920" y="2464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4705920" y="3292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5249880" y="3292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552348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52498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4731120" y="413280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419364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4457520" y="371736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4457520" y="45457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5002200" y="45457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527508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5002200" y="37173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311508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3929760" y="453132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337896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3652200" y="41241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41734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5" name=""/>
              <p:cNvSpPr/>
              <p:nvPr/>
            </p:nvSpPr>
            <p:spPr>
              <a:xfrm>
                <a:off x="1494360" y="247896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957240" y="246600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1221120" y="2881080"/>
                <a:ext cx="529920" cy="475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1762560" y="372204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1489680" y="330696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5810760" y="24498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5806080" y="32882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6088320" y="369108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361560" y="32760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074640" y="28630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6613920" y="28544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6366240" y="4110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6630120" y="3695400"/>
                <a:ext cx="53028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6630120" y="4523400"/>
                <a:ext cx="53028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6102360" y="4509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5824080" y="41022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6345360" y="244152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5558040" y="4536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5530680" y="3705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4" name=""/>
            <p:cNvSpPr/>
            <p:nvPr/>
          </p:nvSpPr>
          <p:spPr>
            <a:xfrm>
              <a:off x="7142040" y="287496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391520" y="2457360"/>
              <a:ext cx="5270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7684920" y="2849760"/>
              <a:ext cx="527040" cy="47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7464240" y="3267000"/>
              <a:ext cx="5288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197840" y="371016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7918560" y="2428920"/>
              <a:ext cx="52848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0" name=""/>
          <p:cNvGrpSpPr/>
          <p:nvPr/>
        </p:nvGrpSpPr>
        <p:grpSpPr>
          <a:xfrm>
            <a:off x="1219320" y="2585880"/>
            <a:ext cx="6463440" cy="2581200"/>
            <a:chOff x="1219320" y="2585880"/>
            <a:chExt cx="6463440" cy="2581200"/>
          </a:xfrm>
        </p:grpSpPr>
        <p:sp>
          <p:nvSpPr>
            <p:cNvPr id="1501" name=""/>
            <p:cNvSpPr/>
            <p:nvPr/>
          </p:nvSpPr>
          <p:spPr>
            <a:xfrm>
              <a:off x="1219320" y="2611080"/>
              <a:ext cx="531360" cy="4748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2" name=""/>
            <p:cNvGrpSpPr/>
            <p:nvPr/>
          </p:nvGrpSpPr>
          <p:grpSpPr>
            <a:xfrm>
              <a:off x="1484280" y="2585880"/>
              <a:ext cx="6198480" cy="2581200"/>
              <a:chOff x="1484280" y="2585880"/>
              <a:chExt cx="6198480" cy="2581200"/>
            </a:xfrm>
          </p:grpSpPr>
          <p:sp>
            <p:nvSpPr>
              <p:cNvPr id="1503" name=""/>
              <p:cNvSpPr/>
              <p:nvPr/>
            </p:nvSpPr>
            <p:spPr>
              <a:xfrm>
                <a:off x="6624360" y="261108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5260680" y="3024000"/>
                <a:ext cx="5299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5532120" y="343980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5805000" y="302400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553212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619320" y="343692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6082920" y="343692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6346440" y="302400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6346440" y="3852720"/>
                <a:ext cx="528120" cy="4744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5538240" y="427644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5265360" y="386208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5265360" y="469080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5809680" y="469080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6082920" y="427644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5809680" y="386208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608760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6355800" y="4668480"/>
                <a:ext cx="5284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0" name=""/>
              <p:cNvGrpSpPr/>
              <p:nvPr/>
            </p:nvGrpSpPr>
            <p:grpSpPr>
              <a:xfrm>
                <a:off x="1484280" y="2593800"/>
                <a:ext cx="4051800" cy="2563560"/>
                <a:chOff x="1484280" y="2593800"/>
                <a:chExt cx="4051800" cy="2563560"/>
              </a:xfrm>
            </p:grpSpPr>
            <p:sp>
              <p:nvSpPr>
                <p:cNvPr id="1521" name=""/>
                <p:cNvSpPr/>
                <p:nvPr/>
              </p:nvSpPr>
              <p:spPr>
                <a:xfrm>
                  <a:off x="338508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2021040" y="301536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148428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>
                  <a:off x="1748160" y="260208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1748160" y="343044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2292120" y="343044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256536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229212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338040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284292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31071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31071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36489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392256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36489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2298960" y="426708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2025720" y="385380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2569680" y="468252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2842920" y="42670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2569680" y="385380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4712400" y="300672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4174920" y="300672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4438800" y="259380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4438800" y="342216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4983120" y="34221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498312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4464000" y="426276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392652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4191120" y="384768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4191120" y="467604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4735080" y="467604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500796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4735080" y="38476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284760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3662640" y="466164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3111840" y="468252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3385080" y="4254840"/>
                  <a:ext cx="527760" cy="4766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390636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9" name=""/>
              <p:cNvSpPr/>
              <p:nvPr/>
            </p:nvSpPr>
            <p:spPr>
              <a:xfrm>
                <a:off x="6906960" y="300816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7154640" y="258588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61" name=""/>
          <p:cNvGrpSpPr/>
          <p:nvPr/>
        </p:nvGrpSpPr>
        <p:grpSpPr>
          <a:xfrm>
            <a:off x="3119400" y="2727360"/>
            <a:ext cx="4294080" cy="2158920"/>
            <a:chOff x="3119400" y="2727360"/>
            <a:chExt cx="4294080" cy="2158920"/>
          </a:xfrm>
        </p:grpSpPr>
        <p:sp>
          <p:nvSpPr>
            <p:cNvPr id="1562" name=""/>
            <p:cNvSpPr/>
            <p:nvPr/>
          </p:nvSpPr>
          <p:spPr>
            <a:xfrm>
              <a:off x="5823000" y="3567240"/>
              <a:ext cx="527040" cy="47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549760" y="3981600"/>
              <a:ext cx="527040" cy="475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091200" y="3981600"/>
              <a:ext cx="528480" cy="475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364440" y="3567240"/>
              <a:ext cx="528480" cy="47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091200" y="3152880"/>
              <a:ext cx="528480" cy="47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284800" y="4405320"/>
              <a:ext cx="528480" cy="477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827680" y="4392720"/>
              <a:ext cx="527040" cy="477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348240" y="2732040"/>
              <a:ext cx="528840" cy="474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657600" y="3570120"/>
              <a:ext cx="528480" cy="47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384360" y="3986280"/>
              <a:ext cx="527040" cy="474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925800" y="3986280"/>
              <a:ext cx="528840" cy="474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199040" y="3570120"/>
              <a:ext cx="528480" cy="47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925800" y="3157560"/>
              <a:ext cx="528840" cy="474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119400" y="4410000"/>
              <a:ext cx="528480" cy="47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989600" y="3149640"/>
              <a:ext cx="530280" cy="47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451400" y="3149640"/>
              <a:ext cx="528480" cy="47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716360" y="2735280"/>
              <a:ext cx="530280" cy="47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716360" y="3564000"/>
              <a:ext cx="530280" cy="47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259240" y="3564000"/>
              <a:ext cx="528840" cy="47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533920" y="3149640"/>
              <a:ext cx="527040" cy="47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259240" y="2735280"/>
              <a:ext cx="528840" cy="47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741920" y="4405320"/>
              <a:ext cx="530280" cy="474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203720" y="4405320"/>
              <a:ext cx="528480" cy="474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467240" y="3989520"/>
              <a:ext cx="531720" cy="477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791320" y="2735280"/>
              <a:ext cx="527040" cy="47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011560" y="3989520"/>
              <a:ext cx="528840" cy="477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662280" y="4397400"/>
              <a:ext cx="527040" cy="47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183200" y="2735280"/>
              <a:ext cx="528480" cy="47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616800" y="3144960"/>
              <a:ext cx="528480" cy="477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885000" y="2727360"/>
              <a:ext cx="528480" cy="477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1501920" y="2449440"/>
            <a:ext cx="2688480" cy="2142360"/>
            <a:chOff x="1501920" y="2449440"/>
            <a:chExt cx="2688480" cy="2142360"/>
          </a:xfrm>
        </p:grpSpPr>
        <p:sp>
          <p:nvSpPr>
            <p:cNvPr id="1593" name=""/>
            <p:cNvSpPr/>
            <p:nvPr/>
          </p:nvSpPr>
          <p:spPr>
            <a:xfrm>
              <a:off x="2851920" y="2858400"/>
              <a:ext cx="527760" cy="477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4" name=""/>
            <p:cNvGrpSpPr/>
            <p:nvPr/>
          </p:nvGrpSpPr>
          <p:grpSpPr>
            <a:xfrm>
              <a:off x="1501920" y="2449440"/>
              <a:ext cx="2688480" cy="2142360"/>
              <a:chOff x="1501920" y="2449440"/>
              <a:chExt cx="2688480" cy="2142360"/>
            </a:xfrm>
          </p:grpSpPr>
          <p:sp>
            <p:nvSpPr>
              <p:cNvPr id="1595" name=""/>
              <p:cNvSpPr/>
              <p:nvPr/>
            </p:nvSpPr>
            <p:spPr>
              <a:xfrm>
                <a:off x="366264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2298960" y="2862000"/>
                <a:ext cx="52992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1761480" y="2862000"/>
                <a:ext cx="52776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2025360" y="2449440"/>
                <a:ext cx="5299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2025360" y="3277800"/>
                <a:ext cx="5299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2569680" y="327780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256968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120480" y="3275640"/>
                <a:ext cx="52776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3384360" y="2862000"/>
                <a:ext cx="528120" cy="4755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2576520" y="4114800"/>
                <a:ext cx="530280" cy="477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2302920" y="3701520"/>
                <a:ext cx="53028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2847240" y="3701520"/>
                <a:ext cx="5281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12516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1501920" y="2453040"/>
                <a:ext cx="53028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82400"/>
                </a:solidFill>
                <a:latin typeface="Times New Roman"/>
              </a:rPr>
              <a:t>Kugelpackungen</a:t>
            </a: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rot="5400000">
            <a:off x="2628720" y="876240"/>
            <a:ext cx="304920" cy="2666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2211480" y="1600200"/>
            <a:ext cx="101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hexag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eter Maisenb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11875-B4D0-4831-9405-906765B5560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2" name=""/>
          <p:cNvGrpSpPr/>
          <p:nvPr/>
        </p:nvGrpSpPr>
        <p:grpSpPr>
          <a:xfrm>
            <a:off x="957240" y="2428920"/>
            <a:ext cx="7489800" cy="2980800"/>
            <a:chOff x="957240" y="2428920"/>
            <a:chExt cx="7489800" cy="2980800"/>
          </a:xfrm>
        </p:grpSpPr>
        <p:grpSp>
          <p:nvGrpSpPr>
            <p:cNvPr id="1613" name=""/>
            <p:cNvGrpSpPr/>
            <p:nvPr/>
          </p:nvGrpSpPr>
          <p:grpSpPr>
            <a:xfrm>
              <a:off x="2573280" y="4921200"/>
              <a:ext cx="4315680" cy="488520"/>
              <a:chOff x="2573280" y="4921200"/>
              <a:chExt cx="4315680" cy="488520"/>
            </a:xfrm>
          </p:grpSpPr>
          <p:sp>
            <p:nvSpPr>
              <p:cNvPr id="1614" name=""/>
              <p:cNvSpPr/>
              <p:nvPr/>
            </p:nvSpPr>
            <p:spPr>
              <a:xfrm>
                <a:off x="473796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6358680" y="4921200"/>
                <a:ext cx="530280" cy="47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583092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528012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257328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4194000" y="4925160"/>
                <a:ext cx="530280" cy="475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665880" y="493560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114720" y="4931280"/>
                <a:ext cx="52812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2" name=""/>
            <p:cNvSpPr/>
            <p:nvPr/>
          </p:nvSpPr>
          <p:spPr>
            <a:xfrm>
              <a:off x="6915240" y="330372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864480" y="246240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894360" y="410688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5" name=""/>
            <p:cNvGrpSpPr/>
            <p:nvPr/>
          </p:nvGrpSpPr>
          <p:grpSpPr>
            <a:xfrm>
              <a:off x="957240" y="2441520"/>
              <a:ext cx="6203160" cy="2585160"/>
              <a:chOff x="957240" y="2441520"/>
              <a:chExt cx="6203160" cy="2585160"/>
            </a:xfrm>
          </p:grpSpPr>
          <p:grpSp>
            <p:nvGrpSpPr>
              <p:cNvPr id="1626" name=""/>
              <p:cNvGrpSpPr/>
              <p:nvPr/>
            </p:nvGrpSpPr>
            <p:grpSpPr>
              <a:xfrm>
                <a:off x="1751040" y="2464200"/>
                <a:ext cx="4300200" cy="2562480"/>
                <a:chOff x="1751040" y="2464200"/>
                <a:chExt cx="4300200" cy="2562480"/>
              </a:xfrm>
            </p:grpSpPr>
            <p:sp>
              <p:nvSpPr>
                <p:cNvPr id="1627" name=""/>
                <p:cNvSpPr/>
                <p:nvPr/>
              </p:nvSpPr>
              <p:spPr>
                <a:xfrm>
                  <a:off x="365220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2288160" y="288504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175104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2015280" y="2472120"/>
                  <a:ext cx="52992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2015280" y="330048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2559240" y="330048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>
                  <a:off x="283212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255924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>
                  <a:off x="36475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311040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33742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>
                  <a:off x="33742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39160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41893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39160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2566080" y="4136760"/>
                  <a:ext cx="52992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202896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>
                  <a:off x="2292840" y="3723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2292840" y="4551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283680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>
                  <a:off x="311040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2836800" y="3723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4978800" y="28771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444204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4705920" y="2464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4705920" y="3292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>
                  <a:off x="5249880" y="3292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>
                  <a:off x="552348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52498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4731120" y="413280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419364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4457520" y="371736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4457520" y="45457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5002200" y="45457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>
                  <a:off x="527508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5002200" y="37173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>
                  <a:off x="311508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3929760" y="453132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337896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3652200" y="41241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41734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8" name=""/>
              <p:cNvSpPr/>
              <p:nvPr/>
            </p:nvSpPr>
            <p:spPr>
              <a:xfrm>
                <a:off x="1494360" y="247896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957240" y="246600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1221120" y="2881080"/>
                <a:ext cx="529920" cy="475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1762560" y="372204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1489680" y="330696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5810760" y="24498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5806080" y="32882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6088320" y="369108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6361560" y="32760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6074640" y="28630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6613920" y="28544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6366240" y="4110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6630120" y="3695400"/>
                <a:ext cx="53028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6630120" y="4523400"/>
                <a:ext cx="53028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6102360" y="4509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5824080" y="41022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6345360" y="244152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5558040" y="4536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530680" y="3705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7" name=""/>
            <p:cNvSpPr/>
            <p:nvPr/>
          </p:nvSpPr>
          <p:spPr>
            <a:xfrm>
              <a:off x="7142040" y="287496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391520" y="2457360"/>
              <a:ext cx="5270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684920" y="2849760"/>
              <a:ext cx="527040" cy="47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464240" y="3267000"/>
              <a:ext cx="5288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197840" y="371016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918560" y="2428920"/>
              <a:ext cx="52848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3" name=""/>
          <p:cNvGrpSpPr/>
          <p:nvPr/>
        </p:nvGrpSpPr>
        <p:grpSpPr>
          <a:xfrm>
            <a:off x="1219320" y="2585880"/>
            <a:ext cx="6463440" cy="2581200"/>
            <a:chOff x="1219320" y="2585880"/>
            <a:chExt cx="6463440" cy="2581200"/>
          </a:xfrm>
        </p:grpSpPr>
        <p:sp>
          <p:nvSpPr>
            <p:cNvPr id="1694" name=""/>
            <p:cNvSpPr/>
            <p:nvPr/>
          </p:nvSpPr>
          <p:spPr>
            <a:xfrm>
              <a:off x="1219320" y="2611080"/>
              <a:ext cx="531360" cy="4748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5" name=""/>
            <p:cNvGrpSpPr/>
            <p:nvPr/>
          </p:nvGrpSpPr>
          <p:grpSpPr>
            <a:xfrm>
              <a:off x="1484280" y="2585880"/>
              <a:ext cx="6198480" cy="2581200"/>
              <a:chOff x="1484280" y="2585880"/>
              <a:chExt cx="6198480" cy="2581200"/>
            </a:xfrm>
          </p:grpSpPr>
          <p:sp>
            <p:nvSpPr>
              <p:cNvPr id="1696" name=""/>
              <p:cNvSpPr/>
              <p:nvPr/>
            </p:nvSpPr>
            <p:spPr>
              <a:xfrm>
                <a:off x="6624360" y="261108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5260680" y="3024000"/>
                <a:ext cx="5299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5532120" y="343980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805000" y="302400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553212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6619320" y="343692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6082920" y="343692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6346440" y="302400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6346440" y="3852720"/>
                <a:ext cx="528120" cy="4744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5538240" y="427644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5265360" y="386208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5265360" y="469080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5809680" y="469080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6082920" y="427644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5809680" y="386208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608760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6355800" y="4668480"/>
                <a:ext cx="5284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3" name=""/>
              <p:cNvGrpSpPr/>
              <p:nvPr/>
            </p:nvGrpSpPr>
            <p:grpSpPr>
              <a:xfrm>
                <a:off x="1484280" y="2593800"/>
                <a:ext cx="4051800" cy="2563560"/>
                <a:chOff x="1484280" y="2593800"/>
                <a:chExt cx="4051800" cy="2563560"/>
              </a:xfrm>
            </p:grpSpPr>
            <p:sp>
              <p:nvSpPr>
                <p:cNvPr id="1714" name=""/>
                <p:cNvSpPr/>
                <p:nvPr/>
              </p:nvSpPr>
              <p:spPr>
                <a:xfrm>
                  <a:off x="338508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2021040" y="301536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148428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>
                  <a:off x="1748160" y="260208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>
                  <a:off x="1748160" y="343044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2292120" y="343044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256536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229212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338040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>
                  <a:off x="284292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31071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31071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36489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392256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36489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>
                  <a:off x="2298960" y="426708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"/>
                <p:cNvSpPr/>
                <p:nvPr/>
              </p:nvSpPr>
              <p:spPr>
                <a:xfrm>
                  <a:off x="2025720" y="385380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>
                  <a:off x="2569680" y="468252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>
                  <a:off x="2842920" y="42670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>
                  <a:off x="2569680" y="385380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4712400" y="300672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4174920" y="300672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4438800" y="259380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4438800" y="342216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4983120" y="34221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498312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4464000" y="426276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392652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4191120" y="384768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4191120" y="467604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>
                  <a:off x="4735080" y="467604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>
                  <a:off x="500796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>
                  <a:off x="4735080" y="38476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>
                  <a:off x="284760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>
                  <a:off x="3662640" y="466164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3111840" y="468252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3385080" y="4254840"/>
                  <a:ext cx="527760" cy="4766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390636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2" name=""/>
              <p:cNvSpPr/>
              <p:nvPr/>
            </p:nvSpPr>
            <p:spPr>
              <a:xfrm>
                <a:off x="6906960" y="300816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7154640" y="258588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54" name=""/>
          <p:cNvGrpSpPr/>
          <p:nvPr/>
        </p:nvGrpSpPr>
        <p:grpSpPr>
          <a:xfrm>
            <a:off x="3119400" y="2727360"/>
            <a:ext cx="4294080" cy="2158920"/>
            <a:chOff x="3119400" y="2727360"/>
            <a:chExt cx="4294080" cy="2158920"/>
          </a:xfrm>
        </p:grpSpPr>
        <p:sp>
          <p:nvSpPr>
            <p:cNvPr id="1755" name=""/>
            <p:cNvSpPr/>
            <p:nvPr/>
          </p:nvSpPr>
          <p:spPr>
            <a:xfrm>
              <a:off x="5823000" y="356724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5549760" y="3981600"/>
              <a:ext cx="52704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091200" y="3981600"/>
              <a:ext cx="52848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6364440" y="356724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6091200" y="315288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284800" y="440532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827680" y="4392720"/>
              <a:ext cx="5270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6348240" y="2732040"/>
              <a:ext cx="528840" cy="474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3657600" y="357012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3384360" y="3986280"/>
              <a:ext cx="5270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3925800" y="398628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199040" y="357012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3925800" y="315756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3119400" y="441000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4989600" y="314964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451400" y="314964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4716360" y="273528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4716360" y="356400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5259240" y="356400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5533920" y="314964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259240" y="273528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741920" y="4405320"/>
              <a:ext cx="5302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203720" y="4405320"/>
              <a:ext cx="5284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467240" y="3989520"/>
              <a:ext cx="53172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791320" y="273528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011560" y="3989520"/>
              <a:ext cx="5288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3662280" y="439740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183200" y="273528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6616800" y="314496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6885000" y="272736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5" name=""/>
          <p:cNvGrpSpPr/>
          <p:nvPr/>
        </p:nvGrpSpPr>
        <p:grpSpPr>
          <a:xfrm>
            <a:off x="1501920" y="2449440"/>
            <a:ext cx="2688480" cy="2142360"/>
            <a:chOff x="1501920" y="2449440"/>
            <a:chExt cx="2688480" cy="2142360"/>
          </a:xfrm>
        </p:grpSpPr>
        <p:sp>
          <p:nvSpPr>
            <p:cNvPr id="1786" name=""/>
            <p:cNvSpPr/>
            <p:nvPr/>
          </p:nvSpPr>
          <p:spPr>
            <a:xfrm>
              <a:off x="2851920" y="2858400"/>
              <a:ext cx="527760" cy="477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7" name=""/>
            <p:cNvGrpSpPr/>
            <p:nvPr/>
          </p:nvGrpSpPr>
          <p:grpSpPr>
            <a:xfrm>
              <a:off x="1501920" y="2449440"/>
              <a:ext cx="2688480" cy="2142360"/>
              <a:chOff x="1501920" y="2449440"/>
              <a:chExt cx="2688480" cy="2142360"/>
            </a:xfrm>
          </p:grpSpPr>
          <p:sp>
            <p:nvSpPr>
              <p:cNvPr id="1788" name=""/>
              <p:cNvSpPr/>
              <p:nvPr/>
            </p:nvSpPr>
            <p:spPr>
              <a:xfrm>
                <a:off x="366264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2298960" y="2862000"/>
                <a:ext cx="52992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1761480" y="2862000"/>
                <a:ext cx="52776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2025360" y="2449440"/>
                <a:ext cx="5299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2025360" y="3277800"/>
                <a:ext cx="5299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2569680" y="327780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256968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3120480" y="3275640"/>
                <a:ext cx="52776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3384360" y="2862000"/>
                <a:ext cx="528120" cy="4755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576520" y="4114800"/>
                <a:ext cx="530280" cy="477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2302920" y="3701520"/>
                <a:ext cx="53028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2847240" y="3701520"/>
                <a:ext cx="5281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12516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1501920" y="2453040"/>
                <a:ext cx="53028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82400"/>
                </a:solidFill>
                <a:latin typeface="Times New Roman"/>
              </a:rPr>
              <a:t>Kugelpackungen</a:t>
            </a: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 rot="5400000">
            <a:off x="2628720" y="876240"/>
            <a:ext cx="304920" cy="2666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2211480" y="1600200"/>
            <a:ext cx="101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hexag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eter Maisenb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DC343-7620-4AFB-A1A2-357509709BF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6T20:53:54Z</dcterms:created>
  <dc:creator>Peter Maisenbacher</dc:creator>
  <dc:description/>
  <dc:language>en-US</dc:language>
  <cp:lastModifiedBy>Peter Maisenbacher</cp:lastModifiedBy>
  <dcterms:modified xsi:type="dcterms:W3CDTF">2005-10-14T20:57:58Z</dcterms:modified>
  <cp:revision>13</cp:revision>
  <dc:subject/>
  <dc:title>Kugelpackungen</dc:title>
</cp:coreProperties>
</file>