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1B22-AD10-440A-A0B5-BAE1F0E27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D973-425E-4343-AB74-0AE07D615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E2BB1-670B-44D7-B46C-56251AF25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E4A71-2961-4AD6-AE33-BD2224A76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0B5A7-A98C-4888-A364-73C6E175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36DB1-CDB4-48F1-8934-29816BDE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9F5CA-86B1-42D3-8A68-0BAFAE4B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0479F-15AE-484E-B1D4-34907AD0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0BEFF-BCBF-4B0A-A9CE-295C6E6D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6A2A1-9A93-4730-8099-103901D2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C41CA-C430-4B6C-819F-73C8958E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88E2-BB47-4EEB-8666-982EBFDC4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4B1E3-25F4-4F2B-9839-E9C0468D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23E72-6E1C-43CC-85A4-56A64AE2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67FDB-7503-42E8-B8CB-1B686DED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45614-1790-43F0-B520-D1234BCC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EA8C5-636D-4CA1-AD5A-5C13663C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9488-7AC1-42EB-8DEF-724EA4721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DE59-D54C-4A00-B49D-A916AC6C7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FCFF7-76B7-4DDB-A848-E3D619F80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36A6F-2C2D-4DC0-B23D-21E5A4AFE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90BB-EA6C-4B37-B0B8-1D603127C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08B01-6484-4120-8995-E842C8AD5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7C2C-F6CE-4EB1-B4E7-80D8E615E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92929"/>
                </a:solidFill>
                <a:latin typeface="Freestyle Scrip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29"/>
                </a:solidFill>
                <a:latin typeface="Freestyle Script"/>
              </a:rPr>
              <a:t>Autor:  Peter Maisenba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82400"/>
                </a:solidFill>
                <a:latin typeface="Arial"/>
              </a:rPr>
              <a:t>                        </a:t>
            </a:r>
            <a:r>
              <a:rPr b="0" lang="de-DE" sz="1400" spc="-1" strike="noStrike">
                <a:solidFill>
                  <a:srgbClr val="482400"/>
                </a:solidFill>
                <a:latin typeface="Freestyle Script"/>
              </a:rPr>
              <a:t>Folie </a:t>
            </a:r>
            <a:fld id="{9BAC87F8-3A82-4457-99FE-3AD8A4EDC8B7}" type="slidenum">
              <a:rPr b="0" lang="de-DE" sz="1400" spc="-1" strike="noStrike">
                <a:solidFill>
                  <a:srgbClr val="4824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34A7-C904-43BD-B9D2-5BF016220CA7}" type="slidenum">
              <a:rPr b="0" lang="de-DE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Expbanna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EXPHORSA" descr=""/>
            <p:cNvPicPr/>
            <p:nvPr/>
          </p:nvPicPr>
          <p:blipFill>
            <a:blip r:embed="rId3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EXPHORSA" descr=""/>
          <p:cNvPicPr/>
          <p:nvPr/>
        </p:nvPicPr>
        <p:blipFill>
          <a:blip r:embed="rId4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85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86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166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168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3119400" y="2438280"/>
            <a:ext cx="4294080" cy="2158920"/>
            <a:chOff x="3119400" y="2438280"/>
            <a:chExt cx="4294080" cy="2158920"/>
          </a:xfrm>
        </p:grpSpPr>
        <p:sp>
          <p:nvSpPr>
            <p:cNvPr id="227" name=""/>
            <p:cNvSpPr/>
            <p:nvPr/>
          </p:nvSpPr>
          <p:spPr>
            <a:xfrm>
              <a:off x="5823000" y="32781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369252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1200" y="369252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64440" y="32781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1200" y="28638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84800" y="411624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27680" y="410364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48240" y="244296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60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84360" y="369720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25800" y="369720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9904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25800" y="28684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19400" y="412092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89600" y="286056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51400" y="28605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16360" y="24462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16360" y="327492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59240" y="327492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33920" y="28605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9240" y="24462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41920" y="411624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03720" y="411624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67240" y="370044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91320" y="24462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11560" y="370044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62280" y="410832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83200" y="24462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16800" y="28558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85000" y="24382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258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260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A4816-038B-4DA1-B0C3-77ECB828FEC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5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1806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1807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5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1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0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1887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8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1889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6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1907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5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7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1948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1979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0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1981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5" name=""/>
          <p:cNvGrpSpPr/>
          <p:nvPr/>
        </p:nvGrpSpPr>
        <p:grpSpPr>
          <a:xfrm>
            <a:off x="3352680" y="2495520"/>
            <a:ext cx="3214800" cy="2583000"/>
            <a:chOff x="3352680" y="2495520"/>
            <a:chExt cx="3214800" cy="2583000"/>
          </a:xfrm>
        </p:grpSpPr>
        <p:sp>
          <p:nvSpPr>
            <p:cNvPr id="1996" name=""/>
            <p:cNvSpPr/>
            <p:nvPr/>
          </p:nvSpPr>
          <p:spPr>
            <a:xfrm>
              <a:off x="4709880" y="4157640"/>
              <a:ext cx="528840" cy="474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778360" y="4170600"/>
              <a:ext cx="527040" cy="474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163760" y="3322800"/>
              <a:ext cx="527040" cy="47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90880" y="3738600"/>
              <a:ext cx="527040" cy="474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431960" y="3738600"/>
              <a:ext cx="528840" cy="474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705200" y="3322800"/>
              <a:ext cx="528480" cy="47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431960" y="2909880"/>
              <a:ext cx="528840" cy="474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352680" y="4577040"/>
              <a:ext cx="528480" cy="474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625560" y="4160880"/>
              <a:ext cx="528840" cy="47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957560" y="2901960"/>
              <a:ext cx="528840" cy="47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222880" y="3316320"/>
              <a:ext cx="529920" cy="474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246640" y="4157640"/>
              <a:ext cx="531720" cy="474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973400" y="3741840"/>
              <a:ext cx="530280" cy="47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973400" y="4570560"/>
              <a:ext cx="530280" cy="47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518080" y="3741840"/>
              <a:ext cx="528480" cy="47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446360" y="4556160"/>
              <a:ext cx="527040" cy="474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895560" y="4577040"/>
              <a:ext cx="527040" cy="474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168440" y="4149720"/>
              <a:ext cx="527400" cy="47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502240" y="4604040"/>
              <a:ext cx="528480" cy="474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038640" y="4578480"/>
              <a:ext cx="528840" cy="47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689360" y="2495520"/>
              <a:ext cx="528480" cy="47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4569840" y="160020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vierte Sch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rot="5400000">
            <a:off x="2628720" y="87624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211480" y="16002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hexag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586240" y="5724360"/>
            <a:ext cx="481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Kugeln in der vierten 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liegen genau über denen in der er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8103A-A7B0-4C36-8AB7-9A82B7D7C5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2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2023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2024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2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5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2036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2037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8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7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2104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5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2106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3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2124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2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4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2165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5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2196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7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2198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2" name=""/>
          <p:cNvSpPr/>
          <p:nvPr/>
        </p:nvSpPr>
        <p:spPr>
          <a:xfrm>
            <a:off x="4710240" y="4157640"/>
            <a:ext cx="52848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778360" y="4170240"/>
            <a:ext cx="5270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164120" y="3322800"/>
            <a:ext cx="5270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890880" y="3738600"/>
            <a:ext cx="52704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4432320" y="3738600"/>
            <a:ext cx="52848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705200" y="332280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432320" y="2909880"/>
            <a:ext cx="52848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3352680" y="4576680"/>
            <a:ext cx="5288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625920" y="4160880"/>
            <a:ext cx="5284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957920" y="2901960"/>
            <a:ext cx="52848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222880" y="3316320"/>
            <a:ext cx="53028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246640" y="4157640"/>
            <a:ext cx="53172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973760" y="3741840"/>
            <a:ext cx="5302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4973760" y="4570560"/>
            <a:ext cx="5302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518080" y="374184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446720" y="4556160"/>
            <a:ext cx="52704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895560" y="4576680"/>
            <a:ext cx="5270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168800" y="4149720"/>
            <a:ext cx="52704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502240" y="4603680"/>
            <a:ext cx="5288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039000" y="4578480"/>
            <a:ext cx="52848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724280" y="114300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569840" y="160020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vierte Sch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rot="5400000">
            <a:off x="2628720" y="87624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2211480" y="16002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hexag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2586240" y="5724360"/>
            <a:ext cx="481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Kugeln in der vierten 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liegen genau über denen in der er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ECD4B-8A40-454F-B035-44FE254A48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8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2239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2240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8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1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2252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2253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4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3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2320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2322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9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2340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8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0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2381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1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2412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3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2414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28" name=""/>
          <p:cNvSpPr/>
          <p:nvPr/>
        </p:nvSpPr>
        <p:spPr>
          <a:xfrm>
            <a:off x="4710240" y="4157640"/>
            <a:ext cx="52848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778360" y="4170240"/>
            <a:ext cx="5270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164120" y="3322800"/>
            <a:ext cx="5270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3890880" y="3738600"/>
            <a:ext cx="52704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4432320" y="3738600"/>
            <a:ext cx="52848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705200" y="332280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432320" y="2909880"/>
            <a:ext cx="52848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352680" y="4576680"/>
            <a:ext cx="5288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625920" y="4160880"/>
            <a:ext cx="5284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957920" y="2901960"/>
            <a:ext cx="52848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5222880" y="3316320"/>
            <a:ext cx="53028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5246640" y="4157640"/>
            <a:ext cx="53172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4973760" y="3741840"/>
            <a:ext cx="5302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4973760" y="4570560"/>
            <a:ext cx="5302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5518080" y="374184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446720" y="4556160"/>
            <a:ext cx="52704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895560" y="4576680"/>
            <a:ext cx="5270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4168800" y="4149720"/>
            <a:ext cx="52704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502240" y="4603680"/>
            <a:ext cx="5288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039000" y="4578480"/>
            <a:ext cx="52848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4686480" y="2486160"/>
            <a:ext cx="5284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4569840" y="160020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vierte Sch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rot="5400000">
            <a:off x="2628720" y="87624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211480" y="16002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hexag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586240" y="5724360"/>
            <a:ext cx="481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Kugeln in der vierten 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liegen genau über denen in der er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09B7-0550-4E04-9F94-3C0F9481EB0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4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2455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2456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4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7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2468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2469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0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9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5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2536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7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2538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5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2556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4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6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2597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7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2628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9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2630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4" name=""/>
          <p:cNvSpPr/>
          <p:nvPr/>
        </p:nvSpPr>
        <p:spPr>
          <a:xfrm>
            <a:off x="4710240" y="4157640"/>
            <a:ext cx="52848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5778360" y="4170240"/>
            <a:ext cx="5270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4164120" y="3322800"/>
            <a:ext cx="5270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3890880" y="3738600"/>
            <a:ext cx="52704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4432320" y="3738600"/>
            <a:ext cx="52848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4705200" y="332280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4432320" y="2909880"/>
            <a:ext cx="52848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3352680" y="4576680"/>
            <a:ext cx="5288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3625920" y="4160880"/>
            <a:ext cx="5284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4957920" y="2901960"/>
            <a:ext cx="52848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5222880" y="3316320"/>
            <a:ext cx="53028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5246640" y="4157640"/>
            <a:ext cx="53172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4973760" y="3741840"/>
            <a:ext cx="5302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4973760" y="4570560"/>
            <a:ext cx="5302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5518080" y="374184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4446720" y="4556160"/>
            <a:ext cx="52704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895560" y="4576680"/>
            <a:ext cx="5270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4168800" y="4149720"/>
            <a:ext cx="52704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502240" y="4603680"/>
            <a:ext cx="5288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6039000" y="4578480"/>
            <a:ext cx="52848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686480" y="2486160"/>
            <a:ext cx="5284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 rot="5400000">
            <a:off x="2628720" y="87624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2211480" y="16002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hexag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2586240" y="5724360"/>
            <a:ext cx="481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Kugeln in der vierten 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liegen genau über denen in der er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4373640" y="1219320"/>
            <a:ext cx="46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Schichtenfolge: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de-DE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de-DE" sz="2400" spc="-1" strike="noStrike">
                <a:solidFill>
                  <a:srgbClr val="0066ff"/>
                </a:solidFill>
                <a:latin typeface="Times New Roman"/>
              </a:rPr>
              <a:t>   C   </a:t>
            </a:r>
            <a:r>
              <a:rPr b="1" lang="de-DE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4370400" y="1676520"/>
            <a:ext cx="447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  kubisch dichteste Kugelpac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3DCF2-DD5F-44A5-A403-1C4DEB7F6D8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1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2672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2673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1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4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2685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2686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7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6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2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2753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4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2755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2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2773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1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3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2814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4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2845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6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2847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1" name=""/>
          <p:cNvSpPr/>
          <p:nvPr/>
        </p:nvSpPr>
        <p:spPr>
          <a:xfrm>
            <a:off x="4710240" y="4157640"/>
            <a:ext cx="52848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778360" y="4170240"/>
            <a:ext cx="5270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4164120" y="3322800"/>
            <a:ext cx="5270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3890880" y="3738600"/>
            <a:ext cx="52704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4432320" y="3738600"/>
            <a:ext cx="52848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4705200" y="332280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4432320" y="2909880"/>
            <a:ext cx="52848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3352680" y="4576680"/>
            <a:ext cx="5288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625920" y="4160880"/>
            <a:ext cx="5284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957920" y="2901960"/>
            <a:ext cx="52848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5222880" y="3316320"/>
            <a:ext cx="53028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5246640" y="4157640"/>
            <a:ext cx="53172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4973760" y="3741840"/>
            <a:ext cx="5302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4973760" y="4570560"/>
            <a:ext cx="5302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5518080" y="3741840"/>
            <a:ext cx="52884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4446720" y="4556160"/>
            <a:ext cx="527040" cy="474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3895560" y="4576680"/>
            <a:ext cx="5270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168800" y="4149720"/>
            <a:ext cx="52704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5502240" y="4603680"/>
            <a:ext cx="528840" cy="474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6039000" y="4578480"/>
            <a:ext cx="528480" cy="476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4686480" y="2486160"/>
            <a:ext cx="528480" cy="4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2883" name=""/>
          <p:cNvGrpSpPr/>
          <p:nvPr/>
        </p:nvGrpSpPr>
        <p:grpSpPr>
          <a:xfrm>
            <a:off x="1085760" y="1219320"/>
            <a:ext cx="3429000" cy="1143000"/>
            <a:chOff x="1085760" y="1219320"/>
            <a:chExt cx="3429000" cy="1143000"/>
          </a:xfrm>
        </p:grpSpPr>
        <p:sp>
          <p:nvSpPr>
            <p:cNvPr id="2884" name=""/>
            <p:cNvSpPr/>
            <p:nvPr/>
          </p:nvSpPr>
          <p:spPr>
            <a:xfrm rot="5400000">
              <a:off x="2628720" y="876240"/>
              <a:ext cx="304920" cy="26668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9480 h 2666880"/>
                <a:gd name="textAreaBottom" fmla="*/ 25974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1298160" y="1600200"/>
              <a:ext cx="302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Times New Roman"/>
                </a:rPr>
                <a:t>hexagonal dichteste Kugelpack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1085760" y="12193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66ff"/>
                  </a:solidFill>
                  <a:latin typeface="Times New Roman"/>
                </a:rPr>
                <a:t>Schichtenfolge:   </a:t>
              </a: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de-DE" sz="2400" spc="-1" strike="noStrike">
                  <a:solidFill>
                    <a:srgbClr val="0066ff"/>
                  </a:solidFill>
                  <a:latin typeface="Times New Roman"/>
                </a:rPr>
                <a:t>  </a:t>
              </a:r>
              <a:r>
                <a:rPr b="1" lang="de-DE" sz="24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r>
                <a:rPr b="1" lang="de-DE" sz="2400" spc="-1" strike="noStrike">
                  <a:solidFill>
                    <a:srgbClr val="0066ff"/>
                  </a:solidFill>
                  <a:latin typeface="Times New Roman"/>
                </a:rPr>
                <a:t> 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7" name=""/>
          <p:cNvGrpSpPr/>
          <p:nvPr/>
        </p:nvGrpSpPr>
        <p:grpSpPr>
          <a:xfrm>
            <a:off x="3067200" y="5486040"/>
            <a:ext cx="3876480" cy="1145880"/>
            <a:chOff x="3067200" y="5486040"/>
            <a:chExt cx="3876480" cy="1145880"/>
          </a:xfrm>
        </p:grpSpPr>
        <p:sp>
          <p:nvSpPr>
            <p:cNvPr id="2888" name=""/>
            <p:cNvSpPr/>
            <p:nvPr/>
          </p:nvSpPr>
          <p:spPr>
            <a:xfrm flipV="1" rot="16200000">
              <a:off x="4838400" y="4152240"/>
              <a:ext cx="304920" cy="2971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584160" y="5835600"/>
              <a:ext cx="28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Times New Roman"/>
                </a:rPr>
                <a:t>kubisch dichteste Kugelpack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067200" y="6172200"/>
              <a:ext cx="38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ff00"/>
                  </a:solidFill>
                  <a:latin typeface="Times New Roman"/>
                </a:rPr>
                <a:t>Schichtenfolge:</a:t>
              </a:r>
              <a:r>
                <a:rPr b="0" lang="de-DE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de-DE" sz="2400" spc="-1" strike="noStrike">
                  <a:solidFill>
                    <a:srgbClr val="0066ff"/>
                  </a:solidFill>
                  <a:latin typeface="Times New Roman"/>
                </a:rPr>
                <a:t>  </a:t>
              </a:r>
              <a:r>
                <a:rPr b="1" lang="de-DE" sz="24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r>
                <a:rPr b="1" lang="de-DE" sz="2400" spc="-1" strike="noStrike">
                  <a:solidFill>
                    <a:srgbClr val="0066ff"/>
                  </a:solidFill>
                  <a:latin typeface="Times New Roman"/>
                </a:rPr>
                <a:t>   C   </a:t>
              </a:r>
              <a:r>
                <a:rPr b="1" lang="de-DE" sz="2400" spc="-1" strike="noStrike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4234-52E6-48EF-8823-90BD68BDDAD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765000" y="1797120"/>
            <a:ext cx="30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hexagonal dichteste Kugelpack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533520" y="1371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Schichtenfolge: 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de-DE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de-DE" sz="2400" spc="-1" strike="noStrike">
                <a:solidFill>
                  <a:srgbClr val="0066ff"/>
                </a:solidFill>
                <a:latin typeface="Times New Roman"/>
              </a:rPr>
              <a:t> 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5641560" y="1797120"/>
            <a:ext cx="28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kubisch dichteste Kugelpack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5029200" y="137160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Schichtenfolge:</a:t>
            </a: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de-DE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de-DE" sz="2400" spc="-1" strike="noStrike">
                <a:solidFill>
                  <a:srgbClr val="0066ff"/>
                </a:solidFill>
                <a:latin typeface="Times New Roman"/>
              </a:rPr>
              <a:t>   C   </a:t>
            </a:r>
            <a:r>
              <a:rPr b="1" lang="de-DE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6" name="Folie1" descr=""/>
          <p:cNvPicPr/>
          <p:nvPr/>
        </p:nvPicPr>
        <p:blipFill>
          <a:blip r:embed="rId1"/>
          <a:srcRect l="6483" t="21606" r="56483" b="21606"/>
          <a:stretch/>
        </p:blipFill>
        <p:spPr>
          <a:xfrm>
            <a:off x="5638680" y="2362320"/>
            <a:ext cx="2784600" cy="3200400"/>
          </a:xfrm>
          <a:prstGeom prst="rect">
            <a:avLst/>
          </a:prstGeom>
          <a:ln w="0">
            <a:noFill/>
          </a:ln>
        </p:spPr>
      </p:pic>
      <p:pic>
        <p:nvPicPr>
          <p:cNvPr id="2897" name="Folie1" descr=""/>
          <p:cNvPicPr/>
          <p:nvPr/>
        </p:nvPicPr>
        <p:blipFill>
          <a:blip r:embed="rId2"/>
          <a:srcRect l="53706" t="21606" r="8331" b="21606"/>
          <a:stretch/>
        </p:blipFill>
        <p:spPr>
          <a:xfrm>
            <a:off x="838080" y="2362320"/>
            <a:ext cx="285588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12D9-9D5D-443A-8B2E-6EF28830BFB9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276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277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357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359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3119400" y="2438280"/>
            <a:ext cx="4294080" cy="2158920"/>
            <a:chOff x="3119400" y="2438280"/>
            <a:chExt cx="4294080" cy="2158920"/>
          </a:xfrm>
        </p:grpSpPr>
        <p:sp>
          <p:nvSpPr>
            <p:cNvPr id="418" name=""/>
            <p:cNvSpPr/>
            <p:nvPr/>
          </p:nvSpPr>
          <p:spPr>
            <a:xfrm>
              <a:off x="5823000" y="32781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49760" y="369252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91200" y="369252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64440" y="32781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91200" y="28638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84800" y="411624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27680" y="410364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48240" y="244296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5760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4360" y="369720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25800" y="369720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9904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25800" y="28684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19400" y="412092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89600" y="286056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51400" y="28605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16360" y="24462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16360" y="327492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59240" y="327492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33920" y="28605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59240" y="24462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41920" y="411624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03720" y="411624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67240" y="370044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91320" y="24462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11560" y="370044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62280" y="410832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83200" y="24462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16800" y="28558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85000" y="24382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852640" y="2859120"/>
            <a:ext cx="52704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62280" y="2449440"/>
            <a:ext cx="5288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98600" y="2862360"/>
            <a:ext cx="53028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60400" y="2862360"/>
            <a:ext cx="52884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25720" y="2449440"/>
            <a:ext cx="53028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25720" y="3278160"/>
            <a:ext cx="53028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70040" y="327816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70040" y="244944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1200" y="3276720"/>
            <a:ext cx="5284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84720" y="2862360"/>
            <a:ext cx="5284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76520" y="4114800"/>
            <a:ext cx="53028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03640" y="3701880"/>
            <a:ext cx="52992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47960" y="370188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25880" y="244944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01920" y="2454120"/>
            <a:ext cx="52992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57640" y="1371600"/>
            <a:ext cx="481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Kugeln in der dritten 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liegen genau über denen in der er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F0A8A-2261-465A-A9DF-6001BF35890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466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467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547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549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3119400" y="2438280"/>
            <a:ext cx="4294080" cy="2158920"/>
            <a:chOff x="3119400" y="2438280"/>
            <a:chExt cx="4294080" cy="2158920"/>
          </a:xfrm>
        </p:grpSpPr>
        <p:sp>
          <p:nvSpPr>
            <p:cNvPr id="608" name=""/>
            <p:cNvSpPr/>
            <p:nvPr/>
          </p:nvSpPr>
          <p:spPr>
            <a:xfrm>
              <a:off x="5823000" y="32781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49760" y="369252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1200" y="369252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364440" y="32781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1200" y="28638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84800" y="411624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27680" y="410364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48240" y="244296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65760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84360" y="369720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25800" y="369720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9904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25800" y="28684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119400" y="412092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89600" y="286056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51400" y="28605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16360" y="24462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16360" y="327492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59240" y="327492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33920" y="28605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59240" y="24462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741920" y="411624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03720" y="411624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67240" y="370044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91320" y="24462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11560" y="370044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62280" y="410832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83200" y="24462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16800" y="28558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885000" y="24382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852640" y="2859120"/>
            <a:ext cx="52704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62280" y="2449440"/>
            <a:ext cx="5288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298600" y="2862360"/>
            <a:ext cx="53028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760400" y="2862360"/>
            <a:ext cx="52884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25720" y="2449440"/>
            <a:ext cx="53028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25720" y="3278160"/>
            <a:ext cx="53028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70040" y="327816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70040" y="244944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121200" y="3276720"/>
            <a:ext cx="5284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84720" y="2862360"/>
            <a:ext cx="5284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76520" y="4114800"/>
            <a:ext cx="53028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303640" y="3701880"/>
            <a:ext cx="52992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47960" y="370188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25880" y="244944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1828800"/>
            <a:ext cx="5302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57640" y="1371600"/>
            <a:ext cx="4818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Kugeln in der dritten 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liegen genau über denen in der er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5200-57D6-4C78-985C-7C636B304F0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656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657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669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1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737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739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3119400" y="2438280"/>
            <a:ext cx="4294080" cy="2158920"/>
            <a:chOff x="3119400" y="2438280"/>
            <a:chExt cx="4294080" cy="2158920"/>
          </a:xfrm>
        </p:grpSpPr>
        <p:sp>
          <p:nvSpPr>
            <p:cNvPr id="798" name=""/>
            <p:cNvSpPr/>
            <p:nvPr/>
          </p:nvSpPr>
          <p:spPr>
            <a:xfrm>
              <a:off x="5823000" y="32781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49760" y="369252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91200" y="369252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364440" y="32781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91200" y="28638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84800" y="411624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827680" y="410364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48240" y="244296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65760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384360" y="369720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925800" y="369720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19904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925800" y="28684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19400" y="412092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89600" y="286056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451400" y="28605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716360" y="24462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716360" y="327492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59240" y="327492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33920" y="28605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59240" y="24462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741920" y="411624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03720" y="411624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467240" y="370044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791320" y="24462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011560" y="370044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662280" y="410832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183200" y="24462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616800" y="28558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85000" y="24382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2852640" y="2859120"/>
            <a:ext cx="52704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62280" y="2449440"/>
            <a:ext cx="5288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98600" y="2862360"/>
            <a:ext cx="53028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760400" y="2862360"/>
            <a:ext cx="52884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025720" y="2449440"/>
            <a:ext cx="53028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025720" y="3278160"/>
            <a:ext cx="53028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70040" y="327816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70040" y="244944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21200" y="3276720"/>
            <a:ext cx="5284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84720" y="2862360"/>
            <a:ext cx="5284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76520" y="4114800"/>
            <a:ext cx="53028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03640" y="3701880"/>
            <a:ext cx="52992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47960" y="370188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125880" y="244944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504800" y="2448000"/>
            <a:ext cx="5302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62320" y="1371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Times New Roman"/>
              </a:rPr>
              <a:t>Schichtenfolge: 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de-DE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de-DE" sz="2400" spc="-1" strike="noStrike">
                <a:solidFill>
                  <a:srgbClr val="0066ff"/>
                </a:solidFill>
                <a:latin typeface="Times New Roman"/>
              </a:rPr>
              <a:t> 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58000" y="1828800"/>
            <a:ext cx="4777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  hexagonal dichteste Kugelpac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F823-A8BD-4F8E-95E8-A2F49D74BA4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847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848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2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928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930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7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6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8" name=""/>
          <p:cNvGrpSpPr/>
          <p:nvPr/>
        </p:nvGrpSpPr>
        <p:grpSpPr>
          <a:xfrm>
            <a:off x="3119400" y="2438280"/>
            <a:ext cx="4294080" cy="2158920"/>
            <a:chOff x="3119400" y="2438280"/>
            <a:chExt cx="4294080" cy="2158920"/>
          </a:xfrm>
        </p:grpSpPr>
        <p:sp>
          <p:nvSpPr>
            <p:cNvPr id="989" name=""/>
            <p:cNvSpPr/>
            <p:nvPr/>
          </p:nvSpPr>
          <p:spPr>
            <a:xfrm>
              <a:off x="5823000" y="32781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549760" y="369252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091200" y="369252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364440" y="32781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91200" y="28638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284800" y="411624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827680" y="410364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348240" y="244296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65760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84360" y="369720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25800" y="369720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99040" y="328104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925800" y="28684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119400" y="412092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989600" y="286056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451400" y="286056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716360" y="24462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716360" y="327492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259240" y="327492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533920" y="286056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9240" y="24462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741920" y="411624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03720" y="411624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67240" y="370044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791320" y="24462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011560" y="370044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662280" y="410832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183200" y="24462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16800" y="28558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85000" y="243828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" name=""/>
          <p:cNvSpPr/>
          <p:nvPr/>
        </p:nvSpPr>
        <p:spPr>
          <a:xfrm>
            <a:off x="2852640" y="2859120"/>
            <a:ext cx="52704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662280" y="2449440"/>
            <a:ext cx="5288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298600" y="2862360"/>
            <a:ext cx="53028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760400" y="2862360"/>
            <a:ext cx="52884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025720" y="2449440"/>
            <a:ext cx="53028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025720" y="3278160"/>
            <a:ext cx="53028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570040" y="327816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570040" y="244944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21200" y="3276720"/>
            <a:ext cx="5284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84720" y="2862360"/>
            <a:ext cx="5284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576520" y="4114800"/>
            <a:ext cx="530280" cy="47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303640" y="3701880"/>
            <a:ext cx="52992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847960" y="370188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125880" y="2449440"/>
            <a:ext cx="527040" cy="474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504800" y="2448000"/>
            <a:ext cx="530280" cy="476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4EFA0-4B15-468D-BD29-A449C371F8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1036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1037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1049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1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0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1117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8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1119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6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5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7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1178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1209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1211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0BE3B-1793-4B03-BE5C-FC5847D795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1227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1228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6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2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1308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1310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8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1369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1400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1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1402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rot="5400000">
            <a:off x="2628720" y="87624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211480" y="16002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hexag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176C6-AD02-442E-9FE0-B77880D20BB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9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1420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1421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9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2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1433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5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4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1501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1503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0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9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1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1562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1593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1595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rot="5400000">
            <a:off x="2628720" y="87624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211480" y="16002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hexag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4BC9B-0FBF-4D51-B3BB-C10E4D56798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"/>
          <p:cNvGrpSpPr/>
          <p:nvPr/>
        </p:nvGrpSpPr>
        <p:grpSpPr>
          <a:xfrm>
            <a:off x="957240" y="2428920"/>
            <a:ext cx="7489800" cy="2980800"/>
            <a:chOff x="957240" y="2428920"/>
            <a:chExt cx="7489800" cy="2980800"/>
          </a:xfrm>
        </p:grpSpPr>
        <p:grpSp>
          <p:nvGrpSpPr>
            <p:cNvPr id="1613" name=""/>
            <p:cNvGrpSpPr/>
            <p:nvPr/>
          </p:nvGrpSpPr>
          <p:grpSpPr>
            <a:xfrm>
              <a:off x="2573280" y="4921200"/>
              <a:ext cx="4315680" cy="488520"/>
              <a:chOff x="2573280" y="4921200"/>
              <a:chExt cx="4315680" cy="488520"/>
            </a:xfrm>
          </p:grpSpPr>
          <p:sp>
            <p:nvSpPr>
              <p:cNvPr id="1614" name=""/>
              <p:cNvSpPr/>
              <p:nvPr/>
            </p:nvSpPr>
            <p:spPr>
              <a:xfrm>
                <a:off x="473796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358680" y="4921200"/>
                <a:ext cx="530280" cy="47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83092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280120" y="492696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573280" y="493128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194000" y="4925160"/>
                <a:ext cx="530280" cy="475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65880" y="4935600"/>
                <a:ext cx="52776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114720" y="4931280"/>
                <a:ext cx="528120" cy="47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2" name=""/>
            <p:cNvSpPr/>
            <p:nvPr/>
          </p:nvSpPr>
          <p:spPr>
            <a:xfrm>
              <a:off x="6915240" y="330372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864480" y="246240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894360" y="410688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5" name=""/>
            <p:cNvGrpSpPr/>
            <p:nvPr/>
          </p:nvGrpSpPr>
          <p:grpSpPr>
            <a:xfrm>
              <a:off x="957240" y="2441520"/>
              <a:ext cx="6203160" cy="2585160"/>
              <a:chOff x="957240" y="2441520"/>
              <a:chExt cx="6203160" cy="2585160"/>
            </a:xfrm>
          </p:grpSpPr>
          <p:grpSp>
            <p:nvGrpSpPr>
              <p:cNvPr id="1626" name=""/>
              <p:cNvGrpSpPr/>
              <p:nvPr/>
            </p:nvGrpSpPr>
            <p:grpSpPr>
              <a:xfrm>
                <a:off x="1751040" y="2464200"/>
                <a:ext cx="4300200" cy="2562480"/>
                <a:chOff x="1751040" y="2464200"/>
                <a:chExt cx="4300200" cy="256248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365220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2288160" y="288504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175104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2015280" y="2472120"/>
                  <a:ext cx="52992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2015280" y="330048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2559240" y="330048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2832120" y="2885040"/>
                  <a:ext cx="52812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255924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36475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311040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3742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3742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3916080" y="37134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4189320" y="32979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3916080" y="28850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2566080" y="4136760"/>
                  <a:ext cx="52992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202896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2292840" y="3723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2292840" y="455184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283680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3110400" y="413676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2836800" y="3723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4978800" y="28771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444204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4705920" y="2464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4705920" y="3292200"/>
                  <a:ext cx="5299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5249880" y="3292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5523480" y="28771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52498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4731120" y="4132800"/>
                  <a:ext cx="53028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419364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4457520" y="3717360"/>
                  <a:ext cx="53028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4457520" y="4545720"/>
                  <a:ext cx="53028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5002200" y="4545720"/>
                  <a:ext cx="527760" cy="476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5275080" y="4132800"/>
                  <a:ext cx="52812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5002200" y="37173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3115080" y="2472120"/>
                  <a:ext cx="527760" cy="47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3929760" y="453132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3378960" y="455184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3652200" y="4124160"/>
                  <a:ext cx="527760" cy="47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4173480" y="2464200"/>
                  <a:ext cx="527760" cy="474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8" name=""/>
              <p:cNvSpPr/>
              <p:nvPr/>
            </p:nvSpPr>
            <p:spPr>
              <a:xfrm>
                <a:off x="1494360" y="247896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957240" y="246600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221120" y="2881080"/>
                <a:ext cx="52992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762560" y="372204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489680" y="330696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810760" y="24498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806080" y="32882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6088320" y="3691080"/>
                <a:ext cx="52812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361560" y="32760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074640" y="28630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6613920" y="2854440"/>
                <a:ext cx="52776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366240" y="4110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6630120" y="3695400"/>
                <a:ext cx="53028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630120" y="4523400"/>
                <a:ext cx="530280" cy="47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102360" y="4509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824080" y="4102200"/>
                <a:ext cx="527760" cy="47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345360" y="244152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558040" y="453600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530680" y="3705480"/>
                <a:ext cx="527760" cy="474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7142040" y="2874960"/>
              <a:ext cx="52884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391520" y="2457360"/>
              <a:ext cx="5270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684920" y="2849760"/>
              <a:ext cx="52704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64240" y="3267000"/>
              <a:ext cx="528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197840" y="3710160"/>
              <a:ext cx="528480" cy="47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918560" y="2428920"/>
              <a:ext cx="528480" cy="47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1219320" y="2585880"/>
            <a:ext cx="6463440" cy="2581200"/>
            <a:chOff x="1219320" y="2585880"/>
            <a:chExt cx="6463440" cy="2581200"/>
          </a:xfrm>
        </p:grpSpPr>
        <p:sp>
          <p:nvSpPr>
            <p:cNvPr id="1694" name=""/>
            <p:cNvSpPr/>
            <p:nvPr/>
          </p:nvSpPr>
          <p:spPr>
            <a:xfrm>
              <a:off x="1219320" y="2611080"/>
              <a:ext cx="531360" cy="474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5" name=""/>
            <p:cNvGrpSpPr/>
            <p:nvPr/>
          </p:nvGrpSpPr>
          <p:grpSpPr>
            <a:xfrm>
              <a:off x="1484280" y="2585880"/>
              <a:ext cx="6198480" cy="2581200"/>
              <a:chOff x="1484280" y="2585880"/>
              <a:chExt cx="6198480" cy="2581200"/>
            </a:xfrm>
          </p:grpSpPr>
          <p:sp>
            <p:nvSpPr>
              <p:cNvPr id="1696" name=""/>
              <p:cNvSpPr/>
              <p:nvPr/>
            </p:nvSpPr>
            <p:spPr>
              <a:xfrm>
                <a:off x="6624360" y="261108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260680" y="3024000"/>
                <a:ext cx="5299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532120" y="343980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805000" y="302400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53212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619320" y="3436920"/>
                <a:ext cx="52848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6082920" y="343692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6346440" y="3024000"/>
                <a:ext cx="52812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6346440" y="3852720"/>
                <a:ext cx="528120" cy="474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538240" y="427644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265360" y="386208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265360" y="4690800"/>
                <a:ext cx="5299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809680" y="469080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6082920" y="427644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809680" y="3862080"/>
                <a:ext cx="52704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6087600" y="2611080"/>
                <a:ext cx="5266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355800" y="4668480"/>
                <a:ext cx="528480" cy="4748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3" name=""/>
              <p:cNvGrpSpPr/>
              <p:nvPr/>
            </p:nvGrpSpPr>
            <p:grpSpPr>
              <a:xfrm>
                <a:off x="1484280" y="2593800"/>
                <a:ext cx="4051800" cy="2563560"/>
                <a:chOff x="1484280" y="2593800"/>
                <a:chExt cx="4051800" cy="256356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338508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021040" y="301536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148428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1748160" y="260208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1748160" y="343044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2292120" y="343044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2565360" y="301536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229212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338040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284292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31071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31071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3648960" y="384336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922560" y="34282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3648960" y="30153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2298960" y="4267080"/>
                  <a:ext cx="53028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2025720" y="385380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2569680" y="468252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2842920" y="42670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2569680" y="385380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4712400" y="300672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4174920" y="300672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4438800" y="2593800"/>
                  <a:ext cx="5299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4438800" y="3422160"/>
                  <a:ext cx="5299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4983120" y="342216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498312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4464000" y="4262760"/>
                  <a:ext cx="53028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392652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4191120" y="384768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4191120" y="4676040"/>
                  <a:ext cx="52992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4735080" y="467604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5007960" y="4262760"/>
                  <a:ext cx="52812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4735080" y="3847680"/>
                  <a:ext cx="527760" cy="4770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2847600" y="260208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3662640" y="4661640"/>
                  <a:ext cx="52812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3111840" y="4682520"/>
                  <a:ext cx="527760" cy="4748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3385080" y="4254840"/>
                  <a:ext cx="527760" cy="47664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3906360" y="2593800"/>
                  <a:ext cx="527760" cy="47520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2" name=""/>
              <p:cNvSpPr/>
              <p:nvPr/>
            </p:nvSpPr>
            <p:spPr>
              <a:xfrm>
                <a:off x="6906960" y="3008160"/>
                <a:ext cx="528120" cy="476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154640" y="2585880"/>
                <a:ext cx="528120" cy="477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4" name=""/>
          <p:cNvGrpSpPr/>
          <p:nvPr/>
        </p:nvGrpSpPr>
        <p:grpSpPr>
          <a:xfrm>
            <a:off x="3119400" y="2727360"/>
            <a:ext cx="4294080" cy="2158920"/>
            <a:chOff x="3119400" y="2727360"/>
            <a:chExt cx="4294080" cy="2158920"/>
          </a:xfrm>
        </p:grpSpPr>
        <p:sp>
          <p:nvSpPr>
            <p:cNvPr id="1755" name=""/>
            <p:cNvSpPr/>
            <p:nvPr/>
          </p:nvSpPr>
          <p:spPr>
            <a:xfrm>
              <a:off x="5823000" y="35672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549760" y="3981600"/>
              <a:ext cx="52704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091200" y="3981600"/>
              <a:ext cx="528480" cy="475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364440" y="35672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091200" y="31528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284800" y="440532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27680" y="4392720"/>
              <a:ext cx="5270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348240" y="2732040"/>
              <a:ext cx="528840" cy="474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65760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384360" y="3986280"/>
              <a:ext cx="5270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925800" y="398628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199040" y="3570120"/>
              <a:ext cx="528480" cy="47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925800" y="3157560"/>
              <a:ext cx="52884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119400" y="441000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989600" y="314964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451400" y="314964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716360" y="273528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716360" y="3564000"/>
              <a:ext cx="5302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259240" y="356400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533920" y="314964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259240" y="2735280"/>
              <a:ext cx="5288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741920" y="4405320"/>
              <a:ext cx="5302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03720" y="4405320"/>
              <a:ext cx="528480" cy="474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467240" y="3989520"/>
              <a:ext cx="53172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791320" y="273528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011560" y="3989520"/>
              <a:ext cx="52884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662280" y="4397400"/>
              <a:ext cx="52704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183200" y="2735280"/>
              <a:ext cx="528480" cy="47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616800" y="31449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885000" y="2727360"/>
              <a:ext cx="528480" cy="477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1501920" y="2449440"/>
            <a:ext cx="2688480" cy="2142360"/>
            <a:chOff x="1501920" y="2449440"/>
            <a:chExt cx="2688480" cy="2142360"/>
          </a:xfrm>
        </p:grpSpPr>
        <p:sp>
          <p:nvSpPr>
            <p:cNvPr id="1786" name=""/>
            <p:cNvSpPr/>
            <p:nvPr/>
          </p:nvSpPr>
          <p:spPr>
            <a:xfrm>
              <a:off x="2851920" y="2858400"/>
              <a:ext cx="527760" cy="477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7" name=""/>
            <p:cNvGrpSpPr/>
            <p:nvPr/>
          </p:nvGrpSpPr>
          <p:grpSpPr>
            <a:xfrm>
              <a:off x="1501920" y="2449440"/>
              <a:ext cx="2688480" cy="2142360"/>
              <a:chOff x="1501920" y="2449440"/>
              <a:chExt cx="2688480" cy="2142360"/>
            </a:xfrm>
          </p:grpSpPr>
          <p:sp>
            <p:nvSpPr>
              <p:cNvPr id="1788" name=""/>
              <p:cNvSpPr/>
              <p:nvPr/>
            </p:nvSpPr>
            <p:spPr>
              <a:xfrm>
                <a:off x="366264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298960" y="2862000"/>
                <a:ext cx="52992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761480" y="286200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025360" y="244944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025360" y="3277800"/>
                <a:ext cx="5299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569680" y="327780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6968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120480" y="3275640"/>
                <a:ext cx="52776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384360" y="2862000"/>
                <a:ext cx="528120" cy="4755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576520" y="4114800"/>
                <a:ext cx="530280" cy="477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302920" y="3701520"/>
                <a:ext cx="53028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847240" y="3701520"/>
                <a:ext cx="52812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5160" y="2449440"/>
                <a:ext cx="527760" cy="474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1501920" y="2453040"/>
                <a:ext cx="530280" cy="4773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Times New Roman"/>
              </a:rPr>
              <a:t>Kugelpackung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rot="5400000">
            <a:off x="2628720" y="87624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211480" y="160020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hexag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C0AAE-5F8A-4963-936D-5BE8BAAA6C7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6T20:53:54Z</dcterms:created>
  <dc:creator>Peter Maisenbacher</dc:creator>
  <dc:description/>
  <dc:language>en-US</dc:language>
  <cp:lastModifiedBy>Peter Maisenbacher</cp:lastModifiedBy>
  <dcterms:modified xsi:type="dcterms:W3CDTF">2005-10-14T20:57:58Z</dcterms:modified>
  <cp:revision>13</cp:revision>
  <dc:subject/>
  <dc:title>Kugelpackungen</dc:title>
</cp:coreProperties>
</file>