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40D14-93EE-4A9E-9F52-81BE21C3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674A1-1197-486B-ACCA-D62B10DA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C99A6-C44C-443A-9D37-F91B5A2D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F4D0B-4E70-473A-AFEE-A3CDBDF6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B66D4-8D72-4CB2-95DD-AE390A9E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A51F6-673F-4CEC-9D62-A9971E37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634A8-52E3-4FB8-BA60-67D0AABF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83477-9A9D-41E2-B881-818AD43D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E2513-89C2-4131-9B27-000B95C6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B8686-7185-4B91-B1DF-F15281AD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F6D3B-8BC3-4880-A7A2-2B64334D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78977-3414-4558-AFDD-629D438B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Autor: Peter Maisenbac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ECEC-21F7-4B39-BBDB-01EABC445B52}" type="slidenum">
              <a:rPr b="0" lang="de-DE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Expbann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EXPHORSA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EXPHORSA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5410080" y="2362320"/>
            <a:ext cx="2743200" cy="2743200"/>
            <a:chOff x="5410080" y="2362320"/>
            <a:chExt cx="2743200" cy="2743200"/>
          </a:xfrm>
        </p:grpSpPr>
        <p:sp>
          <p:nvSpPr>
            <p:cNvPr id="84" name=""/>
            <p:cNvSpPr/>
            <p:nvPr/>
          </p:nvSpPr>
          <p:spPr>
            <a:xfrm>
              <a:off x="5410080" y="2362320"/>
              <a:ext cx="2739960" cy="2743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8880" y="3200400"/>
              <a:ext cx="914400" cy="9907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e7e7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19760" y="3733920"/>
              <a:ext cx="228600" cy="0"/>
            </a:xfrm>
            <a:prstGeom prst="line">
              <a:avLst/>
            </a:prstGeom>
            <a:ln w="57240">
              <a:solidFill>
                <a:srgbClr val="00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6324480" y="3276720"/>
              <a:ext cx="914400" cy="914400"/>
              <a:chOff x="6324480" y="3276720"/>
              <a:chExt cx="914400" cy="914400"/>
            </a:xfrm>
          </p:grpSpPr>
          <p:sp>
            <p:nvSpPr>
              <p:cNvPr id="88" name=""/>
              <p:cNvSpPr/>
              <p:nvPr/>
            </p:nvSpPr>
            <p:spPr>
              <a:xfrm>
                <a:off x="6324480" y="327672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6586200" y="3538440"/>
                <a:ext cx="420480" cy="390240"/>
                <a:chOff x="6586200" y="3538440"/>
                <a:chExt cx="420480" cy="3902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586200" y="3733560"/>
                  <a:ext cx="420480" cy="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796440" y="3538440"/>
                  <a:ext cx="0" cy="3902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" name=""/>
          <p:cNvGrpSpPr/>
          <p:nvPr/>
        </p:nvGrpSpPr>
        <p:grpSpPr>
          <a:xfrm>
            <a:off x="914400" y="2362320"/>
            <a:ext cx="2742840" cy="2743200"/>
            <a:chOff x="914400" y="2362320"/>
            <a:chExt cx="2742840" cy="2743200"/>
          </a:xfrm>
        </p:grpSpPr>
        <p:sp>
          <p:nvSpPr>
            <p:cNvPr id="93" name=""/>
            <p:cNvSpPr/>
            <p:nvPr/>
          </p:nvSpPr>
          <p:spPr>
            <a:xfrm>
              <a:off x="914400" y="2362320"/>
              <a:ext cx="2742840" cy="2743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1877400" y="3381840"/>
              <a:ext cx="762480" cy="740520"/>
              <a:chOff x="1877400" y="3381840"/>
              <a:chExt cx="762480" cy="740520"/>
            </a:xfrm>
          </p:grpSpPr>
          <p:sp>
            <p:nvSpPr>
              <p:cNvPr id="95" name=""/>
              <p:cNvSpPr/>
              <p:nvPr/>
            </p:nvSpPr>
            <p:spPr>
              <a:xfrm>
                <a:off x="1877400" y="3381840"/>
                <a:ext cx="762480" cy="74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03920" y="3699000"/>
                <a:ext cx="109080" cy="105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592720" y="3177720"/>
              <a:ext cx="1048680" cy="103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3-Lithiumatom%20animiert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82400"/>
                </a:solidFill>
                <a:latin typeface="Arial"/>
              </a:rPr>
              <a:t>Modelle von Lithium-Atomen</a:t>
            </a:r>
            <a:endParaRPr b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2880" y="13716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omk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8880" y="1371600"/>
            <a:ext cx="179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ppelt besetz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enthaltsra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9800" y="4267080"/>
            <a:ext cx="1783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ach besetz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enthaltsra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752480"/>
            <a:ext cx="780840" cy="1924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6000" y="213372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90560" y="365760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560" y="1219320"/>
            <a:ext cx="27669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tomrumpf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rn &amp; vollständig besetz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nerer Aufenthaltsra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6696000" y="2762280"/>
            <a:ext cx="152640" cy="838080"/>
          </a:xfrm>
          <a:custGeom>
            <a:avLst/>
            <a:gdLst>
              <a:gd name="textAreaLeft" fmla="*/ 0 w 152640"/>
              <a:gd name="textAreaRight" fmla="*/ 5508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66080" y="27907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omrum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1080" y="3370320"/>
            <a:ext cx="8161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ße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lekt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2133720" y="416196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987"/>
                </a:lnTo>
                <a:cubicBezTo>
                  <a:pt x="10800" y="9887"/>
                  <a:pt x="5400" y="10786"/>
                  <a:pt x="0" y="10786"/>
                </a:cubicBezTo>
                <a:cubicBezTo>
                  <a:pt x="5400" y="10786"/>
                  <a:pt x="10800" y="11686"/>
                  <a:pt x="10800" y="12585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591240" y="415260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987"/>
                </a:lnTo>
                <a:cubicBezTo>
                  <a:pt x="10800" y="9887"/>
                  <a:pt x="5400" y="10786"/>
                  <a:pt x="0" y="10786"/>
                </a:cubicBezTo>
                <a:cubicBezTo>
                  <a:pt x="5400" y="10786"/>
                  <a:pt x="10800" y="11686"/>
                  <a:pt x="10800" y="12585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84960" y="5632560"/>
            <a:ext cx="7064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iche um den Atomkern in dem die Elektronen zu 99,9% anzutreffen s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eter Maisenbach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5:55:43Z</dcterms:created>
  <dc:creator>Peter Maisenbacher</dc:creator>
  <dc:description/>
  <dc:language>en-US</dc:language>
  <cp:lastModifiedBy>Peter Maisenbacher</cp:lastModifiedBy>
  <dcterms:modified xsi:type="dcterms:W3CDTF">2005-10-16T20:34:55Z</dcterms:modified>
  <cp:revision>4</cp:revision>
  <dc:subject/>
  <dc:title>Modelle von Lithium-Atome</dc:title>
</cp:coreProperties>
</file>