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49E3B-E501-4E82-9ED7-C5E9E8398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8A759-2E3F-47FE-AD6A-11D5AA7F5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A2A26-347F-4CB3-8914-271D87131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AA2D-FE35-4904-B183-D481BB31E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E9D1D-D231-4C2D-A1BB-96B3B054E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01A-923D-4687-9095-3832D875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0823-0C45-447F-A37B-7295A3304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44DB8-2CCC-4BF0-B223-12563557F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6C561-DC5F-4E0D-8731-4DBD5E890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4EC51-A43F-480F-B528-18F5C49C6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048F5-F63C-4113-AD43-87CC0B14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F80C-88CD-41E4-8CCF-5E7FB2E9C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06A4C-A05A-421D-997F-315F86C964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52280"/>
            <a:ext cx="80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änderung – Addition an der Zahlenger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84840" y="7621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ssung: Wir haben eine Ausgangstemperatu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28600" y="2895480"/>
            <a:ext cx="906480" cy="37720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45936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5" name=""/>
          <p:cNvGraphicFramePr/>
          <p:nvPr/>
        </p:nvGraphicFramePr>
        <p:xfrm>
          <a:off x="2362320" y="3733920"/>
          <a:ext cx="4146480" cy="485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62320" y="3733920"/>
                    <a:ext cx="4146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2819880" y="3352680"/>
            <a:ext cx="478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078000" y="39625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912040" y="462744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3040" y="112248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ssung: Wir haben eine Endtemperatur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8001000" y="2884320"/>
            <a:ext cx="876240" cy="364356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8155080" y="234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241960" y="3902040"/>
            <a:ext cx="0" cy="7621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045400" y="46418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97880" y="3303720"/>
            <a:ext cx="541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138760" y="154764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 haben eine Veränderung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094200" y="4435560"/>
            <a:ext cx="21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885840" y="442908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660720" y="1549440"/>
            <a:ext cx="61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+ 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685800" y="152280"/>
            <a:ext cx="807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änderung – Addition an der Zahlengera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84840" y="762120"/>
            <a:ext cx="71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Messung: Wir haben eine Ausgangstemperatur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59360" y="23623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2362320" y="3733920"/>
          <a:ext cx="4146480" cy="48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3733920"/>
                    <a:ext cx="4146480" cy="48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383040" y="1122480"/>
            <a:ext cx="645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Messung: Wir haben eine Endtemperatur 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8155080" y="23400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8760" y="1547640"/>
            <a:ext cx="458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r haben eine Veränderung u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279360" y="2795760"/>
            <a:ext cx="876240" cy="364320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8010360" y="2828880"/>
            <a:ext cx="889200" cy="369720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>
            <a:off x="5241960" y="3902040"/>
            <a:ext cx="0" cy="82224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75280" y="485604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043960" y="3303720"/>
            <a:ext cx="47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+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794040" y="3932280"/>
            <a:ext cx="0" cy="868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581640" y="48099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610800" y="3301920"/>
            <a:ext cx="407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-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3794040" y="4602240"/>
            <a:ext cx="1447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252320" y="459576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629040" y="156384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4T07:47:14Z</dcterms:created>
  <dc:creator>Horst Lost</dc:creator>
  <dc:description/>
  <dc:language>en-US</dc:language>
  <cp:lastModifiedBy>Horst Lost</cp:lastModifiedBy>
  <dcterms:modified xsi:type="dcterms:W3CDTF">2005-11-14T08:03:50Z</dcterms:modified>
  <cp:revision>1</cp:revision>
  <dc:subject/>
  <dc:title>PowerPoint-Präsentation</dc:title>
</cp:coreProperties>
</file>