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E2B-DB6F-43F9-A8CC-7F57A538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10F-60F6-4C50-8FE5-6ACC4995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2A3-5E59-4D7E-B6FA-AA6089BE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439-2187-457E-84A1-94FD7A3B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9BC-0D45-42AC-98AA-2FFDC23F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C07-7240-4024-AF8A-FB5DAA1A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A40-E610-470D-9CD2-569E2CAF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62E-F1B2-4A27-835A-7D413A36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9CE-CC94-4831-AC59-2D9F73A4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3D1-A69A-4D20-9304-17962D1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FD1-3D73-4299-9B01-8721C63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5E6-DB1D-4DA9-B805-D4D97699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B92D-BEA7-4384-B0A9-CB5D692AF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860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nordnung der Ganzen 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38188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381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25800" y="4952880"/>
            <a:ext cx="63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Zahlengeraden steht die kleinere 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s von der größeren Zah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7840" y="1371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33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8560" y="1371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600" y="1752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5680" y="1752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7960" y="175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5680" y="2209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38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1320" y="220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57960" y="2782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4520" y="27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2743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0720" y="2286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nordnung der rationalen 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762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ufgabe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lege welches Zeichen , &lt; oder &gt; ,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gesetzt werden mus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765440"/>
          <a:ext cx="86868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65440"/>
                    <a:ext cx="8686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39880" y="274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7800" y="274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200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7800" y="3200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444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4114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4440" y="4114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4572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4440" y="4572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6520" y="5029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4440" y="5029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6520" y="5486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7800" y="5486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5943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800" y="5943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480" y="281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5040" y="2819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712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504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7120" y="3733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8400" y="373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40480" y="4191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8400" y="4191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40480" y="4648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8400" y="4648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9880" y="3657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62120" y="2706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7960" y="3200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7960" y="3657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7960" y="4114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20120" y="2057400"/>
            <a:ext cx="304560" cy="533520"/>
            <a:chOff x="7620120" y="2057400"/>
            <a:chExt cx="304560" cy="533520"/>
          </a:xfrm>
        </p:grpSpPr>
        <p:sp>
          <p:nvSpPr>
            <p:cNvPr id="92" name=""/>
            <p:cNvSpPr/>
            <p:nvPr/>
          </p:nvSpPr>
          <p:spPr>
            <a:xfrm flipV="1">
              <a:off x="7620120" y="20574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924680" y="20574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90720" y="2133360"/>
            <a:ext cx="6926040" cy="533160"/>
            <a:chOff x="990720" y="2133360"/>
            <a:chExt cx="6926040" cy="533160"/>
          </a:xfrm>
        </p:grpSpPr>
        <p:sp>
          <p:nvSpPr>
            <p:cNvPr id="95" name=""/>
            <p:cNvSpPr/>
            <p:nvPr/>
          </p:nvSpPr>
          <p:spPr>
            <a:xfrm flipV="1">
              <a:off x="9907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1676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62120" y="2133360"/>
            <a:ext cx="6850080" cy="533160"/>
            <a:chOff x="762120" y="2133360"/>
            <a:chExt cx="6850080" cy="533160"/>
          </a:xfrm>
        </p:grpSpPr>
        <p:sp>
          <p:nvSpPr>
            <p:cNvPr id="98" name=""/>
            <p:cNvSpPr/>
            <p:nvPr/>
          </p:nvSpPr>
          <p:spPr>
            <a:xfrm flipV="1">
              <a:off x="7621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61220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62120" y="2133360"/>
            <a:ext cx="228600" cy="533160"/>
            <a:chOff x="762120" y="2133360"/>
            <a:chExt cx="228600" cy="533160"/>
          </a:xfrm>
        </p:grpSpPr>
        <p:sp>
          <p:nvSpPr>
            <p:cNvPr id="101" name=""/>
            <p:cNvSpPr/>
            <p:nvPr/>
          </p:nvSpPr>
          <p:spPr>
            <a:xfrm flipV="1">
              <a:off x="7621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9907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677960" y="4572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7960" y="5029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7960" y="5486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960" y="594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2240" y="2819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2240" y="3276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2240" y="3733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41911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2240" y="4648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2:54:28Z</dcterms:created>
  <dc:creator>Horst Lost</dc:creator>
  <dc:description/>
  <dc:language>en-US</dc:language>
  <cp:lastModifiedBy>Horst Lost</cp:lastModifiedBy>
  <dcterms:modified xsi:type="dcterms:W3CDTF">2005-11-18T14:12:25Z</dcterms:modified>
  <cp:revision>6</cp:revision>
  <dc:subject/>
  <dc:title>Kein Folientitel</dc:title>
</cp:coreProperties>
</file>