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721-2722-4DE6-8C50-C6DA9C8F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1C3-C6D7-4992-BAAE-E8BC91AB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D2E-5BD5-4817-B0FA-5B4E07C7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E02-1530-4801-9AAC-08531538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8DB-70C4-4D58-97C5-DE9BE803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302-3D45-42B5-AAD3-56FBC721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79C-2C82-473A-A9F1-9EE6F29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014-E815-4ECA-9A58-CBC6E2A0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87A-7F71-47D8-811F-E4A8C507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133-6ABB-4133-89B7-F481E943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4BD-4BC2-4208-9B8A-FA200A51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226-CBD3-414D-A254-29B674D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A5B8-AB77-4A16-98A1-0ED396A75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1600" y="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trak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t die Gegenrechnung zur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3716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6002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0960" y="13716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057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7432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429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114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48006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22860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9718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37339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4197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51055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6002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2952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7280" y="20574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23623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2057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7280" y="27432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0481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2743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7280" y="35053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8098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3505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7280" y="41911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4956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7280" y="48769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1814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48769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7280" y="55627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58672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5562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520"/>
            <a:ext cx="811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e ändert sich Ergebnis einer Subtraktion, wenn der Subtrah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weise um 1 verkleinert wir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486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7913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640" y="91440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trak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ner Zahl      oder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ition der Gegen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18288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5160" y="152388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286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971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657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029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25146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32004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9625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6483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53341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9436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5715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5160" y="22860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5160" y="29718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5160" y="37339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5160" y="44197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160" y="51055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5160" y="57913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137160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15238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7524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-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22096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28954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35812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2670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9528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4382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(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1240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8862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-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5720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2578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+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59436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+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5715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4880" y="13716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4880" y="21337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4880" y="28195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4880" y="358128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4880" y="426708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4880" y="495288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44880" y="57150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0"/>
            <a:ext cx="81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fällt euch auf, wenn wir anstelle der Subtraktion die Addition mit der Gegenzahl durchführe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3600" y="0"/>
            <a:ext cx="903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ationale Zahl wird subtrahie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m man ih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genzahl addie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120" y="12351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sp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400" y="2225520"/>
            <a:ext cx="30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+5 )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– ( +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20968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+5 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( -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6280" y="220968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040" y="313992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+5 )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– ( - 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7080" y="312408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+5 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( +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6280" y="312408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11480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- 5 )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– ( +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2200" y="409896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- 5 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( - 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41400" y="40989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520" y="510552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- 5 )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– ( - 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92560" y="508968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- 5 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( +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41400" y="50896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7:14:49Z</dcterms:created>
  <dc:creator>Horst Lost</dc:creator>
  <dc:description/>
  <dc:language>en-US</dc:language>
  <cp:lastModifiedBy>Horst Lost</cp:lastModifiedBy>
  <dcterms:modified xsi:type="dcterms:W3CDTF">2005-11-16T17:26:38Z</dcterms:modified>
  <cp:revision>2</cp:revision>
  <dc:subject/>
  <dc:title>PowerPoint-Präsentation</dc:title>
</cp:coreProperties>
</file>