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B4632-CEE1-411B-BE28-8838FB690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4CC7-7B28-443B-9C28-E145CADB5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03EEA-EF93-4BAC-A44D-A8F901F63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76BEA-7804-4BB9-8803-C1F66D64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E3A6B-B6AE-43E9-BC24-BE0A1E936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69B4D-2386-4A68-A7B5-9D8646B9D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C7E74-92CD-4821-9F9D-FA8C2D89D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84497-05A8-41C9-87C1-3B7C598C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9DB3-E63E-40F4-A75D-04C0C44AC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D223-3BFC-4E37-BF7D-F6FA5EB71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791F-609B-46D4-805E-8A1896198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E9C2-BB66-47DE-A8D1-8A4D83D97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1128D-AAFE-4363-AC11-DFDF5E7C4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46760" y="380880"/>
            <a:ext cx="610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e ganzen Zahlen an der Zahlenger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380880" y="1219320"/>
            <a:ext cx="8305920" cy="139680"/>
          </a:xfrm>
          <a:prstGeom prst="rect">
            <a:avLst/>
          </a:prstGeom>
          <a:ln w="0">
            <a:noFill/>
          </a:ln>
        </p:spPr>
      </p:pic>
      <p:sp>
        <p:nvSpPr>
          <p:cNvPr id="43" name=""/>
          <p:cNvSpPr/>
          <p:nvPr/>
        </p:nvSpPr>
        <p:spPr>
          <a:xfrm>
            <a:off x="0" y="190512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Klasse 5 lernt man die natürlichen Zahlen N am Zahlenstrah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ennen !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2840" y="2743200"/>
            <a:ext cx="408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 = { 0 ; 1 ; 2 ; 3 ; ………. }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644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33592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94540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55524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16472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85052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963600" y="1371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277800" y="1371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67960" y="1371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058480" y="1371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372680" y="1371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63200" y="137160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-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238880" y="2438280"/>
            <a:ext cx="1503360" cy="41911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720" y="3352680"/>
            <a:ext cx="7180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m z.B. auch Temperaturen unter dem Gefrier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unkt zu messen, benötigt man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negative Zahlen !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3120" y="4343400"/>
            <a:ext cx="428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Z </a:t>
            </a:r>
            <a:r>
              <a:rPr b="1" lang="en-US" sz="2400" spc="-1" strike="noStrike" baseline="30000">
                <a:solidFill>
                  <a:srgbClr val="ff0000"/>
                </a:solidFill>
                <a:latin typeface="Arial"/>
              </a:rPr>
              <a:t>–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= { - 1 ; - 2 ; - 3 ; ………. }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554040" y="533520"/>
            <a:ext cx="8020080" cy="825480"/>
          </a:xfrm>
          <a:prstGeom prst="rect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Merk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sitive und negative Zahlen nennt man di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nge Z der ganzen Zahlen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87880" y="2133720"/>
            <a:ext cx="73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Z = {….. ….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; - 3 ; - 2 ; - 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; 0 ; + 1 ; + 2 ; + 3 ; ……. }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297080" y="3048120"/>
            <a:ext cx="326988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Negative ganze Zahlen Z </a:t>
            </a:r>
            <a:r>
              <a:rPr b="1" lang="en-US" sz="2000" spc="-1" strike="noStrike" baseline="50000">
                <a:solidFill>
                  <a:srgbClr val="ff0000"/>
                </a:solidFill>
                <a:latin typeface="Arial"/>
              </a:rPr>
              <a:t>-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rot="16200000">
            <a:off x="6019560" y="1447200"/>
            <a:ext cx="381240" cy="2819520"/>
          </a:xfrm>
          <a:custGeom>
            <a:avLst/>
            <a:gdLst>
              <a:gd name="textAreaLeft" fmla="*/ 243720 w 381240"/>
              <a:gd name="textAreaRight" fmla="*/ 381600 w 38124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6200000">
            <a:off x="2628720" y="1485360"/>
            <a:ext cx="304920" cy="2819520"/>
          </a:xfrm>
          <a:custGeom>
            <a:avLst/>
            <a:gdLst>
              <a:gd name="textAreaLeft" fmla="*/ 194760 w 304920"/>
              <a:gd name="textAreaRight" fmla="*/ 305280 w 304920"/>
              <a:gd name="textAreaTop" fmla="*/ 73440 h 2819520"/>
              <a:gd name="textAreaBottom" fmla="*/ 2746080 h 2819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4560" y="3048120"/>
            <a:ext cx="322092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ositive ganze Zahlen Z </a:t>
            </a:r>
            <a:r>
              <a:rPr b="1" lang="en-US" sz="2000" spc="-1" strike="noStrike" baseline="50000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4457520" y="571320"/>
            <a:ext cx="380880" cy="6553080"/>
          </a:xfrm>
          <a:custGeom>
            <a:avLst/>
            <a:gdLst>
              <a:gd name="textAreaLeft" fmla="*/ 243360 w 380880"/>
              <a:gd name="textAreaRight" fmla="*/ 381240 w 380880"/>
              <a:gd name="textAreaTop" fmla="*/ 170640 h 6553080"/>
              <a:gd name="textAreaBottom" fmla="*/ 6382440 h 655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4960" y="4191120"/>
            <a:ext cx="206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anze Zahlen 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149120" y="380880"/>
            <a:ext cx="651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Die rationalen Zahlen an der Zahlenger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8077320" cy="46692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720" y="1981080"/>
            <a:ext cx="894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weitert man die ganzen Zahlen mit positiven und negativ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ruchzahlen, so erhält man die Meng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ationalen Zahle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5480" y="3211560"/>
            <a:ext cx="78904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rke: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Jede Zahl hat ein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Gegenzah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Zahl und Gegenzahl haben den selb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bsta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on der Nul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Man nennt den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bstand einer Zahl von der Nul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 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uch den Betrag der Zahl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und man schreib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| - 4 | = | + 4 |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4876920" y="762120"/>
            <a:ext cx="2438280" cy="459720"/>
            <a:chOff x="4876920" y="762120"/>
            <a:chExt cx="2438280" cy="459720"/>
          </a:xfrm>
        </p:grpSpPr>
        <p:sp>
          <p:nvSpPr>
            <p:cNvPr id="73" name=""/>
            <p:cNvSpPr/>
            <p:nvPr/>
          </p:nvSpPr>
          <p:spPr>
            <a:xfrm>
              <a:off x="4876920" y="1143000"/>
              <a:ext cx="2438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639760" y="762120"/>
              <a:ext cx="613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+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2438280" y="762120"/>
            <a:ext cx="2438640" cy="459720"/>
            <a:chOff x="2438280" y="762120"/>
            <a:chExt cx="2438640" cy="459720"/>
          </a:xfrm>
        </p:grpSpPr>
        <p:sp>
          <p:nvSpPr>
            <p:cNvPr id="76" name=""/>
            <p:cNvSpPr/>
            <p:nvPr/>
          </p:nvSpPr>
          <p:spPr>
            <a:xfrm flipH="1">
              <a:off x="2438280" y="1143000"/>
              <a:ext cx="2438640" cy="0"/>
            </a:xfrm>
            <a:prstGeom prst="line">
              <a:avLst/>
            </a:prstGeom>
            <a:ln w="93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06400" y="762120"/>
              <a:ext cx="537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Arial"/>
                </a:rPr>
                <a:t>- 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06T16:22:00Z</dcterms:created>
  <dc:creator>Horst Lost</dc:creator>
  <dc:description/>
  <dc:language>en-US</dc:language>
  <cp:lastModifiedBy>Horst Lost</cp:lastModifiedBy>
  <dcterms:modified xsi:type="dcterms:W3CDTF">2005-11-18T14:08:07Z</dcterms:modified>
  <cp:revision>7</cp:revision>
  <dc:subject/>
  <dc:title>PowerPoint-Präsentation</dc:title>
</cp:coreProperties>
</file>