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1AC3-9396-4AAF-9D41-7245CA5BA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BFCF-70D2-4842-B61F-23F8691CA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A3F3-60A3-4710-9B8B-BAA43EDF4C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C8828-2A02-4802-80A0-A297E41A5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F1C8-FDFB-4C05-8664-2B19FABD7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B3ABE-48F2-47C1-BA61-0C9CBACF0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331F1-AF8B-4D67-82E2-25C07F70F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3F29C-81B2-4E05-9095-C7C55C878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46ACF-CB94-44B9-B004-D32C1A846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34C72-421B-485E-98A5-662DF2DA4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B02BD-2639-4B1A-86FB-52EEC8E07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20D-8F9C-4B9B-919B-48E076F8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2C3E-4F14-49CE-9652-98D5ADDF4C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981080" y="228600"/>
            <a:ext cx="463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nordnung der Ganzen Z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28600" y="914400"/>
          <a:ext cx="8381880" cy="473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914400"/>
                    <a:ext cx="8381880" cy="47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1225800" y="4952880"/>
            <a:ext cx="636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Auf der Zahlengeraden steht die kleinere Zah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links von der größeren Zah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487840" y="1371600"/>
            <a:ext cx="435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393320" y="137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478560" y="1371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4600" y="1752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515680" y="17524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7960" y="17524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15680" y="2209680"/>
            <a:ext cx="53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573800" y="22096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811320" y="220968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57960" y="2782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564520" y="27432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106960" y="2743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980720" y="228600"/>
            <a:ext cx="498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nordnung der rationalen Zah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04920" y="7621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400" spc="-1" strike="noStrike" u="sng">
                <a:solidFill>
                  <a:srgbClr val="000000"/>
                </a:solidFill>
                <a:uFillTx/>
                <a:latin typeface="Arial"/>
              </a:rPr>
              <a:t>Aufgabe: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Überlege welches Zeichen , &lt; oder &gt; ,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2400" spc="-1" strike="noStrike">
                <a:solidFill>
                  <a:srgbClr val="000000"/>
                </a:solidFill>
                <a:latin typeface="Arial"/>
              </a:rPr>
              <a:t>eingesetzt werden muss 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28600" y="1765440"/>
          <a:ext cx="8686800" cy="46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765440"/>
                    <a:ext cx="8686800" cy="46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839880" y="2743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287800" y="27432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86520" y="3200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7800" y="3200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134440" y="36576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86520" y="4114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134440" y="41148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839880" y="45720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34440" y="45720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6520" y="5029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134440" y="50292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6520" y="548640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87800" y="54864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39880" y="5943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287800" y="5943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640480" y="28195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935040" y="28195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487120" y="327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6935040" y="3276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487120" y="37339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ff0000"/>
                </a:solidFill>
                <a:latin typeface="Arial"/>
              </a:rPr>
              <a:t>- 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088400" y="37339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640480" y="4191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0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7088400" y="41911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5640480" y="46483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088400" y="464832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9880" y="3657600"/>
            <a:ext cx="60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1,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662120" y="270684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677960" y="3200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77960" y="3657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77960" y="41148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7620120" y="2057400"/>
            <a:ext cx="304560" cy="533520"/>
            <a:chOff x="7620120" y="2057400"/>
            <a:chExt cx="304560" cy="533520"/>
          </a:xfrm>
        </p:grpSpPr>
        <p:sp>
          <p:nvSpPr>
            <p:cNvPr id="92" name=""/>
            <p:cNvSpPr/>
            <p:nvPr/>
          </p:nvSpPr>
          <p:spPr>
            <a:xfrm flipV="1">
              <a:off x="7620120" y="20574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V="1">
              <a:off x="7924680" y="2057400"/>
              <a:ext cx="0" cy="533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990720" y="2133360"/>
            <a:ext cx="6926040" cy="533160"/>
            <a:chOff x="990720" y="2133360"/>
            <a:chExt cx="6926040" cy="533160"/>
          </a:xfrm>
        </p:grpSpPr>
        <p:sp>
          <p:nvSpPr>
            <p:cNvPr id="95" name=""/>
            <p:cNvSpPr/>
            <p:nvPr/>
          </p:nvSpPr>
          <p:spPr>
            <a:xfrm flipV="1">
              <a:off x="990720" y="2133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 flipV="1">
              <a:off x="7916760" y="2133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762120" y="2133360"/>
            <a:ext cx="6850080" cy="533160"/>
            <a:chOff x="762120" y="2133360"/>
            <a:chExt cx="6850080" cy="533160"/>
          </a:xfrm>
        </p:grpSpPr>
        <p:sp>
          <p:nvSpPr>
            <p:cNvPr id="98" name=""/>
            <p:cNvSpPr/>
            <p:nvPr/>
          </p:nvSpPr>
          <p:spPr>
            <a:xfrm flipV="1">
              <a:off x="762120" y="2133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7612200" y="2133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762120" y="2133360"/>
            <a:ext cx="228600" cy="533160"/>
            <a:chOff x="762120" y="2133360"/>
            <a:chExt cx="228600" cy="533160"/>
          </a:xfrm>
        </p:grpSpPr>
        <p:sp>
          <p:nvSpPr>
            <p:cNvPr id="101" name=""/>
            <p:cNvSpPr/>
            <p:nvPr/>
          </p:nvSpPr>
          <p:spPr>
            <a:xfrm flipV="1">
              <a:off x="762120" y="2133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 flipV="1">
              <a:off x="990720" y="2133360"/>
              <a:ext cx="0" cy="533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1677960" y="45720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77960" y="50292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677960" y="54864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677960" y="594360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402240" y="28195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402240" y="32767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2240" y="37339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402240" y="41911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6402240" y="4648320"/>
            <a:ext cx="3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15T12:54:28Z</dcterms:created>
  <dc:creator>Horst Lost</dc:creator>
  <dc:description/>
  <dc:language>en-US</dc:language>
  <cp:lastModifiedBy>Horst Lost</cp:lastModifiedBy>
  <dcterms:modified xsi:type="dcterms:W3CDTF">2005-11-18T14:12:25Z</dcterms:modified>
  <cp:revision>6</cp:revision>
  <dc:subject/>
  <dc:title>Kein Folientitel</dc:title>
</cp:coreProperties>
</file>