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16985-8216-401F-B143-5BCD689D64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92CC0-5B71-40F9-A3E7-25455306C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37EEE-8B46-479E-8E90-7BF67CC23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5F48-62F6-43C1-BCEF-8FAB35965B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A6A-85C0-4C01-8F01-E832EAEE3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6A18E-DAAC-4550-8A6A-50B0ADE75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5649C-1010-4C69-849A-2291AD8A2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89992-5B47-4699-A99D-26B19668B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4DC23-224D-4557-924F-A1AD6F1B7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1DE1-92CC-4940-A416-30FB3DA68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5A0-46FB-4AE8-856B-41E415B38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B812-A561-402F-BFC7-2A50567EF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9D801-B7BB-4BD6-A786-0993D3128C5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21600" y="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e 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trak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t die Gegenrechnung zur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d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13716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86000" y="16002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10960" y="13716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219320" y="2057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9320" y="27432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219320" y="3429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19320" y="41148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219320" y="48006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86000" y="22860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86000" y="29718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0" y="37339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286000" y="44197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286000" y="51055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6002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477120" y="12952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87280" y="20574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029200" y="23623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553080" y="2057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887280" y="27432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29200" y="30481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553080" y="27432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887280" y="35053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029200" y="38098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553080" y="35053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87280" y="41911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44956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553080" y="41911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87280" y="48769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029200" y="51814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553080" y="48769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887280" y="55627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029200" y="58672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553080" y="556272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7200" y="533520"/>
            <a:ext cx="8110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e ändert sich Ergebnis einer Subtraktion, wenn der Subtrahe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hrittweise um 1 verkleinert wird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219320" y="54864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286000" y="57913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11640" y="914400"/>
            <a:ext cx="789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ubtrakti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einer Zahl      oder     </a:t>
            </a: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Addition der Gegen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57200" y="16002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18288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125160" y="152388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57200" y="22860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457200" y="29718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7200" y="36576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57200" y="43434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0292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523880" y="25146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523880" y="32004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523880" y="39625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+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523880" y="46483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523880" y="533412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523880" y="59436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-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(-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33520" y="571500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25160" y="22860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5160" y="29718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3125160" y="37339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125160" y="44197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125160" y="51055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3125160" y="57913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495680" y="1371600"/>
            <a:ext cx="0" cy="5257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876920" y="15238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943600" y="17524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 (-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876920" y="22096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876920" y="28954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876920" y="35812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76920" y="42670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76920" y="4952880"/>
            <a:ext cx="99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943600" y="24382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(-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943600" y="3124080"/>
            <a:ext cx="1447920" cy="38124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 (- 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943600" y="38862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 (- 0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943600" y="45720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 (+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943600" y="52578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 (+ 2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943600" y="5943600"/>
            <a:ext cx="1447920" cy="380880"/>
          </a:xfrm>
          <a:custGeom>
            <a:avLst/>
            <a:gdLst>
              <a:gd name="textAreaLeft" fmla="*/ 0 w 1447920"/>
              <a:gd name="textAreaRight" fmla="*/ 1448280 w 1447920"/>
              <a:gd name="textAreaTop" fmla="*/ 0 h 380880"/>
              <a:gd name="textAreaBottom" fmla="*/ 381240 h 380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+ (+ 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952880" y="5715000"/>
            <a:ext cx="990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7544880" y="13716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2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7544880" y="21337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7544880" y="281952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4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7544880" y="358128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5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544880" y="426708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6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44880" y="495288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7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544880" y="5715000"/>
            <a:ext cx="96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+8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7200" y="0"/>
            <a:ext cx="8110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as fällt euch auf, wenn wir anstelle der Subtraktion die Addition mit der Gegenzahl durchführen 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-3600" y="0"/>
            <a:ext cx="9032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Regel: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ine </a:t>
            </a: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rationale Zahl wird subtrahie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indem man ihre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Gegenzahl addier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66120" y="1235160"/>
            <a:ext cx="1107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Bsp.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65400" y="2225520"/>
            <a:ext cx="30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+5 )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– ( +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276720" y="2209680"/>
            <a:ext cx="292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+5 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 ( -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326280" y="220968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65040" y="3139920"/>
            <a:ext cx="302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+5 )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– ( - 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277080" y="3124080"/>
            <a:ext cx="3027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+5 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 ( +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326280" y="3124080"/>
            <a:ext cx="75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+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80880" y="4114800"/>
            <a:ext cx="302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- 5 )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– ( +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292200" y="4098960"/>
            <a:ext cx="3048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- 5 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 ( - 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341400" y="409896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8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80520" y="5105520"/>
            <a:ext cx="303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- 5 ) </a:t>
            </a:r>
            <a:r>
              <a:rPr b="0" lang="en-US" sz="3200" spc="-1" strike="noStrike">
                <a:solidFill>
                  <a:srgbClr val="3333cc"/>
                </a:solidFill>
                <a:latin typeface="Arial"/>
              </a:rPr>
              <a:t>– ( - 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292560" y="508968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 - 5 ) 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</a:rPr>
              <a:t>+ ( +3 )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341400" y="5089680"/>
            <a:ext cx="65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- 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5T17:14:49Z</dcterms:created>
  <dc:creator>Horst Lost</dc:creator>
  <dc:description/>
  <dc:language>en-US</dc:language>
  <cp:lastModifiedBy>Horst Lost</cp:lastModifiedBy>
  <dcterms:modified xsi:type="dcterms:W3CDTF">2005-11-16T17:26:38Z</dcterms:modified>
  <cp:revision>2</cp:revision>
  <dc:subject/>
  <dc:title>PowerPoint-Präsentation</dc:title>
</cp:coreProperties>
</file>