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092C-5070-4DA9-90ED-ABFE5722F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B4A8-5525-4665-A548-A82DF5AE1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0CF5-841E-468C-A55B-B66206718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D780-AABE-402E-BB11-467124190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94DE-592C-40FC-A7B1-15EB8B84B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6599-0A44-4610-AD33-37031A968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5508-7CDA-487E-B5FE-21C3FEE5D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3E9A-2D42-4758-9EBF-F0E8541E1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9BF0-31DE-4746-A807-D6F76207E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7EA5-97F2-4BFB-A4A6-78AA847A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1A41-25D8-45D2-9988-D4471287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C0B4-5077-449A-826D-918D5ABA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69823-16EA-4877-84A9-E42A431515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46760" y="380880"/>
            <a:ext cx="610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e ganzen Zahlen an der Zahlengera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8305920" cy="1396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19051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Klasse 5 lernt man die natürlichen Zahlen N am Zahlenstrah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nnen !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2840" y="2743200"/>
            <a:ext cx="40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= { 0 ; 1 ; 2 ; 3 ; ………. }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726440" y="1371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920" y="1371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5400" y="1371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555240" y="1371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164720" y="1371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850520" y="1371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63600" y="1371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-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77800" y="1371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-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67960" y="1371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-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58480" y="1371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-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2680" y="1371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-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3200" y="1371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-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238880" y="2438280"/>
            <a:ext cx="1503360" cy="41911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20" y="3352680"/>
            <a:ext cx="718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 z.B. auch Temperaturen unter dem Gefrie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nkt zu messen, benötigt ma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egative Zahlen 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3120" y="4343400"/>
            <a:ext cx="42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Z 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= { - 1 ; - 2 ; - 3 ; ………. }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54040" y="533520"/>
            <a:ext cx="802008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erk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ve und negative Zahlen nennt man d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ge Z der ganzen Zahlen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87880" y="2133720"/>
            <a:ext cx="73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 = {….. ….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; - 3 ; - 2 ; -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; 0 ; + 1 ; + 2 ; + 3 ; …….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97080" y="3048120"/>
            <a:ext cx="32698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egative ganze Zahlen Z </a:t>
            </a:r>
            <a:r>
              <a:rPr b="1" lang="en-US" sz="2000" spc="-1" strike="noStrike" baseline="50000">
                <a:solidFill>
                  <a:srgbClr val="ff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6019560" y="1447200"/>
            <a:ext cx="381240" cy="2819520"/>
          </a:xfrm>
          <a:custGeom>
            <a:avLst/>
            <a:gdLst>
              <a:gd name="textAreaLeft" fmla="*/ 243720 w 381240"/>
              <a:gd name="textAreaRight" fmla="*/ 381600 w 38124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6200000">
            <a:off x="2628720" y="1485360"/>
            <a:ext cx="304920" cy="2819520"/>
          </a:xfrm>
          <a:custGeom>
            <a:avLst/>
            <a:gdLst>
              <a:gd name="textAreaLeft" fmla="*/ 194760 w 304920"/>
              <a:gd name="textAreaRight" fmla="*/ 305280 w 30492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4560" y="3048120"/>
            <a:ext cx="32209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itive ganze Zahlen Z </a:t>
            </a:r>
            <a:r>
              <a:rPr b="1" lang="en-US" sz="2000" spc="-1" strike="noStrike" baseline="5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4457520" y="571320"/>
            <a:ext cx="380880" cy="6553080"/>
          </a:xfrm>
          <a:custGeom>
            <a:avLst/>
            <a:gdLst>
              <a:gd name="textAreaLeft" fmla="*/ 243360 w 380880"/>
              <a:gd name="textAreaRight" fmla="*/ 381240 w 380880"/>
              <a:gd name="textAreaTop" fmla="*/ 170640 h 6553080"/>
              <a:gd name="textAreaBottom" fmla="*/ 6382440 h 655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04960" y="4191120"/>
            <a:ext cx="206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nze Zahlen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149120" y="380880"/>
            <a:ext cx="651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e rationalen Zahlen an der Zahlengera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077320" cy="466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20" y="1981080"/>
            <a:ext cx="894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weitert man die ganzen Zahlen mit positiven und negat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uchzahlen, so erhält man die Meng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tionalen Zahl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5480" y="3211560"/>
            <a:ext cx="78904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rke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Jede Zahl hat ein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egenzah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Zahl und Gegenzahl haben den selbe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bst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von der Nul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Man nennt de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bstand einer Zahl von der Nu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uch den Betrag der Zah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nd man schreib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| - 4 | = | + 4 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4876920" y="762120"/>
            <a:ext cx="2438280" cy="459720"/>
            <a:chOff x="4876920" y="762120"/>
            <a:chExt cx="2438280" cy="459720"/>
          </a:xfrm>
        </p:grpSpPr>
        <p:sp>
          <p:nvSpPr>
            <p:cNvPr id="73" name=""/>
            <p:cNvSpPr/>
            <p:nvPr/>
          </p:nvSpPr>
          <p:spPr>
            <a:xfrm>
              <a:off x="4876920" y="1143000"/>
              <a:ext cx="243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639760" y="762120"/>
              <a:ext cx="61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2438280" y="762120"/>
            <a:ext cx="2438640" cy="459720"/>
            <a:chOff x="2438280" y="762120"/>
            <a:chExt cx="2438640" cy="459720"/>
          </a:xfrm>
        </p:grpSpPr>
        <p:sp>
          <p:nvSpPr>
            <p:cNvPr id="76" name=""/>
            <p:cNvSpPr/>
            <p:nvPr/>
          </p:nvSpPr>
          <p:spPr>
            <a:xfrm flipH="1">
              <a:off x="2438280" y="1143000"/>
              <a:ext cx="2438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506400" y="76212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-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6T16:22:00Z</dcterms:created>
  <dc:creator>Horst Lost</dc:creator>
  <dc:description/>
  <dc:language>en-US</dc:language>
  <cp:lastModifiedBy>Horst Lost</cp:lastModifiedBy>
  <dcterms:modified xsi:type="dcterms:W3CDTF">2005-11-18T14:08:07Z</dcterms:modified>
  <cp:revision>7</cp:revision>
  <dc:subject/>
  <dc:title>PowerPoint-Präsentation</dc:title>
</cp:coreProperties>
</file>