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0B1A-6E27-45CE-A4F0-D8AF50B0A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8655-7C46-491B-88FC-FE376464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B440-6800-4E1A-A334-83BB85A06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79E5-67C0-436B-B7A0-32BC9D58D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B83F-C397-4E51-8197-33773924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10BB-AE47-4D65-BFE2-0BFDEAAB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6882-45D1-477D-BD0F-8AF98C0C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4ABB-5279-48EB-B2AB-4B9A1BF8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49E6-AC47-440D-A055-BA70DCF9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487D-ECEB-4BB0-B263-F6C24001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6976-2BF6-43DF-BF66-2A366694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686C-9EA3-4564-81A5-DB1D48CF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3B09-68B3-48FD-AFB5-EB4038EDE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52280"/>
            <a:ext cx="80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uränderung – Addition an der Zahlengera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4840" y="762120"/>
            <a:ext cx="71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Messung: Wir haben eine Ausgangstemperatu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906480" cy="3772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936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362320" y="3733920"/>
          <a:ext cx="414648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3733920"/>
                    <a:ext cx="41464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2819880" y="335268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7800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12040" y="4627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3040" y="1122480"/>
            <a:ext cx="64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Messung: Wir haben eine Endtemperatur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8001000" y="2884320"/>
            <a:ext cx="876240" cy="3643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155080" y="2340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41960" y="3902040"/>
            <a:ext cx="0" cy="762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45400" y="4641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97880" y="330372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8760" y="1547640"/>
            <a:ext cx="45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 haben eine Veränderung 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94200" y="4435560"/>
            <a:ext cx="21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85840" y="442908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60720" y="154944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152280"/>
            <a:ext cx="80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uränderung – Addition an der Zahlengera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4840" y="762120"/>
            <a:ext cx="71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Messung: Wir haben eine Ausgangstemperatu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936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362320" y="3733920"/>
          <a:ext cx="41464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733920"/>
                    <a:ext cx="41464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83040" y="1122480"/>
            <a:ext cx="64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Messung: Wir haben eine Endtemperatur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155080" y="2340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8760" y="1547640"/>
            <a:ext cx="45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 haben eine Veränderung 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79360" y="2795760"/>
            <a:ext cx="876240" cy="3643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8010360" y="2828880"/>
            <a:ext cx="889200" cy="3697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241960" y="3902040"/>
            <a:ext cx="0" cy="822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75280" y="4856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43960" y="3303720"/>
            <a:ext cx="4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94040" y="3932280"/>
            <a:ext cx="0" cy="868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81640" y="4809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10800" y="33019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794040" y="460224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52320" y="45957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629040" y="156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07:47:14Z</dcterms:created>
  <dc:creator>Horst Lost</dc:creator>
  <dc:description/>
  <dc:language>en-US</dc:language>
  <cp:lastModifiedBy>Horst Lost</cp:lastModifiedBy>
  <dcterms:modified xsi:type="dcterms:W3CDTF">2005-11-14T08:03:50Z</dcterms:modified>
  <cp:revision>1</cp:revision>
  <dc:subject/>
  <dc:title>PowerPoint-Präsentation</dc:title>
</cp:coreProperties>
</file>