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8076-DD57-42C0-BEB4-AC09EC9E6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377604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7BC0-651A-48C0-91C6-027D5F7EE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2778-610D-4D48-BEBF-C3AEDBFE3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40616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40616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377604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377604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377604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1986-9C7A-474D-AE42-0A749BA0A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E5A00-D9F3-4F91-9056-81D0A649A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90720" y="14061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85DD-E579-4B9A-BAAA-03CA9FDDE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01813-982D-4F9E-A253-EA2900375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03381-7730-4217-87B2-89D7BDC68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C4C02-FFBC-43B7-9681-B1367E277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3FCBD-5ACC-4862-9673-19DA0B680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596B4-E783-46B2-B573-140BAB1C5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4061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1EB7-205A-4A74-A85E-6606F4FA6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340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3CD5E-EC09-4D9B-A724-AC1210B20A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77604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57C96-40A9-47A0-AC25-8EB512C48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90720" y="377604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4EA8-7C47-4437-BBC6-8B39658ABB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340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E799B-D04A-4F18-B7C1-FA2006B2F3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8720" y="140616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6360" y="140616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90720" y="377604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8720" y="377604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6360" y="3776040"/>
            <a:ext cx="2502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F99BD-EEF3-4FC1-9ECB-74C08D430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A53B-53CC-4EDE-B9C0-DDE4275FA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C30A-A750-4BDB-95A0-B09D1C42E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DC47-8409-474D-ABCC-C5EC00721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B627-CBFA-4759-9E96-42D2E8B7A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77CC-AD52-47C0-8855-E98B23383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377604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3579-17E5-43F3-8D1F-F2137F617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406160"/>
            <a:ext cx="3792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377604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E4FC-9270-42F4-8198-2E541D532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990720" y="1295280"/>
              <a:ext cx="77468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4061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1" marL="857160" indent="-2854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2" marL="12762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3" marL="16956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4" marL="211464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5" marL="211464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6" marL="211464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4286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40a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a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140a00"/>
                </a:solidFill>
                <a:latin typeface="Times New Roman"/>
              </a:rPr>
              <a:t>Mathematik-Oberstufe – Einführung in die Flächenbe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40a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a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140a00"/>
                </a:solidFill>
                <a:latin typeface="Times New Roman"/>
              </a:rPr>
              <a:t>- Folie </a:t>
            </a:r>
            <a:fld id="{A1DC1987-16DC-4298-ACF8-418CCFC02478}" type="slidenum">
              <a:rPr b="0" lang="en-US" sz="1000" spc="-1" strike="noStrike">
                <a:solidFill>
                  <a:srgbClr val="140a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140a00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6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- Folie </a:t>
            </a:r>
            <a:fld id="{AD856AC3-E07A-40F8-B0AB-9F34C348C87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a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1332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indent="954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indent="5724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 indent="5724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 indent="5724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Flächenberechnung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21333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7800" indent="-5778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0a00"/>
                </a:solidFill>
                <a:latin typeface="Times New Roman"/>
              </a:rPr>
              <a:t>Geradlinig begrenzte Flächen</a:t>
            </a:r>
            <a:br>
              <a:rPr sz="2400"/>
            </a:br>
            <a:r>
              <a:rPr b="0" lang="de-DE" sz="2400" spc="-1" strike="noStrike">
                <a:solidFill>
                  <a:srgbClr val="140a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0a00"/>
                </a:solidFill>
                <a:latin typeface="Times New Roman"/>
              </a:rPr>
              <a:t>Krummlinige Trapeze</a:t>
            </a:r>
            <a:br>
              <a:rPr sz="2400"/>
            </a:br>
            <a:r>
              <a:rPr b="0" lang="de-DE" sz="2400" spc="-1" strike="noStrike">
                <a:solidFill>
                  <a:srgbClr val="140a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0a00"/>
                </a:solidFill>
                <a:latin typeface="Times New Roman"/>
              </a:rPr>
              <a:t>Flächeninhaltsfunktion zur Randfunktion</a:t>
            </a:r>
            <a:endParaRPr b="0" lang="en-US" sz="2400" spc="-1" strike="noStrike">
              <a:solidFill>
                <a:srgbClr val="140a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Geradlinig begrenzte Flächen (aus der Mittelstufe)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8640" y="226548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A = a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32280" y="321804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A = </a:t>
            </a:r>
            <a:r>
              <a:rPr b="0" lang="de-DE" sz="1800" spc="-1" strike="noStrike" baseline="30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gh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1911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A = mh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111480" y="5403960"/>
            <a:ext cx="1123920" cy="411120"/>
            <a:chOff x="3111480" y="5403960"/>
            <a:chExt cx="1123920" cy="411120"/>
          </a:xfrm>
        </p:grpSpPr>
        <p:sp>
          <p:nvSpPr>
            <p:cNvPr id="94" name=""/>
            <p:cNvSpPr/>
            <p:nvPr/>
          </p:nvSpPr>
          <p:spPr>
            <a:xfrm>
              <a:off x="3111480" y="542916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2000"/>
                  </a:solidFill>
                  <a:latin typeface="Times New Roman"/>
                </a:rPr>
                <a:t>A =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611520" y="5403960"/>
                  <a:ext cx="5414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"/>
          <p:cNvSpPr/>
          <p:nvPr/>
        </p:nvSpPr>
        <p:spPr>
          <a:xfrm>
            <a:off x="1295280" y="1371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Standardfigure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447920"/>
            <a:ext cx="0" cy="4572000"/>
          </a:xfrm>
          <a:prstGeom prst="line">
            <a:avLst/>
          </a:prstGeom>
          <a:ln w="936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Standardfiguren im Koordinatensystem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4120" y="1828800"/>
            <a:ext cx="1904760" cy="914400"/>
            <a:chOff x="5334120" y="1828800"/>
            <a:chExt cx="1904760" cy="914400"/>
          </a:xfrm>
        </p:grpSpPr>
        <p:sp>
          <p:nvSpPr>
            <p:cNvPr id="100" name=""/>
            <p:cNvSpPr/>
            <p:nvPr/>
          </p:nvSpPr>
          <p:spPr>
            <a:xfrm>
              <a:off x="5334120" y="2057400"/>
              <a:ext cx="1143000" cy="685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4120" y="1828800"/>
              <a:ext cx="0" cy="30492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00440" y="2743200"/>
              <a:ext cx="609480" cy="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77120" y="190512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2000"/>
                  </a:solidFill>
                  <a:latin typeface="Times New Roman"/>
                </a:rPr>
                <a:t>y = b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95280" y="2057400"/>
            <a:ext cx="1409760" cy="749160"/>
            <a:chOff x="1295280" y="2057400"/>
            <a:chExt cx="1409760" cy="749160"/>
          </a:xfrm>
        </p:grpSpPr>
        <p:sp>
          <p:nvSpPr>
            <p:cNvPr id="105" name=""/>
            <p:cNvSpPr/>
            <p:nvPr/>
          </p:nvSpPr>
          <p:spPr>
            <a:xfrm>
              <a:off x="1295280" y="2057400"/>
              <a:ext cx="1143000" cy="685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2480" y="2438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00480" y="2235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71600" y="3048120"/>
            <a:ext cx="1143000" cy="860400"/>
            <a:chOff x="1371600" y="3048120"/>
            <a:chExt cx="1143000" cy="860400"/>
          </a:xfrm>
        </p:grpSpPr>
        <p:grpSp>
          <p:nvGrpSpPr>
            <p:cNvPr id="109" name=""/>
            <p:cNvGrpSpPr/>
            <p:nvPr/>
          </p:nvGrpSpPr>
          <p:grpSpPr>
            <a:xfrm>
              <a:off x="1371600" y="3048120"/>
              <a:ext cx="914400" cy="609480"/>
              <a:chOff x="1371600" y="3048120"/>
              <a:chExt cx="914400" cy="609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1600" y="3048120"/>
                <a:ext cx="914400" cy="609480"/>
              </a:xfrm>
              <a:prstGeom prst="flowChartExtra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28800" y="3048120"/>
                <a:ext cx="0" cy="60948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133720" y="3124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cd3333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09720" y="354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486400" y="3886200"/>
            <a:ext cx="1294920" cy="762120"/>
            <a:chOff x="5486400" y="3886200"/>
            <a:chExt cx="1294920" cy="762120"/>
          </a:xfrm>
        </p:grpSpPr>
        <p:grpSp>
          <p:nvGrpSpPr>
            <p:cNvPr id="115" name=""/>
            <p:cNvGrpSpPr/>
            <p:nvPr/>
          </p:nvGrpSpPr>
          <p:grpSpPr>
            <a:xfrm>
              <a:off x="5486400" y="4038480"/>
              <a:ext cx="761760" cy="609840"/>
              <a:chOff x="5486400" y="4038480"/>
              <a:chExt cx="761760" cy="6098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5486400" y="4038480"/>
                <a:ext cx="761760" cy="609840"/>
              </a:xfrm>
              <a:prstGeom prst="flowChartManualOperati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62360" y="4343400"/>
                <a:ext cx="60984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38680" y="4038480"/>
                <a:ext cx="0" cy="60984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486400" y="3886200"/>
              <a:ext cx="0" cy="76212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71840" y="4648320"/>
              <a:ext cx="609480" cy="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410080" y="2819520"/>
            <a:ext cx="1447560" cy="761760"/>
            <a:chOff x="5410080" y="2819520"/>
            <a:chExt cx="1447560" cy="761760"/>
          </a:xfrm>
        </p:grpSpPr>
        <p:grpSp>
          <p:nvGrpSpPr>
            <p:cNvPr id="122" name=""/>
            <p:cNvGrpSpPr/>
            <p:nvPr/>
          </p:nvGrpSpPr>
          <p:grpSpPr>
            <a:xfrm>
              <a:off x="5410080" y="2971800"/>
              <a:ext cx="914400" cy="609480"/>
              <a:chOff x="5410080" y="2971800"/>
              <a:chExt cx="914400" cy="60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0080" y="2971800"/>
                <a:ext cx="914400" cy="609480"/>
              </a:xfrm>
              <a:prstGeom prst="flowChartExtra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7280" y="2971800"/>
                <a:ext cx="0" cy="60948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6248160" y="3581280"/>
              <a:ext cx="609480" cy="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0080" y="2819520"/>
              <a:ext cx="0" cy="76176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105520" y="4800600"/>
            <a:ext cx="1752480" cy="1295280"/>
            <a:chOff x="5105520" y="4800600"/>
            <a:chExt cx="1752480" cy="1295280"/>
          </a:xfrm>
        </p:grpSpPr>
        <p:grpSp>
          <p:nvGrpSpPr>
            <p:cNvPr id="128" name=""/>
            <p:cNvGrpSpPr/>
            <p:nvPr/>
          </p:nvGrpSpPr>
          <p:grpSpPr>
            <a:xfrm>
              <a:off x="5486400" y="5105520"/>
              <a:ext cx="914400" cy="914400"/>
              <a:chOff x="5486400" y="5105520"/>
              <a:chExt cx="914400" cy="914400"/>
            </a:xfrm>
          </p:grpSpPr>
          <p:sp>
            <p:nvSpPr>
              <p:cNvPr id="129" name=""/>
              <p:cNvSpPr/>
              <p:nvPr/>
            </p:nvSpPr>
            <p:spPr>
              <a:xfrm>
                <a:off x="5486400" y="5105520"/>
                <a:ext cx="914400" cy="9144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43600" y="5562720"/>
                <a:ext cx="45720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H="1">
              <a:off x="5105520" y="5562720"/>
              <a:ext cx="1752480" cy="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600" y="4800600"/>
              <a:ext cx="0" cy="129528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447920" y="4038480"/>
            <a:ext cx="1066680" cy="901800"/>
            <a:chOff x="1447920" y="4038480"/>
            <a:chExt cx="1066680" cy="901800"/>
          </a:xfrm>
        </p:grpSpPr>
        <p:grpSp>
          <p:nvGrpSpPr>
            <p:cNvPr id="134" name=""/>
            <p:cNvGrpSpPr/>
            <p:nvPr/>
          </p:nvGrpSpPr>
          <p:grpSpPr>
            <a:xfrm>
              <a:off x="1447920" y="4038480"/>
              <a:ext cx="761760" cy="609840"/>
              <a:chOff x="1447920" y="4038480"/>
              <a:chExt cx="761760" cy="60984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1447920" y="4038480"/>
                <a:ext cx="761760" cy="609840"/>
              </a:xfrm>
              <a:prstGeom prst="flowChartManualOperati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3880" y="4343400"/>
                <a:ext cx="60984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00200" y="4038480"/>
                <a:ext cx="0" cy="60984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133720" y="4114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cd3333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45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cd3333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47920" y="5105520"/>
            <a:ext cx="914400" cy="914400"/>
            <a:chOff x="1447920" y="5105520"/>
            <a:chExt cx="914400" cy="914400"/>
          </a:xfrm>
        </p:grpSpPr>
        <p:grpSp>
          <p:nvGrpSpPr>
            <p:cNvPr id="141" name=""/>
            <p:cNvGrpSpPr/>
            <p:nvPr/>
          </p:nvGrpSpPr>
          <p:grpSpPr>
            <a:xfrm>
              <a:off x="1447920" y="5105520"/>
              <a:ext cx="914400" cy="914400"/>
              <a:chOff x="1447920" y="5105520"/>
              <a:chExt cx="914400" cy="914400"/>
            </a:xfrm>
          </p:grpSpPr>
          <p:sp>
            <p:nvSpPr>
              <p:cNvPr id="142" name=""/>
              <p:cNvSpPr/>
              <p:nvPr/>
            </p:nvSpPr>
            <p:spPr>
              <a:xfrm>
                <a:off x="1447920" y="5105520"/>
                <a:ext cx="914400" cy="9144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05120" y="5562720"/>
                <a:ext cx="45720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981080" y="525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cd3333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010280" y="3048120"/>
            <a:ext cx="1793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2000"/>
                </a:solidFill>
                <a:latin typeface="Times New Roman"/>
              </a:rPr>
              <a:t>Zerlege das Dreieck in zwei  symmetrische Teile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2000"/>
                </a:solidFill>
                <a:latin typeface="Times New Roman"/>
              </a:rPr>
              <a:t>Randfunktion ist y = mx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3520" y="40165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Verfahre ähnlich wie beim Dreieck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5334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Randfunktion ist „oberer“ Halbkrei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4AC1-8B82-4A0E-B5EF-7A1D209BC9F3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Krummlinige Trapeze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590920"/>
            <a:ext cx="4724280" cy="2216160"/>
          </a:xfrm>
          <a:prstGeom prst="rect">
            <a:avLst/>
          </a:prstGeom>
          <a:noFill/>
          <a:ln w="93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ce9964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Eine auf [a;b] positive (nicht negative!!) Randfunktion, </a:t>
            </a:r>
            <a:br>
              <a:rPr sz="1400"/>
            </a:b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80880" indent="-380880">
              <a:buClr>
                <a:srgbClr val="ce9964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die x-Achse</a:t>
            </a:r>
            <a:br>
              <a:rPr sz="1400"/>
            </a:b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80880" indent="-380880">
              <a:buClr>
                <a:srgbClr val="ce9964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und die Geraden </a:t>
            </a:r>
            <a:r>
              <a:rPr b="1" lang="de-DE" sz="1400" spc="-1" strike="noStrike">
                <a:solidFill>
                  <a:srgbClr val="cd3333"/>
                </a:solidFill>
                <a:latin typeface="Times New Roman"/>
              </a:rPr>
              <a:t>x = a</a:t>
            </a: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 sowie </a:t>
            </a:r>
            <a:r>
              <a:rPr b="1" lang="de-DE" sz="1400" spc="-1" strike="noStrike">
                <a:solidFill>
                  <a:srgbClr val="cd3333"/>
                </a:solidFill>
                <a:latin typeface="Times New Roman"/>
              </a:rPr>
              <a:t>x = b</a:t>
            </a:r>
            <a:br>
              <a:rPr sz="1400"/>
            </a:br>
            <a:r>
              <a:rPr b="1" lang="de-DE" sz="1400" spc="-1" strike="noStrike">
                <a:solidFill>
                  <a:srgbClr val="cd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80880" indent="-3808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begrenzen ein krummlinig begrenztes Flächenstück</a:t>
            </a:r>
            <a:br>
              <a:rPr sz="1400"/>
            </a:br>
            <a:br>
              <a:rPr sz="1400"/>
            </a:br>
            <a:r>
              <a:rPr b="1" lang="de-DE" sz="1800" spc="-1" strike="noStrike">
                <a:solidFill>
                  <a:srgbClr val="402000"/>
                </a:solidFill>
                <a:latin typeface="Times New Roman"/>
              </a:rPr>
              <a:t>sog.  krummliniges Trapez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95280" y="1600200"/>
            <a:ext cx="2438640" cy="1892160"/>
            <a:chOff x="1295280" y="1600200"/>
            <a:chExt cx="2438640" cy="1892160"/>
          </a:xfrm>
        </p:grpSpPr>
        <p:sp>
          <p:nvSpPr>
            <p:cNvPr id="151" name=""/>
            <p:cNvSpPr/>
            <p:nvPr/>
          </p:nvSpPr>
          <p:spPr>
            <a:xfrm>
              <a:off x="1295280" y="1600200"/>
              <a:ext cx="0" cy="144792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3048120"/>
              <a:ext cx="2210040" cy="0"/>
            </a:xfrm>
            <a:prstGeom prst="line">
              <a:avLst/>
            </a:prstGeom>
            <a:ln w="9360">
              <a:solidFill>
                <a:srgbClr val="171c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93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19520" y="1981080"/>
              <a:ext cx="0" cy="1067040"/>
            </a:xfrm>
            <a:prstGeom prst="line">
              <a:avLst/>
            </a:prstGeom>
            <a:ln w="93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4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cd3333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3124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cd3333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1981080"/>
              <a:ext cx="1143000" cy="53352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336"/>
                  </a:moveTo>
                  <a:cubicBezTo>
                    <a:pt x="80" y="196"/>
                    <a:pt x="160" y="56"/>
                    <a:pt x="192" y="0"/>
                  </a:cubicBezTo>
                </a:path>
              </a:pathLst>
            </a:custGeom>
            <a:noFill/>
            <a:ln w="9360">
              <a:solidFill>
                <a:srgbClr val="140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920" y="16765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2000"/>
                  </a:solidFill>
                  <a:latin typeface="Times New Roman"/>
                </a:rPr>
                <a:t>y = mx + 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95600" y="2049480"/>
              <a:ext cx="1128600" cy="998640"/>
            </a:xfrm>
            <a:custGeom>
              <a:avLst/>
              <a:gdLst/>
              <a:ahLst/>
              <a:rect l="l" t="t" r="r" b="b"/>
              <a:pathLst>
                <a:path w="711" h="629">
                  <a:moveTo>
                    <a:pt x="0" y="306"/>
                  </a:moveTo>
                  <a:cubicBezTo>
                    <a:pt x="0" y="411"/>
                    <a:pt x="0" y="516"/>
                    <a:pt x="0" y="621"/>
                  </a:cubicBezTo>
                  <a:cubicBezTo>
                    <a:pt x="238" y="629"/>
                    <a:pt x="473" y="612"/>
                    <a:pt x="711" y="612"/>
                  </a:cubicBezTo>
                  <a:cubicBezTo>
                    <a:pt x="703" y="406"/>
                    <a:pt x="703" y="206"/>
                    <a:pt x="703" y="0"/>
                  </a:cubicBezTo>
                  <a:cubicBezTo>
                    <a:pt x="673" y="10"/>
                    <a:pt x="643" y="18"/>
                    <a:pt x="612" y="25"/>
                  </a:cubicBezTo>
                  <a:cubicBezTo>
                    <a:pt x="545" y="69"/>
                    <a:pt x="471" y="93"/>
                    <a:pt x="397" y="124"/>
                  </a:cubicBezTo>
                  <a:cubicBezTo>
                    <a:pt x="381" y="131"/>
                    <a:pt x="364" y="135"/>
                    <a:pt x="347" y="141"/>
                  </a:cubicBezTo>
                  <a:cubicBezTo>
                    <a:pt x="331" y="146"/>
                    <a:pt x="298" y="157"/>
                    <a:pt x="298" y="157"/>
                  </a:cubicBezTo>
                  <a:cubicBezTo>
                    <a:pt x="290" y="163"/>
                    <a:pt x="282" y="169"/>
                    <a:pt x="273" y="174"/>
                  </a:cubicBezTo>
                  <a:cubicBezTo>
                    <a:pt x="265" y="178"/>
                    <a:pt x="255" y="177"/>
                    <a:pt x="248" y="182"/>
                  </a:cubicBezTo>
                  <a:cubicBezTo>
                    <a:pt x="186" y="223"/>
                    <a:pt x="257" y="196"/>
                    <a:pt x="198" y="215"/>
                  </a:cubicBezTo>
                  <a:cubicBezTo>
                    <a:pt x="137" y="256"/>
                    <a:pt x="66" y="273"/>
                    <a:pt x="0" y="306"/>
                  </a:cubicBezTo>
                  <a:close/>
                </a:path>
              </a:pathLst>
            </a:custGeom>
            <a:solidFill>
              <a:srgbClr val="eca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82680" y="3886200"/>
            <a:ext cx="2527200" cy="1968480"/>
            <a:chOff x="1282680" y="3886200"/>
            <a:chExt cx="2527200" cy="1968480"/>
          </a:xfrm>
        </p:grpSpPr>
        <p:sp>
          <p:nvSpPr>
            <p:cNvPr id="161" name=""/>
            <p:cNvSpPr/>
            <p:nvPr/>
          </p:nvSpPr>
          <p:spPr>
            <a:xfrm>
              <a:off x="2666880" y="38862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2000"/>
                  </a:solidFill>
                  <a:latin typeface="Times New Roman"/>
                </a:rPr>
                <a:t>y = f(x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282680" y="3962520"/>
              <a:ext cx="2209680" cy="1892160"/>
              <a:chOff x="1282680" y="3962520"/>
              <a:chExt cx="2209680" cy="1892160"/>
            </a:xfrm>
          </p:grpSpPr>
          <p:sp>
            <p:nvSpPr>
              <p:cNvPr id="163" name=""/>
              <p:cNvSpPr/>
              <p:nvPr/>
            </p:nvSpPr>
            <p:spPr>
              <a:xfrm>
                <a:off x="1295280" y="3962520"/>
                <a:ext cx="0" cy="1447560"/>
              </a:xfrm>
              <a:prstGeom prst="line">
                <a:avLst/>
              </a:prstGeom>
              <a:ln w="9360">
                <a:solidFill>
                  <a:srgbClr val="171cd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0200" y="5486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cd3333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66880" y="54864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cd3333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282680" y="4383000"/>
                <a:ext cx="2209680" cy="1066680"/>
                <a:chOff x="1282680" y="4383000"/>
                <a:chExt cx="2209680" cy="10666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2680" y="5449680"/>
                  <a:ext cx="2209680" cy="0"/>
                </a:xfrm>
                <a:prstGeom prst="line">
                  <a:avLst/>
                </a:prstGeom>
                <a:ln w="9360">
                  <a:solidFill>
                    <a:srgbClr val="171c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63560" y="4916520"/>
                  <a:ext cx="0" cy="533160"/>
                </a:xfrm>
                <a:prstGeom prst="line">
                  <a:avLst/>
                </a:prstGeom>
                <a:ln w="9360">
                  <a:solidFill>
                    <a:srgbClr val="cd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06560" y="4383000"/>
                  <a:ext cx="0" cy="1066680"/>
                </a:xfrm>
                <a:prstGeom prst="line">
                  <a:avLst/>
                </a:prstGeom>
                <a:ln w="9360">
                  <a:solidFill>
                    <a:srgbClr val="cd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663560" y="4383000"/>
                  <a:ext cx="1142640" cy="533520"/>
                </a:xfrm>
                <a:custGeom>
                  <a:avLst/>
                  <a:gdLst/>
                  <a:ahLst/>
                  <a:rect l="l" t="t" r="r" b="b"/>
                  <a:pathLst>
                    <a:path w="720" h="336">
                      <a:moveTo>
                        <a:pt x="0" y="336"/>
                      </a:moveTo>
                      <a:cubicBezTo>
                        <a:pt x="64" y="200"/>
                        <a:pt x="128" y="64"/>
                        <a:pt x="192" y="48"/>
                      </a:cubicBezTo>
                      <a:cubicBezTo>
                        <a:pt x="256" y="32"/>
                        <a:pt x="296" y="248"/>
                        <a:pt x="384" y="240"/>
                      </a:cubicBezTo>
                      <a:cubicBezTo>
                        <a:pt x="472" y="232"/>
                        <a:pt x="664" y="40"/>
                        <a:pt x="720" y="0"/>
                      </a:cubicBezTo>
                    </a:path>
                  </a:pathLst>
                </a:custGeom>
                <a:noFill/>
                <a:ln w="9360">
                  <a:solidFill>
                    <a:srgbClr val="140a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1676520" y="4876920"/>
                <a:ext cx="1123920" cy="561960"/>
              </a:xfrm>
              <a:prstGeom prst="rect">
                <a:avLst/>
              </a:prstGeom>
              <a:solidFill>
                <a:srgbClr val="eca07a"/>
              </a:solidFill>
              <a:ln w="9360">
                <a:solidFill>
                  <a:srgbClr val="eca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76320" y="4467240"/>
                <a:ext cx="238320" cy="466560"/>
              </a:xfrm>
              <a:prstGeom prst="ellipse">
                <a:avLst/>
              </a:prstGeom>
              <a:solidFill>
                <a:srgbClr val="ec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133720" y="4419720"/>
                <a:ext cx="666720" cy="457200"/>
              </a:xfrm>
              <a:prstGeom prst="rtTriangle">
                <a:avLst/>
              </a:prstGeom>
              <a:solidFill>
                <a:srgbClr val="ec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85880" y="4467240"/>
                <a:ext cx="684360" cy="650880"/>
              </a:xfrm>
              <a:custGeom>
                <a:avLst/>
                <a:gdLst/>
                <a:ahLst/>
                <a:rect l="l" t="t" r="r" b="b"/>
                <a:pathLst>
                  <a:path w="431" h="410">
                    <a:moveTo>
                      <a:pt x="192" y="0"/>
                    </a:moveTo>
                    <a:cubicBezTo>
                      <a:pt x="178" y="4"/>
                      <a:pt x="161" y="3"/>
                      <a:pt x="150" y="12"/>
                    </a:cubicBezTo>
                    <a:cubicBezTo>
                      <a:pt x="141" y="19"/>
                      <a:pt x="144" y="33"/>
                      <a:pt x="138" y="42"/>
                    </a:cubicBezTo>
                    <a:cubicBezTo>
                      <a:pt x="134" y="48"/>
                      <a:pt x="126" y="50"/>
                      <a:pt x="120" y="54"/>
                    </a:cubicBezTo>
                    <a:cubicBezTo>
                      <a:pt x="105" y="76"/>
                      <a:pt x="82" y="99"/>
                      <a:pt x="60" y="114"/>
                    </a:cubicBezTo>
                    <a:cubicBezTo>
                      <a:pt x="56" y="124"/>
                      <a:pt x="54" y="135"/>
                      <a:pt x="48" y="144"/>
                    </a:cubicBezTo>
                    <a:cubicBezTo>
                      <a:pt x="44" y="151"/>
                      <a:pt x="34" y="155"/>
                      <a:pt x="30" y="162"/>
                    </a:cubicBezTo>
                    <a:cubicBezTo>
                      <a:pt x="18" y="185"/>
                      <a:pt x="0" y="234"/>
                      <a:pt x="0" y="234"/>
                    </a:cubicBezTo>
                    <a:cubicBezTo>
                      <a:pt x="44" y="410"/>
                      <a:pt x="3" y="314"/>
                      <a:pt x="420" y="270"/>
                    </a:cubicBezTo>
                    <a:cubicBezTo>
                      <a:pt x="431" y="269"/>
                      <a:pt x="415" y="248"/>
                      <a:pt x="408" y="240"/>
                    </a:cubicBezTo>
                    <a:cubicBezTo>
                      <a:pt x="384" y="212"/>
                      <a:pt x="335" y="194"/>
                      <a:pt x="300" y="180"/>
                    </a:cubicBezTo>
                    <a:cubicBezTo>
                      <a:pt x="296" y="174"/>
                      <a:pt x="293" y="167"/>
                      <a:pt x="288" y="162"/>
                    </a:cubicBezTo>
                    <a:cubicBezTo>
                      <a:pt x="283" y="157"/>
                      <a:pt x="273" y="156"/>
                      <a:pt x="270" y="150"/>
                    </a:cubicBezTo>
                    <a:cubicBezTo>
                      <a:pt x="236" y="81"/>
                      <a:pt x="281" y="117"/>
                      <a:pt x="240" y="90"/>
                    </a:cubicBezTo>
                    <a:cubicBezTo>
                      <a:pt x="221" y="61"/>
                      <a:pt x="208" y="31"/>
                      <a:pt x="192" y="0"/>
                    </a:cubicBezTo>
                    <a:close/>
                  </a:path>
                </a:pathLst>
              </a:custGeom>
              <a:solidFill>
                <a:srgbClr val="ec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19240" y="4572000"/>
                <a:ext cx="343080" cy="285840"/>
              </a:xfrm>
              <a:custGeom>
                <a:avLst/>
                <a:gdLst/>
                <a:ahLst/>
                <a:rect l="l" t="t" r="r" b="b"/>
                <a:pathLst>
                  <a:path w="210" h="174">
                    <a:moveTo>
                      <a:pt x="48" y="0"/>
                    </a:moveTo>
                    <a:cubicBezTo>
                      <a:pt x="61" y="81"/>
                      <a:pt x="47" y="84"/>
                      <a:pt x="120" y="102"/>
                    </a:cubicBezTo>
                    <a:cubicBezTo>
                      <a:pt x="139" y="130"/>
                      <a:pt x="210" y="150"/>
                      <a:pt x="210" y="150"/>
                    </a:cubicBezTo>
                    <a:cubicBezTo>
                      <a:pt x="150" y="174"/>
                      <a:pt x="88" y="161"/>
                      <a:pt x="30" y="138"/>
                    </a:cubicBezTo>
                    <a:cubicBezTo>
                      <a:pt x="5" y="101"/>
                      <a:pt x="0" y="102"/>
                      <a:pt x="30" y="30"/>
                    </a:cubicBezTo>
                    <a:cubicBezTo>
                      <a:pt x="34" y="20"/>
                      <a:pt x="54" y="27"/>
                      <a:pt x="60" y="18"/>
                    </a:cubicBezTo>
                    <a:cubicBezTo>
                      <a:pt x="64" y="12"/>
                      <a:pt x="52" y="6"/>
                      <a:pt x="48" y="0"/>
                    </a:cubicBezTo>
                    <a:close/>
                  </a:path>
                </a:pathLst>
              </a:custGeom>
              <a:solidFill>
                <a:srgbClr val="ec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13FA-741D-4C24-A858-46684D9982F3}" type="slidenum">
              <a:t>3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Annäherung des Flächeninhaltes durch Unter- und Obersumme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46080" y="1406160"/>
            <a:ext cx="448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Ist die </a:t>
            </a:r>
            <a:r>
              <a:rPr b="0" lang="de-DE" sz="2000" spc="-1" strike="noStrike">
                <a:solidFill>
                  <a:srgbClr val="cd3333"/>
                </a:solidFill>
                <a:latin typeface="Times New Roman"/>
              </a:rPr>
              <a:t>Randfunktion</a:t>
            </a: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 „krummlinig“, so versucht man den Flächeninhalt durch Rechtecksäulen anzunähern.</a:t>
            </a:r>
            <a:endParaRPr b="0" lang="en-US" sz="2000" spc="-1" strike="noStrike">
              <a:solidFill>
                <a:srgbClr val="140a00"/>
              </a:solidFill>
              <a:latin typeface="Times New Roman"/>
            </a:endParaRPr>
          </a:p>
          <a:p>
            <a:pPr marL="289080" indent="-289080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Bei genügender Verfeinerung läßt sich dieser Flächeninhalt immer genauer bestimmen.</a:t>
            </a:r>
            <a:endParaRPr b="0" lang="en-US" sz="2000" spc="-1" strike="noStrike">
              <a:solidFill>
                <a:srgbClr val="140a00"/>
              </a:solidFill>
              <a:latin typeface="Times New Roman"/>
            </a:endParaRPr>
          </a:p>
          <a:p>
            <a:pPr marL="289080" indent="-289080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Schließlich gelingt es, eine sogenannte </a:t>
            </a:r>
            <a:r>
              <a:rPr b="0" lang="de-DE" sz="2000" spc="-1" strike="noStrike">
                <a:solidFill>
                  <a:srgbClr val="cd3333"/>
                </a:solidFill>
                <a:latin typeface="Times New Roman"/>
              </a:rPr>
              <a:t>FLÄCHENINHALTSFUNKTION</a:t>
            </a: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 anzugeben.</a:t>
            </a:r>
            <a:endParaRPr b="0" lang="en-US" sz="2000" spc="-1" strike="noStrike">
              <a:solidFill>
                <a:srgbClr val="140a00"/>
              </a:solidFill>
              <a:latin typeface="Times New Roman"/>
            </a:endParaRPr>
          </a:p>
          <a:p>
            <a:pPr marL="289080" indent="-289080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Man versucht ferner, einen rechnerischen Zusammenhang zwischen der </a:t>
            </a:r>
            <a:r>
              <a:rPr b="1" lang="de-DE" sz="2000" spc="-1" strike="noStrike">
                <a:solidFill>
                  <a:srgbClr val="cd3333"/>
                </a:solidFill>
                <a:latin typeface="Times New Roman"/>
              </a:rPr>
              <a:t>Randfunktion</a:t>
            </a: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 und der </a:t>
            </a:r>
            <a:r>
              <a:rPr b="1" lang="de-DE" sz="2000" spc="-1" strike="noStrike">
                <a:solidFill>
                  <a:srgbClr val="cd3333"/>
                </a:solidFill>
                <a:latin typeface="Times New Roman"/>
              </a:rPr>
              <a:t>Flächeninhaltsfunktion</a:t>
            </a:r>
            <a:r>
              <a:rPr b="0" lang="de-DE" sz="2000" spc="-1" strike="noStrike">
                <a:solidFill>
                  <a:srgbClr val="140a00"/>
                </a:solidFill>
                <a:latin typeface="Times New Roman"/>
              </a:rPr>
              <a:t> herzustellen.</a:t>
            </a:r>
            <a:endParaRPr b="0" lang="en-US" sz="2000" spc="-1" strike="noStrike">
              <a:solidFill>
                <a:srgbClr val="140a00"/>
              </a:solidFill>
              <a:latin typeface="Times New Roman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40a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50840" y="1511280"/>
          <a:ext cx="33354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511280"/>
                    <a:ext cx="33354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5818-CFBE-4B24-ACD4-99F93F9EFD5B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Annäherung des Flächeninhaltes durch Unter- und Obersumme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2000"/>
                </a:solidFill>
                <a:latin typeface="Times New Roman"/>
              </a:rPr>
              <a:t>Ober- und Untersummen bilden eine Intervallschachtelung für den tatsächlichen Flächeninhalt A</a:t>
            </a:r>
            <a:r>
              <a:rPr b="0" lang="de-DE" sz="20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de-DE" sz="2000" spc="-1" strike="noStrike">
                <a:solidFill>
                  <a:srgbClr val="402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114800"/>
            <a:ext cx="6095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48120" y="2819520"/>
          <a:ext cx="4572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4572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066680" y="426708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2000"/>
                </a:solidFill>
                <a:latin typeface="Times New Roman"/>
              </a:rPr>
              <a:t>Wir betrachten nur die Folge der Obersummen und vereinfachen ferner durch die Wahl geeigneter positiver Randfunktionen über dem Intervall [0;a]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2000"/>
                </a:solidFill>
                <a:latin typeface="Times New Roman"/>
              </a:rPr>
              <a:t>Daher gilt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74BD-CEA5-4D12-B424-3A552FA365F4}" type="slidenum">
              <a:t>5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Flächeninhalt zur Randfunktion f(x) = x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19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4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Teile [0;a] in n gleiche Streifen der Breite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h = (a-0)/n = a/n</a:t>
            </a:r>
            <a:endParaRPr b="0" lang="en-US" sz="1600" spc="-1" strike="noStrike">
              <a:solidFill>
                <a:srgbClr val="140a00"/>
              </a:solidFill>
              <a:latin typeface="Times New Roman"/>
            </a:endParaRPr>
          </a:p>
          <a:p>
            <a:pPr marL="184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Dies ergibt n+1 Teilpunkte: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=0, x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=0+h; x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=0+2h; x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=0+3h; ...;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 x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=0+(n-1)h; x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 = a</a:t>
            </a:r>
            <a:endParaRPr b="0" lang="en-US" sz="1600" spc="-1" strike="noStrike">
              <a:solidFill>
                <a:srgbClr val="140a00"/>
              </a:solidFill>
              <a:latin typeface="Times New Roman"/>
            </a:endParaRPr>
          </a:p>
          <a:p>
            <a:pPr marL="184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O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[0;a] 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= Summe aller Streifenflächen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         = Summe(Breite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*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Höhe)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         = Summe(Breite*rechter Funktionswert)</a:t>
            </a:r>
            <a:endParaRPr b="0" lang="en-US" sz="1600" spc="-1" strike="noStrike">
              <a:solidFill>
                <a:srgbClr val="140a00"/>
              </a:solidFill>
              <a:latin typeface="Times New Roman"/>
            </a:endParaRPr>
          </a:p>
          <a:p>
            <a:pPr marL="184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a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1641600"/>
            <a:ext cx="3429000" cy="3149280"/>
            <a:chOff x="990720" y="1641600"/>
            <a:chExt cx="3429000" cy="314928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90720" y="1641600"/>
              <a:ext cx="3429000" cy="31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419720" y="1641600"/>
              <a:ext cx="0" cy="3149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16680" y="3809880"/>
                <a:ext cx="3458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11640" y="4367160"/>
                <a:ext cx="36450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105520" y="4716360"/>
                <a:ext cx="1981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990720" y="5334120"/>
            <a:ext cx="36018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Lässt man nun n gegen </a:t>
            </a:r>
            <a:r>
              <a:rPr b="0" lang="de-DE" sz="1600" spc="-1" strike="noStrike">
                <a:solidFill>
                  <a:srgbClr val="402000"/>
                </a:solidFill>
                <a:latin typeface="Symbol"/>
                <a:ea typeface="Symbol"/>
              </a:rPr>
              <a:t>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 gehen, nähert 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sich O</a:t>
            </a:r>
            <a:r>
              <a:rPr b="0" lang="de-DE" sz="1600" spc="-1" strike="noStrike" baseline="-25000">
                <a:solidFill>
                  <a:srgbClr val="402000"/>
                </a:solidFill>
                <a:latin typeface="Times New Roman"/>
              </a:rPr>
              <a:t>[0;a]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der tatsächlichen Fläche unter</a:t>
            </a:r>
            <a:br>
              <a:rPr sz="1600"/>
            </a:b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 y=x von 0 bis a an. Es gilt som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724280" y="5410080"/>
          <a:ext cx="36576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5410080"/>
                    <a:ext cx="36576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CC6C-08F2-428A-BEC9-226B2B81813B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d3333"/>
                </a:solidFill>
                <a:latin typeface="Times New Roman"/>
              </a:rPr>
              <a:t>Flächeninhalt zur Randfunktion f(x) = x</a:t>
            </a:r>
            <a:r>
              <a:rPr b="0" lang="de-DE" sz="2400" spc="-1" strike="noStrike" baseline="36000">
                <a:solidFill>
                  <a:srgbClr val="cd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d3333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425600"/>
          <a:ext cx="302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25600"/>
                    <a:ext cx="302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14800" y="13712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Teile [0;a] in n gleiche Streifen der Breite </a:t>
            </a:r>
            <a:br>
              <a:rPr sz="1800"/>
            </a:b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h = (a-0)/n = a/n . Dies ergibt n+1 Teilpunkte:</a:t>
            </a:r>
            <a:endParaRPr b="0" lang="en-US" sz="1800" spc="-1" strike="noStrike">
              <a:solidFill>
                <a:srgbClr val="140a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0, x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0+h; x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0+2h; x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0+3h; ...; </a:t>
            </a:r>
            <a:br>
              <a:rPr sz="1800"/>
            </a:b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0+(n-1)h; x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 = a</a:t>
            </a:r>
            <a:endParaRPr b="0" lang="en-US" sz="1800" spc="-1" strike="noStrike">
              <a:solidFill>
                <a:srgbClr val="140a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590920"/>
            <a:ext cx="46483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O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[0;a]</a:t>
            </a:r>
            <a:r>
              <a:rPr b="0" lang="de-DE" sz="1800" spc="-1" strike="noStrike" baseline="-25000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 Summe aller Streifenflächen</a:t>
            </a:r>
            <a:br>
              <a:rPr sz="1800"/>
            </a:b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 Summe (Breite </a:t>
            </a:r>
            <a:r>
              <a:rPr b="0" lang="de-DE" sz="1600" spc="-1" strike="noStrike">
                <a:solidFill>
                  <a:srgbClr val="402000"/>
                </a:solidFill>
                <a:latin typeface="Times New Roman"/>
              </a:rPr>
              <a:t>* 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Höhe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402000"/>
                </a:solidFill>
                <a:latin typeface="Times New Roman"/>
              </a:rPr>
              <a:t>= Summe (Breite * rechter Funktionswe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648320" y="3605040"/>
                <a:ext cx="3429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48320" y="4114800"/>
                <a:ext cx="35049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648320" y="4419720"/>
                <a:ext cx="3024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60920" y="4978440"/>
                <a:ext cx="265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14400" y="5562720"/>
            <a:ext cx="38862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Lässt man nun n gegen </a:t>
            </a:r>
            <a:r>
              <a:rPr b="0" lang="de-DE" sz="1400" spc="-1" strike="noStrike">
                <a:solidFill>
                  <a:srgbClr val="402000"/>
                </a:solidFill>
                <a:latin typeface="Symbol"/>
                <a:ea typeface="Symbol"/>
              </a:rPr>
              <a:t></a:t>
            </a: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 gehen, nähert sich O</a:t>
            </a:r>
            <a:r>
              <a:rPr b="0" lang="de-DE" sz="1400" spc="-1" strike="noStrike" baseline="-25000">
                <a:solidFill>
                  <a:srgbClr val="402000"/>
                </a:solidFill>
                <a:latin typeface="Times New Roman"/>
              </a:rPr>
              <a:t>[0;a]</a:t>
            </a: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 der tatsächlichen Fläche unter y=x</a:t>
            </a:r>
            <a:r>
              <a:rPr b="0" lang="de-DE" sz="1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402000"/>
                </a:solidFill>
                <a:latin typeface="Times New Roman"/>
              </a:rPr>
              <a:t> von 0 bis a an. Es gilt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800600" y="5638680"/>
          <a:ext cx="384480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638680"/>
                    <a:ext cx="38448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49E5-7AB4-4E5E-802B-2576981A36CA}" type="slidenum">
              <a:t>7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18:17:37Z</dcterms:created>
  <dc:creator>Uli Schäfer</dc:creator>
  <dc:description/>
  <dc:language>en-US</dc:language>
  <cp:lastModifiedBy>Uli Schäfer</cp:lastModifiedBy>
  <cp:lastPrinted>1999-03-16T16:33:07Z</cp:lastPrinted>
  <dcterms:modified xsi:type="dcterms:W3CDTF">2003-06-12T10:46:51Z</dcterms:modified>
  <cp:revision>19</cp:revision>
  <dc:subject/>
  <dc:title>Flächenberechnung</dc:title>
</cp:coreProperties>
</file>