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7.jpeg" ContentType="image/jpeg"/>
  <Override PartName="/ppt/media/image20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340-A82B-4B54-AAA5-FA5E3A99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23F-0F65-4021-AEA5-621D5FA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B5B-5F0A-42D6-8FEF-873F3C2E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3BC-532F-454F-82B1-8BA78808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907-1009-4BCF-BC45-8D98480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AEF-B8CE-4F65-9D7B-9167756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747-5EBF-4471-95EA-5EA17963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C67-EF3F-436F-9B18-58301DD4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9E0-F677-4C50-8355-5F783BEA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433-799E-4011-8252-637246D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80A-0081-4C2B-884E-1F8D11E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0B-7C67-4D4A-B6E5-A137EDE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E105-FA64-43A8-BE48-D70CA010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04920"/>
            <a:ext cx="81536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etrai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971800"/>
            <a:ext cx="8397720" cy="2562480"/>
          </a:xfrm>
          <a:prstGeom prst="rect">
            <a:avLst/>
          </a:prstGeom>
          <a:solidFill>
            <a:srgbClr val="ff9933"/>
          </a:solidFill>
          <a:ln w="76320">
            <a:solidFill>
              <a:srgbClr val="3333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3333cc"/>
                </a:solidFill>
                <a:latin typeface="comic"/>
              </a:rPr>
              <a:t>Von Claudia</a:t>
            </a:r>
            <a:r>
              <a:rPr b="0" lang="de-DE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380880" y="4537080"/>
          <a:ext cx="281916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4537080"/>
                    <a:ext cx="28191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80880" y="365760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Computer ist farbi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380880" y="464832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Computer ist gr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380880" y="556272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der Computer ist defe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D09296_" descr=""/>
          <p:cNvPicPr/>
          <p:nvPr/>
        </p:nvPicPr>
        <p:blipFill>
          <a:blip r:embed="rId4"/>
          <a:stretch/>
        </p:blipFill>
        <p:spPr>
          <a:xfrm>
            <a:off x="2514600" y="380880"/>
            <a:ext cx="3886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57200" y="4038480"/>
            <a:ext cx="8397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hat schöne Gehe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57200" y="4876920"/>
            <a:ext cx="8381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hat keine Raubti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457200" y="571500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ist alt und baufäll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usflug_zoo2" descr=""/>
          <p:cNvPicPr/>
          <p:nvPr/>
        </p:nvPicPr>
        <p:blipFill>
          <a:blip r:embed="rId4"/>
          <a:stretch/>
        </p:blipFill>
        <p:spPr>
          <a:xfrm>
            <a:off x="1981080" y="228600"/>
            <a:ext cx="53341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657600"/>
            <a:ext cx="8397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drei Eis kosten 1,00 </a:t>
            </a:r>
            <a:r>
              <a:rPr b="1" lang="en-US" sz="3200" spc="-1" strike="noStrike">
                <a:solidFill>
                  <a:srgbClr val="000000"/>
                </a:solidFill>
                <a:latin typeface="Balloon"/>
              </a:rPr>
              <a:t>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8381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alloon"/>
              </a:rPr>
              <a:t>Die drei Eis kosten 75 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3341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drei Eis kosten 1,50 </a:t>
            </a:r>
            <a:r>
              <a:rPr b="1" lang="en-US" sz="3200" spc="-1" strike="noStrike">
                <a:solidFill>
                  <a:srgbClr val="000000"/>
                </a:solidFill>
                <a:latin typeface="Balloon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D00511_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304164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80880"/>
            <a:ext cx="1295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50 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80880" y="320040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grau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380880" y="556272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brau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380880" y="441972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schwar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N01125_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7432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80880" y="3352680"/>
            <a:ext cx="83059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n F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80880" y="4343400"/>
            <a:ext cx="8305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 Ka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380880" y="533412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n Kanarienvogel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N01652_" descr=""/>
          <p:cNvPicPr/>
          <p:nvPr/>
        </p:nvPicPr>
        <p:blipFill>
          <a:blip r:embed="rId4"/>
          <a:stretch/>
        </p:blipFill>
        <p:spPr>
          <a:xfrm>
            <a:off x="2514600" y="609480"/>
            <a:ext cx="4038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228600" y="4800600"/>
            <a:ext cx="8397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228600" y="4038480"/>
            <a:ext cx="8381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228600" y="56386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ro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D00938_" descr=""/>
          <p:cNvPicPr/>
          <p:nvPr/>
        </p:nvPicPr>
        <p:blipFill>
          <a:blip r:embed="rId4"/>
          <a:stretch/>
        </p:blipFill>
        <p:spPr>
          <a:xfrm>
            <a:off x="2666880" y="380880"/>
            <a:ext cx="38862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880" y="365760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 schnatt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 schwim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380880" y="464832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 watsch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N01320_" descr=""/>
          <p:cNvPicPr/>
          <p:nvPr/>
        </p:nvPicPr>
        <p:blipFill>
          <a:blip r:embed="rId4"/>
          <a:stretch/>
        </p:blipFill>
        <p:spPr>
          <a:xfrm>
            <a:off x="2286000" y="228600"/>
            <a:ext cx="45878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80880" y="373392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läu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380880" y="464832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brü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380880" y="556272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fris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N01124_" descr=""/>
          <p:cNvPicPr/>
          <p:nvPr/>
        </p:nvPicPr>
        <p:blipFill>
          <a:blip r:embed="rId4"/>
          <a:stretch/>
        </p:blipFill>
        <p:spPr>
          <a:xfrm>
            <a:off x="3429000" y="533520"/>
            <a:ext cx="2441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80880" y="510552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hat römische Zei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80880" y="411480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tickt la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80880" y="312408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ist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D06207_" descr=""/>
          <p:cNvPicPr/>
          <p:nvPr/>
        </p:nvPicPr>
        <p:blipFill>
          <a:blip r:embed="rId4"/>
          <a:stretch/>
        </p:blipFill>
        <p:spPr>
          <a:xfrm>
            <a:off x="3276720" y="6094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457200"/>
            <a:ext cx="7086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505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er du bist fertig 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505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AN00028A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819160" cy="1604880"/>
          </a:xfrm>
          <a:prstGeom prst="rect">
            <a:avLst/>
          </a:prstGeom>
          <a:ln w="0">
            <a:noFill/>
          </a:ln>
        </p:spPr>
      </p:pic>
      <p:pic>
        <p:nvPicPr>
          <p:cNvPr id="117" name="AN00026A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2819160" cy="1431720"/>
          </a:xfrm>
          <a:prstGeom prst="rect">
            <a:avLst/>
          </a:prstGeom>
          <a:ln w="0">
            <a:noFill/>
          </a:ln>
        </p:spPr>
      </p:pic>
      <p:pic>
        <p:nvPicPr>
          <p:cNvPr id="118" name="AN01333_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862280" cy="19810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6019920" y="3048120"/>
            <a:ext cx="2590560" cy="1066680"/>
          </a:xfrm>
          <a:custGeom>
            <a:avLst/>
            <a:gdLst>
              <a:gd name="textAreaLeft" fmla="*/ 69120 w 2590560"/>
              <a:gd name="textAreaRight" fmla="*/ 2521440 w 2590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52448" h="21600">
                <a:moveTo>
                  <a:pt x="0" y="0"/>
                </a:moveTo>
                <a:lnTo>
                  <a:pt x="52448" y="0"/>
                </a:lnTo>
                <a:lnTo>
                  <a:pt x="52448" y="21600"/>
                </a:lnTo>
                <a:lnTo>
                  <a:pt x="0" y="21600"/>
                </a:lnTo>
                <a:close/>
              </a:path>
              <a:path fill="lightenLess" w="52448" h="21600">
                <a:moveTo>
                  <a:pt x="0" y="0"/>
                </a:moveTo>
                <a:lnTo>
                  <a:pt x="52448" y="0"/>
                </a:lnTo>
                <a:lnTo>
                  <a:pt x="51048" y="1400"/>
                </a:lnTo>
                <a:lnTo>
                  <a:pt x="1400" y="1400"/>
                </a:lnTo>
                <a:close/>
              </a:path>
              <a:path fill="darken" w="52448" h="21600">
                <a:moveTo>
                  <a:pt x="52448" y="0"/>
                </a:moveTo>
                <a:lnTo>
                  <a:pt x="52448" y="21600"/>
                </a:lnTo>
                <a:lnTo>
                  <a:pt x="51048" y="20200"/>
                </a:lnTo>
                <a:lnTo>
                  <a:pt x="51048" y="1400"/>
                </a:lnTo>
                <a:close/>
              </a:path>
              <a:path fill="darkenLess" w="52448" h="21600">
                <a:moveTo>
                  <a:pt x="52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48" y="20200"/>
                </a:lnTo>
                <a:close/>
              </a:path>
              <a:path fill="lighten" w="52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Village Square"/>
              </a:rPr>
              <a:t>E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5715000" y="5257800"/>
            <a:ext cx="3124080" cy="1295280"/>
          </a:xfrm>
          <a:custGeom>
            <a:avLst/>
            <a:gdLst>
              <a:gd name="textAreaLeft" fmla="*/ 83880 w 3124080"/>
              <a:gd name="textAreaRight" fmla="*/ 3040200 w 3124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52088" h="21600">
                <a:moveTo>
                  <a:pt x="0" y="0"/>
                </a:moveTo>
                <a:lnTo>
                  <a:pt x="52088" y="0"/>
                </a:lnTo>
                <a:lnTo>
                  <a:pt x="52088" y="21600"/>
                </a:lnTo>
                <a:lnTo>
                  <a:pt x="0" y="21600"/>
                </a:lnTo>
                <a:close/>
              </a:path>
              <a:path fill="lightenLess" w="52088" h="21600">
                <a:moveTo>
                  <a:pt x="0" y="0"/>
                </a:moveTo>
                <a:lnTo>
                  <a:pt x="52088" y="0"/>
                </a:lnTo>
                <a:lnTo>
                  <a:pt x="50689" y="1400"/>
                </a:lnTo>
                <a:lnTo>
                  <a:pt x="1400" y="1400"/>
                </a:lnTo>
                <a:close/>
              </a:path>
              <a:path fill="darken" w="52088" h="21600">
                <a:moveTo>
                  <a:pt x="52088" y="0"/>
                </a:moveTo>
                <a:lnTo>
                  <a:pt x="52088" y="21600"/>
                </a:lnTo>
                <a:lnTo>
                  <a:pt x="50689" y="20200"/>
                </a:lnTo>
                <a:lnTo>
                  <a:pt x="50689" y="1400"/>
                </a:lnTo>
                <a:close/>
              </a:path>
              <a:path fill="darkenLess" w="52088" h="21600">
                <a:moveTo>
                  <a:pt x="52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9" y="20200"/>
                </a:lnTo>
                <a:close/>
              </a:path>
              <a:path fill="lighten" w="52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illage Square"/>
              </a:rPr>
              <a:t>Zum Anfa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457200" y="3962520"/>
            <a:ext cx="8397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aufmerksame Wachhund bellt lau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457200" y="4876920"/>
            <a:ext cx="83818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sehr bissige Hund beißt den Fußgä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57200" y="57913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Hund sitzt in seinem grauen Zwing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N02513_" descr=""/>
          <p:cNvPicPr/>
          <p:nvPr/>
        </p:nvPicPr>
        <p:blipFill>
          <a:blip r:embed="rId4"/>
          <a:stretch/>
        </p:blipFill>
        <p:spPr>
          <a:xfrm>
            <a:off x="2514600" y="304920"/>
            <a:ext cx="3938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9144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N02354_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2949480" cy="3103560"/>
          </a:xfrm>
          <a:prstGeom prst="rect">
            <a:avLst/>
          </a:prstGeom>
          <a:ln w="0">
            <a:noFill/>
          </a:ln>
        </p:spPr>
      </p:pic>
      <p:pic>
        <p:nvPicPr>
          <p:cNvPr id="123" name="BD05960_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2666880" cy="2970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5486400" y="5715000"/>
            <a:ext cx="3557520" cy="1042920"/>
          </a:xfrm>
          <a:custGeom>
            <a:avLst/>
            <a:gdLst>
              <a:gd name="textAreaLeft" fmla="*/ 134640 w 3557520"/>
              <a:gd name="textAreaRight" fmla="*/ 3422880 w 3557520"/>
              <a:gd name="textAreaTop" fmla="*/ 134640 h 1042920"/>
              <a:gd name="textAreaBottom" fmla="*/ 908280 h 1042920"/>
            </a:gdLst>
            <a:ahLst/>
            <a:rect l="textAreaLeft" t="textAreaTop" r="textAreaRight" b="textAreaBottom"/>
            <a:pathLst>
              <a:path w="73662" h="21600">
                <a:moveTo>
                  <a:pt x="0" y="0"/>
                </a:moveTo>
                <a:lnTo>
                  <a:pt x="73662" y="0"/>
                </a:lnTo>
                <a:lnTo>
                  <a:pt x="73662" y="21600"/>
                </a:lnTo>
                <a:lnTo>
                  <a:pt x="0" y="21600"/>
                </a:lnTo>
                <a:close/>
              </a:path>
              <a:path fill="lightenLess" w="73662" h="21600">
                <a:moveTo>
                  <a:pt x="0" y="0"/>
                </a:moveTo>
                <a:lnTo>
                  <a:pt x="73662" y="0"/>
                </a:lnTo>
                <a:lnTo>
                  <a:pt x="70867" y="2795"/>
                </a:lnTo>
                <a:lnTo>
                  <a:pt x="2795" y="2795"/>
                </a:lnTo>
                <a:close/>
              </a:path>
              <a:path fill="darken" w="73662" h="21600">
                <a:moveTo>
                  <a:pt x="73662" y="0"/>
                </a:moveTo>
                <a:lnTo>
                  <a:pt x="73662" y="21600"/>
                </a:lnTo>
                <a:lnTo>
                  <a:pt x="70867" y="18805"/>
                </a:lnTo>
                <a:lnTo>
                  <a:pt x="70867" y="2795"/>
                </a:lnTo>
                <a:close/>
              </a:path>
              <a:path fill="darkenLess" w="73662" h="21600">
                <a:moveTo>
                  <a:pt x="73662" y="21600"/>
                </a:moveTo>
                <a:lnTo>
                  <a:pt x="0" y="21600"/>
                </a:lnTo>
                <a:lnTo>
                  <a:pt x="2795" y="18805"/>
                </a:lnTo>
                <a:lnTo>
                  <a:pt x="70867" y="18805"/>
                </a:lnTo>
                <a:close/>
              </a:path>
              <a:path fill="lighten" w="73662" h="21600">
                <a:moveTo>
                  <a:pt x="0" y="21600"/>
                </a:moveTo>
                <a:lnTo>
                  <a:pt x="0" y="0"/>
                </a:lnTo>
                <a:lnTo>
                  <a:pt x="2795" y="2795"/>
                </a:lnTo>
                <a:lnTo>
                  <a:pt x="2795" y="1880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D05961_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2708280" cy="318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380880"/>
            <a:ext cx="912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chade, dass stimmt leider nicht !!!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5486400" y="5715000"/>
            <a:ext cx="3557520" cy="1042920"/>
          </a:xfrm>
          <a:custGeom>
            <a:avLst/>
            <a:gdLst>
              <a:gd name="textAreaLeft" fmla="*/ 134640 w 3557520"/>
              <a:gd name="textAreaRight" fmla="*/ 3422880 w 3557520"/>
              <a:gd name="textAreaTop" fmla="*/ 134640 h 1042920"/>
              <a:gd name="textAreaBottom" fmla="*/ 908280 h 1042920"/>
            </a:gdLst>
            <a:ahLst/>
            <a:rect l="textAreaLeft" t="textAreaTop" r="textAreaRight" b="textAreaBottom"/>
            <a:pathLst>
              <a:path w="73662" h="21600">
                <a:moveTo>
                  <a:pt x="0" y="0"/>
                </a:moveTo>
                <a:lnTo>
                  <a:pt x="73662" y="0"/>
                </a:lnTo>
                <a:lnTo>
                  <a:pt x="73662" y="21600"/>
                </a:lnTo>
                <a:lnTo>
                  <a:pt x="0" y="21600"/>
                </a:lnTo>
                <a:close/>
              </a:path>
              <a:path fill="lightenLess" w="73662" h="21600">
                <a:moveTo>
                  <a:pt x="0" y="0"/>
                </a:moveTo>
                <a:lnTo>
                  <a:pt x="73662" y="0"/>
                </a:lnTo>
                <a:lnTo>
                  <a:pt x="70867" y="2795"/>
                </a:lnTo>
                <a:lnTo>
                  <a:pt x="2795" y="2795"/>
                </a:lnTo>
                <a:close/>
              </a:path>
              <a:path fill="darken" w="73662" h="21600">
                <a:moveTo>
                  <a:pt x="73662" y="0"/>
                </a:moveTo>
                <a:lnTo>
                  <a:pt x="73662" y="21600"/>
                </a:lnTo>
                <a:lnTo>
                  <a:pt x="70867" y="18805"/>
                </a:lnTo>
                <a:lnTo>
                  <a:pt x="70867" y="2795"/>
                </a:lnTo>
                <a:close/>
              </a:path>
              <a:path fill="darkenLess" w="73662" h="21600">
                <a:moveTo>
                  <a:pt x="73662" y="21600"/>
                </a:moveTo>
                <a:lnTo>
                  <a:pt x="0" y="21600"/>
                </a:lnTo>
                <a:lnTo>
                  <a:pt x="2795" y="18805"/>
                </a:lnTo>
                <a:lnTo>
                  <a:pt x="70867" y="18805"/>
                </a:lnTo>
                <a:close/>
              </a:path>
              <a:path fill="lighten" w="73662" h="21600">
                <a:moveTo>
                  <a:pt x="0" y="21600"/>
                </a:moveTo>
                <a:lnTo>
                  <a:pt x="0" y="0"/>
                </a:lnTo>
                <a:lnTo>
                  <a:pt x="2795" y="2795"/>
                </a:lnTo>
                <a:lnTo>
                  <a:pt x="2795" y="188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457200" y="4572000"/>
            <a:ext cx="83059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ne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457200" y="3429000"/>
            <a:ext cx="8305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457200" y="571500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r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D10572_" descr=""/>
          <p:cNvPicPr/>
          <p:nvPr/>
        </p:nvPicPr>
        <p:blipFill>
          <a:blip r:embed="rId4"/>
          <a:stretch/>
        </p:blipFill>
        <p:spPr>
          <a:xfrm>
            <a:off x="2743200" y="533520"/>
            <a:ext cx="2819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380880" y="47242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ist grü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80880" y="373392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wird gemä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ist hoch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ild_rote_bluete_im_gras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8620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spielt Fußbal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80060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geht auf den Mar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71500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spielt Computerspi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00998_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448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191120"/>
            <a:ext cx="8397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verfolgt einen Ha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105520"/>
            <a:ext cx="8381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schläft in der Höh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94360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kuckt aufgere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uchs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733920"/>
            <a:ext cx="83055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n sind schwar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724280"/>
            <a:ext cx="8305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n sind b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715000"/>
            <a:ext cx="8321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n sind l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reide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5784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733920"/>
            <a:ext cx="83055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bö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305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li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410080"/>
            <a:ext cx="8321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ungeduld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D07139_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59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380880" y="4038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aggress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0880" y="4876920"/>
            <a:ext cx="83822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380880" y="571500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gestre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N02373_" descr=""/>
          <p:cNvPicPr/>
          <p:nvPr/>
        </p:nvPicPr>
        <p:blipFill>
          <a:blip r:embed="rId4"/>
          <a:stretch/>
        </p:blipFill>
        <p:spPr>
          <a:xfrm>
            <a:off x="2971800" y="3049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7:24Z</dcterms:created>
  <dc:creator>Gast</dc:creator>
  <dc:description/>
  <dc:language>en-US</dc:language>
  <cp:lastModifiedBy>User</cp:lastModifiedBy>
  <dcterms:modified xsi:type="dcterms:W3CDTF">2008-01-01T20:57:04Z</dcterms:modified>
  <cp:revision>68</cp:revision>
  <dc:subject/>
  <dc:title>PowerPoint-Präsentation</dc:title>
</cp:coreProperties>
</file>