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6A3-D205-48A0-9F29-38798E6C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7A7-28CE-4FD4-8A41-8A4EE59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667-2F1B-4C3C-8D7E-317AC9F8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9D7-8A2D-4892-899A-04C7B003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B6A-C6B5-472B-9E32-B0EAD2C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F39-A490-4290-9531-FA89636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184-4016-4776-A36B-3EE2A6C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92B-A663-4B86-BA38-717F912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842-00D5-45AD-8866-E0B82AA9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A27-8EEA-413B-A015-11CEE49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B81-D44A-4078-B871-6F02FC3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D67-FB19-4CC1-BACF-96E0013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35A-9ECA-4B55-B61F-3DDFE1B26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828800"/>
            <a:ext cx="2514600" cy="11912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Von Len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14400"/>
            <a:ext cx="6324480" cy="266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2837160" cy="25509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4724280" y="55627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Lt BT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6781680" y="5562720"/>
            <a:ext cx="1905120" cy="76176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4005" h="21600">
                <a:moveTo>
                  <a:pt x="0" y="0"/>
                </a:moveTo>
                <a:lnTo>
                  <a:pt x="54005" y="0"/>
                </a:lnTo>
                <a:lnTo>
                  <a:pt x="54005" y="21600"/>
                </a:lnTo>
                <a:lnTo>
                  <a:pt x="0" y="21600"/>
                </a:lnTo>
                <a:close/>
              </a:path>
              <a:path fill="lightenLess" w="54005" h="21600">
                <a:moveTo>
                  <a:pt x="0" y="0"/>
                </a:moveTo>
                <a:lnTo>
                  <a:pt x="54005" y="0"/>
                </a:lnTo>
                <a:lnTo>
                  <a:pt x="52605" y="1400"/>
                </a:lnTo>
                <a:lnTo>
                  <a:pt x="1400" y="1400"/>
                </a:lnTo>
                <a:close/>
              </a:path>
              <a:path fill="darken" w="54005" h="21600">
                <a:moveTo>
                  <a:pt x="54005" y="0"/>
                </a:moveTo>
                <a:lnTo>
                  <a:pt x="54005" y="21600"/>
                </a:lnTo>
                <a:lnTo>
                  <a:pt x="52605" y="20200"/>
                </a:lnTo>
                <a:lnTo>
                  <a:pt x="52605" y="1400"/>
                </a:lnTo>
                <a:close/>
              </a:path>
              <a:path fill="darkenLess" w="54005" h="21600">
                <a:moveTo>
                  <a:pt x="5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5" y="20200"/>
                </a:lnTo>
                <a:close/>
              </a:path>
              <a:path fill="lighten" w="5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Lt BT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04920" y="38098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kauft mit ihrem Opa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304920" y="45720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kauft mit ihrer Oma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304920" y="533412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 kauft mit seiner Mutter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429000" y="533520"/>
            <a:ext cx="2133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304920" y="43434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a hat hellbraune Ha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as Haare sind bl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304920" y="50292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as Haare sind dunkelbra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048120" y="533520"/>
            <a:ext cx="2406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304920" y="36576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kio Hotel ist ein Filmtit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04920" y="4495680"/>
            <a:ext cx="83818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kio Hotel ist ein Hotelgebä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kio Hotel ist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505320" y="685800"/>
            <a:ext cx="203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304920" y="54100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tin fährt mit dem 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k fährt mit dem Fahrr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304920" y="45720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fährt mit dem Au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728880" y="304920"/>
            <a:ext cx="1393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304920" y="36576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lex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304920" y="51814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ophie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304920" y="441972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ter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8120" y="380880"/>
            <a:ext cx="3047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04920" y="44197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lexandr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andro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304920" y="51814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enjamin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200400" y="304920"/>
            <a:ext cx="2430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4495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übernachtet bei Sar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Hanna macht ein Puzz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304920" y="533412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ianca hat Streit mit Tab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2514600" cy="2181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449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352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nessa hat einen Vo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148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atarina hat eine Kat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87692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ard hat einen H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533520"/>
            <a:ext cx="4029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4495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a schreibt einen Aufsat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onrad schreibt an die Taf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54100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asse schreibt ein Dik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70044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44197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ma kauft eine Nel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ma kauft eine Tul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1814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ante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9383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80880" y="3733920"/>
            <a:ext cx="84837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ige Kastani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80880" y="45720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ige Erdnüs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80880" y="54100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ige Eichel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124080" y="914400"/>
            <a:ext cx="2876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4495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ngos sind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rangen sind 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41008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rdbeeren sind r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877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5335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ll, du hast es geschafft !!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6019920" y="5638680"/>
            <a:ext cx="2666880" cy="838440"/>
          </a:xfrm>
          <a:custGeom>
            <a:avLst/>
            <a:gdLst>
              <a:gd name="textAreaLeft" fmla="*/ 54360 w 2666880"/>
              <a:gd name="textAreaRight" fmla="*/ 2612520 w 2666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68684" h="21600">
                <a:moveTo>
                  <a:pt x="0" y="0"/>
                </a:moveTo>
                <a:lnTo>
                  <a:pt x="68684" y="0"/>
                </a:lnTo>
                <a:lnTo>
                  <a:pt x="68684" y="21600"/>
                </a:lnTo>
                <a:lnTo>
                  <a:pt x="0" y="21600"/>
                </a:lnTo>
                <a:close/>
              </a:path>
              <a:path fill="lightenLess" w="68684" h="21600">
                <a:moveTo>
                  <a:pt x="0" y="0"/>
                </a:moveTo>
                <a:lnTo>
                  <a:pt x="68684" y="0"/>
                </a:lnTo>
                <a:lnTo>
                  <a:pt x="67284" y="1400"/>
                </a:lnTo>
                <a:lnTo>
                  <a:pt x="1400" y="1400"/>
                </a:lnTo>
                <a:close/>
              </a:path>
              <a:path fill="darken" w="68684" h="21600">
                <a:moveTo>
                  <a:pt x="68684" y="0"/>
                </a:moveTo>
                <a:lnTo>
                  <a:pt x="68684" y="21600"/>
                </a:lnTo>
                <a:lnTo>
                  <a:pt x="67284" y="20200"/>
                </a:lnTo>
                <a:lnTo>
                  <a:pt x="67284" y="1400"/>
                </a:lnTo>
                <a:close/>
              </a:path>
              <a:path fill="darkenLess" w="68684" h="21600">
                <a:moveTo>
                  <a:pt x="68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84" y="20200"/>
                </a:lnTo>
                <a:close/>
              </a:path>
              <a:path fill="lighten" w="68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O02054_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151360" cy="34686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endshow"/>
          </p:cNvPr>
          <p:cNvSpPr/>
          <p:nvPr/>
        </p:nvSpPr>
        <p:spPr>
          <a:xfrm>
            <a:off x="457200" y="5638680"/>
            <a:ext cx="2362320" cy="838440"/>
          </a:xfrm>
          <a:custGeom>
            <a:avLst/>
            <a:gdLst>
              <a:gd name="textAreaLeft" fmla="*/ 54360 w 2362320"/>
              <a:gd name="textAreaRight" fmla="*/ 2307960 w 2362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60842" h="21600">
                <a:moveTo>
                  <a:pt x="0" y="0"/>
                </a:moveTo>
                <a:lnTo>
                  <a:pt x="60842" y="0"/>
                </a:lnTo>
                <a:lnTo>
                  <a:pt x="60842" y="21600"/>
                </a:lnTo>
                <a:lnTo>
                  <a:pt x="0" y="21600"/>
                </a:lnTo>
                <a:close/>
              </a:path>
              <a:path fill="lightenLess" w="60842" h="21600">
                <a:moveTo>
                  <a:pt x="0" y="0"/>
                </a:moveTo>
                <a:lnTo>
                  <a:pt x="60842" y="0"/>
                </a:lnTo>
                <a:lnTo>
                  <a:pt x="59442" y="1400"/>
                </a:lnTo>
                <a:lnTo>
                  <a:pt x="1400" y="1400"/>
                </a:lnTo>
                <a:close/>
              </a:path>
              <a:path fill="darken" w="60842" h="21600">
                <a:moveTo>
                  <a:pt x="60842" y="0"/>
                </a:moveTo>
                <a:lnTo>
                  <a:pt x="60842" y="21600"/>
                </a:lnTo>
                <a:lnTo>
                  <a:pt x="59442" y="20200"/>
                </a:lnTo>
                <a:lnTo>
                  <a:pt x="59442" y="1400"/>
                </a:lnTo>
                <a:close/>
              </a:path>
              <a:path fill="darkenLess" w="60842" h="21600">
                <a:moveTo>
                  <a:pt x="60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442" y="20200"/>
                </a:lnTo>
                <a:close/>
              </a:path>
              <a:path fill="lighten" w="60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36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Bravo, toll gemacht, weiter so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BD05959_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380880" y="586728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BD05961_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708280" cy="3187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457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Lucida Handwriting"/>
              </a:rPr>
              <a:t>Versuch</a:t>
            </a: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Lucida Handwriting"/>
              </a:rPr>
              <a:t>es noch einmal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0880" y="586728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304920" y="36576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ferde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04920" y="44956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Ziegen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04920" y="533412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ühe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762120"/>
            <a:ext cx="2174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28600" y="3886200"/>
            <a:ext cx="84837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ernd schießt über das To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228600" y="4648320"/>
            <a:ext cx="8458200" cy="64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ernd schießt an den Pfosten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Lucida Handwriting"/>
                <a:hlinkClick r:id="rId3" action="ppaction://hlinksldjump"/>
              </a:rPr>
              <a:t>ie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228600" y="54100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ernd trifft ins 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124080" y="533520"/>
            <a:ext cx="2843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380880" y="3809880"/>
            <a:ext cx="84837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ein Jog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380880" y="464832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einen Apf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380880" y="54864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Trau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895480" y="304920"/>
            <a:ext cx="33195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380880" y="35053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evin angelt einen F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380880" y="4419720"/>
            <a:ext cx="83822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ina angelt einen alten Schu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80880" y="52578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Tizian angelt eine D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71800" y="457200"/>
            <a:ext cx="2924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35812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nnart hat kein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04920" y="441972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Jojo hat auch kein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k hat viel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124080" y="304920"/>
            <a:ext cx="28958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304920" y="34290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hat im Aufsatz eine 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304920" y="42670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elix hat im Diktat eine zw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04920" y="50292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na schreibt eine eins in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352680" y="609480"/>
            <a:ext cx="2314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228600" y="3352680"/>
            <a:ext cx="84837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ie ist am größ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228600" y="41148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udwig ist am kleins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228600" y="487692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udwig ist am größ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362320" y="457200"/>
            <a:ext cx="41814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3:22Z</dcterms:created>
  <dc:creator>Gast</dc:creator>
  <dc:description/>
  <dc:language>en-US</dc:language>
  <cp:lastModifiedBy>User</cp:lastModifiedBy>
  <dcterms:modified xsi:type="dcterms:W3CDTF">2008-01-04T19:28:16Z</dcterms:modified>
  <cp:revision>50</cp:revision>
  <dc:subject/>
  <dc:title>PowerPoint-Präsentation</dc:title>
</cp:coreProperties>
</file>