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AF2-80F7-4EB0-AAB1-CF02B7FC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1D3-65E6-42F3-BFA5-CCF28E3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0D2-FBE3-4267-9632-F37B6669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088-D330-4D74-8F71-B8E9212F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924-D8E7-4124-8053-3F2CE069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496-B0D3-4942-91D3-00B73E1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9D1-81F3-471B-9E51-90C2C656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02B-7D24-47BF-BA45-8A58875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899-DCDF-4DA4-A820-F9134CDB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454-21EE-466A-A72C-B12425F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119-B297-4CEF-817C-5C04E5C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B33-B62E-430D-B8DD-DA922A0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20B-43F9-46D6-8842-47ED0BF0C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hyperlink" Target="http://www.liebherr.com/me/36223.asp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hyperlink" Target="http://images.google.de/imgres?imgurl=http://www.wissenschaft-online.de/sixcms/media.php/369/euroscheine_frei.jpg&amp;imgrefurl=http://www.wissenschaft-online.de/artikel/622400%26template%3Dbild_popup%26_bild%3D1&amp;h=376&amp;w=470&amp;sz=26&amp;hl=de&amp;start=4&amp;tbnid=RfdUo1vwldHcdM:&amp;tbnh=103&amp;tbnw=129&amp;prev=/images%3Fq%3DEuroscheine%26gbv%3D2%26svnum%3D10%26hl%3Dde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hyperlink" Target="http://images.google.de/imgres?imgurl=http://www.guntmadingen.ch/portrait/Fotoalben/pferde/Pferde%2520im%2520Dorf1.jpg&amp;imgrefurl=http://www.guntmadingen.ch/portrait/Fotoalben/pferde/pferde.html&amp;h=398&amp;w=600&amp;sz=93&amp;hl=de&amp;start=164&amp;tbnid=Q6q-3rZmODBwIM:&amp;tbnh=90&amp;tbnw=135&amp;prev=/images%3Fq%3DPferde%26start%3D160%26gbv%3D2%26ndsp%3D20%26svnum%3D10%26hl%3Dde%26sa%3DN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hyperlink" Target="http://images.google.de/imgres?imgurl=http://www.funkwerkdabendorf.de/_upload/Image2.jpg&amp;imgrefurl=http://www.funkwerkdabendorf.de/content_manager/page.php%3FID%3D4513%26dbc%3D8efb73a88d1bc25d041b5eaf26a9ab08&amp;h=1037&amp;w=1535&amp;sz=1840&amp;hl=de&amp;start=7&amp;tbnid=Y4u17FPmnKsaKM:&amp;tbnh=101&amp;tbnw=150&amp;prev=/images%3Fq%3DAutofahrer%26gbv%3D2%26ndsp%3D20%26svnum%3D10%26hl%3Dde%26sa%3D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39760" y="1447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on J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294000" cy="3435480"/>
          </a:xfrm>
          <a:prstGeom prst="rect">
            <a:avLst/>
          </a:prstGeom>
          <a:ln w="0">
            <a:noFill/>
          </a:ln>
        </p:spPr>
      </p:pic>
      <p:pic>
        <p:nvPicPr>
          <p:cNvPr id="44" name="BD05969_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838080" y="266688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kapu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38080" y="419112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838080" y="342900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n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5b201c9d-6527-4002-a9b0-4857c60a7818-2006_7_31_16_35_20_rdax_120x79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609480"/>
            <a:ext cx="22096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71600" y="533520"/>
            <a:ext cx="63626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 hast alles geschafft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AN02034_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057400" cy="28195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5715000" y="4952880"/>
            <a:ext cx="2895480" cy="1067040"/>
          </a:xfrm>
          <a:custGeom>
            <a:avLst/>
            <a:gdLst>
              <a:gd name="textAreaLeft" fmla="*/ 69120 w 2895480"/>
              <a:gd name="textAreaRight" fmla="*/ 2826360 w 28954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8600" h="21600">
                <a:moveTo>
                  <a:pt x="0" y="0"/>
                </a:moveTo>
                <a:lnTo>
                  <a:pt x="58600" y="0"/>
                </a:lnTo>
                <a:lnTo>
                  <a:pt x="58600" y="21600"/>
                </a:lnTo>
                <a:lnTo>
                  <a:pt x="0" y="21600"/>
                </a:lnTo>
                <a:close/>
              </a:path>
              <a:path fill="lightenLess" w="58600" h="21600">
                <a:moveTo>
                  <a:pt x="0" y="0"/>
                </a:moveTo>
                <a:lnTo>
                  <a:pt x="58600" y="0"/>
                </a:lnTo>
                <a:lnTo>
                  <a:pt x="57201" y="1400"/>
                </a:lnTo>
                <a:lnTo>
                  <a:pt x="1400" y="1400"/>
                </a:lnTo>
                <a:close/>
              </a:path>
              <a:path fill="darken" w="58600" h="21600">
                <a:moveTo>
                  <a:pt x="58600" y="0"/>
                </a:moveTo>
                <a:lnTo>
                  <a:pt x="58600" y="21600"/>
                </a:lnTo>
                <a:lnTo>
                  <a:pt x="57201" y="20200"/>
                </a:lnTo>
                <a:lnTo>
                  <a:pt x="57201" y="1400"/>
                </a:lnTo>
                <a:close/>
              </a:path>
              <a:path fill="darkenLess" w="58600" h="21600">
                <a:moveTo>
                  <a:pt x="5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201" y="20200"/>
                </a:lnTo>
                <a:close/>
              </a:path>
              <a:path fill="lighten" w="5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Zum Anfang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762120" y="5029200"/>
            <a:ext cx="2438280" cy="1066680"/>
          </a:xfrm>
          <a:custGeom>
            <a:avLst/>
            <a:gdLst>
              <a:gd name="textAreaLeft" fmla="*/ 69120 w 2438280"/>
              <a:gd name="textAreaRight" fmla="*/ 2369160 w 2438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9051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ichtig, weiter s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02742_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3682800" cy="34354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5562720" y="5562720"/>
            <a:ext cx="3276360" cy="914400"/>
          </a:xfrm>
          <a:custGeom>
            <a:avLst/>
            <a:gdLst>
              <a:gd name="textAreaLeft" fmla="*/ 59040 w 3276360"/>
              <a:gd name="textAreaRight" fmla="*/ 3217320 w 3276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7372" h="21600">
                <a:moveTo>
                  <a:pt x="0" y="0"/>
                </a:moveTo>
                <a:lnTo>
                  <a:pt x="77372" y="0"/>
                </a:lnTo>
                <a:lnTo>
                  <a:pt x="77372" y="21600"/>
                </a:lnTo>
                <a:lnTo>
                  <a:pt x="0" y="21600"/>
                </a:lnTo>
                <a:close/>
              </a:path>
              <a:path fill="lightenLess" w="77372" h="21600">
                <a:moveTo>
                  <a:pt x="0" y="0"/>
                </a:moveTo>
                <a:lnTo>
                  <a:pt x="77372" y="0"/>
                </a:lnTo>
                <a:lnTo>
                  <a:pt x="75972" y="1400"/>
                </a:lnTo>
                <a:lnTo>
                  <a:pt x="1400" y="1400"/>
                </a:lnTo>
                <a:close/>
              </a:path>
              <a:path fill="darken" w="77372" h="21600">
                <a:moveTo>
                  <a:pt x="77372" y="0"/>
                </a:moveTo>
                <a:lnTo>
                  <a:pt x="77372" y="21600"/>
                </a:lnTo>
                <a:lnTo>
                  <a:pt x="75972" y="20200"/>
                </a:lnTo>
                <a:lnTo>
                  <a:pt x="75972" y="1400"/>
                </a:lnTo>
                <a:close/>
              </a:path>
              <a:path fill="darkenLess" w="77372" h="21600">
                <a:moveTo>
                  <a:pt x="77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72" y="20200"/>
                </a:lnTo>
                <a:close/>
              </a:path>
              <a:path fill="lighten" w="77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9360" y="762120"/>
            <a:ext cx="604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eider falsc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j0079100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40200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2743200" y="5410080"/>
            <a:ext cx="3276720" cy="914400"/>
          </a:xfrm>
          <a:custGeom>
            <a:avLst/>
            <a:gdLst>
              <a:gd name="textAreaLeft" fmla="*/ 59040 w 3276720"/>
              <a:gd name="textAreaRight" fmla="*/ 3217680 w 3276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7381" h="21600">
                <a:moveTo>
                  <a:pt x="0" y="0"/>
                </a:moveTo>
                <a:lnTo>
                  <a:pt x="77381" y="0"/>
                </a:lnTo>
                <a:lnTo>
                  <a:pt x="77381" y="21600"/>
                </a:lnTo>
                <a:lnTo>
                  <a:pt x="0" y="21600"/>
                </a:lnTo>
                <a:close/>
              </a:path>
              <a:path fill="lightenLess" w="77381" h="21600">
                <a:moveTo>
                  <a:pt x="0" y="0"/>
                </a:moveTo>
                <a:lnTo>
                  <a:pt x="77381" y="0"/>
                </a:lnTo>
                <a:lnTo>
                  <a:pt x="75981" y="1400"/>
                </a:lnTo>
                <a:lnTo>
                  <a:pt x="1400" y="1400"/>
                </a:lnTo>
                <a:close/>
              </a:path>
              <a:path fill="darken" w="77381" h="21600">
                <a:moveTo>
                  <a:pt x="77381" y="0"/>
                </a:moveTo>
                <a:lnTo>
                  <a:pt x="77381" y="21600"/>
                </a:lnTo>
                <a:lnTo>
                  <a:pt x="75981" y="20200"/>
                </a:lnTo>
                <a:lnTo>
                  <a:pt x="75981" y="1400"/>
                </a:lnTo>
                <a:close/>
              </a:path>
              <a:path fill="darkenLess" w="77381" h="21600">
                <a:moveTo>
                  <a:pt x="7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81" y="20200"/>
                </a:lnTo>
                <a:close/>
              </a:path>
              <a:path fill="lighten" w="7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297180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läuf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34340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an läuft ins Fußball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enne läuft nach H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eop2141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60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62120" y="3429000"/>
            <a:ext cx="7848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hat ein neues Mop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62120" y="480060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hat ein neues Fahr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62120" y="4114800"/>
            <a:ext cx="78483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hat ein neues Moto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145610" descr=""/>
          <p:cNvPicPr/>
          <p:nvPr/>
        </p:nvPicPr>
        <p:blipFill>
          <a:blip r:embed="rId4"/>
          <a:stretch/>
        </p:blipFill>
        <p:spPr>
          <a:xfrm>
            <a:off x="2895480" y="17604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38080" y="419112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zian hat dreihundert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838080" y="487692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hat eintausend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838080" y="350532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vin hat fünfhundert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65556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 flipH="1">
            <a:off x="761400" y="5105520"/>
            <a:ext cx="7848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i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62120" y="441972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Straß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762120" y="3733920"/>
            <a:ext cx="78483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e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685800"/>
            <a:ext cx="2685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38080" y="289548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geht in die Arbe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838080" y="441972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fährt in die Arbe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838080" y="365760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läuft in die Arb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533520"/>
            <a:ext cx="2666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838080" y="411480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tthias malt sehr schöne Au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38080" y="495288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 malt sehr schöne Bä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35268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malt sehr schöne Bi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/>
          <p:cNvPicPr/>
          <p:nvPr/>
        </p:nvPicPr>
        <p:blipFill>
          <a:blip r:embed="rId3"/>
          <a:stretch/>
        </p:blipFill>
        <p:spPr>
          <a:xfrm>
            <a:off x="2362320" y="457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2590920"/>
            <a:ext cx="7712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us ist zehn Jahre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838080" y="4191120"/>
            <a:ext cx="7696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ist ein Jahr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080" y="3429000"/>
            <a:ext cx="769644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nart ist dreizehn Jahre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Y00477_" descr=""/>
          <p:cNvPicPr/>
          <p:nvPr/>
        </p:nvPicPr>
        <p:blipFill>
          <a:blip r:embed="rId3"/>
          <a:stretch/>
        </p:blipFill>
        <p:spPr>
          <a:xfrm>
            <a:off x="4114800" y="685800"/>
            <a:ext cx="8809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SY00465_" descr=""/>
          <p:cNvPicPr/>
          <p:nvPr/>
        </p:nvPicPr>
        <p:blipFill>
          <a:blip r:embed="rId4"/>
          <a:stretch/>
        </p:blipFill>
        <p:spPr>
          <a:xfrm>
            <a:off x="4952880" y="609480"/>
            <a:ext cx="881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85800" y="3276720"/>
            <a:ext cx="7848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schö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4800600"/>
            <a:ext cx="7848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regner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85800" y="403848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sonn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H01266J" descr=""/>
          <p:cNvPicPr/>
          <p:nvPr/>
        </p:nvPicPr>
        <p:blipFill>
          <a:blip r:embed="rId4"/>
          <a:stretch/>
        </p:blipFill>
        <p:spPr>
          <a:xfrm>
            <a:off x="1219320" y="457200"/>
            <a:ext cx="219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5Z</dcterms:created>
  <dc:creator>Gast</dc:creator>
  <dc:description/>
  <dc:language>en-US</dc:language>
  <cp:lastModifiedBy>User</cp:lastModifiedBy>
  <dcterms:modified xsi:type="dcterms:W3CDTF">2008-01-05T16:13:07Z</dcterms:modified>
  <cp:revision>35</cp:revision>
  <dc:subject/>
  <dc:title>PowerPoint-Präsentation</dc:title>
</cp:coreProperties>
</file>