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wmf" ContentType="image/x-wmf"/>
  <Override PartName="/ppt/media/image1.wmf" ContentType="image/x-wmf"/>
  <Override PartName="/ppt/media/image17.jpeg" ContentType="image/jpeg"/>
  <Override PartName="/ppt/media/image14.jpeg" ContentType="image/jpeg"/>
  <Override PartName="/ppt/media/image16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C46-F701-426E-B567-67D3F9D7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9CB-68C5-4E1D-94D8-BA4613C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E0B-D44C-4BFF-853C-F69E7FC3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8FD-5B40-4FE2-9524-96C6E46C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0F0-5843-4C1D-8F39-5EF9B41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175-1A73-4DFF-AD1C-9E32838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1C4-672B-4A78-B2D2-9F66F4B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E5-92D7-4F00-AB5F-173497B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AA3-BBA3-4161-9F4C-A5A6E18B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D24-9278-4B75-8BBE-773F378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DE9-318F-4FA6-AC6F-2069773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7C1-A7EF-4F58-9751-1796CBC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1B0-7A93-4B02-8F4F-49AFA155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on Tiz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996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2052360" cy="2140200"/>
          </a:xfrm>
          <a:prstGeom prst="rect">
            <a:avLst/>
          </a:prstGeom>
          <a:ln w="0">
            <a:noFill/>
          </a:ln>
        </p:spPr>
      </p:pic>
      <p:pic>
        <p:nvPicPr>
          <p:cNvPr id="44" name="BS00554_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2146320" cy="1873440"/>
          </a:xfrm>
          <a:prstGeom prst="rect">
            <a:avLst/>
          </a:prstGeom>
          <a:ln w="0">
            <a:noFill/>
          </a:ln>
        </p:spPr>
      </p:pic>
      <p:pic>
        <p:nvPicPr>
          <p:cNvPr id="45" name="BD05969_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2082960" cy="266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45720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3352680" y="5562720"/>
            <a:ext cx="2667240" cy="990360"/>
          </a:xfrm>
          <a:custGeom>
            <a:avLst/>
            <a:gdLst>
              <a:gd name="textAreaLeft" fmla="*/ 77760 w 2667240"/>
              <a:gd name="textAreaRight" fmla="*/ 2589480 w 2667240"/>
              <a:gd name="textAreaTop" fmla="*/ 77760 h 990360"/>
              <a:gd name="textAreaBottom" fmla="*/ 912600 h 990360"/>
            </a:gdLst>
            <a:ahLst/>
            <a:rect l="textAreaLeft" t="textAreaTop" r="textAreaRight" b="textAreaBottom"/>
            <a:pathLst>
              <a:path w="58160" h="21600">
                <a:moveTo>
                  <a:pt x="0" y="0"/>
                </a:moveTo>
                <a:lnTo>
                  <a:pt x="58160" y="0"/>
                </a:lnTo>
                <a:lnTo>
                  <a:pt x="58160" y="21600"/>
                </a:lnTo>
                <a:lnTo>
                  <a:pt x="0" y="21600"/>
                </a:lnTo>
                <a:close/>
              </a:path>
              <a:path fill="lightenLess" w="58160" h="21600">
                <a:moveTo>
                  <a:pt x="0" y="0"/>
                </a:moveTo>
                <a:lnTo>
                  <a:pt x="58160" y="0"/>
                </a:lnTo>
                <a:lnTo>
                  <a:pt x="56464" y="1696"/>
                </a:lnTo>
                <a:lnTo>
                  <a:pt x="1696" y="1696"/>
                </a:lnTo>
                <a:close/>
              </a:path>
              <a:path fill="darken" w="58160" h="21600">
                <a:moveTo>
                  <a:pt x="58160" y="0"/>
                </a:moveTo>
                <a:lnTo>
                  <a:pt x="58160" y="21600"/>
                </a:lnTo>
                <a:lnTo>
                  <a:pt x="56464" y="19904"/>
                </a:lnTo>
                <a:lnTo>
                  <a:pt x="56464" y="1696"/>
                </a:lnTo>
                <a:close/>
              </a:path>
              <a:path fill="darkenLess" w="58160" h="21600">
                <a:moveTo>
                  <a:pt x="58160" y="21600"/>
                </a:moveTo>
                <a:lnTo>
                  <a:pt x="0" y="21600"/>
                </a:lnTo>
                <a:lnTo>
                  <a:pt x="1696" y="19904"/>
                </a:lnTo>
                <a:lnTo>
                  <a:pt x="56464" y="19904"/>
                </a:lnTo>
                <a:close/>
              </a:path>
              <a:path fill="lighten" w="58160" h="21600">
                <a:moveTo>
                  <a:pt x="0" y="21600"/>
                </a:moveTo>
                <a:lnTo>
                  <a:pt x="0" y="0"/>
                </a:lnTo>
                <a:lnTo>
                  <a:pt x="1696" y="1696"/>
                </a:lnTo>
                <a:lnTo>
                  <a:pt x="1696" y="199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172200" y="5562720"/>
            <a:ext cx="2666880" cy="990360"/>
          </a:xfrm>
          <a:custGeom>
            <a:avLst/>
            <a:gdLst>
              <a:gd name="textAreaLeft" fmla="*/ 77760 w 2666880"/>
              <a:gd name="textAreaRight" fmla="*/ 2589120 w 2666880"/>
              <a:gd name="textAreaTop" fmla="*/ 77760 h 990360"/>
              <a:gd name="textAreaBottom" fmla="*/ 912600 h 990360"/>
            </a:gdLst>
            <a:ahLst/>
            <a:rect l="textAreaLeft" t="textAreaTop" r="textAreaRight" b="textAreaBottom"/>
            <a:pathLst>
              <a:path w="58152" h="21600">
                <a:moveTo>
                  <a:pt x="0" y="0"/>
                </a:moveTo>
                <a:lnTo>
                  <a:pt x="58152" y="0"/>
                </a:lnTo>
                <a:lnTo>
                  <a:pt x="58152" y="21600"/>
                </a:lnTo>
                <a:lnTo>
                  <a:pt x="0" y="21600"/>
                </a:lnTo>
                <a:close/>
              </a:path>
              <a:path fill="lightenLess" w="58152" h="21600">
                <a:moveTo>
                  <a:pt x="0" y="0"/>
                </a:moveTo>
                <a:lnTo>
                  <a:pt x="58152" y="0"/>
                </a:lnTo>
                <a:lnTo>
                  <a:pt x="56456" y="1696"/>
                </a:lnTo>
                <a:lnTo>
                  <a:pt x="1696" y="1696"/>
                </a:lnTo>
                <a:close/>
              </a:path>
              <a:path fill="darken" w="58152" h="21600">
                <a:moveTo>
                  <a:pt x="58152" y="0"/>
                </a:moveTo>
                <a:lnTo>
                  <a:pt x="58152" y="21600"/>
                </a:lnTo>
                <a:lnTo>
                  <a:pt x="56456" y="19904"/>
                </a:lnTo>
                <a:lnTo>
                  <a:pt x="56456" y="1696"/>
                </a:lnTo>
                <a:close/>
              </a:path>
              <a:path fill="darkenLess" w="58152" h="21600">
                <a:moveTo>
                  <a:pt x="58152" y="21600"/>
                </a:moveTo>
                <a:lnTo>
                  <a:pt x="0" y="21600"/>
                </a:lnTo>
                <a:lnTo>
                  <a:pt x="1696" y="19904"/>
                </a:lnTo>
                <a:lnTo>
                  <a:pt x="56456" y="19904"/>
                </a:lnTo>
                <a:close/>
              </a:path>
              <a:path fill="lighten" w="58152" h="21600">
                <a:moveTo>
                  <a:pt x="0" y="21600"/>
                </a:moveTo>
                <a:lnTo>
                  <a:pt x="0" y="0"/>
                </a:lnTo>
                <a:lnTo>
                  <a:pt x="1696" y="1696"/>
                </a:lnTo>
                <a:lnTo>
                  <a:pt x="1696" y="199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Uhr ist ge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609480" y="4191120"/>
            <a:ext cx="8153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Uhr ist r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609480" y="4952880"/>
            <a:ext cx="81536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Uhr ist grü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576c44495279625643334a59345157494f4b41-150x188-0-0" descr=""/>
          <p:cNvPicPr/>
          <p:nvPr/>
        </p:nvPicPr>
        <p:blipFill>
          <a:blip r:embed="rId4"/>
          <a:stretch/>
        </p:blipFill>
        <p:spPr>
          <a:xfrm>
            <a:off x="3505320" y="685800"/>
            <a:ext cx="1714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felsaft schmeckt sehr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ngensaft schmeckt nicht so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6728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ubensaft schmeckt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80px-Oranges_and_orange_juice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1905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495288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ampe ist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ampe ist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71500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ampe ist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831lampe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21733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18148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wäscht seine Händ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4197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e wäscht ihre Ha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94360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an wäscht sein Gesi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D06603_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51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50292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tto macht keinen St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ter macht einen St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7913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tthias traut sich keinen St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pannung_Artisten3_180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2438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3520" y="4572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per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457200"/>
            <a:ext cx="5639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les geschaff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AN02034_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946240" cy="4038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5410080" y="3048120"/>
            <a:ext cx="2667240" cy="990360"/>
          </a:xfrm>
          <a:custGeom>
            <a:avLst/>
            <a:gdLst>
              <a:gd name="textAreaLeft" fmla="*/ 77760 w 2667240"/>
              <a:gd name="textAreaRight" fmla="*/ 2589480 w 2667240"/>
              <a:gd name="textAreaTop" fmla="*/ 77760 h 990360"/>
              <a:gd name="textAreaBottom" fmla="*/ 912600 h 990360"/>
            </a:gdLst>
            <a:ahLst/>
            <a:rect l="textAreaLeft" t="textAreaTop" r="textAreaRight" b="textAreaBottom"/>
            <a:pathLst>
              <a:path w="58160" h="21600">
                <a:moveTo>
                  <a:pt x="0" y="0"/>
                </a:moveTo>
                <a:lnTo>
                  <a:pt x="58160" y="0"/>
                </a:lnTo>
                <a:lnTo>
                  <a:pt x="58160" y="21600"/>
                </a:lnTo>
                <a:lnTo>
                  <a:pt x="0" y="21600"/>
                </a:lnTo>
                <a:close/>
              </a:path>
              <a:path fill="lightenLess" w="58160" h="21600">
                <a:moveTo>
                  <a:pt x="0" y="0"/>
                </a:moveTo>
                <a:lnTo>
                  <a:pt x="58160" y="0"/>
                </a:lnTo>
                <a:lnTo>
                  <a:pt x="56464" y="1696"/>
                </a:lnTo>
                <a:lnTo>
                  <a:pt x="1696" y="1696"/>
                </a:lnTo>
                <a:close/>
              </a:path>
              <a:path fill="darken" w="58160" h="21600">
                <a:moveTo>
                  <a:pt x="58160" y="0"/>
                </a:moveTo>
                <a:lnTo>
                  <a:pt x="58160" y="21600"/>
                </a:lnTo>
                <a:lnTo>
                  <a:pt x="56464" y="19904"/>
                </a:lnTo>
                <a:lnTo>
                  <a:pt x="56464" y="1696"/>
                </a:lnTo>
                <a:close/>
              </a:path>
              <a:path fill="darkenLess" w="58160" h="21600">
                <a:moveTo>
                  <a:pt x="58160" y="21600"/>
                </a:moveTo>
                <a:lnTo>
                  <a:pt x="0" y="21600"/>
                </a:lnTo>
                <a:lnTo>
                  <a:pt x="1696" y="19904"/>
                </a:lnTo>
                <a:lnTo>
                  <a:pt x="56464" y="19904"/>
                </a:lnTo>
                <a:close/>
              </a:path>
              <a:path fill="lighten" w="58160" h="21600">
                <a:moveTo>
                  <a:pt x="0" y="21600"/>
                </a:moveTo>
                <a:lnTo>
                  <a:pt x="0" y="0"/>
                </a:lnTo>
                <a:lnTo>
                  <a:pt x="1696" y="1696"/>
                </a:lnTo>
                <a:lnTo>
                  <a:pt x="1696" y="199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4419720" y="5105520"/>
            <a:ext cx="4419360" cy="1143000"/>
          </a:xfrm>
          <a:custGeom>
            <a:avLst/>
            <a:gdLst>
              <a:gd name="textAreaLeft" fmla="*/ 73800 w 4419360"/>
              <a:gd name="textAreaRight" fmla="*/ 4345560 w 4419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83496" h="21600">
                <a:moveTo>
                  <a:pt x="0" y="0"/>
                </a:moveTo>
                <a:lnTo>
                  <a:pt x="83496" y="0"/>
                </a:lnTo>
                <a:lnTo>
                  <a:pt x="83496" y="21600"/>
                </a:lnTo>
                <a:lnTo>
                  <a:pt x="0" y="21600"/>
                </a:lnTo>
                <a:close/>
              </a:path>
              <a:path fill="lightenLess" w="83496" h="21600">
                <a:moveTo>
                  <a:pt x="0" y="0"/>
                </a:moveTo>
                <a:lnTo>
                  <a:pt x="83496" y="0"/>
                </a:lnTo>
                <a:lnTo>
                  <a:pt x="82096" y="1400"/>
                </a:lnTo>
                <a:lnTo>
                  <a:pt x="1400" y="1400"/>
                </a:lnTo>
                <a:close/>
              </a:path>
              <a:path fill="darken" w="83496" h="21600">
                <a:moveTo>
                  <a:pt x="83496" y="0"/>
                </a:moveTo>
                <a:lnTo>
                  <a:pt x="83496" y="21600"/>
                </a:lnTo>
                <a:lnTo>
                  <a:pt x="82096" y="20200"/>
                </a:lnTo>
                <a:lnTo>
                  <a:pt x="82096" y="1400"/>
                </a:lnTo>
                <a:close/>
              </a:path>
              <a:path fill="darkenLess" w="83496" h="21600">
                <a:moveTo>
                  <a:pt x="83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096" y="20200"/>
                </a:lnTo>
                <a:close/>
              </a:path>
              <a:path fill="lighten" w="83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7621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lax"/>
              </a:rPr>
              <a:t>Richtig, weiter s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E02742_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343400" cy="43498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019920" y="5715000"/>
            <a:ext cx="2743200" cy="762120"/>
          </a:xfrm>
          <a:custGeom>
            <a:avLst/>
            <a:gdLst>
              <a:gd name="textAreaLeft" fmla="*/ 90360 w 2743200"/>
              <a:gd name="textAreaRight" fmla="*/ 2652840 w 2743200"/>
              <a:gd name="textAreaTop" fmla="*/ 90360 h 762120"/>
              <a:gd name="textAreaBottom" fmla="*/ 67176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5156" y="2565"/>
                </a:lnTo>
                <a:lnTo>
                  <a:pt x="2565" y="2565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5156" y="19035"/>
                </a:lnTo>
                <a:lnTo>
                  <a:pt x="75156" y="2565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2565" y="19035"/>
                </a:lnTo>
                <a:lnTo>
                  <a:pt x="75156" y="19035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2565" y="2565"/>
                </a:lnTo>
                <a:lnTo>
                  <a:pt x="2565" y="190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Zurück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380880"/>
            <a:ext cx="1218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ider falsch, versuch‘s noch einma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j0079100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886200" cy="363996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019920" y="5715000"/>
            <a:ext cx="2743200" cy="762120"/>
          </a:xfrm>
          <a:custGeom>
            <a:avLst/>
            <a:gdLst>
              <a:gd name="textAreaLeft" fmla="*/ 90360 w 2743200"/>
              <a:gd name="textAreaRight" fmla="*/ 2652840 w 2743200"/>
              <a:gd name="textAreaTop" fmla="*/ 90360 h 762120"/>
              <a:gd name="textAreaBottom" fmla="*/ 67176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5156" y="2565"/>
                </a:lnTo>
                <a:lnTo>
                  <a:pt x="2565" y="2565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5156" y="19035"/>
                </a:lnTo>
                <a:lnTo>
                  <a:pt x="75156" y="2565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2565" y="19035"/>
                </a:lnTo>
                <a:lnTo>
                  <a:pt x="75156" y="19035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2565" y="2565"/>
                </a:lnTo>
                <a:lnTo>
                  <a:pt x="2565" y="190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Zurück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380880" y="48006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ist im Fußballtrai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80880" y="403848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geht in den Sup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80880" y="556272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geht spazie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0998_" descr=""/>
          <p:cNvPicPr/>
          <p:nvPr/>
        </p:nvPicPr>
        <p:blipFill>
          <a:blip r:embed="rId4"/>
          <a:stretch/>
        </p:blipFill>
        <p:spPr>
          <a:xfrm>
            <a:off x="2362320" y="533520"/>
            <a:ext cx="2876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304920" y="4800600"/>
            <a:ext cx="83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kauft einen neuen BM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04920" y="4038480"/>
            <a:ext cx="8305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kauft einen  Ferra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304920" y="5562720"/>
            <a:ext cx="83055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kauft einen Au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errariEnzo" descr=""/>
          <p:cNvPicPr/>
          <p:nvPr/>
        </p:nvPicPr>
        <p:blipFill>
          <a:blip r:embed="rId4"/>
          <a:stretch/>
        </p:blipFill>
        <p:spPr>
          <a:xfrm>
            <a:off x="1828800" y="380880"/>
            <a:ext cx="48769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457200" y="487692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fährt mit seinem Mo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457200" y="419112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fährt mit seinem Moto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457200" y="556272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fährt mit seinem Fah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11791_0_1_2_trident%20750_Image%20credits%20-%20MotoRat" descr=""/>
          <p:cNvPicPr/>
          <p:nvPr/>
        </p:nvPicPr>
        <p:blipFill>
          <a:blip r:embed="rId4"/>
          <a:stretch/>
        </p:blipFill>
        <p:spPr>
          <a:xfrm>
            <a:off x="2057400" y="533520"/>
            <a:ext cx="4572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457200" y="50292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457200" y="4114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e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ferd" descr=""/>
          <p:cNvPicPr/>
          <p:nvPr/>
        </p:nvPicPr>
        <p:blipFill>
          <a:blip r:embed="rId4"/>
          <a:stretch/>
        </p:blipFill>
        <p:spPr>
          <a:xfrm>
            <a:off x="2362320" y="380880"/>
            <a:ext cx="40575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che Kinder sind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che Kinder sind dü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che Kinder sind d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inder" descr=""/>
          <p:cNvPicPr/>
          <p:nvPr/>
        </p:nvPicPr>
        <p:blipFill>
          <a:blip r:embed="rId4"/>
          <a:stretch/>
        </p:blipFill>
        <p:spPr>
          <a:xfrm>
            <a:off x="2514600" y="380880"/>
            <a:ext cx="24224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533520" y="518148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an schießt kein 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33520" y="43434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zian schießt vier Tore 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533520" y="60199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vin schießt ein 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fussballtor_160" descr=""/>
          <p:cNvPicPr/>
          <p:nvPr/>
        </p:nvPicPr>
        <p:blipFill>
          <a:blip r:embed="rId4"/>
          <a:stretch/>
        </p:blipFill>
        <p:spPr>
          <a:xfrm>
            <a:off x="1752480" y="1295280"/>
            <a:ext cx="2819520" cy="1868760"/>
          </a:xfrm>
          <a:prstGeom prst="rect">
            <a:avLst/>
          </a:prstGeom>
          <a:ln w="0">
            <a:noFill/>
          </a:ln>
        </p:spPr>
      </p:pic>
      <p:pic>
        <p:nvPicPr>
          <p:cNvPr id="74" name="33553L" descr=""/>
          <p:cNvPicPr/>
          <p:nvPr/>
        </p:nvPicPr>
        <p:blipFill>
          <a:blip r:embed="rId5"/>
          <a:stretch/>
        </p:blipFill>
        <p:spPr>
          <a:xfrm>
            <a:off x="5943600" y="1143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Kaufland ist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45720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EDEKA ist nicht so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457200" y="586728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Netto ist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051013_mare_Kaufland" descr=""/>
          <p:cNvPicPr/>
          <p:nvPr/>
        </p:nvPicPr>
        <p:blipFill>
          <a:blip r:embed="rId4"/>
          <a:stretch/>
        </p:blipFill>
        <p:spPr>
          <a:xfrm>
            <a:off x="2438280" y="762120"/>
            <a:ext cx="2590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880" y="495288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dia geht 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8088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us ist im Hand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80880" y="57913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ob spielt Tischten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ferdesport" descr=""/>
          <p:cNvPicPr/>
          <p:nvPr/>
        </p:nvPicPr>
        <p:blipFill>
          <a:blip r:embed="rId4"/>
          <a:stretch/>
        </p:blipFill>
        <p:spPr>
          <a:xfrm>
            <a:off x="2438280" y="60948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7Z</dcterms:created>
  <dc:creator>Gast</dc:creator>
  <dc:description/>
  <dc:language>en-US</dc:language>
  <cp:lastModifiedBy>User</cp:lastModifiedBy>
  <dcterms:modified xsi:type="dcterms:W3CDTF">2008-01-05T11:49:45Z</dcterms:modified>
  <cp:revision>47</cp:revision>
  <dc:subject/>
  <dc:title>PowerPoint-Präsentation</dc:title>
</cp:coreProperties>
</file>