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0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42C-45C0-489E-8843-C0A5EB6A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55E-0E58-46FD-A2E1-6DF2C6A8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6E1-4857-478B-8E6D-B56C7E4D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DFC-3516-4101-BC90-F152A114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072-B328-448C-B030-7F864ABD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792-AA5F-4521-A9B4-D273B1B4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19D-87EF-4465-809F-2BFC0940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74E-0D57-43FE-9D45-D1E5A4D5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98E-1012-47E1-8096-70803685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D88-D63B-401F-A91C-BE31AD3E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0F8-1E71-400F-AC1A-C8B53CF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C11-7621-4331-8DDE-323D63E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4F75-DCD4-4860-B5D0-74AC15477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hyperlink" Target="http://images.google.de/imgres?imgurl=http://www.mcpusch.de/2004/bilder/155_5529_regen.jpg&amp;imgrefurl=http://www.mcpusch.de/2004/djamdoudi.html&amp;h=768&amp;w=1024&amp;sz=64&amp;hl=de&amp;start=14&amp;tbnid=NHbfXQmrKRzInM:&amp;tbnh=113&amp;tbnw=150&amp;prev=/images%3Fq%3Dregen%26gbv%3D2%26svnum%3D10%26hl%3Dde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hyperlink" Target="http://images.google.de/imgres?imgurl=http://www.schoenherr.de/shop/productimage/161.jpg&amp;imgrefurl=http://www.schoenherr.de/shop/product/433.html&amp;h=234&amp;w=234&amp;sz=6&amp;hl=de&amp;start=11&amp;tbnid=cTPtXWhMzB47PM:&amp;tbnh=109&amp;tbnw=109&amp;prev=/images%3Fq%3Dtafeln%26gbv%3D2%26svnum%3D10%26hl%3Dd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hyperlink" Target="http://www.wdr.de/tv/westpol/img/2006/08/20060827_lehrer_400q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hyperlink" Target="http://images.google.de/imgres?imgurl=http://www.slotracingbochum.de/Clubbilder2004/Autos1zu32/Saleen/SaleenUdoFly2.jpg&amp;imgrefurl=http://www.slotracingbochum.de/autos.htm&amp;h=400&amp;w=500&amp;sz=182&amp;hl=de&amp;start=36&amp;tbnid=slQB3zplgk8IoM:&amp;tbnh=104&amp;tbnw=130&amp;prev=/images%3Fq%3DAutos%26start%3D20%26gbv%3D2%26ndsp%3D20%26svnum%3D10%26hl%3Dde%26sa%3DN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685800"/>
            <a:ext cx="498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esetrai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286000"/>
            <a:ext cx="6019920" cy="45972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on</a:t>
            </a:r>
            <a:r>
              <a:rPr b="0" lang="en-US" sz="2400" spc="-1" strike="noStrike">
                <a:solidFill>
                  <a:srgbClr val="000000"/>
                </a:solidFill>
                <a:latin typeface="Niagara Soli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risto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649_" descr=""/>
          <p:cNvPicPr/>
          <p:nvPr/>
        </p:nvPicPr>
        <p:blipFill>
          <a:blip r:embed="rId1"/>
          <a:stretch/>
        </p:blipFill>
        <p:spPr>
          <a:xfrm>
            <a:off x="3505320" y="3352680"/>
            <a:ext cx="20574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380880" y="5715000"/>
            <a:ext cx="830592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außen regnet es nic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80880" y="4267080"/>
            <a:ext cx="830592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Draußen regent es vi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380880" y="2819520"/>
            <a:ext cx="830592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außen regnet es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609480"/>
            <a:ext cx="22100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124080"/>
            <a:ext cx="830592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Tafeln sind blau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380880" y="548640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Tafeln sind grün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380880" y="434340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Tafeln sind weiß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457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571500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agger wird reparie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49568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agger reißt ein Haus e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20040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agger hebt ein Loch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5b201c9d-6527-4002-a9b0-4857c60a7818-2006_7_31_16_35_20_rdax_300x198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8195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27672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Sonne ist nicht zu se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34340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Sonne strahl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41008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Sonne geht gerade u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H01265U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438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579132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Adler landet im G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26708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Adler flieg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66688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Adler sitzt auf einem Ba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N02370_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0685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380880"/>
            <a:ext cx="8076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u hast alles geschaff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1" name="PE02742_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286000" cy="21319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609480" y="495288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Zum Anfa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endshow"/>
          </p:cNvPr>
          <p:cNvSpPr/>
          <p:nvPr/>
        </p:nvSpPr>
        <p:spPr>
          <a:xfrm>
            <a:off x="5181480" y="4952880"/>
            <a:ext cx="3124440" cy="1067040"/>
          </a:xfrm>
          <a:custGeom>
            <a:avLst/>
            <a:gdLst>
              <a:gd name="textAreaLeft" fmla="*/ 69120 w 3124440"/>
              <a:gd name="textAreaRight" fmla="*/ 3055320 w 31244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3234" h="21600">
                <a:moveTo>
                  <a:pt x="0" y="0"/>
                </a:moveTo>
                <a:lnTo>
                  <a:pt x="63234" y="0"/>
                </a:lnTo>
                <a:lnTo>
                  <a:pt x="63234" y="21600"/>
                </a:lnTo>
                <a:lnTo>
                  <a:pt x="0" y="21600"/>
                </a:lnTo>
                <a:close/>
              </a:path>
              <a:path fill="lightenLess" w="63234" h="21600">
                <a:moveTo>
                  <a:pt x="0" y="0"/>
                </a:moveTo>
                <a:lnTo>
                  <a:pt x="63234" y="0"/>
                </a:lnTo>
                <a:lnTo>
                  <a:pt x="61834" y="1400"/>
                </a:lnTo>
                <a:lnTo>
                  <a:pt x="1400" y="1400"/>
                </a:lnTo>
                <a:close/>
              </a:path>
              <a:path fill="darken" w="63234" h="21600">
                <a:moveTo>
                  <a:pt x="63234" y="0"/>
                </a:moveTo>
                <a:lnTo>
                  <a:pt x="63234" y="21600"/>
                </a:lnTo>
                <a:lnTo>
                  <a:pt x="61834" y="20200"/>
                </a:lnTo>
                <a:lnTo>
                  <a:pt x="61834" y="1400"/>
                </a:lnTo>
                <a:close/>
              </a:path>
              <a:path fill="darkenLess" w="63234" h="21600">
                <a:moveTo>
                  <a:pt x="63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34" y="20200"/>
                </a:lnTo>
                <a:close/>
              </a:path>
              <a:path fill="lighten" w="63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E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chti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eiter so 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E02742_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679840" cy="249876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2209680" y="541008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 Black"/>
              </a:rPr>
              <a:t>Zurück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S01181_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133360" cy="20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952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ier‘s noch einmal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2209680" y="5410080"/>
            <a:ext cx="4800600" cy="1143000"/>
          </a:xfrm>
          <a:custGeom>
            <a:avLst/>
            <a:gdLst>
              <a:gd name="textAreaLeft" fmla="*/ 145800 w 4800600"/>
              <a:gd name="textAreaRight" fmla="*/ 4654800 w 4800600"/>
              <a:gd name="textAreaTop" fmla="*/ 145800 h 1143000"/>
              <a:gd name="textAreaBottom" fmla="*/ 997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7938" y="2760"/>
                </a:lnTo>
                <a:lnTo>
                  <a:pt x="2760" y="276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7938" y="18840"/>
                </a:lnTo>
                <a:lnTo>
                  <a:pt x="87938" y="276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2760" y="18840"/>
                </a:lnTo>
                <a:lnTo>
                  <a:pt x="87938" y="1884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2760" y="2760"/>
                </a:lnTo>
                <a:lnTo>
                  <a:pt x="2760" y="1884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 Black"/>
              </a:rPr>
              <a:t>Zurück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457200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Kran steht auf der Straß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58128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Kran fährt auf der Straß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380880" y="5562720"/>
            <a:ext cx="8382240" cy="459720"/>
          </a:xfrm>
          <a:prstGeom prst="rect">
            <a:avLst/>
          </a:prstGeom>
          <a:gradFill rotWithShape="0">
            <a:gsLst>
              <a:gs pos="0">
                <a:srgbClr val="2309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Kran wird abgeba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5564e9ba-796c-45bf-9e0f-30acc1a51eeb-2007_2_21_13_33_51_rdax_300x450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133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380880" y="579132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Hund spring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80880" y="3429000"/>
            <a:ext cx="8382240" cy="459720"/>
          </a:xfrm>
          <a:prstGeom prst="rect">
            <a:avLst/>
          </a:prstGeom>
          <a:gradFill rotWithShape="0">
            <a:gsLst>
              <a:gs pos="0">
                <a:srgbClr val="2309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Hund säuft Was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80880" y="457200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Hund läuft auf der Straß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7325_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380880" y="4648320"/>
            <a:ext cx="830592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ma kommt früh nach H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80880" y="5715000"/>
            <a:ext cx="8305920" cy="459720"/>
          </a:xfrm>
          <a:prstGeom prst="rect">
            <a:avLst/>
          </a:prstGeom>
          <a:gradFill rotWithShape="0">
            <a:gsLst>
              <a:gs pos="0">
                <a:srgbClr val="2309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ma  geht einkauf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380880" y="3505320"/>
            <a:ext cx="830592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ma kommt spät nach Ha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D07158_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973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380880" y="571500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Computer ist kl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380880" y="3505320"/>
            <a:ext cx="8382240" cy="459720"/>
          </a:xfrm>
          <a:prstGeom prst="rect">
            <a:avLst/>
          </a:prstGeom>
          <a:gradFill rotWithShape="0">
            <a:gsLst>
              <a:gs pos="0">
                <a:srgbClr val="2309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Computer ist gro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380880" y="464832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Computer ist a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recn_390_closed" descr=""/>
          <p:cNvPicPr/>
          <p:nvPr/>
        </p:nvPicPr>
        <p:blipFill>
          <a:blip r:embed="rId4"/>
          <a:stretch/>
        </p:blipFill>
        <p:spPr>
          <a:xfrm>
            <a:off x="380880" y="685800"/>
            <a:ext cx="266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457200" y="5638680"/>
            <a:ext cx="82296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Lehrer schreibt nichts an die Taf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457200" y="3429000"/>
            <a:ext cx="82296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Lehrer schreibt viel an die Tafe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457200" y="4572000"/>
            <a:ext cx="82296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Lehrer zeigt etwas an der Taf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533520"/>
            <a:ext cx="2286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533520" y="5715000"/>
            <a:ext cx="82296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agger ist ganz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533520" y="4724280"/>
            <a:ext cx="82296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agger ist im Steinbr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533520" y="3581280"/>
            <a:ext cx="82296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agger ist neu und unbenutzt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738eb25d-e085-4e03-956a-b2fadeac149c-2003_7_9_13_43_10_rdax_300x269" descr=""/>
          <p:cNvPicPr/>
          <p:nvPr/>
        </p:nvPicPr>
        <p:blipFill>
          <a:blip r:embed="rId4"/>
          <a:stretch/>
        </p:blipFill>
        <p:spPr>
          <a:xfrm>
            <a:off x="609480" y="380880"/>
            <a:ext cx="30481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80880" y="5486400"/>
            <a:ext cx="81536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Katze sitzt in der Woh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80880" y="3276720"/>
            <a:ext cx="82296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Katze frisst ihr Fu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380880" y="4419720"/>
            <a:ext cx="82296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Katze sitzt auf einem Bau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E04046_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20667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380880" y="5791320"/>
            <a:ext cx="82296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s Auto ist ein Oldti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380880" y="4572000"/>
            <a:ext cx="82296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s Auto ist nicht schnell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380880" y="3276720"/>
            <a:ext cx="82296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s Auto ist sehr schnell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533520"/>
            <a:ext cx="274320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6:47Z</dcterms:created>
  <dc:creator>Gast</dc:creator>
  <dc:description/>
  <dc:language>en-US</dc:language>
  <cp:lastModifiedBy>User</cp:lastModifiedBy>
  <dcterms:modified xsi:type="dcterms:W3CDTF">2008-01-05T20:50:52Z</dcterms:modified>
  <cp:revision>50</cp:revision>
  <dc:subject/>
  <dc:title>PowerPoint-Präsentation</dc:title>
</cp:coreProperties>
</file>