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6.wmf" ContentType="image/x-wmf"/>
  <Override PartName="/ppt/media/image23.png" ContentType="image/png"/>
  <Override PartName="/ppt/media/image22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5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B88-108A-45AC-9162-3EAC9F6A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D76-3A28-48B8-9D22-DE5B5442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167-B739-4501-AC55-FE715B10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1306-B198-4589-905B-FC7666BA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3FC1-F509-4271-971C-DC775E2F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B2C-50AD-4213-BC1A-6C3F75B7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377-AF3E-4F95-B30D-61E7BBE2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C38-6B63-45B0-841D-5AD6FD6D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DBF-5347-42A0-906C-F87D2C5C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DD7-EBB6-46F2-8854-213DC394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9A7-87BC-4306-830A-1B1062FD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F3E-7457-432F-B9E0-C054CE7E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34A7-BB66-4D61-8640-8FBE87613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hyperlink" Target="http://images.google.de/imgres?imgurl=http://k43.pbase.com/u25/dannysmythe/upload/40709822.Kiwi.jpg&amp;imgrefurl=http://www.nachhilfe-portal.com/viewthread.php%3Ftid%3D249&amp;h=782&amp;w=782&amp;sz=547&amp;hl=de&amp;start=1&amp;tbnid=-GEcIUVusNQS-M:&amp;tbnh=143&amp;tbnw=143&amp;prev=/images%3Fq%3Dkiwi%26gbv%3D2%26svnum%3D10%26hl%3Dde%26sa%3DG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838080"/>
            <a:ext cx="6629400" cy="320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279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Leseübung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1600200"/>
            <a:ext cx="213336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lloon"/>
              </a:rPr>
              <a:t>Von Soph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06210_" descr=""/>
          <p:cNvPicPr/>
          <p:nvPr/>
        </p:nvPicPr>
        <p:blipFill>
          <a:blip r:embed="rId1"/>
          <a:stretch/>
        </p:blipFill>
        <p:spPr>
          <a:xfrm>
            <a:off x="1752480" y="4240080"/>
            <a:ext cx="2971800" cy="202428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endshow"/>
          </p:cNvPr>
          <p:cNvSpPr/>
          <p:nvPr/>
        </p:nvSpPr>
        <p:spPr>
          <a:xfrm>
            <a:off x="6019920" y="4419720"/>
            <a:ext cx="2590560" cy="990360"/>
          </a:xfrm>
          <a:custGeom>
            <a:avLst/>
            <a:gdLst>
              <a:gd name="textAreaLeft" fmla="*/ 64080 w 2590560"/>
              <a:gd name="textAreaRight" fmla="*/ 2526480 w 25905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56488" h="21600">
                <a:moveTo>
                  <a:pt x="0" y="0"/>
                </a:moveTo>
                <a:lnTo>
                  <a:pt x="56488" y="0"/>
                </a:lnTo>
                <a:lnTo>
                  <a:pt x="56488" y="21600"/>
                </a:lnTo>
                <a:lnTo>
                  <a:pt x="0" y="21600"/>
                </a:lnTo>
                <a:close/>
              </a:path>
              <a:path fill="lightenLess" w="56488" h="21600">
                <a:moveTo>
                  <a:pt x="0" y="0"/>
                </a:moveTo>
                <a:lnTo>
                  <a:pt x="56488" y="0"/>
                </a:lnTo>
                <a:lnTo>
                  <a:pt x="55088" y="1400"/>
                </a:lnTo>
                <a:lnTo>
                  <a:pt x="1400" y="1400"/>
                </a:lnTo>
                <a:close/>
              </a:path>
              <a:path fill="darken" w="56488" h="21600">
                <a:moveTo>
                  <a:pt x="56488" y="0"/>
                </a:moveTo>
                <a:lnTo>
                  <a:pt x="56488" y="21600"/>
                </a:lnTo>
                <a:lnTo>
                  <a:pt x="55088" y="20200"/>
                </a:lnTo>
                <a:lnTo>
                  <a:pt x="55088" y="1400"/>
                </a:lnTo>
                <a:close/>
              </a:path>
              <a:path fill="darkenLess" w="56488" h="21600">
                <a:moveTo>
                  <a:pt x="56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88" y="20200"/>
                </a:lnTo>
                <a:close/>
              </a:path>
              <a:path fill="lighten" w="56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6019920" y="5562720"/>
            <a:ext cx="2590560" cy="990360"/>
          </a:xfrm>
          <a:custGeom>
            <a:avLst/>
            <a:gdLst>
              <a:gd name="textAreaLeft" fmla="*/ 64080 w 2590560"/>
              <a:gd name="textAreaRight" fmla="*/ 2526480 w 25905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56488" h="21600">
                <a:moveTo>
                  <a:pt x="0" y="0"/>
                </a:moveTo>
                <a:lnTo>
                  <a:pt x="56488" y="0"/>
                </a:lnTo>
                <a:lnTo>
                  <a:pt x="56488" y="21600"/>
                </a:lnTo>
                <a:lnTo>
                  <a:pt x="0" y="21600"/>
                </a:lnTo>
                <a:close/>
              </a:path>
              <a:path fill="lightenLess" w="56488" h="21600">
                <a:moveTo>
                  <a:pt x="0" y="0"/>
                </a:moveTo>
                <a:lnTo>
                  <a:pt x="56488" y="0"/>
                </a:lnTo>
                <a:lnTo>
                  <a:pt x="55088" y="1400"/>
                </a:lnTo>
                <a:lnTo>
                  <a:pt x="1400" y="1400"/>
                </a:lnTo>
                <a:close/>
              </a:path>
              <a:path fill="darken" w="56488" h="21600">
                <a:moveTo>
                  <a:pt x="56488" y="0"/>
                </a:moveTo>
                <a:lnTo>
                  <a:pt x="56488" y="21600"/>
                </a:lnTo>
                <a:lnTo>
                  <a:pt x="55088" y="20200"/>
                </a:lnTo>
                <a:lnTo>
                  <a:pt x="55088" y="1400"/>
                </a:lnTo>
                <a:close/>
              </a:path>
              <a:path fill="darkenLess" w="56488" h="21600">
                <a:moveTo>
                  <a:pt x="56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88" y="20200"/>
                </a:lnTo>
                <a:close/>
              </a:path>
              <a:path fill="lighten" w="56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Moritz übernachtet bei Lu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609480" y="43434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Susi geht nicht f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Wir machen 10 Tage Urlau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257800" y="228600"/>
            <a:ext cx="31338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Lena schreibt in Mathe ein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609480" y="44956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Max schreibt eine 2 plus in Deuts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581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Bert schreibt in Mathe eine 2 bis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952880" y="380880"/>
            <a:ext cx="1663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Julians Haare sind strohgel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609480" y="44197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Haare von Christian sind bra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Haare sind blond von E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43000" y="457200"/>
            <a:ext cx="2212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Lennart hat viele Hausaufgaben au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609480" y="43434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Ich habe keine Hausaufgaben au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Peter hat keine Hausaufgaben au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572000" y="685800"/>
            <a:ext cx="19242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Wespe fliegt we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609480" y="45720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Grashüpfer hüpft f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609480" y="37339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Biene fliegt we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315288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Büroklammer ist grün.</a:t>
            </a: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609480" y="44956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Büroklammer ist o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609480" y="35053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Büroklammer ist silbr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90720" y="762120"/>
            <a:ext cx="1820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Maus tut wiederkäu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5720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Schlangen tun wiederkäu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7339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Kühe tun wiederkäu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1320" y="304920"/>
            <a:ext cx="2800080" cy="3076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480" y="3305160"/>
            <a:ext cx="990720" cy="33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743200" y="1905120"/>
            <a:ext cx="25574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Stiefel haben Größe 34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5720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Stiefel haben Größe 3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37339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Stiefel haben Größe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327672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as Eis kostet 75 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609480" y="46483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as Eis kostet 71 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609480" y="38098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as Eis Kostet 70 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90720" y="380880"/>
            <a:ext cx="152388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43000" y="2666880"/>
            <a:ext cx="1219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0,75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Marina hat einen Kanarienvog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5720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Marina hat einen Fros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7339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Marina hat einen Has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3600" y="685800"/>
            <a:ext cx="25909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533520" y="243828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Banane liegt im Obstkorb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533520" y="40384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Apfel liegt im Obstko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533520" y="548640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Kiwi liegt neben dem Obstko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43200" y="2635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Daumenabdruck ist grü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4956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Daumenabdruck ist bl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581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Daumenabdruck ist r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059600" y="990720"/>
            <a:ext cx="1341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b9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295280" y="609480"/>
            <a:ext cx="6553440" cy="1752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725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SUPER, alles richtig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pic>
        <p:nvPicPr>
          <p:cNvPr id="128" name="AN01629_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525920" cy="18129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endshow"/>
          </p:cNvPr>
          <p:cNvSpPr/>
          <p:nvPr/>
        </p:nvSpPr>
        <p:spPr>
          <a:xfrm>
            <a:off x="5791320" y="5486400"/>
            <a:ext cx="2514600" cy="990720"/>
          </a:xfrm>
          <a:custGeom>
            <a:avLst/>
            <a:gdLst>
              <a:gd name="textAreaLeft" fmla="*/ 64080 w 2514600"/>
              <a:gd name="textAreaRight" fmla="*/ 2450520 w 2514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4812" h="21600">
                <a:moveTo>
                  <a:pt x="0" y="0"/>
                </a:moveTo>
                <a:lnTo>
                  <a:pt x="54812" y="0"/>
                </a:lnTo>
                <a:lnTo>
                  <a:pt x="54812" y="21600"/>
                </a:lnTo>
                <a:lnTo>
                  <a:pt x="0" y="21600"/>
                </a:lnTo>
                <a:close/>
              </a:path>
              <a:path fill="lightenLess" w="54812" h="21600">
                <a:moveTo>
                  <a:pt x="0" y="0"/>
                </a:moveTo>
                <a:lnTo>
                  <a:pt x="54812" y="0"/>
                </a:lnTo>
                <a:lnTo>
                  <a:pt x="53412" y="1400"/>
                </a:lnTo>
                <a:lnTo>
                  <a:pt x="1400" y="1400"/>
                </a:lnTo>
                <a:close/>
              </a:path>
              <a:path fill="darken" w="54812" h="21600">
                <a:moveTo>
                  <a:pt x="54812" y="0"/>
                </a:moveTo>
                <a:lnTo>
                  <a:pt x="54812" y="21600"/>
                </a:lnTo>
                <a:lnTo>
                  <a:pt x="53412" y="20200"/>
                </a:lnTo>
                <a:lnTo>
                  <a:pt x="53412" y="1400"/>
                </a:lnTo>
                <a:close/>
              </a:path>
              <a:path fill="darkenLess" w="54812" h="21600">
                <a:moveTo>
                  <a:pt x="54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412" y="20200"/>
                </a:lnTo>
                <a:close/>
              </a:path>
              <a:path fill="lighten" w="54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685800" y="5486400"/>
            <a:ext cx="2590920" cy="990720"/>
          </a:xfrm>
          <a:custGeom>
            <a:avLst/>
            <a:gdLst>
              <a:gd name="textAreaLeft" fmla="*/ 64080 w 2590920"/>
              <a:gd name="textAreaRight" fmla="*/ 2526840 w 2590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6475" h="21600">
                <a:moveTo>
                  <a:pt x="0" y="0"/>
                </a:moveTo>
                <a:lnTo>
                  <a:pt x="56475" y="0"/>
                </a:lnTo>
                <a:lnTo>
                  <a:pt x="56475" y="21600"/>
                </a:lnTo>
                <a:lnTo>
                  <a:pt x="0" y="21600"/>
                </a:lnTo>
                <a:close/>
              </a:path>
              <a:path fill="lightenLess" w="56475" h="21600">
                <a:moveTo>
                  <a:pt x="0" y="0"/>
                </a:moveTo>
                <a:lnTo>
                  <a:pt x="56475" y="0"/>
                </a:lnTo>
                <a:lnTo>
                  <a:pt x="55075" y="1400"/>
                </a:lnTo>
                <a:lnTo>
                  <a:pt x="1400" y="1400"/>
                </a:lnTo>
                <a:close/>
              </a:path>
              <a:path fill="darken" w="56475" h="21600">
                <a:moveTo>
                  <a:pt x="56475" y="0"/>
                </a:moveTo>
                <a:lnTo>
                  <a:pt x="56475" y="21600"/>
                </a:lnTo>
                <a:lnTo>
                  <a:pt x="55075" y="20200"/>
                </a:lnTo>
                <a:lnTo>
                  <a:pt x="55075" y="1400"/>
                </a:lnTo>
                <a:close/>
              </a:path>
              <a:path fill="darkenLess" w="56475" h="21600">
                <a:moveTo>
                  <a:pt x="56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5" y="20200"/>
                </a:lnTo>
                <a:close/>
              </a:path>
              <a:path fill="lighten" w="56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90600" y="474840"/>
            <a:ext cx="573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Lucida Handwriting"/>
              </a:rPr>
              <a:t>PRIMA, weiter so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BD05960_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179520" cy="342720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838080" y="5562720"/>
            <a:ext cx="7467840" cy="990360"/>
          </a:xfrm>
          <a:custGeom>
            <a:avLst/>
            <a:gdLst>
              <a:gd name="textAreaLeft" fmla="*/ 64080 w 7467840"/>
              <a:gd name="textAreaRight" fmla="*/ 7403760 w 7467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62824" h="21600">
                <a:moveTo>
                  <a:pt x="0" y="0"/>
                </a:moveTo>
                <a:lnTo>
                  <a:pt x="162824" y="0"/>
                </a:lnTo>
                <a:lnTo>
                  <a:pt x="162824" y="21600"/>
                </a:lnTo>
                <a:lnTo>
                  <a:pt x="0" y="21600"/>
                </a:lnTo>
                <a:close/>
              </a:path>
              <a:path fill="lightenLess" w="162824" h="21600">
                <a:moveTo>
                  <a:pt x="0" y="0"/>
                </a:moveTo>
                <a:lnTo>
                  <a:pt x="162824" y="0"/>
                </a:lnTo>
                <a:lnTo>
                  <a:pt x="161424" y="1400"/>
                </a:lnTo>
                <a:lnTo>
                  <a:pt x="1400" y="1400"/>
                </a:lnTo>
                <a:close/>
              </a:path>
              <a:path fill="darken" w="162824" h="21600">
                <a:moveTo>
                  <a:pt x="162824" y="0"/>
                </a:moveTo>
                <a:lnTo>
                  <a:pt x="162824" y="21600"/>
                </a:lnTo>
                <a:lnTo>
                  <a:pt x="161424" y="20200"/>
                </a:lnTo>
                <a:lnTo>
                  <a:pt x="161424" y="1400"/>
                </a:lnTo>
                <a:close/>
              </a:path>
              <a:path fill="darkenLess" w="162824" h="21600">
                <a:moveTo>
                  <a:pt x="16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424" y="20200"/>
                </a:lnTo>
                <a:close/>
              </a:path>
              <a:path fill="lighten" w="16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Lucida Handwriting"/>
              </a:rPr>
              <a:t>ZURÜCK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BD05961_" descr=""/>
          <p:cNvPicPr/>
          <p:nvPr/>
        </p:nvPicPr>
        <p:blipFill>
          <a:blip r:embed="rId1"/>
          <a:stretch/>
        </p:blipFill>
        <p:spPr>
          <a:xfrm>
            <a:off x="3218040" y="1835280"/>
            <a:ext cx="2707920" cy="3187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" y="7621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Handwriting"/>
              </a:rPr>
              <a:t>Probier‘s</a:t>
            </a: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Lucida Handwriting"/>
              </a:rPr>
              <a:t>noch einmal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838080" y="5562720"/>
            <a:ext cx="7467840" cy="990360"/>
          </a:xfrm>
          <a:custGeom>
            <a:avLst/>
            <a:gdLst>
              <a:gd name="textAreaLeft" fmla="*/ 64080 w 7467840"/>
              <a:gd name="textAreaRight" fmla="*/ 7403760 w 7467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62824" h="21600">
                <a:moveTo>
                  <a:pt x="0" y="0"/>
                </a:moveTo>
                <a:lnTo>
                  <a:pt x="162824" y="0"/>
                </a:lnTo>
                <a:lnTo>
                  <a:pt x="162824" y="21600"/>
                </a:lnTo>
                <a:lnTo>
                  <a:pt x="0" y="21600"/>
                </a:lnTo>
                <a:close/>
              </a:path>
              <a:path fill="lightenLess" w="162824" h="21600">
                <a:moveTo>
                  <a:pt x="0" y="0"/>
                </a:moveTo>
                <a:lnTo>
                  <a:pt x="162824" y="0"/>
                </a:lnTo>
                <a:lnTo>
                  <a:pt x="161424" y="1400"/>
                </a:lnTo>
                <a:lnTo>
                  <a:pt x="1400" y="1400"/>
                </a:lnTo>
                <a:close/>
              </a:path>
              <a:path fill="darken" w="162824" h="21600">
                <a:moveTo>
                  <a:pt x="162824" y="0"/>
                </a:moveTo>
                <a:lnTo>
                  <a:pt x="162824" y="21600"/>
                </a:lnTo>
                <a:lnTo>
                  <a:pt x="161424" y="20200"/>
                </a:lnTo>
                <a:lnTo>
                  <a:pt x="161424" y="1400"/>
                </a:lnTo>
                <a:close/>
              </a:path>
              <a:path fill="darkenLess" w="162824" h="21600">
                <a:moveTo>
                  <a:pt x="16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424" y="20200"/>
                </a:lnTo>
                <a:close/>
              </a:path>
              <a:path fill="lighten" w="16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dc2f1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Lucida Handwriting"/>
              </a:rPr>
              <a:t>ZURÜCK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533520" y="289548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Blume steht in der V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533520" y="42670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Blume steht auf der Wi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533520" y="56386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Blume steht tief im F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iesse_Blume_in_blauen_TopfG" descr=""/>
          <p:cNvPicPr/>
          <p:nvPr/>
        </p:nvPicPr>
        <p:blipFill>
          <a:blip r:embed="rId4"/>
          <a:stretch/>
        </p:blipFill>
        <p:spPr>
          <a:xfrm>
            <a:off x="6781680" y="380880"/>
            <a:ext cx="16081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533520" y="312408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Wir haben Zuhause eine Babykatz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533520" y="42670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Meine Oma hat keine Babykat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53352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Mein Onkel hat zwei Babykatz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43000" y="457200"/>
            <a:ext cx="1449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Schwan wird zum Mens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609480" y="42670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Mensch wird zum Aff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" action="ppaction://hlinksldjump"/>
          </p:cNvPr>
          <p:cNvSpPr/>
          <p:nvPr/>
        </p:nvSpPr>
        <p:spPr>
          <a:xfrm>
            <a:off x="609480" y="320040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Affe wird zum Mens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09480" y="228600"/>
            <a:ext cx="79153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Uhr geht 1 Stunde v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609480" y="42670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Uhr ist stehen geblie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609480" y="30481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Uhr geht 1 Stunde n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62120" y="3049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356600" y="304920"/>
            <a:ext cx="1511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533520" y="51814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Hamburg liegt in Deutsch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533520" y="41148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Berlin liegt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533520" y="30481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Paris liegt in Deutsch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52480" y="457200"/>
            <a:ext cx="571500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Kevin schießt ein 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609480" y="44956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Petra schießt zwei T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609480" y="35053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Lena schießt kein 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85800" y="533520"/>
            <a:ext cx="26668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609480" y="548640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Ich habe keinen Hun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609480" y="46483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Ich esse einen halben Apf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609480" y="38098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Ich esse viele Kirs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019920" y="228600"/>
            <a:ext cx="2571480" cy="2600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200400" y="762120"/>
            <a:ext cx="25718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06:44Z</dcterms:created>
  <dc:creator>Gast</dc:creator>
  <dc:description/>
  <dc:language>en-US</dc:language>
  <cp:lastModifiedBy>User</cp:lastModifiedBy>
  <dcterms:modified xsi:type="dcterms:W3CDTF">2008-01-05T11:25:28Z</dcterms:modified>
  <cp:revision>34</cp:revision>
  <dc:subject/>
  <dc:title>PowerPoint-Präsentation</dc:title>
</cp:coreProperties>
</file>