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25A-5021-42D7-BC4F-E4128E92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662-2359-4418-B5F4-652375EE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069-FC3D-44BB-9590-E3030626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B5E-0E0D-46B4-B2B9-46AFD038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960-87F9-456C-947C-24B6302E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2E5-D141-4CCA-9E2C-037EAD4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057-D2C2-43B5-823D-7ABDBFE3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150-B03E-4039-BFBA-EA59BC1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685-1800-43F3-BAC7-1CFBCBA3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D2C-D211-4796-AF76-09BD19A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8F9-BAFD-43F7-B498-8D80F3CE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41A-4FCA-4D99-9179-815DD75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9676-89ED-4F0F-A906-D17D08FD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914400"/>
            <a:ext cx="7696080" cy="304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59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352680"/>
            <a:ext cx="8076960" cy="231372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ff"/>
                </a:solidFill>
                <a:latin typeface="Times New Roman"/>
              </a:rPr>
              <a:t>Von Mar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5629_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04920" y="3200400"/>
            <a:ext cx="853416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Zimmer ist alt.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304920" y="43434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Zimmer ist n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304920" y="54864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Zimmer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D08775_" descr=""/>
          <p:cNvPicPr/>
          <p:nvPr/>
        </p:nvPicPr>
        <p:blipFill>
          <a:blip r:embed="rId4"/>
          <a:stretch/>
        </p:blipFill>
        <p:spPr>
          <a:xfrm>
            <a:off x="2971800" y="68580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228600" y="4876920"/>
            <a:ext cx="861048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Tafel  ist grün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228600" y="38098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Tafel ist schwar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228600" y="59436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Tafel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ED00105_" descr=""/>
          <p:cNvPicPr/>
          <p:nvPr/>
        </p:nvPicPr>
        <p:blipFill>
          <a:blip r:embed="rId4"/>
          <a:stretch/>
        </p:blipFill>
        <p:spPr>
          <a:xfrm>
            <a:off x="3200400" y="762120"/>
            <a:ext cx="24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304920" y="38862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Opa ist alt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04920" y="487692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Opa hat einen Hut a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304920" y="5791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Opa hat einen B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01808_" descr=""/>
          <p:cNvPicPr/>
          <p:nvPr/>
        </p:nvPicPr>
        <p:blipFill>
          <a:blip r:embed="rId4"/>
          <a:stretch/>
        </p:blipFill>
        <p:spPr>
          <a:xfrm>
            <a:off x="3581280" y="304920"/>
            <a:ext cx="217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304920" y="5867280"/>
            <a:ext cx="853416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Uhr ist blau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304920" y="3429000"/>
            <a:ext cx="853416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Uhr ist grün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304920" y="4648320"/>
            <a:ext cx="852624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Uhr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S01581_" descr=""/>
          <p:cNvPicPr/>
          <p:nvPr/>
        </p:nvPicPr>
        <p:blipFill>
          <a:blip r:embed="rId4"/>
          <a:stretch/>
        </p:blipFill>
        <p:spPr>
          <a:xfrm>
            <a:off x="3352680" y="762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304920" y="358128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Emil geht in die 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304920" y="47242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Emil geht in den Kindergarten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304920" y="5791320"/>
            <a:ext cx="861048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Emil geht in den Z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32927w" descr=""/>
          <p:cNvPicPr/>
          <p:nvPr/>
        </p:nvPicPr>
        <p:blipFill>
          <a:blip r:embed="rId4"/>
          <a:stretch/>
        </p:blipFill>
        <p:spPr>
          <a:xfrm>
            <a:off x="2286000" y="457200"/>
            <a:ext cx="4267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228600" y="36576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Wand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228600" y="48006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Wand ist gelb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228600" y="5791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Wand ist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00313_" descr=""/>
          <p:cNvPicPr/>
          <p:nvPr/>
        </p:nvPicPr>
        <p:blipFill>
          <a:blip r:embed="rId4"/>
          <a:stretch/>
        </p:blipFill>
        <p:spPr>
          <a:xfrm>
            <a:off x="3657600" y="533520"/>
            <a:ext cx="2052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228600" y="4724280"/>
            <a:ext cx="86868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Eis kostet 1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228600" y="3581280"/>
            <a:ext cx="8609040" cy="57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Das Eis kostet 2,00 Euro.</a:t>
            </a: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Lucida Calligraphy"/>
                <a:hlinkClick r:id="rId3" action="ppaction://hlinksldjump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304920" y="5791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Eis ist am Sti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FD00511_" descr=""/>
          <p:cNvPicPr/>
          <p:nvPr/>
        </p:nvPicPr>
        <p:blipFill>
          <a:blip r:embed="rId5"/>
          <a:stretch/>
        </p:blipFill>
        <p:spPr>
          <a:xfrm>
            <a:off x="3352680" y="457200"/>
            <a:ext cx="21700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304920" y="373392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00600"/>
            <a:ext cx="8609040" cy="520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klein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791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Äpfel liegt im K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D01098_" descr=""/>
          <p:cNvPicPr/>
          <p:nvPr/>
        </p:nvPicPr>
        <p:blipFill>
          <a:blip r:embed="rId2"/>
          <a:stretch/>
        </p:blipFill>
        <p:spPr>
          <a:xfrm>
            <a:off x="3124080" y="685800"/>
            <a:ext cx="2401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3581280"/>
            <a:ext cx="86104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tuhl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3434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tuhl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51055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tuhl ist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HH01601_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19814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8862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Der Radio ist laut. </a:t>
            </a: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      </a:t>
            </a: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87692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adio ist le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791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adio ist silbr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HH01636_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39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228600" y="373392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Computer ist n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228600" y="45720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Wage ist n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228600" y="54100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Sofa ist ne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5203_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26668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4038480"/>
            <a:ext cx="8610480" cy="5205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Schulgebäude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8006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Schulgebäude ist kl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5627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Schulgebäude ist m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00148_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1911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8080" y="685800"/>
            <a:ext cx="69627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per du hast alle Aufgaben geschafft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AN02034_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2362320" cy="304812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5410080" y="5334120"/>
            <a:ext cx="3124440" cy="761760"/>
          </a:xfrm>
          <a:custGeom>
            <a:avLst/>
            <a:gdLst>
              <a:gd name="textAreaLeft" fmla="*/ 49320 w 3124440"/>
              <a:gd name="textAreaRight" fmla="*/ 3075120 w 3124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88563" h="21600">
                <a:moveTo>
                  <a:pt x="0" y="0"/>
                </a:moveTo>
                <a:lnTo>
                  <a:pt x="88563" y="0"/>
                </a:lnTo>
                <a:lnTo>
                  <a:pt x="88563" y="21600"/>
                </a:lnTo>
                <a:lnTo>
                  <a:pt x="0" y="21600"/>
                </a:lnTo>
                <a:close/>
              </a:path>
              <a:path fill="lightenLess" w="88563" h="21600">
                <a:moveTo>
                  <a:pt x="0" y="0"/>
                </a:moveTo>
                <a:lnTo>
                  <a:pt x="88563" y="0"/>
                </a:lnTo>
                <a:lnTo>
                  <a:pt x="87163" y="1400"/>
                </a:lnTo>
                <a:lnTo>
                  <a:pt x="1400" y="1400"/>
                </a:lnTo>
                <a:close/>
              </a:path>
              <a:path fill="darken" w="88563" h="21600">
                <a:moveTo>
                  <a:pt x="88563" y="0"/>
                </a:moveTo>
                <a:lnTo>
                  <a:pt x="88563" y="21600"/>
                </a:lnTo>
                <a:lnTo>
                  <a:pt x="87163" y="20200"/>
                </a:lnTo>
                <a:lnTo>
                  <a:pt x="87163" y="1400"/>
                </a:lnTo>
                <a:close/>
              </a:path>
              <a:path fill="darkenLess" w="88563" h="21600">
                <a:moveTo>
                  <a:pt x="88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63" y="20200"/>
                </a:lnTo>
                <a:close/>
              </a:path>
              <a:path fill="lighten" w="88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Zum Anfa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endshow"/>
          </p:cNvPr>
          <p:cNvSpPr/>
          <p:nvPr/>
        </p:nvSpPr>
        <p:spPr>
          <a:xfrm>
            <a:off x="5410080" y="3200400"/>
            <a:ext cx="3124440" cy="762120"/>
          </a:xfrm>
          <a:custGeom>
            <a:avLst/>
            <a:gdLst>
              <a:gd name="textAreaLeft" fmla="*/ 49320 w 3124440"/>
              <a:gd name="textAreaRight" fmla="*/ 3075120 w 3124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88521" h="21600">
                <a:moveTo>
                  <a:pt x="0" y="0"/>
                </a:moveTo>
                <a:lnTo>
                  <a:pt x="88521" y="0"/>
                </a:lnTo>
                <a:lnTo>
                  <a:pt x="88521" y="21600"/>
                </a:lnTo>
                <a:lnTo>
                  <a:pt x="0" y="21600"/>
                </a:lnTo>
                <a:close/>
              </a:path>
              <a:path fill="lightenLess" w="88521" h="21600">
                <a:moveTo>
                  <a:pt x="0" y="0"/>
                </a:moveTo>
                <a:lnTo>
                  <a:pt x="88521" y="0"/>
                </a:lnTo>
                <a:lnTo>
                  <a:pt x="87121" y="1400"/>
                </a:lnTo>
                <a:lnTo>
                  <a:pt x="1400" y="1400"/>
                </a:lnTo>
                <a:close/>
              </a:path>
              <a:path fill="darken" w="88521" h="21600">
                <a:moveTo>
                  <a:pt x="88521" y="0"/>
                </a:moveTo>
                <a:lnTo>
                  <a:pt x="88521" y="21600"/>
                </a:lnTo>
                <a:lnTo>
                  <a:pt x="87121" y="20200"/>
                </a:lnTo>
                <a:lnTo>
                  <a:pt x="87121" y="1400"/>
                </a:lnTo>
                <a:close/>
              </a:path>
              <a:path fill="darkenLess" w="88521" h="21600">
                <a:moveTo>
                  <a:pt x="88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21" y="20200"/>
                </a:lnTo>
                <a:close/>
              </a:path>
              <a:path fill="lighten" w="88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480" y="676440"/>
            <a:ext cx="65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alligraphy"/>
              </a:rPr>
              <a:t>Super, weiter so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S01180_" descr=""/>
          <p:cNvPicPr/>
          <p:nvPr/>
        </p:nvPicPr>
        <p:blipFill>
          <a:blip r:embed="rId1"/>
          <a:stretch/>
        </p:blipFill>
        <p:spPr>
          <a:xfrm>
            <a:off x="2468520" y="1693800"/>
            <a:ext cx="4206960" cy="34686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1219320" y="5715000"/>
            <a:ext cx="6553080" cy="914400"/>
          </a:xfrm>
          <a:custGeom>
            <a:avLst/>
            <a:gdLst>
              <a:gd name="textAreaLeft" fmla="*/ 82440 w 6553080"/>
              <a:gd name="textAreaRight" fmla="*/ 6470640 w 6553080"/>
              <a:gd name="textAreaTop" fmla="*/ 82440 h 914400"/>
              <a:gd name="textAreaBottom" fmla="*/ 831960 h 914400"/>
            </a:gdLst>
            <a:ahLst/>
            <a:rect l="textAreaLeft" t="textAreaTop" r="textAreaRight" b="textAreaBottom"/>
            <a:pathLst>
              <a:path w="154745" h="21600">
                <a:moveTo>
                  <a:pt x="0" y="0"/>
                </a:moveTo>
                <a:lnTo>
                  <a:pt x="154745" y="0"/>
                </a:lnTo>
                <a:lnTo>
                  <a:pt x="154745" y="21600"/>
                </a:lnTo>
                <a:lnTo>
                  <a:pt x="0" y="21600"/>
                </a:lnTo>
                <a:close/>
              </a:path>
              <a:path fill="lightenLess" w="154745" h="21600">
                <a:moveTo>
                  <a:pt x="0" y="0"/>
                </a:moveTo>
                <a:lnTo>
                  <a:pt x="154745" y="0"/>
                </a:lnTo>
                <a:lnTo>
                  <a:pt x="152795" y="1950"/>
                </a:lnTo>
                <a:lnTo>
                  <a:pt x="1950" y="1950"/>
                </a:lnTo>
                <a:close/>
              </a:path>
              <a:path fill="darken" w="154745" h="21600">
                <a:moveTo>
                  <a:pt x="154745" y="0"/>
                </a:moveTo>
                <a:lnTo>
                  <a:pt x="154745" y="21600"/>
                </a:lnTo>
                <a:lnTo>
                  <a:pt x="152795" y="19650"/>
                </a:lnTo>
                <a:lnTo>
                  <a:pt x="152795" y="1950"/>
                </a:lnTo>
                <a:close/>
              </a:path>
              <a:path fill="darkenLess" w="154745" h="21600">
                <a:moveTo>
                  <a:pt x="154745" y="21600"/>
                </a:moveTo>
                <a:lnTo>
                  <a:pt x="0" y="21600"/>
                </a:lnTo>
                <a:lnTo>
                  <a:pt x="1950" y="19650"/>
                </a:lnTo>
                <a:lnTo>
                  <a:pt x="152795" y="19650"/>
                </a:lnTo>
                <a:close/>
              </a:path>
              <a:path fill="lighten" w="154745" h="21600">
                <a:moveTo>
                  <a:pt x="0" y="21600"/>
                </a:moveTo>
                <a:lnTo>
                  <a:pt x="0" y="0"/>
                </a:lnTo>
                <a:lnTo>
                  <a:pt x="1950" y="1950"/>
                </a:lnTo>
                <a:lnTo>
                  <a:pt x="1950" y="1965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alligraphy"/>
              </a:rPr>
              <a:t>Zurück.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j0079100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1828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7524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Lucida Calligraphy"/>
              </a:rPr>
              <a:t>Schade, dass stimmt leider nicht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1219320" y="5715000"/>
            <a:ext cx="6553080" cy="914400"/>
          </a:xfrm>
          <a:custGeom>
            <a:avLst/>
            <a:gdLst>
              <a:gd name="textAreaLeft" fmla="*/ 82440 w 6553080"/>
              <a:gd name="textAreaRight" fmla="*/ 6470640 w 6553080"/>
              <a:gd name="textAreaTop" fmla="*/ 82440 h 914400"/>
              <a:gd name="textAreaBottom" fmla="*/ 831960 h 914400"/>
            </a:gdLst>
            <a:ahLst/>
            <a:rect l="textAreaLeft" t="textAreaTop" r="textAreaRight" b="textAreaBottom"/>
            <a:pathLst>
              <a:path w="154745" h="21600">
                <a:moveTo>
                  <a:pt x="0" y="0"/>
                </a:moveTo>
                <a:lnTo>
                  <a:pt x="154745" y="0"/>
                </a:lnTo>
                <a:lnTo>
                  <a:pt x="154745" y="21600"/>
                </a:lnTo>
                <a:lnTo>
                  <a:pt x="0" y="21600"/>
                </a:lnTo>
                <a:close/>
              </a:path>
              <a:path fill="lightenLess" w="154745" h="21600">
                <a:moveTo>
                  <a:pt x="0" y="0"/>
                </a:moveTo>
                <a:lnTo>
                  <a:pt x="154745" y="0"/>
                </a:lnTo>
                <a:lnTo>
                  <a:pt x="152795" y="1950"/>
                </a:lnTo>
                <a:lnTo>
                  <a:pt x="1950" y="1950"/>
                </a:lnTo>
                <a:close/>
              </a:path>
              <a:path fill="darken" w="154745" h="21600">
                <a:moveTo>
                  <a:pt x="154745" y="0"/>
                </a:moveTo>
                <a:lnTo>
                  <a:pt x="154745" y="21600"/>
                </a:lnTo>
                <a:lnTo>
                  <a:pt x="152795" y="19650"/>
                </a:lnTo>
                <a:lnTo>
                  <a:pt x="152795" y="1950"/>
                </a:lnTo>
                <a:close/>
              </a:path>
              <a:path fill="darkenLess" w="154745" h="21600">
                <a:moveTo>
                  <a:pt x="154745" y="21600"/>
                </a:moveTo>
                <a:lnTo>
                  <a:pt x="0" y="21600"/>
                </a:lnTo>
                <a:lnTo>
                  <a:pt x="1950" y="19650"/>
                </a:lnTo>
                <a:lnTo>
                  <a:pt x="152795" y="19650"/>
                </a:lnTo>
                <a:close/>
              </a:path>
              <a:path fill="lighten" w="154745" h="21600">
                <a:moveTo>
                  <a:pt x="0" y="21600"/>
                </a:moveTo>
                <a:lnTo>
                  <a:pt x="0" y="0"/>
                </a:lnTo>
                <a:lnTo>
                  <a:pt x="1950" y="1950"/>
                </a:lnTo>
                <a:lnTo>
                  <a:pt x="1950" y="1965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alligraphy"/>
              </a:rPr>
              <a:t>Zurück.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228600" y="403848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Schrift ist g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28600" y="49528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Schrift ist zitter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28600" y="58672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Schrift ist to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304920"/>
          <a:ext cx="3810240" cy="34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04920"/>
                    <a:ext cx="381024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28600" y="41148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Zoogeschäft ist schö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228600" y="50292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Garten ist schö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228600" y="59436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Haus ist schö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S00416_" descr=""/>
          <p:cNvPicPr/>
          <p:nvPr/>
        </p:nvPicPr>
        <p:blipFill>
          <a:blip r:embed="rId4"/>
          <a:stretch/>
        </p:blipFill>
        <p:spPr>
          <a:xfrm>
            <a:off x="4572000" y="304920"/>
            <a:ext cx="42022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41148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ucksack ist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0292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ucksack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867280"/>
            <a:ext cx="8602560" cy="577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ucksack ist gelb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Lucida Calligraphy"/>
                <a:hlinkClick r:id="rId1" action="ppaction://hlinksldjump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HH01677_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304920" y="350532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Hans ist ju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304920" y="464832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Hans rennt schn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304920" y="5791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Hans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E01805_" descr=""/>
          <p:cNvPicPr/>
          <p:nvPr/>
        </p:nvPicPr>
        <p:blipFill>
          <a:blip r:embed="rId4"/>
          <a:stretch/>
        </p:blipFill>
        <p:spPr>
          <a:xfrm>
            <a:off x="3200400" y="685800"/>
            <a:ext cx="26748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34290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sau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04920" y="464832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sü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304920" y="5791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grü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NA01099_" descr=""/>
          <p:cNvPicPr/>
          <p:nvPr/>
        </p:nvPicPr>
        <p:blipFill>
          <a:blip r:embed="rId4"/>
          <a:stretch/>
        </p:blipFill>
        <p:spPr>
          <a:xfrm>
            <a:off x="3124080" y="685800"/>
            <a:ext cx="16671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304920" y="27432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chrank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304920" y="419112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chrank ist ho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04920" y="57150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chrank ist schie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H00815_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103356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304920" y="38862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Peter geht spazieren.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04920" y="487692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Peter spielt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304920" y="58672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Peter geht in die 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E01659_" descr=""/>
          <p:cNvPicPr/>
          <p:nvPr/>
        </p:nvPicPr>
        <p:blipFill>
          <a:blip r:embed="rId4"/>
          <a:stretch/>
        </p:blipFill>
        <p:spPr>
          <a:xfrm>
            <a:off x="2362320" y="304920"/>
            <a:ext cx="3902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5:12Z</dcterms:created>
  <dc:creator>Gast</dc:creator>
  <dc:description/>
  <dc:language>en-US</dc:language>
  <cp:lastModifiedBy>User</cp:lastModifiedBy>
  <dcterms:modified xsi:type="dcterms:W3CDTF">2008-01-05T16:05:35Z</dcterms:modified>
  <cp:revision>47</cp:revision>
  <dc:subject/>
  <dc:title>PowerPoint-Präsentation</dc:title>
</cp:coreProperties>
</file>