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4.jpeg" ContentType="image/jpeg"/>
  <Override PartName="/ppt/media/image13.jpeg" ContentType="image/jpeg"/>
  <Override PartName="/ppt/media/image8.jpeg" ContentType="image/jpeg"/>
  <Override PartName="/ppt/media/image11.jpeg" ContentType="image/jpeg"/>
  <Override PartName="/ppt/media/image7.wmf" ContentType="image/x-wmf"/>
  <Override PartName="/ppt/media/image6.jpeg" ContentType="image/jpeg"/>
  <Override PartName="/ppt/media/image9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7.wmf" ContentType="image/x-wmf"/>
  <Override PartName="/ppt/media/image15.jpeg" ContentType="image/jpeg"/>
  <Override PartName="/ppt/media/image14.jpeg" ContentType="image/jpeg"/>
  <Override PartName="/ppt/media/image16.wmf" ContentType="image/x-wmf"/>
  <Override PartName="/ppt/media/image2.wmf" ContentType="image/x-wmf"/>
  <Override PartName="/ppt/media/image3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ABD-F17C-4FC5-BF84-13D6F1A9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69F-C3BE-487D-9137-E9B7592C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486-24DF-45AD-B4F7-A881FBB9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2E1-A6A7-4CF0-A290-3D82D0C9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9CE-DD64-45EE-BF70-90D31346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3C7-1968-4B3C-AB5B-D60B6F8A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6F46-1712-4B79-B370-88EAC392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F9F-2663-4AD8-92FB-B8729C7D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2F5-25E7-4E65-B93F-038D3C31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7D9-DBB9-464A-9570-11F23172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1E0-9E5B-4BC8-93DA-AFA1DFC1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4E5-4A18-4071-BFA4-D894BF6C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C8D7-BCA6-4575-9933-5ECD1EFC8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hyperlink" Target="http://www.naturschutzstation.de/bilder/impress/hase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00790_" descr=""/>
          <p:cNvPicPr/>
          <p:nvPr/>
        </p:nvPicPr>
        <p:blipFill>
          <a:blip r:embed="rId1"/>
          <a:stretch/>
        </p:blipFill>
        <p:spPr>
          <a:xfrm>
            <a:off x="4800600" y="3200400"/>
            <a:ext cx="2819520" cy="3048120"/>
          </a:xfrm>
          <a:prstGeom prst="rect">
            <a:avLst/>
          </a:prstGeom>
          <a:ln w="0">
            <a:noFill/>
          </a:ln>
        </p:spPr>
      </p:pic>
      <p:pic>
        <p:nvPicPr>
          <p:cNvPr id="42" name="BD05969_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2679840" cy="3651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838080" y="38088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esetrain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776160" y="17845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n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609480" y="464832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Sans"/>
              </a:rPr>
              <a:t>Tizian geht zur Feuerweh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609480" y="380988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Sans"/>
              </a:rPr>
              <a:t>Tizian geht zur Poliz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609480" y="541008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Sans"/>
              </a:rPr>
              <a:t>Tizian geht ins Krankenh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15722_1132925221482" descr=""/>
          <p:cNvPicPr/>
          <p:nvPr/>
        </p:nvPicPr>
        <p:blipFill>
          <a:blip r:embed="rId4"/>
          <a:stretch/>
        </p:blipFill>
        <p:spPr>
          <a:xfrm>
            <a:off x="2438280" y="457200"/>
            <a:ext cx="42102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609480" y="464832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etra ist sehr a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609480" y="380988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eter ist sehr a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609480" y="541008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eter ist noch j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07%20Junge%20Leute%201" descr=""/>
          <p:cNvPicPr/>
          <p:nvPr/>
        </p:nvPicPr>
        <p:blipFill>
          <a:blip r:embed="rId4"/>
          <a:stretch/>
        </p:blipFill>
        <p:spPr>
          <a:xfrm>
            <a:off x="2666880" y="571680"/>
            <a:ext cx="312444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609480" y="457200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usi geht in den Kindergar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609480" y="380988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usi geht in die Sch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609480" y="533412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usi geht in die Krabbelgrup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kindergarten_unterlauchringen_innen" descr=""/>
          <p:cNvPicPr/>
          <p:nvPr/>
        </p:nvPicPr>
        <p:blipFill>
          <a:blip r:embed="rId4"/>
          <a:stretch/>
        </p:blipFill>
        <p:spPr>
          <a:xfrm>
            <a:off x="2666880" y="228600"/>
            <a:ext cx="4077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609480" y="464832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ma strickt bunte Soc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09480" y="388620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ma strickt einen Soc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609480" y="533412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ma strickt ein Paar Soc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zwei%20socken" descr=""/>
          <p:cNvPicPr/>
          <p:nvPr/>
        </p:nvPicPr>
        <p:blipFill>
          <a:blip r:embed="rId4"/>
          <a:stretch/>
        </p:blipFill>
        <p:spPr>
          <a:xfrm>
            <a:off x="2286000" y="2286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609480" y="457200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vin kickt den Ball gegen das Garagen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609480" y="380988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Sans"/>
              </a:rPr>
              <a:t>Tizian schießt eine Scheibe kapu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41008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ius schießt beim Spiel drei 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255" descr=""/>
          <p:cNvPicPr/>
          <p:nvPr/>
        </p:nvPicPr>
        <p:blipFill>
          <a:blip r:embed="rId3"/>
          <a:stretch/>
        </p:blipFill>
        <p:spPr>
          <a:xfrm>
            <a:off x="2362320" y="304920"/>
            <a:ext cx="430848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312408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phie geht zum Tenn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396252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na geht zum Fußb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80060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audia geht zum Re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E03738_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36844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89548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Sans"/>
              </a:rPr>
              <a:t>Tizian geht ins K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380988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trick geht ins Stad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72428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an geht ins Konz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EN00349_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36576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304812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ristoph muss nachsitz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380988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trick muss Noten ler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57200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vin muss Diktat ü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EN00354_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27432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304812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Brot schmeckt g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Brot ist gege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57200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Brot ist geschn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BD08911_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4382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AN02034_" descr=""/>
          <p:cNvPicPr/>
          <p:nvPr/>
        </p:nvPicPr>
        <p:blipFill>
          <a:blip r:embed="rId1"/>
          <a:stretch/>
        </p:blipFill>
        <p:spPr>
          <a:xfrm>
            <a:off x="3367080" y="228600"/>
            <a:ext cx="2363760" cy="3240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3733920"/>
            <a:ext cx="8439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Bravo du hast alle Aufgaben erledigt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">
            <a:hlinkClick r:id="" action="ppaction://hlinkshowjump?jump=endshow"/>
          </p:cNvPr>
          <p:cNvSpPr/>
          <p:nvPr/>
        </p:nvSpPr>
        <p:spPr>
          <a:xfrm>
            <a:off x="1447920" y="4876920"/>
            <a:ext cx="2133360" cy="761760"/>
          </a:xfrm>
          <a:custGeom>
            <a:avLst/>
            <a:gdLst>
              <a:gd name="textAreaLeft" fmla="*/ 49320 w 2133360"/>
              <a:gd name="textAreaRight" fmla="*/ 2084040 w 2133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0474" h="21600">
                <a:moveTo>
                  <a:pt x="0" y="0"/>
                </a:moveTo>
                <a:lnTo>
                  <a:pt x="60474" y="0"/>
                </a:lnTo>
                <a:lnTo>
                  <a:pt x="60474" y="21600"/>
                </a:lnTo>
                <a:lnTo>
                  <a:pt x="0" y="21600"/>
                </a:lnTo>
                <a:close/>
              </a:path>
              <a:path fill="lightenLess" w="60474" h="21600">
                <a:moveTo>
                  <a:pt x="0" y="0"/>
                </a:moveTo>
                <a:lnTo>
                  <a:pt x="60474" y="0"/>
                </a:lnTo>
                <a:lnTo>
                  <a:pt x="59074" y="1400"/>
                </a:lnTo>
                <a:lnTo>
                  <a:pt x="1400" y="1400"/>
                </a:lnTo>
                <a:close/>
              </a:path>
              <a:path fill="darken" w="60474" h="21600">
                <a:moveTo>
                  <a:pt x="60474" y="0"/>
                </a:moveTo>
                <a:lnTo>
                  <a:pt x="60474" y="21600"/>
                </a:lnTo>
                <a:lnTo>
                  <a:pt x="59074" y="20200"/>
                </a:lnTo>
                <a:lnTo>
                  <a:pt x="59074" y="1400"/>
                </a:lnTo>
                <a:close/>
              </a:path>
              <a:path fill="darkenLess" w="60474" h="21600">
                <a:moveTo>
                  <a:pt x="60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4" y="20200"/>
                </a:lnTo>
                <a:close/>
              </a:path>
              <a:path fill="lighten" w="60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5562720" y="48769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u st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609480" y="464832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rnd geht zum Einkauf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609480" y="388620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rnd geht zum Supermark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609480" y="537228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rnd geht zum Flohmark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lohmarkt" descr=""/>
          <p:cNvPicPr/>
          <p:nvPr/>
        </p:nvPicPr>
        <p:blipFill>
          <a:blip r:embed="rId4"/>
          <a:stretch/>
        </p:blipFill>
        <p:spPr>
          <a:xfrm>
            <a:off x="1905120" y="457200"/>
            <a:ext cx="553248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75480" y="474840"/>
            <a:ext cx="68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Bravo, gut gemacht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BD05960_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3179880" cy="342756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274320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BD05961_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708280" cy="3187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4572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Lucida Handwriting"/>
              </a:rPr>
              <a:t>Probier‘s noch einmal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289548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609480" y="464832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ter kauft einen roten Rasenmä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609480" y="396252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ter kauft einen alten Rasenmä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609480" y="533412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ter kauft einen schnellen Rasenmä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rasenmaeher" descr=""/>
          <p:cNvPicPr/>
          <p:nvPr/>
        </p:nvPicPr>
        <p:blipFill>
          <a:blip r:embed="rId4"/>
          <a:stretch/>
        </p:blipFill>
        <p:spPr>
          <a:xfrm>
            <a:off x="3124080" y="6858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609480" y="464832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eter geht auf den Fußballplat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609480" y="396252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eter geht auf den neuen Sportplat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609480" y="533412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eter geht auf den Bolzplat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13320" y="508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usballplatz" descr=""/>
          <p:cNvPicPr/>
          <p:nvPr/>
        </p:nvPicPr>
        <p:blipFill>
          <a:blip r:embed="rId4"/>
          <a:stretch/>
        </p:blipFill>
        <p:spPr>
          <a:xfrm>
            <a:off x="2057400" y="4572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609480" y="464832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r Lastwagen wird bela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609480" y="388620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r Lastwagen wird betank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" action="ppaction://hlinksldjump"/>
          </p:cNvPr>
          <p:cNvSpPr/>
          <p:nvPr/>
        </p:nvSpPr>
        <p:spPr>
          <a:xfrm>
            <a:off x="593640" y="5372280"/>
            <a:ext cx="809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r Lastwagen wird geputz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astwagen" descr=""/>
          <p:cNvPicPr/>
          <p:nvPr/>
        </p:nvPicPr>
        <p:blipFill>
          <a:blip r:embed="rId4"/>
          <a:stretch/>
        </p:blipFill>
        <p:spPr>
          <a:xfrm>
            <a:off x="1143000" y="457200"/>
            <a:ext cx="6491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533520" y="4572000"/>
            <a:ext cx="809280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Auto fährt bei Gelb über die Am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533520" y="3886200"/>
            <a:ext cx="80928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Auto fährt bei Grün über die Am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533520" y="5257800"/>
            <a:ext cx="8076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Auto fährt bei Rot über die Am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BD07304_" descr=""/>
          <p:cNvPicPr/>
          <p:nvPr/>
        </p:nvPicPr>
        <p:blipFill>
          <a:blip r:embed="rId4"/>
          <a:stretch/>
        </p:blipFill>
        <p:spPr>
          <a:xfrm>
            <a:off x="3429000" y="533520"/>
            <a:ext cx="22795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609480" y="457200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r Hund sitzt auf der Wi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609480" y="380988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r Hase sitzt auf der Wi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609480" y="533412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r Kater sitzt auf der Wi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52480" y="380880"/>
            <a:ext cx="480060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609480" y="457200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na geht auf den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09480" y="380988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na geht schnell zum Z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609480" y="533412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na geht auf den Flughaf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N00561_" descr=""/>
          <p:cNvPicPr/>
          <p:nvPr/>
        </p:nvPicPr>
        <p:blipFill>
          <a:blip r:embed="rId4"/>
          <a:stretch/>
        </p:blipFill>
        <p:spPr>
          <a:xfrm>
            <a:off x="2819520" y="762120"/>
            <a:ext cx="32684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609480" y="457200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ter geht in die Sch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09480" y="380988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ter geht auf den Sportplat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609480" y="533412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ter geht zum Zahnarz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E02716_" descr=""/>
          <p:cNvPicPr/>
          <p:nvPr/>
        </p:nvPicPr>
        <p:blipFill>
          <a:blip r:embed="rId4"/>
          <a:stretch/>
        </p:blipFill>
        <p:spPr>
          <a:xfrm>
            <a:off x="3200400" y="838080"/>
            <a:ext cx="24382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2Z</dcterms:created>
  <dc:creator>Gast</dc:creator>
  <dc:description/>
  <dc:language>en-US</dc:language>
  <cp:lastModifiedBy>User</cp:lastModifiedBy>
  <dcterms:modified xsi:type="dcterms:W3CDTF">2008-01-05T16:12:16Z</dcterms:modified>
  <cp:revision>29</cp:revision>
  <dc:subject/>
  <dc:title>PowerPoint-Präsentation</dc:title>
</cp:coreProperties>
</file>