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wmf" ContentType="image/x-wmf"/>
  <Override PartName="/ppt/media/image15.png" ContentType="image/png"/>
  <Override PartName="/ppt/media/image3.jpeg" ContentType="image/jpeg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5C1-BC1E-4313-AC04-9B61244B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D4E-A4C1-4224-AC68-CEC402FB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13C-9CB7-4EE4-BF1E-03C0A87F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BA8-B848-4CA6-92BF-23E6D77E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960-2BC0-4E3D-ABD5-0C46EB8D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58F-EAFB-42DA-8A27-53FF91A7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69A-5F73-4D65-BC3B-367E68C9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09A-E082-4DBB-BBC4-4B9BD46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B81-6CAB-411D-AAFF-57003FD6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AB1-6624-49DA-9197-0F879F4D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24D-17C1-4CA2-AFB4-B646F4B1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2FF-F56F-40BE-B847-16A0E82B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DD40-71E5-4135-BCFB-EC5CC0B32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de/imgres?imgurl=http://euromuenzen.com/2-euro/details/2-euro.jpg&amp;imgrefurl=http://euromuenzen.com/2-euro/2007-europa.htm&amp;h=280&amp;w=280&amp;sz=22&amp;hl=de&amp;start=1&amp;tbnid=xmFCq04jXl-XtM:&amp;tbnh=114&amp;tbnw=114&amp;prev=/images%3Fq%3DEuro%26gbv%3D2%26ndsp%3D20%26svnum%3D10%26hl%3Dde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hyperlink" Target="http://images.google.de/imgres?imgurl=http://euromuenzen.com/2-euro/details/2-euro.jpg&amp;imgrefurl=http://euromuenzen.com/2-euro/2007-europa.htm&amp;h=280&amp;w=280&amp;sz=22&amp;hl=de&amp;start=1&amp;tbnid=xmFCq04jXl-XtM:&amp;tbnh=114&amp;tbnw=114&amp;prev=/images%3Fq%3DEuro%26gbv%3D2%26ndsp%3D20%26svnum%3D10%26hl%3Dde%26sa%3DN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hyperlink" Target="http://images.google.de/imgres?imgurl=http://www9.yatego.com/images/3f8fc347392dc6.7/thumb_rm719_720_omaundopa_001.jpg&amp;imgrefurl=http://www.yatego.com/echt-erzgebirge-%253E-raeuchermaenner/3f8fc347392dc6_7,3f90f16d6a298,5,,1,2&amp;h=50&amp;w=67&amp;sz=3&amp;hl=de&amp;start=2&amp;tbnid=QOc7y7pdvS5_XM:&amp;tbnh=49&amp;tbnw=66&amp;prev=/images%3Fq%3DOma%2Bim%2BSchaukelstuhl%26gbv%3D2%26ndsp%3D20%26svnum%3D10%26hl%3Dde%26sa%3D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hyperlink" Target="http://images.google.de/imgres?imgurl=http://www.adpic.de/data/picture/detail/Duschen_28608.jpg&amp;imgrefurl=http://www.adpic.de/lizenzfreie_bilder/Gesundheit/Koerperpflege/Duschen_28608.html&amp;h=375&amp;w=250&amp;sz=46&amp;hl=de&amp;start=23&amp;tbnid=TropD4_DMOHblM:&amp;tbnh=122&amp;tbnw=81&amp;prev=/images%3Fq%3DDuschen%26start%3D20%26gbv%3D2%26ndsp%3D20%26svnum%3D10%26hl%3Dde%26sa%3DN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hyperlink" Target="http://images.google.de/imgres?imgurl=http://www.reine-nerven-sache.de/Bilder_WM_Experten/I_WM_Japan.jpg&amp;imgrefurl=http://www.reine-nerven-sache.de/countdown.html&amp;h=400&amp;w=600&amp;sz=235&amp;hl=de&amp;start=15&amp;tbnid=OIvkop2qABBCkM:&amp;tbnh=90&amp;tbnw=135&amp;prev=/images%3Fq%3DDeutsche%2Bnationalmannschaft%26gbv%3D2%26ndsp%3D20%26svnum%3D10%26hl%3Dde%26sa%3DN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hyperlink" Target="http://images.google.de/imgres?imgurl=http://www.timber-antik.de/UserFiles/Image/dekoration/9424engel16.13.jpg&amp;imgrefurl=http://www.timber-antik.de/dekoratives-45.htm&amp;h=451&amp;w=740&amp;sz=25&amp;hl=de&amp;start=101&amp;tbnid=M8s80yPF2Df36M:&amp;tbnh=86&amp;tbnw=141&amp;prev=/images%3Fq%3DEngel%26start%3D100%26gbv%3D2%26ndsp%3D20%26svnum%3D10%26hl%3Dde%26sa%3DN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hyperlink" Target="http://images.google.de/imgres?imgurl=http://www.bestbike.de/catalog/images/spec07airforce_3_youth_red_flames.jpg&amp;imgrefurl=http://www.bestbike.de/catalog/default.php%3FcPath%3D33_35&amp;h=500&amp;w=500&amp;sz=30&amp;hl=de&amp;start=14&amp;tbnid=FLF_opjahOx0JM:&amp;tbnh=130&amp;tbnw=130&amp;prev=/images%3Fq%3DRote%2BHelme%26gbv%3D2%26ndsp%3D20%26svnum%3D10%26hl%3Dde%26sa%3DN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hyperlink" Target="http://images.google.de/imgres?imgurl=http://image.newcom101.de/userfiles/e/f/b/7/V/aHwUX6vVoCm535Vm7vYPza.jpg&amp;imgrefurl=http://www.newcom101.de/content/foto/Tassen-Katzen,1896.html&amp;h=364&amp;w=540&amp;sz=28&amp;hl=de&amp;start=55&amp;tbnid=51YyXReeaMypWM:&amp;tbnh=89&amp;tbnw=132&amp;prev=/images%3Fq%3DKatzen%26start%3D40%26gbv%3D2%26ndsp%3D20%26svnum%3D10%26hl%3Dde%26sa%3DN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hyperlink" Target="http://images.google.de/imgres?imgurl=http://www.vorlo.de/wissenswertes/9_sportler/0_gemeinsame_daten/content_img.jpg&amp;imgrefurl=http://www.vorlo.de/wissenswertes/9_sportler/index.php&amp;h=352&amp;w=385&amp;sz=24&amp;hl=de&amp;start=14&amp;tbnid=HTfUeW-j4GdFiM:&amp;tbnh=112&amp;tbnw=123&amp;prev=/images%3Fq%3DSportler%26gbv%3D2%26svnum%3D10%26hl%3Dde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d8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838080"/>
            <a:ext cx="563868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Leseübun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505320" cy="642600"/>
          </a:xfrm>
          <a:prstGeom prst="rect">
            <a:avLst/>
          </a:prstGeom>
          <a:solidFill>
            <a:srgbClr val="ff0066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lloon"/>
              </a:rPr>
              <a:t>Von Lena B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6210_" descr=""/>
          <p:cNvPicPr/>
          <p:nvPr/>
        </p:nvPicPr>
        <p:blipFill>
          <a:blip r:embed="rId1"/>
          <a:stretch/>
        </p:blipFill>
        <p:spPr>
          <a:xfrm>
            <a:off x="1143000" y="4114800"/>
            <a:ext cx="2819520" cy="1920960"/>
          </a:xfrm>
          <a:prstGeom prst="rect">
            <a:avLst/>
          </a:prstGeom>
          <a:ln w="0">
            <a:noFill/>
          </a:ln>
        </p:spPr>
      </p:pic>
      <p:pic>
        <p:nvPicPr>
          <p:cNvPr id="44" name="BD06340_" descr=""/>
          <p:cNvPicPr/>
          <p:nvPr/>
        </p:nvPicPr>
        <p:blipFill>
          <a:blip r:embed="rId2"/>
          <a:stretch/>
        </p:blipFill>
        <p:spPr>
          <a:xfrm>
            <a:off x="5715000" y="3164040"/>
            <a:ext cx="797040" cy="1788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4114800" y="5715000"/>
            <a:ext cx="1905120" cy="76212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3980" h="21600">
                <a:moveTo>
                  <a:pt x="0" y="0"/>
                </a:moveTo>
                <a:lnTo>
                  <a:pt x="53980" y="0"/>
                </a:lnTo>
                <a:lnTo>
                  <a:pt x="53980" y="21600"/>
                </a:lnTo>
                <a:lnTo>
                  <a:pt x="0" y="21600"/>
                </a:lnTo>
                <a:close/>
              </a:path>
              <a:path fill="lightenLess" w="53980" h="21600">
                <a:moveTo>
                  <a:pt x="0" y="0"/>
                </a:moveTo>
                <a:lnTo>
                  <a:pt x="53980" y="0"/>
                </a:lnTo>
                <a:lnTo>
                  <a:pt x="52580" y="1400"/>
                </a:lnTo>
                <a:lnTo>
                  <a:pt x="1400" y="1400"/>
                </a:lnTo>
                <a:close/>
              </a:path>
              <a:path fill="darken" w="53980" h="21600">
                <a:moveTo>
                  <a:pt x="53980" y="0"/>
                </a:moveTo>
                <a:lnTo>
                  <a:pt x="53980" y="21600"/>
                </a:lnTo>
                <a:lnTo>
                  <a:pt x="52580" y="20200"/>
                </a:lnTo>
                <a:lnTo>
                  <a:pt x="52580" y="1400"/>
                </a:lnTo>
                <a:close/>
              </a:path>
              <a:path fill="darkenLess" w="53980" h="21600">
                <a:moveTo>
                  <a:pt x="53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0" y="20200"/>
                </a:lnTo>
                <a:close/>
              </a:path>
              <a:path fill="lighten" w="53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wis721 Lt BT"/>
              </a:rPr>
              <a:t>Be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1905120" cy="76212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3980" h="21600">
                <a:moveTo>
                  <a:pt x="0" y="0"/>
                </a:moveTo>
                <a:lnTo>
                  <a:pt x="53980" y="0"/>
                </a:lnTo>
                <a:lnTo>
                  <a:pt x="53980" y="21600"/>
                </a:lnTo>
                <a:lnTo>
                  <a:pt x="0" y="21600"/>
                </a:lnTo>
                <a:close/>
              </a:path>
              <a:path fill="lightenLess" w="53980" h="21600">
                <a:moveTo>
                  <a:pt x="0" y="0"/>
                </a:moveTo>
                <a:lnTo>
                  <a:pt x="53980" y="0"/>
                </a:lnTo>
                <a:lnTo>
                  <a:pt x="52580" y="1400"/>
                </a:lnTo>
                <a:lnTo>
                  <a:pt x="1400" y="1400"/>
                </a:lnTo>
                <a:close/>
              </a:path>
              <a:path fill="darken" w="53980" h="21600">
                <a:moveTo>
                  <a:pt x="53980" y="0"/>
                </a:moveTo>
                <a:lnTo>
                  <a:pt x="53980" y="21600"/>
                </a:lnTo>
                <a:lnTo>
                  <a:pt x="52580" y="20200"/>
                </a:lnTo>
                <a:lnTo>
                  <a:pt x="52580" y="1400"/>
                </a:lnTo>
                <a:close/>
              </a:path>
              <a:path fill="darkenLess" w="53980" h="21600">
                <a:moveTo>
                  <a:pt x="53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0" y="20200"/>
                </a:lnTo>
                <a:close/>
              </a:path>
              <a:path fill="lighten" w="53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wis721 Lt BT"/>
              </a:rPr>
              <a:t>St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57200" y="274320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Hocker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457200" y="403848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Hocker ist gel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457200" y="53341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Hocker ist bl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809880" y="762120"/>
            <a:ext cx="13496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533520" y="403848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Sonne ist sehr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533520" y="274320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Sterne strahlen st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533520" y="53341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Mond scheint h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733920" y="380880"/>
            <a:ext cx="1650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533520" y="297180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regnet nic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533520" y="419112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wird bald regn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533520" y="53341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regnet leic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141720" y="228600"/>
            <a:ext cx="2519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457200" y="274320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Computer ist 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457200" y="403848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Computer ist 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457200" y="53341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Computer geht 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27288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609480" y="281952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 Haargum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09480" y="411480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en Haarre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609480" y="53341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e Haarbür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962520" y="762120"/>
            <a:ext cx="14097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51460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Vanessa hat mit Thomas Stre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73392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Vanessa ist wegen Christian traur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95288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Handwriting"/>
              </a:rPr>
              <a:t>Vanessa ist in Leonard verlieb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1530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51460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 A im A-B-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73392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 B im A-B-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95288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 C im  A-B-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1181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89548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as Brot kostet 2,5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11480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as Brot kostet 2,2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3341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as Brot kostet 2,0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80880"/>
            <a:ext cx="130320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243828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Marina fährt mit dem Fahrr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65760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Marina fährt mit dem Dreir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8769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Marina fährt mit dem Ro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1866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62120" y="838080"/>
            <a:ext cx="7734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uper ! Du hast es geschafft !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7" name="PE00542_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557440" cy="260028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6172200" y="5562720"/>
            <a:ext cx="2133720" cy="76176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0484" h="21600">
                <a:moveTo>
                  <a:pt x="0" y="0"/>
                </a:moveTo>
                <a:lnTo>
                  <a:pt x="60484" y="0"/>
                </a:lnTo>
                <a:lnTo>
                  <a:pt x="60484" y="21600"/>
                </a:lnTo>
                <a:lnTo>
                  <a:pt x="0" y="21600"/>
                </a:lnTo>
                <a:close/>
              </a:path>
              <a:path fill="lightenLess" w="60484" h="21600">
                <a:moveTo>
                  <a:pt x="0" y="0"/>
                </a:moveTo>
                <a:lnTo>
                  <a:pt x="60484" y="0"/>
                </a:lnTo>
                <a:lnTo>
                  <a:pt x="59084" y="1400"/>
                </a:lnTo>
                <a:lnTo>
                  <a:pt x="1400" y="1400"/>
                </a:lnTo>
                <a:close/>
              </a:path>
              <a:path fill="darken" w="60484" h="21600">
                <a:moveTo>
                  <a:pt x="60484" y="0"/>
                </a:moveTo>
                <a:lnTo>
                  <a:pt x="60484" y="21600"/>
                </a:lnTo>
                <a:lnTo>
                  <a:pt x="59084" y="20200"/>
                </a:lnTo>
                <a:lnTo>
                  <a:pt x="59084" y="1400"/>
                </a:lnTo>
                <a:close/>
              </a:path>
              <a:path fill="darkenLess" w="60484" h="21600">
                <a:moveTo>
                  <a:pt x="60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84" y="20200"/>
                </a:lnTo>
                <a:close/>
              </a:path>
              <a:path fill="lighten" w="60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wis721 Lt BT"/>
              </a:rPr>
              <a:t>Zum Anf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endshow"/>
          </p:cNvPr>
          <p:cNvSpPr/>
          <p:nvPr/>
        </p:nvSpPr>
        <p:spPr>
          <a:xfrm>
            <a:off x="762120" y="5562720"/>
            <a:ext cx="1904760" cy="761760"/>
          </a:xfrm>
          <a:custGeom>
            <a:avLst/>
            <a:gdLst>
              <a:gd name="textAreaLeft" fmla="*/ 49320 w 1904760"/>
              <a:gd name="textAreaRight" fmla="*/ 1855440 w 1904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3995" h="21600">
                <a:moveTo>
                  <a:pt x="0" y="0"/>
                </a:moveTo>
                <a:lnTo>
                  <a:pt x="53995" y="0"/>
                </a:lnTo>
                <a:lnTo>
                  <a:pt x="53995" y="21600"/>
                </a:lnTo>
                <a:lnTo>
                  <a:pt x="0" y="21600"/>
                </a:lnTo>
                <a:close/>
              </a:path>
              <a:path fill="lightenLess" w="53995" h="21600">
                <a:moveTo>
                  <a:pt x="0" y="0"/>
                </a:moveTo>
                <a:lnTo>
                  <a:pt x="53995" y="0"/>
                </a:lnTo>
                <a:lnTo>
                  <a:pt x="52595" y="1400"/>
                </a:lnTo>
                <a:lnTo>
                  <a:pt x="1400" y="1400"/>
                </a:lnTo>
                <a:close/>
              </a:path>
              <a:path fill="darken" w="53995" h="21600">
                <a:moveTo>
                  <a:pt x="53995" y="0"/>
                </a:moveTo>
                <a:lnTo>
                  <a:pt x="53995" y="21600"/>
                </a:lnTo>
                <a:lnTo>
                  <a:pt x="52595" y="20200"/>
                </a:lnTo>
                <a:lnTo>
                  <a:pt x="52595" y="1400"/>
                </a:lnTo>
                <a:close/>
              </a:path>
              <a:path fill="darkenLess" w="53995" h="21600">
                <a:moveTo>
                  <a:pt x="53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5" y="20200"/>
                </a:lnTo>
                <a:close/>
              </a:path>
              <a:path fill="lighten" w="53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wis721 Lt BT"/>
              </a:rPr>
              <a:t>Be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457200" y="205740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Teddybär im Spielzeugladen kostet 3,0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457200" y="3581280"/>
            <a:ext cx="800100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Teddybär im Essensladen kostet 2,0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" y="5181480"/>
            <a:ext cx="8001000" cy="13737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Teddybär im Kleiderladen kostet 3,5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29000" y="380880"/>
            <a:ext cx="130320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10520" y="474840"/>
            <a:ext cx="51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Lucida Handwriting"/>
              </a:rPr>
              <a:t>PRIMA, weiter so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D05960_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179520" cy="34272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D05961_" descr=""/>
          <p:cNvPicPr/>
          <p:nvPr/>
        </p:nvPicPr>
        <p:blipFill>
          <a:blip r:embed="rId1"/>
          <a:stretch/>
        </p:blipFill>
        <p:spPr>
          <a:xfrm>
            <a:off x="3218040" y="1835280"/>
            <a:ext cx="2707920" cy="3187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" y="7621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Handwriting"/>
              </a:rPr>
              <a:t>Probier‘s</a:t>
            </a: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Lucida Handwriting"/>
              </a:rPr>
              <a:t>noch ein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dc2f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457200" y="251460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Oma sitzt im  Schaukelstuh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457200" y="396252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Opa sitzt im Schaukelstuh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457200" y="53341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Oma und der Opa sitzen im Schaukelstuh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762120"/>
            <a:ext cx="1295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457200" y="259092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Dusche läu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457200" y="373392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Dusche trop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457200" y="48769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Dusche ist 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533520"/>
            <a:ext cx="121896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457200" y="228600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Fußballspieler geht nach H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57200" y="358128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Fußballspieler schießt ein 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457200" y="48769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Fußballspieler trinkt aus der Flas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228600"/>
            <a:ext cx="19814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533520" y="220968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Florian  ist e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Beng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533520" y="358128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laudia ist ein Men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533520" y="502920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ophie ist ein Eng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29000" y="457200"/>
            <a:ext cx="16113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609480" y="266688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Helm ist grü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609480" y="403848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Helm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609480" y="53341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Helm ist bl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304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57200" y="281952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Lena hat Katz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57200" y="411480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Lennart hat kein T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457200" y="53341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Markus hat einen Ham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24080" y="838080"/>
            <a:ext cx="205740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609480" y="243828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Opa macht 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609480" y="3733920"/>
            <a:ext cx="800100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Opa le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609480" y="5105520"/>
            <a:ext cx="80010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Opa ist  t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29000" y="422280"/>
            <a:ext cx="22860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6:44Z</dcterms:created>
  <dc:creator>Gast</dc:creator>
  <dc:description/>
  <dc:language>en-US</dc:language>
  <cp:lastModifiedBy>User</cp:lastModifiedBy>
  <dcterms:modified xsi:type="dcterms:W3CDTF">2008-01-04T16:19:26Z</dcterms:modified>
  <cp:revision>77</cp:revision>
  <dc:subject/>
  <dc:title>PowerPoint-Präsentation</dc:title>
</cp:coreProperties>
</file>