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11.jpeg" ContentType="image/jpeg"/>
  <Override PartName="/ppt/media/image9.wmf" ContentType="image/x-wmf"/>
  <Override PartName="/ppt/media/image8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3.png" ContentType="image/png"/>
  <Override PartName="/ppt/media/image22.wmf" ContentType="image/x-wmf"/>
  <Override PartName="/ppt/media/image21.wmf" ContentType="image/x-wmf"/>
  <Override PartName="/ppt/media/image19.gif" ContentType="image/gi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6E1-61D6-47AA-AFEB-3F1B7D4E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E7D-FF55-4EFE-A177-569F388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C0B-5E33-4407-B416-45BFF6DC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6B3-B563-460E-8F60-4BA1637F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5B8-0D41-4C93-9E67-4AF4B7F8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453-C3CA-4D76-9F69-F89A2F76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C87-3DAB-4BC8-847F-1B3420B0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842-3F48-42D1-98B8-F4744C4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7F4-8D77-45C4-B017-FDD0199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40D-FE5F-436D-B750-FF7D58A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013-C36E-4872-BEAD-A1FFB60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EA3-31E4-46AE-9FA3-52E03DB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9F65-1E7C-42E0-B731-88252CBB8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24f6"/>
            </a:gs>
            <a:gs pos="100000">
              <a:srgbClr val="2ee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3505320"/>
            <a:ext cx="2438640" cy="642600"/>
          </a:xfrm>
          <a:prstGeom prst="rect">
            <a:avLst/>
          </a:prstGeom>
          <a:gradFill rotWithShape="0">
            <a:gsLst>
              <a:gs pos="0">
                <a:srgbClr val="f5ef09"/>
              </a:gs>
              <a:gs pos="100000">
                <a:srgbClr val="d92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lax"/>
              </a:rPr>
              <a:t>Von L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57200"/>
            <a:ext cx="66294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eübung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BD07224_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171880" cy="2495520"/>
          </a:xfrm>
          <a:prstGeom prst="rect">
            <a:avLst/>
          </a:prstGeom>
          <a:ln w="0">
            <a:noFill/>
          </a:ln>
        </p:spPr>
      </p:pic>
      <p:pic>
        <p:nvPicPr>
          <p:cNvPr id="44" name="BD05969_" descr=""/>
          <p:cNvPicPr/>
          <p:nvPr/>
        </p:nvPicPr>
        <p:blipFill>
          <a:blip r:embed="rId2"/>
          <a:stretch/>
        </p:blipFill>
        <p:spPr>
          <a:xfrm>
            <a:off x="6083280" y="2901960"/>
            <a:ext cx="2679840" cy="3651120"/>
          </a:xfrm>
          <a:prstGeom prst="rect">
            <a:avLst/>
          </a:prstGeom>
          <a:ln w="0">
            <a:noFill/>
          </a:ln>
        </p:spPr>
      </p:pic>
      <p:pic>
        <p:nvPicPr>
          <p:cNvPr id="45" name="BD06212_" descr=""/>
          <p:cNvPicPr/>
          <p:nvPr/>
        </p:nvPicPr>
        <p:blipFill>
          <a:blip r:embed="rId3"/>
          <a:stretch/>
        </p:blipFill>
        <p:spPr>
          <a:xfrm>
            <a:off x="7485120" y="304920"/>
            <a:ext cx="1278000" cy="182232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685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ee4e"/>
                </a:solidFill>
                <a:latin typeface="Lucida Handwriting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ee4e"/>
                </a:solidFill>
                <a:latin typeface="Lucida Handwriting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533520" y="54864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Probleme beim Rei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53352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Probleme beim Schwim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533520" y="365760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Probleme beim Pac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j0078811" descr=""/>
          <p:cNvPicPr/>
          <p:nvPr/>
        </p:nvPicPr>
        <p:blipFill>
          <a:blip r:embed="rId4"/>
          <a:stretch/>
        </p:blipFill>
        <p:spPr>
          <a:xfrm>
            <a:off x="2743200" y="304920"/>
            <a:ext cx="32004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Junge freut s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45720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Junge  ist wüt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457200" y="3581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Junge ist trau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G00315_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10 D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3352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4 Din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533520" y="388620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7 D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inos1_klein" descr=""/>
          <p:cNvPicPr/>
          <p:nvPr/>
        </p:nvPicPr>
        <p:blipFill>
          <a:blip r:embed="rId4"/>
          <a:stretch/>
        </p:blipFill>
        <p:spPr>
          <a:xfrm>
            <a:off x="1600200" y="304920"/>
            <a:ext cx="45720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Julias Haare sind hell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3352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illi hat rotbraune Ha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533520" y="3733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Haare von Eva sind blon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aare" descr=""/>
          <p:cNvPicPr/>
          <p:nvPr/>
        </p:nvPicPr>
        <p:blipFill>
          <a:blip r:embed="rId4"/>
          <a:stretch/>
        </p:blipFill>
        <p:spPr>
          <a:xfrm>
            <a:off x="4762440" y="114480"/>
            <a:ext cx="3314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533520" y="51814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Vogel sitzt im Käf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53352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Vogel sitzt auf einem Zwe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533520" y="32767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Vogel sitzt auf der Straß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N01275_" descr=""/>
          <p:cNvPicPr/>
          <p:nvPr/>
        </p:nvPicPr>
        <p:blipFill>
          <a:blip r:embed="rId4"/>
          <a:stretch/>
        </p:blipFill>
        <p:spPr>
          <a:xfrm>
            <a:off x="3446640" y="141120"/>
            <a:ext cx="295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53352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Eine Büroklammer ist grü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53352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Eine Büroklammer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Eine Büroklammer ist p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S00218_" descr=""/>
          <p:cNvPicPr/>
          <p:nvPr/>
        </p:nvPicPr>
        <p:blipFill>
          <a:blip r:embed="rId4"/>
          <a:stretch/>
        </p:blipFill>
        <p:spPr>
          <a:xfrm>
            <a:off x="3962520" y="762120"/>
            <a:ext cx="17762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gelbe Ros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5720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Rosen sind 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45720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sind weiße Ros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D00122_" descr=""/>
          <p:cNvPicPr/>
          <p:nvPr/>
        </p:nvPicPr>
        <p:blipFill>
          <a:blip r:embed="rId4"/>
          <a:stretch/>
        </p:blipFill>
        <p:spPr>
          <a:xfrm>
            <a:off x="4430880" y="228600"/>
            <a:ext cx="27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4864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Hund hat blaue Fleck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Hund hat dunkle Flec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648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Hund hat lila Flec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G00185_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5049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ist in einem G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3434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ist in einer Waf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0481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ist in einem  Be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D00509_" descr=""/>
          <p:cNvPicPr/>
          <p:nvPr/>
        </p:nvPicPr>
        <p:blipFill>
          <a:blip r:embed="rId1"/>
          <a:stretch/>
        </p:blipFill>
        <p:spPr>
          <a:xfrm>
            <a:off x="5181480" y="0"/>
            <a:ext cx="1219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410080"/>
            <a:ext cx="80769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spielt mit einem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343400"/>
            <a:ext cx="807696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spielt mit einem Wollknäu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352680"/>
            <a:ext cx="807696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spielt mit einer M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N02360_" descr=""/>
          <p:cNvPicPr/>
          <p:nvPr/>
        </p:nvPicPr>
        <p:blipFill>
          <a:blip r:embed="rId1"/>
          <a:stretch/>
        </p:blipFill>
        <p:spPr>
          <a:xfrm>
            <a:off x="3632040" y="44280"/>
            <a:ext cx="26924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457200" y="36576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Auto ist gelb und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20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Auto ist lila und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" y="51814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Auto ist grün und wei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D07272_" descr=""/>
          <p:cNvPicPr/>
          <p:nvPr/>
        </p:nvPicPr>
        <p:blipFill>
          <a:blip r:embed="rId4"/>
          <a:stretch/>
        </p:blipFill>
        <p:spPr>
          <a:xfrm>
            <a:off x="1143000" y="685800"/>
            <a:ext cx="3505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ist 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is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atze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AN01693_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2970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16002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Handwriting"/>
              </a:rPr>
              <a:t>Prima!</a:t>
            </a:r>
            <a:r>
              <a:rPr b="1" lang="en-US" sz="4000" spc="-1" strike="noStrike">
                <a:solidFill>
                  <a:srgbClr val="fbeecd"/>
                </a:solidFill>
                <a:latin typeface="Lucida Handwriting"/>
              </a:rPr>
              <a:t>  </a:t>
            </a:r>
            <a:r>
              <a:rPr b="1" lang="en-US" sz="4000" spc="-1" strike="noStrike">
                <a:solidFill>
                  <a:srgbClr val="ff9933"/>
                </a:solidFill>
                <a:latin typeface="Lucida Handwriting"/>
              </a:rPr>
              <a:t>Du hast alles geschaff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1143000" y="4343400"/>
            <a:ext cx="6553080" cy="1447920"/>
          </a:xfrm>
          <a:custGeom>
            <a:avLst/>
            <a:gdLst>
              <a:gd name="textAreaLeft" fmla="*/ 93600 w 6553080"/>
              <a:gd name="textAreaRight" fmla="*/ 6459480 w 655308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97740" h="21600">
                <a:moveTo>
                  <a:pt x="0" y="0"/>
                </a:moveTo>
                <a:lnTo>
                  <a:pt x="97740" y="0"/>
                </a:lnTo>
                <a:lnTo>
                  <a:pt x="97740" y="21600"/>
                </a:lnTo>
                <a:lnTo>
                  <a:pt x="0" y="21600"/>
                </a:lnTo>
                <a:close/>
              </a:path>
              <a:path fill="lightenLess" w="97740" h="21600">
                <a:moveTo>
                  <a:pt x="0" y="0"/>
                </a:moveTo>
                <a:lnTo>
                  <a:pt x="97740" y="0"/>
                </a:lnTo>
                <a:lnTo>
                  <a:pt x="96340" y="1400"/>
                </a:lnTo>
                <a:lnTo>
                  <a:pt x="1400" y="1400"/>
                </a:lnTo>
                <a:close/>
              </a:path>
              <a:path fill="darken" w="97740" h="21600">
                <a:moveTo>
                  <a:pt x="97740" y="0"/>
                </a:moveTo>
                <a:lnTo>
                  <a:pt x="97740" y="21600"/>
                </a:lnTo>
                <a:lnTo>
                  <a:pt x="96340" y="20200"/>
                </a:lnTo>
                <a:lnTo>
                  <a:pt x="96340" y="1400"/>
                </a:lnTo>
                <a:close/>
              </a:path>
              <a:path fill="darkenLess" w="97740" h="21600">
                <a:moveTo>
                  <a:pt x="97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340" y="20200"/>
                </a:lnTo>
                <a:close/>
              </a:path>
              <a:path fill="lighten" w="97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ee4e"/>
                </a:solidFill>
                <a:latin typeface="Lucida Handwriting"/>
              </a:rPr>
              <a:t>Zurück zum Anf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0600" y="474840"/>
            <a:ext cx="573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Lucida Handwriting"/>
              </a:rPr>
              <a:t>PRIMA, weiter s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ucida Handwriting"/>
              </a:rPr>
              <a:t>ZURÜCK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j0078625" descr=""/>
          <p:cNvPicPr/>
          <p:nvPr/>
        </p:nvPicPr>
        <p:blipFill>
          <a:blip r:embed="rId2"/>
          <a:stretch/>
        </p:blipFill>
        <p:spPr>
          <a:xfrm>
            <a:off x="3924360" y="1461960"/>
            <a:ext cx="1790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62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dc2f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ucida Handwriting"/>
              </a:rPr>
              <a:t>ZURÜCK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78703" descr=""/>
          <p:cNvPicPr/>
          <p:nvPr/>
        </p:nvPicPr>
        <p:blipFill>
          <a:blip r:embed="rId1"/>
          <a:stretch/>
        </p:blipFill>
        <p:spPr>
          <a:xfrm>
            <a:off x="3429000" y="1457280"/>
            <a:ext cx="2284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09480" y="38098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Katze schläft auf einem  Her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Katze schläft in einer Wi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609480" y="55627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Katze schläft in einem Körb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O01889_" descr=""/>
          <p:cNvPicPr/>
          <p:nvPr/>
        </p:nvPicPr>
        <p:blipFill>
          <a:blip r:embed="rId4"/>
          <a:stretch/>
        </p:blipFill>
        <p:spPr>
          <a:xfrm>
            <a:off x="3429000" y="304920"/>
            <a:ext cx="2798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Huhn sitzt im N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Huhn springt auf der Wi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09480" y="365760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Huhn sitzt im 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j0078997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24825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533520" y="38098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Mann  bad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53352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rr 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Mann in der roten Jake telefoni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H01517J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181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609480" y="52578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ie können sich ganz gut lei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eiden lieben s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eiden Leute  hassen s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j0078843" descr=""/>
          <p:cNvPicPr/>
          <p:nvPr/>
        </p:nvPicPr>
        <p:blipFill>
          <a:blip r:embed="rId4"/>
          <a:stretch/>
        </p:blipFill>
        <p:spPr>
          <a:xfrm>
            <a:off x="3276720" y="838080"/>
            <a:ext cx="3047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609480" y="52578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Mond scheint h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609480" y="4267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onne  steht hoch am Himm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Gerade geht die Sonne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A01062_" descr=""/>
          <p:cNvPicPr/>
          <p:nvPr/>
        </p:nvPicPr>
        <p:blipFill>
          <a:blip r:embed="rId4"/>
          <a:stretch/>
        </p:blipFill>
        <p:spPr>
          <a:xfrm>
            <a:off x="5213520" y="165240"/>
            <a:ext cx="26352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53352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3 Fis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3352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ist 1 Fi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3352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Auf dem Bild sind 2 Fis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N01616_" descr=""/>
          <p:cNvPicPr/>
          <p:nvPr/>
        </p:nvPicPr>
        <p:blipFill>
          <a:blip r:embed="rId4"/>
          <a:stretch/>
        </p:blipFill>
        <p:spPr>
          <a:xfrm>
            <a:off x="4038480" y="304920"/>
            <a:ext cx="2318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0948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Knut spielt mit seinem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09480" y="4419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Knut frisst ge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609480" y="35053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Knut badet ge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_fmabspic_0_0-1174294864" descr=""/>
          <p:cNvPicPr/>
          <p:nvPr/>
        </p:nvPicPr>
        <p:blipFill>
          <a:blip r:embed="rId4"/>
          <a:stretch/>
        </p:blipFill>
        <p:spPr>
          <a:xfrm>
            <a:off x="3276720" y="6094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04T21:30:49Z</dcterms:modified>
  <cp:revision>43</cp:revision>
  <dc:subject/>
  <dc:title>PowerPoint-Präsentation</dc:title>
</cp:coreProperties>
</file>