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9F8-9420-4B3E-971E-E5F58401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9AF-65FE-4EE3-A5C5-41DC0C17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A1C-97AD-49E7-9E61-CD2CA177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8A6-3E0F-4BC3-968E-A1B3D5EE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E01-67D9-4FD9-931A-A33D95CC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FBF-4DE2-4B11-ADC9-7E4316FF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CE8-D151-4C18-9978-CDC48EB6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C43-B46B-45A6-A948-5F44D591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7DD-647C-4CF1-A9D7-8768DEF7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01E-5A77-417D-BF68-CD76E359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67D-77C3-44DF-907B-8DEDC2A7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E65-33C4-4751-976D-FA653D27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0018-F5A3-44E7-B1AE-BBE533E5A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4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533520"/>
            <a:ext cx="7620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Lesetraining</a:t>
            </a:r>
            <a:endParaRPr b="0" i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676520"/>
            <a:ext cx="7483680" cy="642600"/>
          </a:xfrm>
          <a:prstGeom prst="rect">
            <a:avLst/>
          </a:prstGeom>
          <a:solidFill>
            <a:srgbClr val="ccff33"/>
          </a:solidFill>
          <a:ln w="7632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Gill Sans Ultra Bold"/>
              </a:rPr>
              <a:t>von Mar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endshow"/>
          </p:cNvPr>
          <p:cNvSpPr/>
          <p:nvPr/>
        </p:nvSpPr>
        <p:spPr>
          <a:xfrm>
            <a:off x="1295280" y="525780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4038480" y="525780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N02034_" descr=""/>
          <p:cNvPicPr/>
          <p:nvPr/>
        </p:nvPicPr>
        <p:blipFill>
          <a:blip r:embed="rId1"/>
          <a:stretch/>
        </p:blipFill>
        <p:spPr>
          <a:xfrm>
            <a:off x="6095880" y="2819520"/>
            <a:ext cx="2301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Kind sitzt an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Erde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ie Tafel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usel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Buch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7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8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Lilli läuft gegen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0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Wurst schmec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1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2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ol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er Computer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Tür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l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er Stuhl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qu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ga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Kinder sin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Verdana"/>
              </a:rPr>
              <a:t>Der Lolli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ü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lei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Sonne sche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im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457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9900"/>
                </a:solidFill>
                <a:latin typeface="Lucida Fax"/>
              </a:rPr>
              <a:t>Schade probier´s nochmal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2895480" y="5257800"/>
            <a:ext cx="3276720" cy="99072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720"/>
              <a:gd name="textAreaBottom" fmla="*/ 892440 h 990720"/>
            </a:gdLst>
            <a:ahLst/>
            <a:rect l="textAreaLeft" t="textAreaTop" r="textAreaRight" b="textAreaBottom"/>
            <a:pathLst>
              <a:path w="71422" h="21600">
                <a:moveTo>
                  <a:pt x="0" y="0"/>
                </a:moveTo>
                <a:lnTo>
                  <a:pt x="71422" y="0"/>
                </a:lnTo>
                <a:lnTo>
                  <a:pt x="71422" y="21600"/>
                </a:lnTo>
                <a:lnTo>
                  <a:pt x="0" y="21600"/>
                </a:lnTo>
                <a:close/>
              </a:path>
              <a:path fill="lightenLess" w="71422" h="21600">
                <a:moveTo>
                  <a:pt x="0" y="0"/>
                </a:moveTo>
                <a:lnTo>
                  <a:pt x="71422" y="0"/>
                </a:lnTo>
                <a:lnTo>
                  <a:pt x="69276" y="2146"/>
                </a:lnTo>
                <a:lnTo>
                  <a:pt x="2146" y="2146"/>
                </a:lnTo>
                <a:close/>
              </a:path>
              <a:path fill="darken" w="71422" h="21600">
                <a:moveTo>
                  <a:pt x="71422" y="0"/>
                </a:moveTo>
                <a:lnTo>
                  <a:pt x="71422" y="21600"/>
                </a:lnTo>
                <a:lnTo>
                  <a:pt x="69276" y="19454"/>
                </a:lnTo>
                <a:lnTo>
                  <a:pt x="69276" y="2146"/>
                </a:lnTo>
                <a:close/>
              </a:path>
              <a:path fill="darkenLess" w="71422" h="21600">
                <a:moveTo>
                  <a:pt x="71422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276" y="19454"/>
                </a:lnTo>
                <a:close/>
              </a:path>
              <a:path fill="lighten" w="71422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Lucida Fax"/>
              </a:rPr>
              <a:t>Zurück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S01181_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897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83120" y="380880"/>
            <a:ext cx="78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Lucida Fax"/>
              </a:rPr>
              <a:t>Super  -  gut gemacht!!!!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274320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S01180_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3902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2Z</dcterms:created>
  <dc:creator>Gast</dc:creator>
  <dc:description/>
  <dc:language>en-US</dc:language>
  <cp:lastModifiedBy>User</cp:lastModifiedBy>
  <dcterms:modified xsi:type="dcterms:W3CDTF">2007-11-01T18:25:21Z</dcterms:modified>
  <cp:revision>23</cp:revision>
  <dc:subject/>
  <dc:title>PowerPoint-Präsentation</dc:title>
</cp:coreProperties>
</file>