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B71-4B9D-4830-AF97-4DD3406B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CC3-0F54-4FD9-9ECF-6CC56442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A8E-7218-4788-BD76-52D76EF5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5B3-B472-4D8A-AC8F-95E96129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FF8-C39D-4BAF-AA8A-B7F09C2A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2A2-264A-40F0-A12C-7CC3EE06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EF5-0069-4018-B34E-09DB7EF4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5B2-CCED-48EA-B4EC-7E0BB7B1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CBB-F35B-4307-A403-C2335BCB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0B0-FE15-4293-B346-31F50F16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4BA-6EB7-493D-B734-D6FC62EA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D2A-732B-4A30-8080-2A1B0DF2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4FF6-76D3-42E1-8C25-C571F220D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58d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6094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cc99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setraining</a:t>
            </a:r>
            <a:endParaRPr b="0" lang="en-US" sz="2400" spc="1" strike="noStrike">
              <a:ln w="9360">
                <a:solidFill>
                  <a:srgbClr val="00cc99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676520"/>
            <a:ext cx="7483680" cy="642600"/>
          </a:xfrm>
          <a:prstGeom prst="rect">
            <a:avLst/>
          </a:prstGeom>
          <a:gradFill rotWithShape="0">
            <a:gsLst>
              <a:gs pos="0">
                <a:srgbClr val="2507d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Gill Sans Ultra Bold"/>
              </a:rPr>
              <a:t>Von Christo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1905120" y="5562720"/>
            <a:ext cx="2133360" cy="914400"/>
          </a:xfrm>
          <a:custGeom>
            <a:avLst/>
            <a:gdLst>
              <a:gd name="textAreaLeft" fmla="*/ 59040 w 2133360"/>
              <a:gd name="textAreaRight" fmla="*/ 2074320 w 2133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0383" h="21600">
                <a:moveTo>
                  <a:pt x="0" y="0"/>
                </a:moveTo>
                <a:lnTo>
                  <a:pt x="50383" y="0"/>
                </a:lnTo>
                <a:lnTo>
                  <a:pt x="50383" y="21600"/>
                </a:lnTo>
                <a:lnTo>
                  <a:pt x="0" y="21600"/>
                </a:lnTo>
                <a:close/>
              </a:path>
              <a:path fill="lightenLess" w="50383" h="21600">
                <a:moveTo>
                  <a:pt x="0" y="0"/>
                </a:moveTo>
                <a:lnTo>
                  <a:pt x="50383" y="0"/>
                </a:lnTo>
                <a:lnTo>
                  <a:pt x="48983" y="1400"/>
                </a:lnTo>
                <a:lnTo>
                  <a:pt x="1400" y="1400"/>
                </a:lnTo>
                <a:close/>
              </a:path>
              <a:path fill="darken" w="50383" h="21600">
                <a:moveTo>
                  <a:pt x="50383" y="0"/>
                </a:moveTo>
                <a:lnTo>
                  <a:pt x="50383" y="21600"/>
                </a:lnTo>
                <a:lnTo>
                  <a:pt x="48983" y="20200"/>
                </a:lnTo>
                <a:lnTo>
                  <a:pt x="48983" y="1400"/>
                </a:lnTo>
                <a:close/>
              </a:path>
              <a:path fill="darkenLess" w="50383" h="21600">
                <a:moveTo>
                  <a:pt x="50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3" y="20200"/>
                </a:lnTo>
                <a:close/>
              </a:path>
              <a:path fill="lighten" w="50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2f0e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5029200" y="5562720"/>
            <a:ext cx="2133720" cy="914400"/>
          </a:xfrm>
          <a:custGeom>
            <a:avLst/>
            <a:gdLst>
              <a:gd name="textAreaLeft" fmla="*/ 59040 w 2133720"/>
              <a:gd name="textAreaRight" fmla="*/ 2074680 w 2133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0391" h="21600">
                <a:moveTo>
                  <a:pt x="0" y="0"/>
                </a:moveTo>
                <a:lnTo>
                  <a:pt x="50391" y="0"/>
                </a:lnTo>
                <a:lnTo>
                  <a:pt x="50391" y="21600"/>
                </a:lnTo>
                <a:lnTo>
                  <a:pt x="0" y="21600"/>
                </a:lnTo>
                <a:close/>
              </a:path>
              <a:path fill="lightenLess" w="50391" h="21600">
                <a:moveTo>
                  <a:pt x="0" y="0"/>
                </a:moveTo>
                <a:lnTo>
                  <a:pt x="50391" y="0"/>
                </a:lnTo>
                <a:lnTo>
                  <a:pt x="48992" y="1400"/>
                </a:lnTo>
                <a:lnTo>
                  <a:pt x="1400" y="1400"/>
                </a:lnTo>
                <a:close/>
              </a:path>
              <a:path fill="darken" w="50391" h="21600">
                <a:moveTo>
                  <a:pt x="50391" y="0"/>
                </a:moveTo>
                <a:lnTo>
                  <a:pt x="50391" y="21600"/>
                </a:lnTo>
                <a:lnTo>
                  <a:pt x="48992" y="20200"/>
                </a:lnTo>
                <a:lnTo>
                  <a:pt x="48992" y="1400"/>
                </a:lnTo>
                <a:close/>
              </a:path>
              <a:path fill="darkenLess" w="50391" h="21600">
                <a:moveTo>
                  <a:pt x="50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92" y="20200"/>
                </a:lnTo>
                <a:close/>
              </a:path>
              <a:path fill="lighten" w="50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2107e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02742_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320040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df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Auto hält an d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reuzi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reu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229600" cy="459720"/>
          </a:xfrm>
          <a:prstGeom prst="rect">
            <a:avLst/>
          </a:prstGeom>
          <a:solidFill>
            <a:srgbClr val="f6f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usanne geht z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Polizei jagt de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Blume wächst i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7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8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Fahrrad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ü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Käse schmeck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1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2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Auto hält an d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m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kpl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57200"/>
            <a:ext cx="8229600" cy="459720"/>
          </a:xfrm>
          <a:prstGeom prst="rect">
            <a:avLst/>
          </a:prstGeom>
          <a:solidFill>
            <a:srgbClr val="f6f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usanne geht z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4" action="ppaction://hlinksldjump"/>
          </p:cNvPr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hn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5" action="ppaction://hlinksldjump"/>
          </p:cNvPr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Polizei jagt de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äu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äube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Blume wächst i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umento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Fahrrad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0" action="ppaction://hlinksldjump"/>
          </p:cNvPr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ugier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1" action="ppaction://hlinksldjump"/>
          </p:cNvPr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Käse schmeck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2" action="ppaction://hlinksldjump"/>
          </p:cNvPr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u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3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f035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600200"/>
            <a:ext cx="3809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 Kran wir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1600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f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1600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457200"/>
            <a:ext cx="8229600" cy="459720"/>
          </a:xfrm>
          <a:prstGeom prst="rect">
            <a:avLst/>
          </a:prstGeom>
          <a:solidFill>
            <a:srgbClr val="f6f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Verdana"/>
              </a:rPr>
              <a:t>Lies die Sätze und klicke das richtige Wort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362320"/>
            <a:ext cx="3809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usanne geht z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362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b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2362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124080"/>
            <a:ext cx="38098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Lehrer schreib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267080" y="3124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die Taf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3124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die Ti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886200"/>
            <a:ext cx="380988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ie Blume wächst i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477120" y="388620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3886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o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4648320"/>
            <a:ext cx="3809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as Fahrrad i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64832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pu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464832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pud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5410080"/>
            <a:ext cx="3809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er Käse schmeck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541008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46" h="21600">
                <a:moveTo>
                  <a:pt x="0" y="0"/>
                </a:moveTo>
                <a:lnTo>
                  <a:pt x="104346" y="0"/>
                </a:lnTo>
                <a:lnTo>
                  <a:pt x="104346" y="21600"/>
                </a:lnTo>
                <a:lnTo>
                  <a:pt x="0" y="21600"/>
                </a:lnTo>
                <a:close/>
              </a:path>
              <a:path fill="lightenLess" w="104346" h="21600">
                <a:moveTo>
                  <a:pt x="0" y="0"/>
                </a:moveTo>
                <a:lnTo>
                  <a:pt x="104346" y="0"/>
                </a:lnTo>
                <a:lnTo>
                  <a:pt x="104346" y="0"/>
                </a:lnTo>
                <a:lnTo>
                  <a:pt x="0" y="0"/>
                </a:lnTo>
                <a:close/>
              </a:path>
              <a:path fill="darken" w="104346" h="21600">
                <a:moveTo>
                  <a:pt x="104346" y="0"/>
                </a:moveTo>
                <a:lnTo>
                  <a:pt x="104346" y="21600"/>
                </a:lnTo>
                <a:lnTo>
                  <a:pt x="104346" y="21600"/>
                </a:lnTo>
                <a:lnTo>
                  <a:pt x="104346" y="0"/>
                </a:lnTo>
                <a:close/>
              </a:path>
              <a:path fill="darkenLess" w="104346" h="21600">
                <a:moveTo>
                  <a:pt x="10434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46" y="21600"/>
                </a:lnTo>
                <a:close/>
              </a:path>
              <a:path fill="lighten" w="10434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an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6477120" y="5410080"/>
            <a:ext cx="2209680" cy="457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329" h="21600">
                <a:moveTo>
                  <a:pt x="0" y="0"/>
                </a:moveTo>
                <a:lnTo>
                  <a:pt x="104329" y="0"/>
                </a:lnTo>
                <a:lnTo>
                  <a:pt x="104329" y="21600"/>
                </a:lnTo>
                <a:lnTo>
                  <a:pt x="0" y="21600"/>
                </a:lnTo>
                <a:close/>
              </a:path>
              <a:path fill="lightenLess" w="104329" h="21600">
                <a:moveTo>
                  <a:pt x="0" y="0"/>
                </a:moveTo>
                <a:lnTo>
                  <a:pt x="104329" y="0"/>
                </a:lnTo>
                <a:lnTo>
                  <a:pt x="104329" y="0"/>
                </a:lnTo>
                <a:lnTo>
                  <a:pt x="0" y="0"/>
                </a:lnTo>
                <a:close/>
              </a:path>
              <a:path fill="darken" w="104329" h="21600">
                <a:moveTo>
                  <a:pt x="104329" y="0"/>
                </a:moveTo>
                <a:lnTo>
                  <a:pt x="104329" y="21600"/>
                </a:lnTo>
                <a:lnTo>
                  <a:pt x="104329" y="21600"/>
                </a:lnTo>
                <a:lnTo>
                  <a:pt x="104329" y="0"/>
                </a:lnTo>
                <a:close/>
              </a:path>
              <a:path fill="darkenLess" w="104329" h="21600">
                <a:moveTo>
                  <a:pt x="10432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04329" y="21600"/>
                </a:lnTo>
                <a:close/>
              </a:path>
              <a:path fill="lighten" w="10432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räf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380988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434340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1583" y="3837"/>
                </a:moveTo>
                <a:lnTo>
                  <a:pt x="24159" y="6448"/>
                </a:ln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lnTo>
                  <a:pt x="28546" y="10800"/>
                </a:lnTo>
                <a:lnTo>
                  <a:pt x="26892" y="10800"/>
                </a:lnTo>
                <a:lnTo>
                  <a:pt x="26892" y="17989"/>
                </a:lnTo>
                <a:lnTo>
                  <a:pt x="16274" y="17989"/>
                </a:lnTo>
                <a:lnTo>
                  <a:pt x="16274" y="10800"/>
                </a:lnTo>
                <a:lnTo>
                  <a:pt x="14620" y="10800"/>
                </a:lnTo>
                <a:close/>
              </a:path>
              <a:path fill="darkenLess" w="43166" h="21600">
                <a:moveTo>
                  <a:pt x="24159" y="6448"/>
                </a:moveTo>
                <a:lnTo>
                  <a:pt x="24159" y="4707"/>
                </a:lnTo>
                <a:lnTo>
                  <a:pt x="25935" y="4707"/>
                </a:lnTo>
                <a:lnTo>
                  <a:pt x="25935" y="8224"/>
                </a:lnTo>
                <a:close/>
              </a:path>
              <a:path fill="darkenLess" w="43166" h="21600">
                <a:moveTo>
                  <a:pt x="20660" y="14299"/>
                </a:moveTo>
                <a:lnTo>
                  <a:pt x="22506" y="14299"/>
                </a:lnTo>
                <a:lnTo>
                  <a:pt x="22506" y="17989"/>
                </a:lnTo>
                <a:lnTo>
                  <a:pt x="26892" y="17989"/>
                </a:lnTo>
                <a:lnTo>
                  <a:pt x="26892" y="10800"/>
                </a:lnTo>
                <a:lnTo>
                  <a:pt x="16274" y="10800"/>
                </a:lnTo>
                <a:lnTo>
                  <a:pt x="16274" y="17989"/>
                </a:lnTo>
                <a:lnTo>
                  <a:pt x="20660" y="1798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3ef6"/>
            </a:gs>
            <a:gs pos="50000">
              <a:srgbClr val="000000"/>
            </a:gs>
            <a:gs pos="100000">
              <a:srgbClr val="3e3ef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304920"/>
            <a:ext cx="8074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Du hast alles geschafft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13" name="SY01214_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860480" cy="239076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2590920" y="5334120"/>
            <a:ext cx="2743200" cy="990360"/>
          </a:xfrm>
          <a:custGeom>
            <a:avLst/>
            <a:gdLst>
              <a:gd name="textAreaLeft" fmla="*/ 64080 w 2743200"/>
              <a:gd name="textAreaRight" fmla="*/ 2679120 w 2743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59816" h="21600">
                <a:moveTo>
                  <a:pt x="0" y="0"/>
                </a:moveTo>
                <a:lnTo>
                  <a:pt x="59816" y="0"/>
                </a:lnTo>
                <a:lnTo>
                  <a:pt x="59816" y="21600"/>
                </a:lnTo>
                <a:lnTo>
                  <a:pt x="0" y="21600"/>
                </a:lnTo>
                <a:close/>
              </a:path>
              <a:path fill="lightenLess" w="59816" h="21600">
                <a:moveTo>
                  <a:pt x="0" y="0"/>
                </a:moveTo>
                <a:lnTo>
                  <a:pt x="59816" y="0"/>
                </a:lnTo>
                <a:lnTo>
                  <a:pt x="58416" y="1400"/>
                </a:lnTo>
                <a:lnTo>
                  <a:pt x="1400" y="1400"/>
                </a:lnTo>
                <a:close/>
              </a:path>
              <a:path fill="darken" w="59816" h="21600">
                <a:moveTo>
                  <a:pt x="59816" y="0"/>
                </a:moveTo>
                <a:lnTo>
                  <a:pt x="59816" y="21600"/>
                </a:lnTo>
                <a:lnTo>
                  <a:pt x="58416" y="20200"/>
                </a:lnTo>
                <a:lnTo>
                  <a:pt x="58416" y="1400"/>
                </a:lnTo>
                <a:close/>
              </a:path>
              <a:path fill="darkenLess" w="59816" h="21600">
                <a:moveTo>
                  <a:pt x="59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16" y="20200"/>
                </a:lnTo>
                <a:close/>
              </a:path>
              <a:path fill="lighten" w="59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40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endshow"/>
          </p:cNvPr>
          <p:cNvSpPr/>
          <p:nvPr/>
        </p:nvSpPr>
        <p:spPr>
          <a:xfrm>
            <a:off x="5867280" y="5334120"/>
            <a:ext cx="2895840" cy="990360"/>
          </a:xfrm>
          <a:custGeom>
            <a:avLst/>
            <a:gdLst>
              <a:gd name="textAreaLeft" fmla="*/ 64080 w 2895840"/>
              <a:gd name="textAreaRight" fmla="*/ 2831760 w 2895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3144" h="21600">
                <a:moveTo>
                  <a:pt x="0" y="0"/>
                </a:moveTo>
                <a:lnTo>
                  <a:pt x="63144" y="0"/>
                </a:lnTo>
                <a:lnTo>
                  <a:pt x="63144" y="21600"/>
                </a:lnTo>
                <a:lnTo>
                  <a:pt x="0" y="21600"/>
                </a:lnTo>
                <a:close/>
              </a:path>
              <a:path fill="lightenLess" w="63144" h="21600">
                <a:moveTo>
                  <a:pt x="0" y="0"/>
                </a:moveTo>
                <a:lnTo>
                  <a:pt x="63144" y="0"/>
                </a:lnTo>
                <a:lnTo>
                  <a:pt x="61744" y="1400"/>
                </a:lnTo>
                <a:lnTo>
                  <a:pt x="1400" y="1400"/>
                </a:lnTo>
                <a:close/>
              </a:path>
              <a:path fill="darken" w="63144" h="21600">
                <a:moveTo>
                  <a:pt x="63144" y="0"/>
                </a:moveTo>
                <a:lnTo>
                  <a:pt x="63144" y="21600"/>
                </a:lnTo>
                <a:lnTo>
                  <a:pt x="61744" y="20200"/>
                </a:lnTo>
                <a:lnTo>
                  <a:pt x="61744" y="1400"/>
                </a:lnTo>
                <a:close/>
              </a:path>
              <a:path fill="darkenLess" w="63144" h="21600">
                <a:moveTo>
                  <a:pt x="631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744" y="20200"/>
                </a:lnTo>
                <a:close/>
              </a:path>
              <a:path fill="lighten" w="631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1e6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2742_" descr=""/>
          <p:cNvPicPr/>
          <p:nvPr/>
        </p:nvPicPr>
        <p:blipFill>
          <a:blip r:embed="rId2"/>
          <a:stretch/>
        </p:blipFill>
        <p:spPr>
          <a:xfrm>
            <a:off x="2730600" y="1711440"/>
            <a:ext cx="3213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457200"/>
            <a:ext cx="78487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2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cc"/>
                </a:solidFill>
                <a:latin typeface="Arial Black"/>
              </a:rPr>
              <a:t>Probier‘s nochmal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289548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96b3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S01181_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3811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75480" y="474840"/>
            <a:ext cx="6877080" cy="825120"/>
          </a:xfrm>
          <a:prstGeom prst="rect">
            <a:avLst/>
          </a:prstGeom>
          <a:gradFill rotWithShape="0">
            <a:gsLst>
              <a:gs pos="0">
                <a:srgbClr val="3008f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Handwriting"/>
              </a:rPr>
              <a:t>Bravo, gut gemacht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2743200" y="5334120"/>
            <a:ext cx="3276720" cy="990360"/>
          </a:xfrm>
          <a:custGeom>
            <a:avLst/>
            <a:gdLst>
              <a:gd name="textAreaLeft" fmla="*/ 98280 w 3276720"/>
              <a:gd name="textAreaRight" fmla="*/ 3178440 w 3276720"/>
              <a:gd name="textAreaTop" fmla="*/ 98280 h 990360"/>
              <a:gd name="textAreaBottom" fmla="*/ 892080 h 990360"/>
            </a:gdLst>
            <a:ahLst/>
            <a:rect l="textAreaLeft" t="textAreaTop" r="textAreaRight" b="textAreaBottom"/>
            <a:pathLst>
              <a:path w="71448" h="21600">
                <a:moveTo>
                  <a:pt x="0" y="0"/>
                </a:moveTo>
                <a:lnTo>
                  <a:pt x="71448" y="0"/>
                </a:lnTo>
                <a:lnTo>
                  <a:pt x="71448" y="21600"/>
                </a:lnTo>
                <a:lnTo>
                  <a:pt x="0" y="21600"/>
                </a:lnTo>
                <a:close/>
              </a:path>
              <a:path fill="lightenLess" w="71448" h="21600">
                <a:moveTo>
                  <a:pt x="0" y="0"/>
                </a:moveTo>
                <a:lnTo>
                  <a:pt x="71448" y="0"/>
                </a:lnTo>
                <a:lnTo>
                  <a:pt x="69302" y="2146"/>
                </a:lnTo>
                <a:lnTo>
                  <a:pt x="2146" y="2146"/>
                </a:lnTo>
                <a:close/>
              </a:path>
              <a:path fill="darken" w="71448" h="21600">
                <a:moveTo>
                  <a:pt x="71448" y="0"/>
                </a:moveTo>
                <a:lnTo>
                  <a:pt x="71448" y="21600"/>
                </a:lnTo>
                <a:lnTo>
                  <a:pt x="69302" y="19454"/>
                </a:lnTo>
                <a:lnTo>
                  <a:pt x="69302" y="2146"/>
                </a:lnTo>
                <a:close/>
              </a:path>
              <a:path fill="darkenLess" w="71448" h="21600">
                <a:moveTo>
                  <a:pt x="71448" y="21600"/>
                </a:moveTo>
                <a:lnTo>
                  <a:pt x="0" y="21600"/>
                </a:lnTo>
                <a:lnTo>
                  <a:pt x="2146" y="19454"/>
                </a:lnTo>
                <a:lnTo>
                  <a:pt x="69302" y="19454"/>
                </a:lnTo>
                <a:close/>
              </a:path>
              <a:path fill="lighten" w="71448" h="21600">
                <a:moveTo>
                  <a:pt x="0" y="21600"/>
                </a:moveTo>
                <a:lnTo>
                  <a:pt x="0" y="0"/>
                </a:lnTo>
                <a:lnTo>
                  <a:pt x="2146" y="2146"/>
                </a:lnTo>
                <a:lnTo>
                  <a:pt x="2146" y="1945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Zurück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E02742_" descr=""/>
          <p:cNvPicPr/>
          <p:nvPr/>
        </p:nvPicPr>
        <p:blipFill>
          <a:blip r:embed="rId2"/>
          <a:stretch/>
        </p:blipFill>
        <p:spPr>
          <a:xfrm>
            <a:off x="2730600" y="1711440"/>
            <a:ext cx="368280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50:22Z</dcterms:created>
  <dc:creator>Gast</dc:creator>
  <dc:description/>
  <dc:language>en-US</dc:language>
  <cp:lastModifiedBy>User</cp:lastModifiedBy>
  <dcterms:modified xsi:type="dcterms:W3CDTF">2007-12-31T16:00:12Z</dcterms:modified>
  <cp:revision>34</cp:revision>
  <dc:subject/>
  <dc:title>PowerPoint-Präsentation</dc:title>
</cp:coreProperties>
</file>