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252B-68FB-4A5A-A469-7D6CC5657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5535-B169-4763-8F85-A57B6CEC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9DEA-0036-4DFF-A88B-8ECF2C06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F4A5-E4C2-47D9-B235-E69BD1F99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8A34-C4E2-4329-ADEC-9A0F0D5A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5281-24BF-4F00-948B-825BB77B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7142-4CCF-4DEA-9174-A5C2AD2C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7334-F59A-446B-A251-171E3234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EECF-7869-4812-AC8F-CC9536D7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1919-8454-413E-A681-04C41439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49A7-489B-4EAF-836A-1F75E8B2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9087-318D-4102-B42F-666F4FE0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0D11-9ECE-4085-B0EF-E8CA01164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45720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Lesetraining</a:t>
            </a:r>
            <a:endParaRPr b="0" i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676520"/>
            <a:ext cx="7483680" cy="642600"/>
          </a:xfrm>
          <a:prstGeom prst="rect">
            <a:avLst/>
          </a:prstGeom>
          <a:solidFill>
            <a:srgbClr val="ff0000"/>
          </a:solidFill>
          <a:ln w="76320">
            <a:solidFill>
              <a:srgbClr val="ffff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ill Sans Ultra Bold"/>
              </a:rPr>
              <a:t>Von Claud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endshow"/>
          </p:cNvPr>
          <p:cNvSpPr/>
          <p:nvPr/>
        </p:nvSpPr>
        <p:spPr>
          <a:xfrm>
            <a:off x="1447920" y="5410080"/>
            <a:ext cx="2590560" cy="1143000"/>
          </a:xfrm>
          <a:custGeom>
            <a:avLst/>
            <a:gdLst>
              <a:gd name="textAreaLeft" fmla="*/ 73800 w 2590560"/>
              <a:gd name="textAreaRight" fmla="*/ 2516760 w 25905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8947" h="21600">
                <a:moveTo>
                  <a:pt x="0" y="0"/>
                </a:moveTo>
                <a:lnTo>
                  <a:pt x="48947" y="0"/>
                </a:lnTo>
                <a:lnTo>
                  <a:pt x="48947" y="21600"/>
                </a:lnTo>
                <a:lnTo>
                  <a:pt x="0" y="21600"/>
                </a:lnTo>
                <a:close/>
              </a:path>
              <a:path fill="lightenLess" w="48947" h="21600">
                <a:moveTo>
                  <a:pt x="0" y="0"/>
                </a:moveTo>
                <a:lnTo>
                  <a:pt x="48947" y="0"/>
                </a:lnTo>
                <a:lnTo>
                  <a:pt x="47547" y="1400"/>
                </a:lnTo>
                <a:lnTo>
                  <a:pt x="1400" y="1400"/>
                </a:lnTo>
                <a:close/>
              </a:path>
              <a:path fill="darken" w="48947" h="21600">
                <a:moveTo>
                  <a:pt x="48947" y="0"/>
                </a:moveTo>
                <a:lnTo>
                  <a:pt x="48947" y="21600"/>
                </a:lnTo>
                <a:lnTo>
                  <a:pt x="47547" y="20200"/>
                </a:lnTo>
                <a:lnTo>
                  <a:pt x="47547" y="1400"/>
                </a:lnTo>
                <a:close/>
              </a:path>
              <a:path fill="darkenLess" w="48947" h="21600">
                <a:moveTo>
                  <a:pt x="489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547" y="20200"/>
                </a:lnTo>
                <a:close/>
              </a:path>
              <a:path fill="lighten" w="489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5410080"/>
            <a:ext cx="2590920" cy="1143000"/>
          </a:xfrm>
          <a:custGeom>
            <a:avLst/>
            <a:gdLst>
              <a:gd name="textAreaLeft" fmla="*/ 73800 w 2590920"/>
              <a:gd name="textAreaRight" fmla="*/ 2517120 w 25909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8954" h="21600">
                <a:moveTo>
                  <a:pt x="0" y="0"/>
                </a:moveTo>
                <a:lnTo>
                  <a:pt x="48954" y="0"/>
                </a:lnTo>
                <a:lnTo>
                  <a:pt x="48954" y="21600"/>
                </a:lnTo>
                <a:lnTo>
                  <a:pt x="0" y="21600"/>
                </a:lnTo>
                <a:close/>
              </a:path>
              <a:path fill="lightenLess" w="48954" h="21600">
                <a:moveTo>
                  <a:pt x="0" y="0"/>
                </a:moveTo>
                <a:lnTo>
                  <a:pt x="48954" y="0"/>
                </a:lnTo>
                <a:lnTo>
                  <a:pt x="47554" y="1400"/>
                </a:lnTo>
                <a:lnTo>
                  <a:pt x="1400" y="1400"/>
                </a:lnTo>
                <a:close/>
              </a:path>
              <a:path fill="darken" w="48954" h="21600">
                <a:moveTo>
                  <a:pt x="48954" y="0"/>
                </a:moveTo>
                <a:lnTo>
                  <a:pt x="48954" y="21600"/>
                </a:lnTo>
                <a:lnTo>
                  <a:pt x="47554" y="20200"/>
                </a:lnTo>
                <a:lnTo>
                  <a:pt x="47554" y="1400"/>
                </a:lnTo>
                <a:close/>
              </a:path>
              <a:path fill="darkenLess" w="48954" h="21600">
                <a:moveTo>
                  <a:pt x="489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554" y="20200"/>
                </a:lnTo>
                <a:close/>
              </a:path>
              <a:path fill="lighten" w="489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DD01061_" descr=""/>
          <p:cNvPicPr/>
          <p:nvPr/>
        </p:nvPicPr>
        <p:blipFill>
          <a:blip r:embed="rId2"/>
          <a:stretch/>
        </p:blipFill>
        <p:spPr>
          <a:xfrm>
            <a:off x="6324480" y="3124080"/>
            <a:ext cx="2065320" cy="1862280"/>
          </a:xfrm>
          <a:prstGeom prst="rect">
            <a:avLst/>
          </a:prstGeom>
          <a:ln w="0">
            <a:noFill/>
          </a:ln>
        </p:spPr>
      </p:pic>
      <p:pic>
        <p:nvPicPr>
          <p:cNvPr id="46" name="DD00367_" descr=""/>
          <p:cNvPicPr/>
          <p:nvPr/>
        </p:nvPicPr>
        <p:blipFill>
          <a:blip r:embed="rId3"/>
          <a:stretch/>
        </p:blipFill>
        <p:spPr>
          <a:xfrm>
            <a:off x="1066680" y="3124080"/>
            <a:ext cx="4114800" cy="1676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52480" y="3733920"/>
            <a:ext cx="273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kommen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600200"/>
            <a:ext cx="3809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Autos fahren auf de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4267080" y="1600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aß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6477120" y="1600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86600" y="533520"/>
            <a:ext cx="597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66"/>
                </a:solidFill>
                <a:uFillTx/>
                <a:latin typeface="Verdana"/>
              </a:rPr>
              <a:t>Lies die Sätze und klicke das richtige Wort 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362320"/>
            <a:ext cx="3809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ie Leute gehen z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3" action="ppaction://hlinksldjump"/>
          </p:cNvPr>
          <p:cNvSpPr/>
          <p:nvPr/>
        </p:nvSpPr>
        <p:spPr>
          <a:xfrm>
            <a:off x="4267080" y="2362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ücher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4" action="ppaction://hlinksldjump"/>
          </p:cNvPr>
          <p:cNvSpPr/>
          <p:nvPr/>
        </p:nvSpPr>
        <p:spPr>
          <a:xfrm>
            <a:off x="6477120" y="2362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124080"/>
            <a:ext cx="38098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Verdana"/>
              </a:rPr>
              <a:t>Der kleine Pit 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5" action="ppaction://hlinksldjump"/>
          </p:cNvPr>
          <p:cNvSpPr/>
          <p:nvPr/>
        </p:nvSpPr>
        <p:spPr>
          <a:xfrm>
            <a:off x="4267080" y="3124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ungr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6" action="ppaction://hlinksldjump"/>
          </p:cNvPr>
          <p:cNvSpPr/>
          <p:nvPr/>
        </p:nvSpPr>
        <p:spPr>
          <a:xfrm>
            <a:off x="6477120" y="3124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ausho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886200"/>
            <a:ext cx="3809880" cy="459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er Baum is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7" action="ppaction://hlinksldjump"/>
          </p:cNvPr>
          <p:cNvSpPr/>
          <p:nvPr/>
        </p:nvSpPr>
        <p:spPr>
          <a:xfrm>
            <a:off x="4267080" y="3886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8" action="ppaction://hlinksldjump"/>
          </p:cNvPr>
          <p:cNvSpPr/>
          <p:nvPr/>
        </p:nvSpPr>
        <p:spPr>
          <a:xfrm>
            <a:off x="6477120" y="3886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648320"/>
            <a:ext cx="38098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Lena liest fleiß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4648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üch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77120" y="4648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ü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5410080"/>
            <a:ext cx="38098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Gras wächst auf de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5410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5410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i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63244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79" h="21600">
                <a:moveTo>
                  <a:pt x="25889" y="3837"/>
                </a:moveTo>
                <a:lnTo>
                  <a:pt x="28466" y="6448"/>
                </a:lnTo>
                <a:lnTo>
                  <a:pt x="28466" y="4707"/>
                </a:lnTo>
                <a:lnTo>
                  <a:pt x="30241" y="4707"/>
                </a:lnTo>
                <a:lnTo>
                  <a:pt x="30241" y="8224"/>
                </a:lnTo>
                <a:lnTo>
                  <a:pt x="32852" y="10800"/>
                </a:lnTo>
                <a:lnTo>
                  <a:pt x="31199" y="10800"/>
                </a:lnTo>
                <a:lnTo>
                  <a:pt x="31199" y="17989"/>
                </a:lnTo>
                <a:lnTo>
                  <a:pt x="20580" y="17989"/>
                </a:lnTo>
                <a:lnTo>
                  <a:pt x="20580" y="10800"/>
                </a:lnTo>
                <a:lnTo>
                  <a:pt x="18926" y="10800"/>
                </a:lnTo>
                <a:close/>
              </a:path>
              <a:path fill="darkenLess" w="51779" h="21600">
                <a:moveTo>
                  <a:pt x="28466" y="6448"/>
                </a:moveTo>
                <a:lnTo>
                  <a:pt x="28466" y="4707"/>
                </a:lnTo>
                <a:lnTo>
                  <a:pt x="30241" y="4707"/>
                </a:lnTo>
                <a:lnTo>
                  <a:pt x="30241" y="8224"/>
                </a:lnTo>
                <a:close/>
              </a:path>
              <a:path fill="darkenLess" w="51779" h="21600">
                <a:moveTo>
                  <a:pt x="24967" y="14299"/>
                </a:moveTo>
                <a:lnTo>
                  <a:pt x="26812" y="14299"/>
                </a:lnTo>
                <a:lnTo>
                  <a:pt x="26812" y="17989"/>
                </a:lnTo>
                <a:lnTo>
                  <a:pt x="31199" y="17989"/>
                </a:lnTo>
                <a:lnTo>
                  <a:pt x="31199" y="10800"/>
                </a:lnTo>
                <a:lnTo>
                  <a:pt x="20580" y="10800"/>
                </a:lnTo>
                <a:lnTo>
                  <a:pt x="20580" y="17989"/>
                </a:lnTo>
                <a:lnTo>
                  <a:pt x="24967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BD05961_" descr=""/>
          <p:cNvPicPr/>
          <p:nvPr/>
        </p:nvPicPr>
        <p:blipFill>
          <a:blip r:embed="rId1"/>
          <a:stretch/>
        </p:blipFill>
        <p:spPr>
          <a:xfrm>
            <a:off x="3276720" y="2057400"/>
            <a:ext cx="2708280" cy="3187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457200"/>
            <a:ext cx="7848720" cy="155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3333cc"/>
                </a:solidFill>
                <a:latin typeface="Lucida Handwriting"/>
              </a:rPr>
              <a:t>Schade probiers nochmal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95480" y="5562720"/>
            <a:ext cx="3276720" cy="990360"/>
          </a:xfrm>
          <a:custGeom>
            <a:avLst/>
            <a:gdLst>
              <a:gd name="textAreaLeft" fmla="*/ 98280 w 3276720"/>
              <a:gd name="textAreaRight" fmla="*/ 3178440 w 3276720"/>
              <a:gd name="textAreaTop" fmla="*/ 98280 h 990360"/>
              <a:gd name="textAreaBottom" fmla="*/ 892080 h 990360"/>
            </a:gdLst>
            <a:ahLst/>
            <a:rect l="textAreaLeft" t="textAreaTop" r="textAreaRight" b="textAreaBottom"/>
            <a:pathLst>
              <a:path w="71448" h="21600">
                <a:moveTo>
                  <a:pt x="0" y="0"/>
                </a:moveTo>
                <a:lnTo>
                  <a:pt x="71448" y="0"/>
                </a:lnTo>
                <a:lnTo>
                  <a:pt x="71448" y="21600"/>
                </a:lnTo>
                <a:lnTo>
                  <a:pt x="0" y="21600"/>
                </a:lnTo>
                <a:close/>
              </a:path>
              <a:path fill="lightenLess" w="71448" h="21600">
                <a:moveTo>
                  <a:pt x="0" y="0"/>
                </a:moveTo>
                <a:lnTo>
                  <a:pt x="71448" y="0"/>
                </a:lnTo>
                <a:lnTo>
                  <a:pt x="69302" y="2146"/>
                </a:lnTo>
                <a:lnTo>
                  <a:pt x="2146" y="2146"/>
                </a:lnTo>
                <a:close/>
              </a:path>
              <a:path fill="darken" w="71448" h="21600">
                <a:moveTo>
                  <a:pt x="71448" y="0"/>
                </a:moveTo>
                <a:lnTo>
                  <a:pt x="71448" y="21600"/>
                </a:lnTo>
                <a:lnTo>
                  <a:pt x="69302" y="19454"/>
                </a:lnTo>
                <a:lnTo>
                  <a:pt x="69302" y="2146"/>
                </a:lnTo>
                <a:close/>
              </a:path>
              <a:path fill="darkenLess" w="71448" h="21600">
                <a:moveTo>
                  <a:pt x="71448" y="21600"/>
                </a:moveTo>
                <a:lnTo>
                  <a:pt x="0" y="21600"/>
                </a:lnTo>
                <a:lnTo>
                  <a:pt x="2146" y="19454"/>
                </a:lnTo>
                <a:lnTo>
                  <a:pt x="69302" y="19454"/>
                </a:lnTo>
                <a:close/>
              </a:path>
              <a:path fill="lighten" w="71448" h="21600">
                <a:moveTo>
                  <a:pt x="0" y="21600"/>
                </a:moveTo>
                <a:lnTo>
                  <a:pt x="0" y="0"/>
                </a:lnTo>
                <a:lnTo>
                  <a:pt x="2146" y="2146"/>
                </a:lnTo>
                <a:lnTo>
                  <a:pt x="2146" y="19454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Lucida Handwriting"/>
              </a:rPr>
              <a:t>Zurück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275480" y="474840"/>
            <a:ext cx="68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Handwriting"/>
              </a:rPr>
              <a:t>Bravo, gut gemacht 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BD05960_" descr=""/>
          <p:cNvPicPr/>
          <p:nvPr/>
        </p:nvPicPr>
        <p:blipFill>
          <a:blip r:embed="rId1"/>
          <a:stretch/>
        </p:blipFill>
        <p:spPr>
          <a:xfrm>
            <a:off x="2971800" y="1371600"/>
            <a:ext cx="3179880" cy="3427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743200" y="5334120"/>
            <a:ext cx="3276720" cy="990360"/>
          </a:xfrm>
          <a:custGeom>
            <a:avLst/>
            <a:gdLst>
              <a:gd name="textAreaLeft" fmla="*/ 98280 w 3276720"/>
              <a:gd name="textAreaRight" fmla="*/ 3178440 w 3276720"/>
              <a:gd name="textAreaTop" fmla="*/ 98280 h 990360"/>
              <a:gd name="textAreaBottom" fmla="*/ 892080 h 990360"/>
            </a:gdLst>
            <a:ahLst/>
            <a:rect l="textAreaLeft" t="textAreaTop" r="textAreaRight" b="textAreaBottom"/>
            <a:pathLst>
              <a:path w="71448" h="21600">
                <a:moveTo>
                  <a:pt x="0" y="0"/>
                </a:moveTo>
                <a:lnTo>
                  <a:pt x="71448" y="0"/>
                </a:lnTo>
                <a:lnTo>
                  <a:pt x="71448" y="21600"/>
                </a:lnTo>
                <a:lnTo>
                  <a:pt x="0" y="21600"/>
                </a:lnTo>
                <a:close/>
              </a:path>
              <a:path fill="lightenLess" w="71448" h="21600">
                <a:moveTo>
                  <a:pt x="0" y="0"/>
                </a:moveTo>
                <a:lnTo>
                  <a:pt x="71448" y="0"/>
                </a:lnTo>
                <a:lnTo>
                  <a:pt x="69302" y="2146"/>
                </a:lnTo>
                <a:lnTo>
                  <a:pt x="2146" y="2146"/>
                </a:lnTo>
                <a:close/>
              </a:path>
              <a:path fill="darken" w="71448" h="21600">
                <a:moveTo>
                  <a:pt x="71448" y="0"/>
                </a:moveTo>
                <a:lnTo>
                  <a:pt x="71448" y="21600"/>
                </a:lnTo>
                <a:lnTo>
                  <a:pt x="69302" y="19454"/>
                </a:lnTo>
                <a:lnTo>
                  <a:pt x="69302" y="2146"/>
                </a:lnTo>
                <a:close/>
              </a:path>
              <a:path fill="darkenLess" w="71448" h="21600">
                <a:moveTo>
                  <a:pt x="71448" y="21600"/>
                </a:moveTo>
                <a:lnTo>
                  <a:pt x="0" y="21600"/>
                </a:lnTo>
                <a:lnTo>
                  <a:pt x="2146" y="19454"/>
                </a:lnTo>
                <a:lnTo>
                  <a:pt x="69302" y="19454"/>
                </a:lnTo>
                <a:close/>
              </a:path>
              <a:path fill="lighten" w="71448" h="21600">
                <a:moveTo>
                  <a:pt x="0" y="21600"/>
                </a:moveTo>
                <a:lnTo>
                  <a:pt x="0" y="0"/>
                </a:lnTo>
                <a:lnTo>
                  <a:pt x="2146" y="2146"/>
                </a:lnTo>
                <a:lnTo>
                  <a:pt x="2146" y="1945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Handwriting"/>
              </a:rPr>
              <a:t>Zurück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3:50:22Z</dcterms:created>
  <dc:creator>Gast</dc:creator>
  <dc:description/>
  <dc:language>en-US</dc:language>
  <cp:lastModifiedBy>User</cp:lastModifiedBy>
  <dcterms:modified xsi:type="dcterms:W3CDTF">2007-11-01T18:24:02Z</dcterms:modified>
  <cp:revision>26</cp:revision>
  <dc:subject/>
  <dc:title>PowerPoint-Präsentation</dc:title>
</cp:coreProperties>
</file>