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C33-AF1B-419C-86BF-72C36610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DF2-3CF0-41DB-87B9-D88C99C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8FC-14D5-4DAB-AA53-94189CF7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831-4C23-4D1C-9A51-DC84D668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6BA-05B0-431B-AA9B-0B394E4B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47B-79F0-49A8-96F4-A809F30B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DCA-35C4-4305-8932-5FF0B586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9C4-930B-425F-9639-A94C9F8F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0A4-600B-4BEE-86C4-5DEBA8A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C30-731E-4479-A75E-BFAEDB3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50E-CC82-4915-937F-AAE6459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974-3344-4A9A-9B13-BBD4B76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AEF-8ADC-4E45-918A-598F53B6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ff0000"/>
          </a:soli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J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320040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228600"/>
            <a:ext cx="536724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AN00790_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4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s Auto fäh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Zug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ra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 isst g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ü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0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a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vin rennt s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n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0400" y="4572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co hüpft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obi benimmt s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u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nnart ist s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ü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Keks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kolade m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u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88480" y="457200"/>
            <a:ext cx="62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Du bist fertig, klicke auf einen Knopf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D05961_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708280" cy="318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Schade probier´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nochmal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2-31T15:05:52Z</dcterms:modified>
  <cp:revision>26</cp:revision>
  <dc:subject/>
  <dc:title>PowerPoint-Präsentation</dc:title>
</cp:coreProperties>
</file>