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B4D-FAA9-456E-9F55-F100E2DC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063-17C3-4001-9E96-5EFF744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1C7-72AC-4BE1-A0FD-05590F0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4B9-E336-4C2E-B06A-49C1A7B2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358-5B83-40B0-A6EC-E7CA1788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A64-08D7-476B-9A87-017643C7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C97-B3EE-4631-9CA8-AE2EBA76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FF0-6B68-44BE-8E16-1A0C2AF3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7F4-0BC8-4781-BE7E-9DFFAC21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145-51CC-4E28-871A-9AE1A5F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D41-31BB-497D-9F3D-D534584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90B-E69C-496E-9C23-0B72EAE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6047-CDBF-4986-8087-47B0E0FB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620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Lesetraining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76520"/>
            <a:ext cx="7483680" cy="642600"/>
          </a:xfrm>
          <a:prstGeom prst="rect">
            <a:avLst/>
          </a:prstGeom>
          <a:solidFill>
            <a:srgbClr val="99ffcc"/>
          </a:soli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von Vanes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198520" cy="22924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320040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87692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Zug hält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uer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h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abine geht n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Katze jagt di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eeren sin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Roller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atz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apu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uchen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ü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Probier‘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1-01T18:59:05Z</dcterms:modified>
  <cp:revision>17</cp:revision>
  <dc:subject/>
  <dc:title>PowerPoint-Präsentation</dc:title>
</cp:coreProperties>
</file>