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F64-28A2-4D37-B090-94D25657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D7E-9659-48C3-8CA9-842E2755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CCD-D84B-4E64-B0E0-B1AD9623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D11-BAEA-45CD-AEA9-084D4535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408-1E9F-4B13-B103-035A3F6A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214-4255-48F4-A0C6-B45913AC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B83-F549-45DC-87D5-4FE8486E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BE2-67DB-46D6-AF3E-B28248D3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CE6-7D70-4C57-AEA6-E7B20BF7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B12-3E84-48D8-B80D-CDDDECC9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637-CF0C-481F-9310-ABAD295A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D96-607D-485F-9BC3-7700284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8A27-8E69-4762-B715-E6AB59DC2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620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f3762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Lesetraining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f3762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676520"/>
            <a:ext cx="7483680" cy="9169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Informal Roman"/>
              </a:rPr>
              <a:t>von Sophie</a:t>
            </a:r>
            <a:r>
              <a:rPr b="0" lang="en-US" sz="3600" spc="-1" strike="noStrike">
                <a:solidFill>
                  <a:srgbClr val="00cc99"/>
                </a:solidFill>
                <a:latin typeface="Gill Sans Ul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2743200" y="556272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4724280" y="55627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D00367_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2211480" cy="2949480"/>
          </a:xfrm>
          <a:prstGeom prst="rect">
            <a:avLst/>
          </a:prstGeom>
          <a:ln w="0">
            <a:noFill/>
          </a:ln>
        </p:spPr>
      </p:pic>
      <p:pic>
        <p:nvPicPr>
          <p:cNvPr id="46" name="SO01834_" descr=""/>
          <p:cNvPicPr/>
          <p:nvPr/>
        </p:nvPicPr>
        <p:blipFill>
          <a:blip r:embed="rId2"/>
          <a:stretch/>
        </p:blipFill>
        <p:spPr>
          <a:xfrm>
            <a:off x="3657600" y="3048120"/>
            <a:ext cx="1828800" cy="2079360"/>
          </a:xfrm>
          <a:prstGeom prst="rect">
            <a:avLst/>
          </a:prstGeom>
          <a:ln w="0">
            <a:noFill/>
          </a:ln>
        </p:spPr>
      </p:pic>
      <p:pic>
        <p:nvPicPr>
          <p:cNvPr id="47" name="PE00685_" descr=""/>
          <p:cNvPicPr/>
          <p:nvPr/>
        </p:nvPicPr>
        <p:blipFill>
          <a:blip r:embed="rId3"/>
          <a:stretch/>
        </p:blipFill>
        <p:spPr>
          <a:xfrm>
            <a:off x="7086600" y="342900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PE00686_" descr=""/>
          <p:cNvPicPr/>
          <p:nvPr/>
        </p:nvPicPr>
        <p:blipFill>
          <a:blip r:embed="rId4"/>
          <a:stretch/>
        </p:blipFill>
        <p:spPr>
          <a:xfrm>
            <a:off x="762120" y="3352680"/>
            <a:ext cx="1512720" cy="2449800"/>
          </a:xfrm>
          <a:prstGeom prst="rect">
            <a:avLst/>
          </a:prstGeom>
          <a:ln w="0">
            <a:noFill/>
          </a:ln>
        </p:spPr>
      </p:pic>
      <p:pic>
        <p:nvPicPr>
          <p:cNvPr id="49" name="DD00367_" descr=""/>
          <p:cNvPicPr/>
          <p:nvPr/>
        </p:nvPicPr>
        <p:blipFill>
          <a:blip r:embed="rId5"/>
          <a:stretch/>
        </p:blipFill>
        <p:spPr>
          <a:xfrm>
            <a:off x="6629400" y="3048120"/>
            <a:ext cx="22114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ie Kat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ch kan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üllt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ch fasse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l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üs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Rose wächst i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Fahrrad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äse riech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1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2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euß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Bus hält a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eu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usanne geht z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Polizei jagt de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5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6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Blume wächst i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7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8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in Fisch kan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9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0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w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Wetter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1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2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l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er Hund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ungr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Junge kan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g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ch sehe 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Rose h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r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Auto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Kind schreib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D05961_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08280" cy="3187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cc"/>
                </a:solidFill>
                <a:latin typeface="Lucida Handwriting"/>
              </a:rPr>
              <a:t>Probier‘s noch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289548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D05960_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179880" cy="342756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7-11-01T18:48:49Z</dcterms:modified>
  <cp:revision>19</cp:revision>
  <dc:subject/>
  <dc:title>PowerPoint-Präsentation</dc:title>
</cp:coreProperties>
</file>