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DBD-7572-470B-A27D-E282F879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D83-F80E-454A-9D0D-D96E64C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30C-DC3A-4CCC-858F-1B7C09C5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701-F615-4B08-BE32-E6251FCB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E80-349C-4CF9-945D-1B1670BA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90C-443D-4732-B3BD-20F8C422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B64-674C-43DA-9739-86734330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951-902D-4467-83F2-49BFEAC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F4C-50C8-4746-A36C-B256794E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7B5-1FF3-4C16-8CA7-2682674A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DDF-89BF-425B-8D93-C579AB7E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3AF-383E-4F6E-B58D-AD4D5C22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7D1-E4D4-4D6E-A86A-B7C659CF9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4572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76520"/>
            <a:ext cx="748332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66ff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Lucida Handwriting"/>
              </a:rPr>
              <a:t>Von Lena 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1371600" y="55627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648320" y="55627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N01629_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525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as Brot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u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ena kann sch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rei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Elefant fri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i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8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eo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ng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er Haarreif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re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chri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hält an d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ola ge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w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w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Katze jagt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üllt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aktus steht a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h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Schw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un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ck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imme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u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Kevin spielt g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ß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ennart geht z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n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ll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Verdana"/>
              </a:rPr>
              <a:t>Tizian li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üllt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 Schülerin heiß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iz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Pf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eh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Hund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2-31T13:43:45Z</dcterms:modified>
  <cp:revision>32</cp:revision>
  <dc:subject/>
  <dc:title>PowerPoint-Präsentation</dc:title>
</cp:coreProperties>
</file>