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826A-FE75-4D5F-8398-F978B9F88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4426-6198-49A2-8A1D-D4B7C2C6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740F-FFFE-430D-9F58-06C84D5B2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BC61-FCDE-490E-A564-F2F8155AB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803F-5EF3-440D-9720-3D5A3EEF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CA14-206B-4053-AE22-862BB86F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B2FC-B9B9-471A-86BD-79C75714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20EE-B0BE-4061-A32F-78FE52D6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7337-FF9E-4F5B-90AF-13B6C41B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AD0F-37D5-480E-9EE7-DB1FF80E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B175-5871-4AE2-848D-6AFA0B9B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64AF-A190-4BA8-9081-A494850E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C1A0-33CF-45B6-92BD-9C5246EF6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4.xml"/><Relationship Id="rId7" Type="http://schemas.openxmlformats.org/officeDocument/2006/relationships/slide" Target="slide15.xml"/><Relationship Id="rId8" Type="http://schemas.openxmlformats.org/officeDocument/2006/relationships/slide" Target="slide14.xml"/><Relationship Id="rId9" Type="http://schemas.openxmlformats.org/officeDocument/2006/relationships/slide" Target="slide15.xml"/><Relationship Id="rId10" Type="http://schemas.openxmlformats.org/officeDocument/2006/relationships/slide" Target="slide14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14.xml"/><Relationship Id="rId9" Type="http://schemas.openxmlformats.org/officeDocument/2006/relationships/slide" Target="slide14.xml"/><Relationship Id="rId10" Type="http://schemas.openxmlformats.org/officeDocument/2006/relationships/slide" Target="slide15.xml"/><Relationship Id="rId11" Type="http://schemas.openxmlformats.org/officeDocument/2006/relationships/slide" Target="slide15.xml"/><Relationship Id="rId12" Type="http://schemas.openxmlformats.org/officeDocument/2006/relationships/slide" Target="slide14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14.xml"/><Relationship Id="rId9" Type="http://schemas.openxmlformats.org/officeDocument/2006/relationships/slide" Target="slide15.xml"/><Relationship Id="rId10" Type="http://schemas.openxmlformats.org/officeDocument/2006/relationships/slide" Target="slide14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" Target="slide14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5.xml"/><Relationship Id="rId8" Type="http://schemas.openxmlformats.org/officeDocument/2006/relationships/slide" Target="slide14.xml"/><Relationship Id="rId9" Type="http://schemas.openxmlformats.org/officeDocument/2006/relationships/slide" Target="slide15.xml"/><Relationship Id="rId10" Type="http://schemas.openxmlformats.org/officeDocument/2006/relationships/slide" Target="slide14.xml"/><Relationship Id="rId11" Type="http://schemas.openxmlformats.org/officeDocument/2006/relationships/slide" Target="slide15.xml"/><Relationship Id="rId12" Type="http://schemas.openxmlformats.org/officeDocument/2006/relationships/slide" Target="slide15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" Target="slide14.xml"/><Relationship Id="rId11" Type="http://schemas.openxmlformats.org/officeDocument/2006/relationships/slide" Target="slide15.xml"/><Relationship Id="rId12" Type="http://schemas.openxmlformats.org/officeDocument/2006/relationships/slide" Target="slide15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4.xml"/><Relationship Id="rId10" Type="http://schemas.openxmlformats.org/officeDocument/2006/relationships/slide" Target="slide15.xml"/><Relationship Id="rId11" Type="http://schemas.openxmlformats.org/officeDocument/2006/relationships/slide" Target="slide15.xml"/><Relationship Id="rId12" Type="http://schemas.openxmlformats.org/officeDocument/2006/relationships/slide" Target="slide15.xm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" Target="slide14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" Target="slide14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2057400"/>
            <a:ext cx="7483680" cy="642600"/>
          </a:xfrm>
          <a:prstGeom prst="rect">
            <a:avLst/>
          </a:prstGeom>
          <a:solidFill>
            <a:srgbClr val="99ffcc"/>
          </a:solidFill>
          <a:ln w="76320">
            <a:solidFill>
              <a:srgbClr val="3333cc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Gill Sans Ultra Bold"/>
              </a:rPr>
              <a:t>von Lenn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AN00790_" descr=""/>
          <p:cNvPicPr/>
          <p:nvPr/>
        </p:nvPicPr>
        <p:blipFill>
          <a:blip r:embed="rId1"/>
          <a:stretch/>
        </p:blipFill>
        <p:spPr>
          <a:xfrm>
            <a:off x="6324480" y="3505320"/>
            <a:ext cx="2198880" cy="229212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" action="ppaction://hlinkshowjump?jump=endshow"/>
          </p:cNvPr>
          <p:cNvSpPr/>
          <p:nvPr/>
        </p:nvSpPr>
        <p:spPr>
          <a:xfrm>
            <a:off x="3200400" y="6095880"/>
            <a:ext cx="1066680" cy="38124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0398" h="21600">
                <a:moveTo>
                  <a:pt x="0" y="0"/>
                </a:moveTo>
                <a:lnTo>
                  <a:pt x="60398" y="0"/>
                </a:lnTo>
                <a:lnTo>
                  <a:pt x="60398" y="21600"/>
                </a:lnTo>
                <a:lnTo>
                  <a:pt x="0" y="21600"/>
                </a:lnTo>
                <a:close/>
              </a:path>
              <a:path fill="lightenLess" w="60398" h="21600">
                <a:moveTo>
                  <a:pt x="0" y="0"/>
                </a:moveTo>
                <a:lnTo>
                  <a:pt x="60398" y="0"/>
                </a:lnTo>
                <a:lnTo>
                  <a:pt x="58999" y="1400"/>
                </a:lnTo>
                <a:lnTo>
                  <a:pt x="1400" y="1400"/>
                </a:lnTo>
                <a:close/>
              </a:path>
              <a:path fill="darken" w="60398" h="21600">
                <a:moveTo>
                  <a:pt x="60398" y="0"/>
                </a:moveTo>
                <a:lnTo>
                  <a:pt x="60398" y="21600"/>
                </a:lnTo>
                <a:lnTo>
                  <a:pt x="58999" y="20200"/>
                </a:lnTo>
                <a:lnTo>
                  <a:pt x="58999" y="1400"/>
                </a:lnTo>
                <a:close/>
              </a:path>
              <a:path fill="darkenLess" w="60398" h="21600">
                <a:moveTo>
                  <a:pt x="60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99" y="20200"/>
                </a:lnTo>
                <a:close/>
              </a:path>
              <a:path fill="lighten" w="60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4876920" y="6095880"/>
            <a:ext cx="1066680" cy="38124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0398" h="21600">
                <a:moveTo>
                  <a:pt x="0" y="0"/>
                </a:moveTo>
                <a:lnTo>
                  <a:pt x="60398" y="0"/>
                </a:lnTo>
                <a:lnTo>
                  <a:pt x="60398" y="21600"/>
                </a:lnTo>
                <a:lnTo>
                  <a:pt x="0" y="21600"/>
                </a:lnTo>
                <a:close/>
              </a:path>
              <a:path fill="lightenLess" w="60398" h="21600">
                <a:moveTo>
                  <a:pt x="0" y="0"/>
                </a:moveTo>
                <a:lnTo>
                  <a:pt x="60398" y="0"/>
                </a:lnTo>
                <a:lnTo>
                  <a:pt x="58999" y="1400"/>
                </a:lnTo>
                <a:lnTo>
                  <a:pt x="1400" y="1400"/>
                </a:lnTo>
                <a:close/>
              </a:path>
              <a:path fill="darken" w="60398" h="21600">
                <a:moveTo>
                  <a:pt x="60398" y="0"/>
                </a:moveTo>
                <a:lnTo>
                  <a:pt x="60398" y="21600"/>
                </a:lnTo>
                <a:lnTo>
                  <a:pt x="58999" y="20200"/>
                </a:lnTo>
                <a:lnTo>
                  <a:pt x="58999" y="1400"/>
                </a:lnTo>
                <a:close/>
              </a:path>
              <a:path fill="darkenLess" w="60398" h="21600">
                <a:moveTo>
                  <a:pt x="60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99" y="20200"/>
                </a:lnTo>
                <a:close/>
              </a:path>
              <a:path fill="lighten" w="60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828800" y="685800"/>
            <a:ext cx="4952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Lesetraining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57200" y="1600200"/>
            <a:ext cx="3809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Verdana"/>
              </a:rPr>
              <a:t>Tizian hat ein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4267080" y="1600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ne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6477120" y="1600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nu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50400" y="457200"/>
            <a:ext cx="71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66"/>
                </a:solidFill>
                <a:uFillTx/>
                <a:latin typeface="Verdana"/>
              </a:rPr>
              <a:t>Lies die Sätze und klicke das richtige Wort 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2362320"/>
            <a:ext cx="3809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Maja ist im Gesich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3" action="ppaction://hlinksldjump"/>
          </p:cNvPr>
          <p:cNvSpPr/>
          <p:nvPr/>
        </p:nvSpPr>
        <p:spPr>
          <a:xfrm>
            <a:off x="4267080" y="2362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124080"/>
            <a:ext cx="38098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Tim 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4" action="ppaction://hlinksldjump"/>
          </p:cNvPr>
          <p:cNvSpPr/>
          <p:nvPr/>
        </p:nvSpPr>
        <p:spPr>
          <a:xfrm>
            <a:off x="4267080" y="3124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ö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5" action="ppaction://hlinksldjump"/>
          </p:cNvPr>
          <p:cNvSpPr/>
          <p:nvPr/>
        </p:nvSpPr>
        <p:spPr>
          <a:xfrm>
            <a:off x="6477120" y="3124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rvö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886200"/>
            <a:ext cx="3809880" cy="4597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Jan hat zwei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6" action="ppaction://hlinksldjump"/>
          </p:cNvPr>
          <p:cNvSpPr/>
          <p:nvPr/>
        </p:nvSpPr>
        <p:spPr>
          <a:xfrm>
            <a:off x="6477120" y="3886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4648320"/>
            <a:ext cx="38098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Der Tisch ist 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>
            <a:hlinkClick r:id="rId7" action="ppaction://hlinksldjump"/>
          </p:cNvPr>
          <p:cNvSpPr/>
          <p:nvPr/>
        </p:nvSpPr>
        <p:spPr>
          <a:xfrm>
            <a:off x="4267080" y="4648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l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>
            <a:hlinkClick r:id="rId8" action="ppaction://hlinksldjump"/>
          </p:cNvPr>
          <p:cNvSpPr/>
          <p:nvPr/>
        </p:nvSpPr>
        <p:spPr>
          <a:xfrm>
            <a:off x="6477120" y="4648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5410080"/>
            <a:ext cx="38098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ie Spaghetti i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9" action="ppaction://hlinksldjump"/>
          </p:cNvPr>
          <p:cNvSpPr/>
          <p:nvPr/>
        </p:nvSpPr>
        <p:spPr>
          <a:xfrm>
            <a:off x="4267080" y="5410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rId10" action="ppaction://hlinksldjump"/>
          </p:cNvPr>
          <p:cNvSpPr/>
          <p:nvPr/>
        </p:nvSpPr>
        <p:spPr>
          <a:xfrm>
            <a:off x="6477120" y="5410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11" action="ppaction://hlinksldjump"/>
          </p:cNvPr>
          <p:cNvSpPr/>
          <p:nvPr/>
        </p:nvSpPr>
        <p:spPr>
          <a:xfrm>
            <a:off x="6477120" y="2362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rId12" action="ppaction://hlinksldjump"/>
          </p:cNvPr>
          <p:cNvSpPr/>
          <p:nvPr/>
        </p:nvSpPr>
        <p:spPr>
          <a:xfrm>
            <a:off x="4267080" y="3886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487692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380988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" action="ppaction://hlinkshowjump?jump=firstslide"/>
          </p:cNvPr>
          <p:cNvSpPr/>
          <p:nvPr/>
        </p:nvSpPr>
        <p:spPr>
          <a:xfrm>
            <a:off x="434340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21583" y="3837"/>
                </a:moveTo>
                <a:lnTo>
                  <a:pt x="24159" y="6448"/>
                </a:ln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lnTo>
                  <a:pt x="28546" y="10800"/>
                </a:lnTo>
                <a:lnTo>
                  <a:pt x="26892" y="10800"/>
                </a:lnTo>
                <a:lnTo>
                  <a:pt x="26892" y="17989"/>
                </a:lnTo>
                <a:lnTo>
                  <a:pt x="16274" y="17989"/>
                </a:lnTo>
                <a:lnTo>
                  <a:pt x="16274" y="10800"/>
                </a:lnTo>
                <a:lnTo>
                  <a:pt x="14620" y="10800"/>
                </a:lnTo>
                <a:close/>
              </a:path>
              <a:path fill="darkenLess" w="43166" h="21600">
                <a:moveTo>
                  <a:pt x="24159" y="6448"/>
                </a:move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close/>
              </a:path>
              <a:path fill="darkenLess" w="43166" h="21600">
                <a:moveTo>
                  <a:pt x="20660" y="14299"/>
                </a:moveTo>
                <a:lnTo>
                  <a:pt x="22506" y="14299"/>
                </a:lnTo>
                <a:lnTo>
                  <a:pt x="22506" y="17989"/>
                </a:lnTo>
                <a:lnTo>
                  <a:pt x="26892" y="17989"/>
                </a:lnTo>
                <a:lnTo>
                  <a:pt x="26892" y="10800"/>
                </a:lnTo>
                <a:lnTo>
                  <a:pt x="16274" y="10800"/>
                </a:lnTo>
                <a:lnTo>
                  <a:pt x="16274" y="17989"/>
                </a:lnTo>
                <a:lnTo>
                  <a:pt x="20660" y="17989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57200" y="1600200"/>
            <a:ext cx="3809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Verdana"/>
              </a:rPr>
              <a:t>Tizian sitzt 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67080" y="1600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s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rId1" action="ppaction://hlinksldjump"/>
          </p:cNvPr>
          <p:cNvSpPr/>
          <p:nvPr/>
        </p:nvSpPr>
        <p:spPr>
          <a:xfrm>
            <a:off x="6477120" y="1600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50400" y="457200"/>
            <a:ext cx="71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66"/>
                </a:solidFill>
                <a:uFillTx/>
                <a:latin typeface="Verdana"/>
              </a:rPr>
              <a:t>Lies die Sätze und klicke das richtige Wort 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2362320"/>
            <a:ext cx="3809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Lena ist im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rId2" action="ppaction://hlinksldjump"/>
          </p:cNvPr>
          <p:cNvSpPr/>
          <p:nvPr/>
        </p:nvSpPr>
        <p:spPr>
          <a:xfrm>
            <a:off x="4267080" y="2362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3124080"/>
            <a:ext cx="38098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Tim wi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>
            <a:hlinkClick r:id="rId3" action="ppaction://hlinksldjump"/>
          </p:cNvPr>
          <p:cNvSpPr/>
          <p:nvPr/>
        </p:nvSpPr>
        <p:spPr>
          <a:xfrm>
            <a:off x="6477120" y="3124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ie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3886200"/>
            <a:ext cx="3809880" cy="4597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Jan hat zwei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rId4" action="ppaction://hlinksldjump"/>
          </p:cNvPr>
          <p:cNvSpPr/>
          <p:nvPr/>
        </p:nvSpPr>
        <p:spPr>
          <a:xfrm>
            <a:off x="6477120" y="3886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ä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4648320"/>
            <a:ext cx="38098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Der Computer ist 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5" action="ppaction://hlinksldjump"/>
          </p:cNvPr>
          <p:cNvSpPr/>
          <p:nvPr/>
        </p:nvSpPr>
        <p:spPr>
          <a:xfrm>
            <a:off x="4267080" y="4648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last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rId6" action="ppaction://hlinksldjump"/>
          </p:cNvPr>
          <p:cNvSpPr/>
          <p:nvPr/>
        </p:nvSpPr>
        <p:spPr>
          <a:xfrm>
            <a:off x="6477120" y="4648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at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5410080"/>
            <a:ext cx="38098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ophie ha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267080" y="5410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7120" y="5410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g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7" action="ppaction://hlinksldjump"/>
          </p:cNvPr>
          <p:cNvSpPr/>
          <p:nvPr/>
        </p:nvSpPr>
        <p:spPr>
          <a:xfrm>
            <a:off x="6477120" y="2362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e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rId8" action="ppaction://hlinksldjump"/>
          </p:cNvPr>
          <p:cNvSpPr/>
          <p:nvPr/>
        </p:nvSpPr>
        <p:spPr>
          <a:xfrm>
            <a:off x="4267080" y="3886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ä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rId9" action="ppaction://hlinksldjump"/>
          </p:cNvPr>
          <p:cNvSpPr/>
          <p:nvPr/>
        </p:nvSpPr>
        <p:spPr>
          <a:xfrm>
            <a:off x="4267080" y="3124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la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" action="ppaction://hlinkshowjump?jump=nextslide"/>
          </p:cNvPr>
          <p:cNvSpPr/>
          <p:nvPr/>
        </p:nvSpPr>
        <p:spPr>
          <a:xfrm>
            <a:off x="487692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" action="ppaction://hlinkshowjump?jump=previousslide"/>
          </p:cNvPr>
          <p:cNvSpPr/>
          <p:nvPr/>
        </p:nvSpPr>
        <p:spPr>
          <a:xfrm>
            <a:off x="380988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" action="ppaction://hlinkshowjump?jump=firstslide"/>
          </p:cNvPr>
          <p:cNvSpPr/>
          <p:nvPr/>
        </p:nvSpPr>
        <p:spPr>
          <a:xfrm>
            <a:off x="434340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21583" y="3837"/>
                </a:moveTo>
                <a:lnTo>
                  <a:pt x="24159" y="6448"/>
                </a:ln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lnTo>
                  <a:pt x="28546" y="10800"/>
                </a:lnTo>
                <a:lnTo>
                  <a:pt x="26892" y="10800"/>
                </a:lnTo>
                <a:lnTo>
                  <a:pt x="26892" y="17989"/>
                </a:lnTo>
                <a:lnTo>
                  <a:pt x="16274" y="17989"/>
                </a:lnTo>
                <a:lnTo>
                  <a:pt x="16274" y="10800"/>
                </a:lnTo>
                <a:lnTo>
                  <a:pt x="14620" y="10800"/>
                </a:lnTo>
                <a:close/>
              </a:path>
              <a:path fill="darkenLess" w="43166" h="21600">
                <a:moveTo>
                  <a:pt x="24159" y="6448"/>
                </a:move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close/>
              </a:path>
              <a:path fill="darkenLess" w="43166" h="21600">
                <a:moveTo>
                  <a:pt x="20660" y="14299"/>
                </a:moveTo>
                <a:lnTo>
                  <a:pt x="22506" y="14299"/>
                </a:lnTo>
                <a:lnTo>
                  <a:pt x="22506" y="17989"/>
                </a:lnTo>
                <a:lnTo>
                  <a:pt x="26892" y="17989"/>
                </a:lnTo>
                <a:lnTo>
                  <a:pt x="26892" y="10800"/>
                </a:lnTo>
                <a:lnTo>
                  <a:pt x="16274" y="10800"/>
                </a:lnTo>
                <a:lnTo>
                  <a:pt x="16274" y="17989"/>
                </a:lnTo>
                <a:lnTo>
                  <a:pt x="20660" y="17989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57200" y="1600200"/>
            <a:ext cx="3809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Die Axt ist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267080" y="1600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a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77120" y="1600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immel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50400" y="457200"/>
            <a:ext cx="71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66"/>
                </a:solidFill>
                <a:uFillTx/>
                <a:latin typeface="Verdana"/>
              </a:rPr>
              <a:t>Lies die Sätze und klicke das richtige Wort 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2362320"/>
            <a:ext cx="3809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Kevin ist auf dem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67080" y="2362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portpl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3124080"/>
            <a:ext cx="38098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Tim hüpft 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67080" y="3124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ra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77120" y="3124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r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3886200"/>
            <a:ext cx="3809880" cy="4597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Jan schwimmt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rId1" action="ppaction://hlinksldjump"/>
          </p:cNvPr>
          <p:cNvSpPr/>
          <p:nvPr/>
        </p:nvSpPr>
        <p:spPr>
          <a:xfrm>
            <a:off x="6477120" y="3886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4648320"/>
            <a:ext cx="38098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Lena geht 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rId2" action="ppaction://hlinksldjump"/>
          </p:cNvPr>
          <p:cNvSpPr/>
          <p:nvPr/>
        </p:nvSpPr>
        <p:spPr>
          <a:xfrm>
            <a:off x="4267080" y="4648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alle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77120" y="4648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an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5410080"/>
            <a:ext cx="38098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ie Pizza i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5410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i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5410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ei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77120" y="2362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portschu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>
            <a:hlinkClick r:id="rId3" action="ppaction://hlinksldjump"/>
          </p:cNvPr>
          <p:cNvSpPr/>
          <p:nvPr/>
        </p:nvSpPr>
        <p:spPr>
          <a:xfrm>
            <a:off x="4267080" y="3886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487692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380988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>
            <a:hlinkClick r:id="" action="ppaction://hlinkshowjump?jump=firstslide"/>
          </p:cNvPr>
          <p:cNvSpPr/>
          <p:nvPr/>
        </p:nvSpPr>
        <p:spPr>
          <a:xfrm>
            <a:off x="434340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21583" y="3837"/>
                </a:moveTo>
                <a:lnTo>
                  <a:pt x="24159" y="6448"/>
                </a:ln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lnTo>
                  <a:pt x="28546" y="10800"/>
                </a:lnTo>
                <a:lnTo>
                  <a:pt x="26892" y="10800"/>
                </a:lnTo>
                <a:lnTo>
                  <a:pt x="26892" y="17989"/>
                </a:lnTo>
                <a:lnTo>
                  <a:pt x="16274" y="17989"/>
                </a:lnTo>
                <a:lnTo>
                  <a:pt x="16274" y="10800"/>
                </a:lnTo>
                <a:lnTo>
                  <a:pt x="14620" y="10800"/>
                </a:lnTo>
                <a:close/>
              </a:path>
              <a:path fill="darkenLess" w="43166" h="21600">
                <a:moveTo>
                  <a:pt x="24159" y="6448"/>
                </a:move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close/>
              </a:path>
              <a:path fill="darkenLess" w="43166" h="21600">
                <a:moveTo>
                  <a:pt x="20660" y="14299"/>
                </a:moveTo>
                <a:lnTo>
                  <a:pt x="22506" y="14299"/>
                </a:lnTo>
                <a:lnTo>
                  <a:pt x="22506" y="17989"/>
                </a:lnTo>
                <a:lnTo>
                  <a:pt x="26892" y="17989"/>
                </a:lnTo>
                <a:lnTo>
                  <a:pt x="26892" y="10800"/>
                </a:lnTo>
                <a:lnTo>
                  <a:pt x="16274" y="10800"/>
                </a:lnTo>
                <a:lnTo>
                  <a:pt x="16274" y="17989"/>
                </a:lnTo>
                <a:lnTo>
                  <a:pt x="20660" y="17989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1676520" y="304920"/>
            <a:ext cx="57150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End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Gut gemacht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1143000" y="3505320"/>
          <a:ext cx="242244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505320"/>
                    <a:ext cx="24224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>
            <a:hlinkClick r:id="" action="ppaction://hlinkshowjump?jump=endshow"/>
          </p:cNvPr>
          <p:cNvSpPr/>
          <p:nvPr/>
        </p:nvSpPr>
        <p:spPr>
          <a:xfrm>
            <a:off x="5105520" y="54864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33cc"/>
                </a:solidFill>
                <a:latin typeface="Verdana"/>
              </a:rPr>
              <a:t>End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81480" y="365760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Verdana"/>
              </a:rPr>
              <a:t>Zum Anfang 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BD05961_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2708280" cy="3187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685800" y="45720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3333cc"/>
                </a:solidFill>
                <a:latin typeface="Lucida Handwriting"/>
              </a:rPr>
              <a:t>Probier‘s nochmal 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2895480" y="5334120"/>
            <a:ext cx="3276720" cy="990360"/>
          </a:xfrm>
          <a:custGeom>
            <a:avLst/>
            <a:gdLst>
              <a:gd name="textAreaLeft" fmla="*/ 98280 w 3276720"/>
              <a:gd name="textAreaRight" fmla="*/ 3178440 w 3276720"/>
              <a:gd name="textAreaTop" fmla="*/ 98280 h 990360"/>
              <a:gd name="textAreaBottom" fmla="*/ 892080 h 990360"/>
            </a:gdLst>
            <a:ahLst/>
            <a:rect l="textAreaLeft" t="textAreaTop" r="textAreaRight" b="textAreaBottom"/>
            <a:pathLst>
              <a:path w="71448" h="21600">
                <a:moveTo>
                  <a:pt x="0" y="0"/>
                </a:moveTo>
                <a:lnTo>
                  <a:pt x="71448" y="0"/>
                </a:lnTo>
                <a:lnTo>
                  <a:pt x="71448" y="21600"/>
                </a:lnTo>
                <a:lnTo>
                  <a:pt x="0" y="21600"/>
                </a:lnTo>
                <a:close/>
              </a:path>
              <a:path fill="lightenLess" w="71448" h="21600">
                <a:moveTo>
                  <a:pt x="0" y="0"/>
                </a:moveTo>
                <a:lnTo>
                  <a:pt x="71448" y="0"/>
                </a:lnTo>
                <a:lnTo>
                  <a:pt x="69302" y="2146"/>
                </a:lnTo>
                <a:lnTo>
                  <a:pt x="2146" y="2146"/>
                </a:lnTo>
                <a:close/>
              </a:path>
              <a:path fill="darken" w="71448" h="21600">
                <a:moveTo>
                  <a:pt x="71448" y="0"/>
                </a:moveTo>
                <a:lnTo>
                  <a:pt x="71448" y="21600"/>
                </a:lnTo>
                <a:lnTo>
                  <a:pt x="69302" y="19454"/>
                </a:lnTo>
                <a:lnTo>
                  <a:pt x="69302" y="2146"/>
                </a:lnTo>
                <a:close/>
              </a:path>
              <a:path fill="darkenLess" w="71448" h="21600">
                <a:moveTo>
                  <a:pt x="71448" y="21600"/>
                </a:moveTo>
                <a:lnTo>
                  <a:pt x="0" y="21600"/>
                </a:lnTo>
                <a:lnTo>
                  <a:pt x="2146" y="19454"/>
                </a:lnTo>
                <a:lnTo>
                  <a:pt x="69302" y="19454"/>
                </a:lnTo>
                <a:close/>
              </a:path>
              <a:path fill="lighten" w="71448" h="21600">
                <a:moveTo>
                  <a:pt x="0" y="21600"/>
                </a:moveTo>
                <a:lnTo>
                  <a:pt x="0" y="0"/>
                </a:lnTo>
                <a:lnTo>
                  <a:pt x="2146" y="2146"/>
                </a:lnTo>
                <a:lnTo>
                  <a:pt x="2146" y="19454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Lucida Handwriting"/>
              </a:rPr>
              <a:t>Zurück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275480" y="474840"/>
            <a:ext cx="68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Handwriting"/>
              </a:rPr>
              <a:t>Bravo, gut gemacht 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BD05960_" descr=""/>
          <p:cNvPicPr/>
          <p:nvPr/>
        </p:nvPicPr>
        <p:blipFill>
          <a:blip r:embed="rId1"/>
          <a:stretch/>
        </p:blipFill>
        <p:spPr>
          <a:xfrm>
            <a:off x="2971800" y="1371600"/>
            <a:ext cx="3179880" cy="3427560"/>
          </a:xfrm>
          <a:prstGeom prst="rect">
            <a:avLst/>
          </a:prstGeom>
          <a:ln w="0">
            <a:noFill/>
          </a:ln>
        </p:spPr>
      </p:pic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2743200" y="5334120"/>
            <a:ext cx="3276720" cy="990360"/>
          </a:xfrm>
          <a:custGeom>
            <a:avLst/>
            <a:gdLst>
              <a:gd name="textAreaLeft" fmla="*/ 98280 w 3276720"/>
              <a:gd name="textAreaRight" fmla="*/ 3178440 w 3276720"/>
              <a:gd name="textAreaTop" fmla="*/ 98280 h 990360"/>
              <a:gd name="textAreaBottom" fmla="*/ 892080 h 990360"/>
            </a:gdLst>
            <a:ahLst/>
            <a:rect l="textAreaLeft" t="textAreaTop" r="textAreaRight" b="textAreaBottom"/>
            <a:pathLst>
              <a:path w="71448" h="21600">
                <a:moveTo>
                  <a:pt x="0" y="0"/>
                </a:moveTo>
                <a:lnTo>
                  <a:pt x="71448" y="0"/>
                </a:lnTo>
                <a:lnTo>
                  <a:pt x="71448" y="21600"/>
                </a:lnTo>
                <a:lnTo>
                  <a:pt x="0" y="21600"/>
                </a:lnTo>
                <a:close/>
              </a:path>
              <a:path fill="lightenLess" w="71448" h="21600">
                <a:moveTo>
                  <a:pt x="0" y="0"/>
                </a:moveTo>
                <a:lnTo>
                  <a:pt x="71448" y="0"/>
                </a:lnTo>
                <a:lnTo>
                  <a:pt x="69302" y="2146"/>
                </a:lnTo>
                <a:lnTo>
                  <a:pt x="2146" y="2146"/>
                </a:lnTo>
                <a:close/>
              </a:path>
              <a:path fill="darken" w="71448" h="21600">
                <a:moveTo>
                  <a:pt x="71448" y="0"/>
                </a:moveTo>
                <a:lnTo>
                  <a:pt x="71448" y="21600"/>
                </a:lnTo>
                <a:lnTo>
                  <a:pt x="69302" y="19454"/>
                </a:lnTo>
                <a:lnTo>
                  <a:pt x="69302" y="2146"/>
                </a:lnTo>
                <a:close/>
              </a:path>
              <a:path fill="darkenLess" w="71448" h="21600">
                <a:moveTo>
                  <a:pt x="71448" y="21600"/>
                </a:moveTo>
                <a:lnTo>
                  <a:pt x="0" y="21600"/>
                </a:lnTo>
                <a:lnTo>
                  <a:pt x="2146" y="19454"/>
                </a:lnTo>
                <a:lnTo>
                  <a:pt x="69302" y="19454"/>
                </a:lnTo>
                <a:close/>
              </a:path>
              <a:path fill="lighten" w="71448" h="21600">
                <a:moveTo>
                  <a:pt x="0" y="21600"/>
                </a:moveTo>
                <a:lnTo>
                  <a:pt x="0" y="0"/>
                </a:lnTo>
                <a:lnTo>
                  <a:pt x="2146" y="2146"/>
                </a:lnTo>
                <a:lnTo>
                  <a:pt x="2146" y="1945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Handwriting"/>
              </a:rPr>
              <a:t>Zurück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600200"/>
            <a:ext cx="3809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as Auto hält an de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4267080" y="1600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reuzi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6477120" y="1600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reu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50400" y="457200"/>
            <a:ext cx="71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66"/>
                </a:solidFill>
                <a:uFillTx/>
                <a:latin typeface="Verdana"/>
              </a:rPr>
              <a:t>Lies die Sätze und klicke das richtige Wort 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362320"/>
            <a:ext cx="3809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usanne geht z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4267080" y="2362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4" action="ppaction://hlinksldjump"/>
          </p:cNvPr>
          <p:cNvSpPr/>
          <p:nvPr/>
        </p:nvSpPr>
        <p:spPr>
          <a:xfrm>
            <a:off x="6477120" y="2362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124080"/>
            <a:ext cx="38098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ie Polizei jagt de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5" action="ppaction://hlinksldjump"/>
          </p:cNvPr>
          <p:cNvSpPr/>
          <p:nvPr/>
        </p:nvSpPr>
        <p:spPr>
          <a:xfrm>
            <a:off x="4267080" y="3124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e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6" action="ppaction://hlinksldjump"/>
          </p:cNvPr>
          <p:cNvSpPr/>
          <p:nvPr/>
        </p:nvSpPr>
        <p:spPr>
          <a:xfrm>
            <a:off x="6477120" y="3124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3886200"/>
            <a:ext cx="3809880" cy="4597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ie Blume wächst i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7" action="ppaction://hlinksldjump"/>
          </p:cNvPr>
          <p:cNvSpPr/>
          <p:nvPr/>
        </p:nvSpPr>
        <p:spPr>
          <a:xfrm>
            <a:off x="4267080" y="3886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8" action="ppaction://hlinksldjump"/>
          </p:cNvPr>
          <p:cNvSpPr/>
          <p:nvPr/>
        </p:nvSpPr>
        <p:spPr>
          <a:xfrm>
            <a:off x="6477120" y="3886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648320"/>
            <a:ext cx="38098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as Fahrrad i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9" action="ppaction://hlinksldjump"/>
          </p:cNvPr>
          <p:cNvSpPr/>
          <p:nvPr/>
        </p:nvSpPr>
        <p:spPr>
          <a:xfrm>
            <a:off x="4267080" y="4648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üs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0" action="ppaction://hlinksldjump"/>
          </p:cNvPr>
          <p:cNvSpPr/>
          <p:nvPr/>
        </p:nvSpPr>
        <p:spPr>
          <a:xfrm>
            <a:off x="6477120" y="4648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os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5410080"/>
            <a:ext cx="38098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er Käse schmeck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1" action="ppaction://hlinksldjump"/>
          </p:cNvPr>
          <p:cNvSpPr/>
          <p:nvPr/>
        </p:nvSpPr>
        <p:spPr>
          <a:xfrm>
            <a:off x="4267080" y="5410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2" action="ppaction://hlinksldjump"/>
          </p:cNvPr>
          <p:cNvSpPr/>
          <p:nvPr/>
        </p:nvSpPr>
        <p:spPr>
          <a:xfrm>
            <a:off x="6477120" y="5410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487692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380988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" action="ppaction://hlinkshowjump?jump=firstslide"/>
          </p:cNvPr>
          <p:cNvSpPr/>
          <p:nvPr/>
        </p:nvSpPr>
        <p:spPr>
          <a:xfrm>
            <a:off x="434340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21583" y="3837"/>
                </a:moveTo>
                <a:lnTo>
                  <a:pt x="24159" y="6448"/>
                </a:ln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lnTo>
                  <a:pt x="28546" y="10800"/>
                </a:lnTo>
                <a:lnTo>
                  <a:pt x="26892" y="10800"/>
                </a:lnTo>
                <a:lnTo>
                  <a:pt x="26892" y="17989"/>
                </a:lnTo>
                <a:lnTo>
                  <a:pt x="16274" y="17989"/>
                </a:lnTo>
                <a:lnTo>
                  <a:pt x="16274" y="10800"/>
                </a:lnTo>
                <a:lnTo>
                  <a:pt x="14620" y="10800"/>
                </a:lnTo>
                <a:close/>
              </a:path>
              <a:path fill="darkenLess" w="43166" h="21600">
                <a:moveTo>
                  <a:pt x="24159" y="6448"/>
                </a:move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close/>
              </a:path>
              <a:path fill="darkenLess" w="43166" h="21600">
                <a:moveTo>
                  <a:pt x="20660" y="14299"/>
                </a:moveTo>
                <a:lnTo>
                  <a:pt x="22506" y="14299"/>
                </a:lnTo>
                <a:lnTo>
                  <a:pt x="22506" y="17989"/>
                </a:lnTo>
                <a:lnTo>
                  <a:pt x="26892" y="17989"/>
                </a:lnTo>
                <a:lnTo>
                  <a:pt x="26892" y="10800"/>
                </a:lnTo>
                <a:lnTo>
                  <a:pt x="16274" y="10800"/>
                </a:lnTo>
                <a:lnTo>
                  <a:pt x="16274" y="17989"/>
                </a:lnTo>
                <a:lnTo>
                  <a:pt x="20660" y="17989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1600200"/>
            <a:ext cx="3809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as Auto ist auf 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" action="ppaction://hlinksldjump"/>
          </p:cNvPr>
          <p:cNvSpPr/>
          <p:nvPr/>
        </p:nvSpPr>
        <p:spPr>
          <a:xfrm>
            <a:off x="4267080" y="1600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raß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2" action="ppaction://hlinksldjump"/>
          </p:cNvPr>
          <p:cNvSpPr/>
          <p:nvPr/>
        </p:nvSpPr>
        <p:spPr>
          <a:xfrm>
            <a:off x="6477120" y="1600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r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50400" y="457200"/>
            <a:ext cx="71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66"/>
                </a:solidFill>
                <a:uFillTx/>
                <a:latin typeface="Verdana"/>
              </a:rPr>
              <a:t>Lies die Sätze und klicke das richtige Wort 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362320"/>
            <a:ext cx="3809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Verdana"/>
              </a:rPr>
              <a:t>Tizian isst ger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3" action="ppaction://hlinksldjump"/>
          </p:cNvPr>
          <p:cNvSpPr/>
          <p:nvPr/>
        </p:nvSpPr>
        <p:spPr>
          <a:xfrm>
            <a:off x="4267080" y="2362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3124080"/>
            <a:ext cx="38098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ie Tisc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4267080" y="3124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6477120" y="3124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3886200"/>
            <a:ext cx="3809880" cy="4597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Ich rechne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6" action="ppaction://hlinksldjump"/>
          </p:cNvPr>
          <p:cNvSpPr/>
          <p:nvPr/>
        </p:nvSpPr>
        <p:spPr>
          <a:xfrm>
            <a:off x="6477120" y="3886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648320"/>
            <a:ext cx="38098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Jan i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7" action="ppaction://hlinksldjump"/>
          </p:cNvPr>
          <p:cNvSpPr/>
          <p:nvPr/>
        </p:nvSpPr>
        <p:spPr>
          <a:xfrm>
            <a:off x="4267080" y="4648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8" action="ppaction://hlinksldjump"/>
          </p:cNvPr>
          <p:cNvSpPr/>
          <p:nvPr/>
        </p:nvSpPr>
        <p:spPr>
          <a:xfrm>
            <a:off x="6477120" y="4648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rä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5410080"/>
            <a:ext cx="38098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er Käse i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9" action="ppaction://hlinksldjump"/>
          </p:cNvPr>
          <p:cNvSpPr/>
          <p:nvPr/>
        </p:nvSpPr>
        <p:spPr>
          <a:xfrm>
            <a:off x="4267080" y="5410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0" action="ppaction://hlinksldjump"/>
          </p:cNvPr>
          <p:cNvSpPr/>
          <p:nvPr/>
        </p:nvSpPr>
        <p:spPr>
          <a:xfrm>
            <a:off x="6477120" y="5410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11" action="ppaction://hlinksldjump"/>
          </p:cNvPr>
          <p:cNvSpPr/>
          <p:nvPr/>
        </p:nvSpPr>
        <p:spPr>
          <a:xfrm>
            <a:off x="6477120" y="2362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kiz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2" action="ppaction://hlinksldjump"/>
          </p:cNvPr>
          <p:cNvSpPr/>
          <p:nvPr/>
        </p:nvSpPr>
        <p:spPr>
          <a:xfrm>
            <a:off x="4267080" y="3886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n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487692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380988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434340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21583" y="3837"/>
                </a:moveTo>
                <a:lnTo>
                  <a:pt x="24159" y="6448"/>
                </a:ln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lnTo>
                  <a:pt x="28546" y="10800"/>
                </a:lnTo>
                <a:lnTo>
                  <a:pt x="26892" y="10800"/>
                </a:lnTo>
                <a:lnTo>
                  <a:pt x="26892" y="17989"/>
                </a:lnTo>
                <a:lnTo>
                  <a:pt x="16274" y="17989"/>
                </a:lnTo>
                <a:lnTo>
                  <a:pt x="16274" y="10800"/>
                </a:lnTo>
                <a:lnTo>
                  <a:pt x="14620" y="10800"/>
                </a:lnTo>
                <a:close/>
              </a:path>
              <a:path fill="darkenLess" w="43166" h="21600">
                <a:moveTo>
                  <a:pt x="24159" y="6448"/>
                </a:move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close/>
              </a:path>
              <a:path fill="darkenLess" w="43166" h="21600">
                <a:moveTo>
                  <a:pt x="20660" y="14299"/>
                </a:moveTo>
                <a:lnTo>
                  <a:pt x="22506" y="14299"/>
                </a:lnTo>
                <a:lnTo>
                  <a:pt x="22506" y="17989"/>
                </a:lnTo>
                <a:lnTo>
                  <a:pt x="26892" y="17989"/>
                </a:lnTo>
                <a:lnTo>
                  <a:pt x="26892" y="10800"/>
                </a:lnTo>
                <a:lnTo>
                  <a:pt x="16274" y="10800"/>
                </a:lnTo>
                <a:lnTo>
                  <a:pt x="16274" y="17989"/>
                </a:lnTo>
                <a:lnTo>
                  <a:pt x="20660" y="17989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1600200"/>
            <a:ext cx="3809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Kevin spiel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4267080" y="1600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6477120" y="1600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50400" y="457200"/>
            <a:ext cx="71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66"/>
                </a:solidFill>
                <a:uFillTx/>
                <a:latin typeface="Verdana"/>
              </a:rPr>
              <a:t>Lies die Sätze und klicke das richtige Wort 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2362320"/>
            <a:ext cx="3809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Vanessa trin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3" action="ppaction://hlinksldjump"/>
          </p:cNvPr>
          <p:cNvSpPr/>
          <p:nvPr/>
        </p:nvSpPr>
        <p:spPr>
          <a:xfrm>
            <a:off x="4267080" y="2362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124080"/>
            <a:ext cx="38098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Otto schwimmt 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4" action="ppaction://hlinksldjump"/>
          </p:cNvPr>
          <p:cNvSpPr/>
          <p:nvPr/>
        </p:nvSpPr>
        <p:spPr>
          <a:xfrm>
            <a:off x="4267080" y="3124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5" action="ppaction://hlinksldjump"/>
          </p:cNvPr>
          <p:cNvSpPr/>
          <p:nvPr/>
        </p:nvSpPr>
        <p:spPr>
          <a:xfrm>
            <a:off x="6477120" y="3124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3886200"/>
            <a:ext cx="3809880" cy="4597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im sitzt auf 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6" action="ppaction://hlinksldjump"/>
          </p:cNvPr>
          <p:cNvSpPr/>
          <p:nvPr/>
        </p:nvSpPr>
        <p:spPr>
          <a:xfrm>
            <a:off x="6477120" y="3886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u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648320"/>
            <a:ext cx="38098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Marina geht in 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7" action="ppaction://hlinksldjump"/>
          </p:cNvPr>
          <p:cNvSpPr/>
          <p:nvPr/>
        </p:nvSpPr>
        <p:spPr>
          <a:xfrm>
            <a:off x="4267080" y="4648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8" action="ppaction://hlinksldjump"/>
          </p:cNvPr>
          <p:cNvSpPr/>
          <p:nvPr/>
        </p:nvSpPr>
        <p:spPr>
          <a:xfrm>
            <a:off x="6477120" y="4648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5410080"/>
            <a:ext cx="38098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Fred parkt auf 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9" action="ppaction://hlinksldjump"/>
          </p:cNvPr>
          <p:cNvSpPr/>
          <p:nvPr/>
        </p:nvSpPr>
        <p:spPr>
          <a:xfrm>
            <a:off x="4267080" y="5410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kpl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0" action="ppaction://hlinksldjump"/>
          </p:cNvPr>
          <p:cNvSpPr/>
          <p:nvPr/>
        </p:nvSpPr>
        <p:spPr>
          <a:xfrm>
            <a:off x="6477120" y="5410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u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11" action="ppaction://hlinksldjump"/>
          </p:cNvPr>
          <p:cNvSpPr/>
          <p:nvPr/>
        </p:nvSpPr>
        <p:spPr>
          <a:xfrm>
            <a:off x="6477120" y="2362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12" action="ppaction://hlinksldjump"/>
          </p:cNvPr>
          <p:cNvSpPr/>
          <p:nvPr/>
        </p:nvSpPr>
        <p:spPr>
          <a:xfrm>
            <a:off x="4267080" y="3886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u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487692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380988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434340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21583" y="3837"/>
                </a:moveTo>
                <a:lnTo>
                  <a:pt x="24159" y="6448"/>
                </a:ln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lnTo>
                  <a:pt x="28546" y="10800"/>
                </a:lnTo>
                <a:lnTo>
                  <a:pt x="26892" y="10800"/>
                </a:lnTo>
                <a:lnTo>
                  <a:pt x="26892" y="17989"/>
                </a:lnTo>
                <a:lnTo>
                  <a:pt x="16274" y="17989"/>
                </a:lnTo>
                <a:lnTo>
                  <a:pt x="16274" y="10800"/>
                </a:lnTo>
                <a:lnTo>
                  <a:pt x="14620" y="10800"/>
                </a:lnTo>
                <a:close/>
              </a:path>
              <a:path fill="darkenLess" w="43166" h="21600">
                <a:moveTo>
                  <a:pt x="24159" y="6448"/>
                </a:move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close/>
              </a:path>
              <a:path fill="darkenLess" w="43166" h="21600">
                <a:moveTo>
                  <a:pt x="20660" y="14299"/>
                </a:moveTo>
                <a:lnTo>
                  <a:pt x="22506" y="14299"/>
                </a:lnTo>
                <a:lnTo>
                  <a:pt x="22506" y="17989"/>
                </a:lnTo>
                <a:lnTo>
                  <a:pt x="26892" y="17989"/>
                </a:lnTo>
                <a:lnTo>
                  <a:pt x="26892" y="10800"/>
                </a:lnTo>
                <a:lnTo>
                  <a:pt x="16274" y="10800"/>
                </a:lnTo>
                <a:lnTo>
                  <a:pt x="16274" y="17989"/>
                </a:lnTo>
                <a:lnTo>
                  <a:pt x="20660" y="17989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1600200"/>
            <a:ext cx="3809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Der Stein ist a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267080" y="1600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e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6477120" y="1600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r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50400" y="457200"/>
            <a:ext cx="71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66"/>
                </a:solidFill>
                <a:uFillTx/>
                <a:latin typeface="Verdana"/>
              </a:rPr>
              <a:t>Lies die Sätze und klicke das richtige Wort 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2362320"/>
            <a:ext cx="3809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Verdana"/>
              </a:rPr>
              <a:t>Tizian sitzt am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4267080" y="2362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124080"/>
            <a:ext cx="38098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ie Tische si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4" action="ppaction://hlinksldjump"/>
          </p:cNvPr>
          <p:cNvSpPr/>
          <p:nvPr/>
        </p:nvSpPr>
        <p:spPr>
          <a:xfrm>
            <a:off x="4267080" y="3124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ra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5" action="ppaction://hlinksldjump"/>
          </p:cNvPr>
          <p:cNvSpPr/>
          <p:nvPr/>
        </p:nvSpPr>
        <p:spPr>
          <a:xfrm>
            <a:off x="6477120" y="3124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ra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3886200"/>
            <a:ext cx="3809880" cy="4597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Die B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6" action="ppaction://hlinksldjump"/>
          </p:cNvPr>
          <p:cNvSpPr/>
          <p:nvPr/>
        </p:nvSpPr>
        <p:spPr>
          <a:xfrm>
            <a:off x="6477120" y="3886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erwacke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4648320"/>
            <a:ext cx="38098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ie Oma i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7" action="ppaction://hlinksldjump"/>
          </p:cNvPr>
          <p:cNvSpPr/>
          <p:nvPr/>
        </p:nvSpPr>
        <p:spPr>
          <a:xfrm>
            <a:off x="4267080" y="4648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üs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8" action="ppaction://hlinksldjump"/>
          </p:cNvPr>
          <p:cNvSpPr/>
          <p:nvPr/>
        </p:nvSpPr>
        <p:spPr>
          <a:xfrm>
            <a:off x="6477120" y="4648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os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5410080"/>
            <a:ext cx="38098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ie Wurst i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9" action="ppaction://hlinksldjump"/>
          </p:cNvPr>
          <p:cNvSpPr/>
          <p:nvPr/>
        </p:nvSpPr>
        <p:spPr>
          <a:xfrm>
            <a:off x="4267080" y="5410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10" action="ppaction://hlinksldjump"/>
          </p:cNvPr>
          <p:cNvSpPr/>
          <p:nvPr/>
        </p:nvSpPr>
        <p:spPr>
          <a:xfrm>
            <a:off x="6477120" y="5410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1" action="ppaction://hlinksldjump"/>
          </p:cNvPr>
          <p:cNvSpPr/>
          <p:nvPr/>
        </p:nvSpPr>
        <p:spPr>
          <a:xfrm>
            <a:off x="6477120" y="2362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2" action="ppaction://hlinksldjump"/>
          </p:cNvPr>
          <p:cNvSpPr/>
          <p:nvPr/>
        </p:nvSpPr>
        <p:spPr>
          <a:xfrm>
            <a:off x="4267080" y="3886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erwel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487692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380988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434340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21583" y="3837"/>
                </a:moveTo>
                <a:lnTo>
                  <a:pt x="24159" y="6448"/>
                </a:ln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lnTo>
                  <a:pt x="28546" y="10800"/>
                </a:lnTo>
                <a:lnTo>
                  <a:pt x="26892" y="10800"/>
                </a:lnTo>
                <a:lnTo>
                  <a:pt x="26892" y="17989"/>
                </a:lnTo>
                <a:lnTo>
                  <a:pt x="16274" y="17989"/>
                </a:lnTo>
                <a:lnTo>
                  <a:pt x="16274" y="10800"/>
                </a:lnTo>
                <a:lnTo>
                  <a:pt x="14620" y="10800"/>
                </a:lnTo>
                <a:close/>
              </a:path>
              <a:path fill="darkenLess" w="43166" h="21600">
                <a:moveTo>
                  <a:pt x="24159" y="6448"/>
                </a:move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close/>
              </a:path>
              <a:path fill="darkenLess" w="43166" h="21600">
                <a:moveTo>
                  <a:pt x="20660" y="14299"/>
                </a:moveTo>
                <a:lnTo>
                  <a:pt x="22506" y="14299"/>
                </a:lnTo>
                <a:lnTo>
                  <a:pt x="22506" y="17989"/>
                </a:lnTo>
                <a:lnTo>
                  <a:pt x="26892" y="17989"/>
                </a:lnTo>
                <a:lnTo>
                  <a:pt x="26892" y="10800"/>
                </a:lnTo>
                <a:lnTo>
                  <a:pt x="16274" y="10800"/>
                </a:lnTo>
                <a:lnTo>
                  <a:pt x="16274" y="17989"/>
                </a:lnTo>
                <a:lnTo>
                  <a:pt x="20660" y="17989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" y="1600200"/>
            <a:ext cx="3809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Tim spiel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4267080" y="1600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l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6477120" y="1600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la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50400" y="457200"/>
            <a:ext cx="71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66"/>
                </a:solidFill>
                <a:uFillTx/>
                <a:latin typeface="Verdana"/>
              </a:rPr>
              <a:t>Lies die Sätze und klicke das richtige Wort 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2362320"/>
            <a:ext cx="3809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ante Lea fähr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3" action="ppaction://hlinksldjump"/>
          </p:cNvPr>
          <p:cNvSpPr/>
          <p:nvPr/>
        </p:nvSpPr>
        <p:spPr>
          <a:xfrm>
            <a:off x="4267080" y="2362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3124080"/>
            <a:ext cx="38098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ie Hirsc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4" action="ppaction://hlinksldjump"/>
          </p:cNvPr>
          <p:cNvSpPr/>
          <p:nvPr/>
        </p:nvSpPr>
        <p:spPr>
          <a:xfrm>
            <a:off x="4267080" y="3124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5" action="ppaction://hlinksldjump"/>
          </p:cNvPr>
          <p:cNvSpPr/>
          <p:nvPr/>
        </p:nvSpPr>
        <p:spPr>
          <a:xfrm>
            <a:off x="6477120" y="3124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a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3886200"/>
            <a:ext cx="3809880" cy="4597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Der Baum is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6" action="ppaction://hlinksldjump"/>
          </p:cNvPr>
          <p:cNvSpPr/>
          <p:nvPr/>
        </p:nvSpPr>
        <p:spPr>
          <a:xfrm>
            <a:off x="6477120" y="3886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648320"/>
            <a:ext cx="38098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as Dreirad i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7" action="ppaction://hlinksldjump"/>
          </p:cNvPr>
          <p:cNvSpPr/>
          <p:nvPr/>
        </p:nvSpPr>
        <p:spPr>
          <a:xfrm>
            <a:off x="4267080" y="4648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l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8" action="ppaction://hlinksldjump"/>
          </p:cNvPr>
          <p:cNvSpPr/>
          <p:nvPr/>
        </p:nvSpPr>
        <p:spPr>
          <a:xfrm>
            <a:off x="6477120" y="4648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l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5410080"/>
            <a:ext cx="38098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as Messer i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9" action="ppaction://hlinksldjump"/>
          </p:cNvPr>
          <p:cNvSpPr/>
          <p:nvPr/>
        </p:nvSpPr>
        <p:spPr>
          <a:xfrm>
            <a:off x="4267080" y="5410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a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0" action="ppaction://hlinksldjump"/>
          </p:cNvPr>
          <p:cNvSpPr/>
          <p:nvPr/>
        </p:nvSpPr>
        <p:spPr>
          <a:xfrm>
            <a:off x="6477120" y="5410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11" action="ppaction://hlinksldjump"/>
          </p:cNvPr>
          <p:cNvSpPr/>
          <p:nvPr/>
        </p:nvSpPr>
        <p:spPr>
          <a:xfrm>
            <a:off x="6477120" y="2362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12" action="ppaction://hlinksldjump"/>
          </p:cNvPr>
          <p:cNvSpPr/>
          <p:nvPr/>
        </p:nvSpPr>
        <p:spPr>
          <a:xfrm>
            <a:off x="4267080" y="3886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o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487692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previousslide"/>
          </p:cNvPr>
          <p:cNvSpPr/>
          <p:nvPr/>
        </p:nvSpPr>
        <p:spPr>
          <a:xfrm>
            <a:off x="380988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434340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21583" y="3837"/>
                </a:moveTo>
                <a:lnTo>
                  <a:pt x="24159" y="6448"/>
                </a:ln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lnTo>
                  <a:pt x="28546" y="10800"/>
                </a:lnTo>
                <a:lnTo>
                  <a:pt x="26892" y="10800"/>
                </a:lnTo>
                <a:lnTo>
                  <a:pt x="26892" y="17989"/>
                </a:lnTo>
                <a:lnTo>
                  <a:pt x="16274" y="17989"/>
                </a:lnTo>
                <a:lnTo>
                  <a:pt x="16274" y="10800"/>
                </a:lnTo>
                <a:lnTo>
                  <a:pt x="14620" y="10800"/>
                </a:lnTo>
                <a:close/>
              </a:path>
              <a:path fill="darkenLess" w="43166" h="21600">
                <a:moveTo>
                  <a:pt x="24159" y="6448"/>
                </a:move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close/>
              </a:path>
              <a:path fill="darkenLess" w="43166" h="21600">
                <a:moveTo>
                  <a:pt x="20660" y="14299"/>
                </a:moveTo>
                <a:lnTo>
                  <a:pt x="22506" y="14299"/>
                </a:lnTo>
                <a:lnTo>
                  <a:pt x="22506" y="17989"/>
                </a:lnTo>
                <a:lnTo>
                  <a:pt x="26892" y="17989"/>
                </a:lnTo>
                <a:lnTo>
                  <a:pt x="26892" y="10800"/>
                </a:lnTo>
                <a:lnTo>
                  <a:pt x="16274" y="10800"/>
                </a:lnTo>
                <a:lnTo>
                  <a:pt x="16274" y="17989"/>
                </a:lnTo>
                <a:lnTo>
                  <a:pt x="20660" y="17989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57200" y="1600200"/>
            <a:ext cx="3809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Timo 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4267080" y="1600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6477120" y="1600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50400" y="457200"/>
            <a:ext cx="71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66"/>
                </a:solidFill>
                <a:uFillTx/>
                <a:latin typeface="Verdana"/>
              </a:rPr>
              <a:t>Lies die Sätze und klicke das richtige Wort 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362320"/>
            <a:ext cx="3809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Verdana"/>
              </a:rPr>
              <a:t>Tizian baut e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3" action="ppaction://hlinksldjump"/>
          </p:cNvPr>
          <p:cNvSpPr/>
          <p:nvPr/>
        </p:nvSpPr>
        <p:spPr>
          <a:xfrm>
            <a:off x="4267080" y="2362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u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3124080"/>
            <a:ext cx="38098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ie Dachbal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4" action="ppaction://hlinksldjump"/>
          </p:cNvPr>
          <p:cNvSpPr/>
          <p:nvPr/>
        </p:nvSpPr>
        <p:spPr>
          <a:xfrm>
            <a:off x="4267080" y="3124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räch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5" action="ppaction://hlinksldjump"/>
          </p:cNvPr>
          <p:cNvSpPr/>
          <p:nvPr/>
        </p:nvSpPr>
        <p:spPr>
          <a:xfrm>
            <a:off x="6477120" y="3124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äch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3886200"/>
            <a:ext cx="3809880" cy="4597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Die Blume blüh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6" action="ppaction://hlinksldjump"/>
          </p:cNvPr>
          <p:cNvSpPr/>
          <p:nvPr/>
        </p:nvSpPr>
        <p:spPr>
          <a:xfrm>
            <a:off x="6477120" y="3886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ö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4648320"/>
            <a:ext cx="38098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Vorm Haus wäch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rId7" action="ppaction://hlinksldjump"/>
          </p:cNvPr>
          <p:cNvSpPr/>
          <p:nvPr/>
        </p:nvSpPr>
        <p:spPr>
          <a:xfrm>
            <a:off x="4267080" y="4648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o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rId8" action="ppaction://hlinksldjump"/>
          </p:cNvPr>
          <p:cNvSpPr/>
          <p:nvPr/>
        </p:nvSpPr>
        <p:spPr>
          <a:xfrm>
            <a:off x="6477120" y="4648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5410080"/>
            <a:ext cx="38098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ie Dose i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9" action="ppaction://hlinksldjump"/>
          </p:cNvPr>
          <p:cNvSpPr/>
          <p:nvPr/>
        </p:nvSpPr>
        <p:spPr>
          <a:xfrm>
            <a:off x="4267080" y="5410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pi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10" action="ppaction://hlinksldjump"/>
          </p:cNvPr>
          <p:cNvSpPr/>
          <p:nvPr/>
        </p:nvSpPr>
        <p:spPr>
          <a:xfrm>
            <a:off x="6477120" y="5410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11" action="ppaction://hlinksldjump"/>
          </p:cNvPr>
          <p:cNvSpPr/>
          <p:nvPr/>
        </p:nvSpPr>
        <p:spPr>
          <a:xfrm>
            <a:off x="6477120" y="2362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12" action="ppaction://hlinksldjump"/>
          </p:cNvPr>
          <p:cNvSpPr/>
          <p:nvPr/>
        </p:nvSpPr>
        <p:spPr>
          <a:xfrm>
            <a:off x="4267080" y="3886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ö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487692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previousslide"/>
          </p:cNvPr>
          <p:cNvSpPr/>
          <p:nvPr/>
        </p:nvSpPr>
        <p:spPr>
          <a:xfrm>
            <a:off x="380988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434340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21583" y="3837"/>
                </a:moveTo>
                <a:lnTo>
                  <a:pt x="24159" y="6448"/>
                </a:ln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lnTo>
                  <a:pt x="28546" y="10800"/>
                </a:lnTo>
                <a:lnTo>
                  <a:pt x="26892" y="10800"/>
                </a:lnTo>
                <a:lnTo>
                  <a:pt x="26892" y="17989"/>
                </a:lnTo>
                <a:lnTo>
                  <a:pt x="16274" y="17989"/>
                </a:lnTo>
                <a:lnTo>
                  <a:pt x="16274" y="10800"/>
                </a:lnTo>
                <a:lnTo>
                  <a:pt x="14620" y="10800"/>
                </a:lnTo>
                <a:close/>
              </a:path>
              <a:path fill="darkenLess" w="43166" h="21600">
                <a:moveTo>
                  <a:pt x="24159" y="6448"/>
                </a:move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close/>
              </a:path>
              <a:path fill="darkenLess" w="43166" h="21600">
                <a:moveTo>
                  <a:pt x="20660" y="14299"/>
                </a:moveTo>
                <a:lnTo>
                  <a:pt x="22506" y="14299"/>
                </a:lnTo>
                <a:lnTo>
                  <a:pt x="22506" y="17989"/>
                </a:lnTo>
                <a:lnTo>
                  <a:pt x="26892" y="17989"/>
                </a:lnTo>
                <a:lnTo>
                  <a:pt x="26892" y="10800"/>
                </a:lnTo>
                <a:lnTo>
                  <a:pt x="16274" y="10800"/>
                </a:lnTo>
                <a:lnTo>
                  <a:pt x="16274" y="17989"/>
                </a:lnTo>
                <a:lnTo>
                  <a:pt x="20660" y="17989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1600200"/>
            <a:ext cx="3809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Markus fliegt 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4267080" y="1600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erkze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2" action="ppaction://hlinksldjump"/>
          </p:cNvPr>
          <p:cNvSpPr/>
          <p:nvPr/>
        </p:nvSpPr>
        <p:spPr>
          <a:xfrm>
            <a:off x="6477120" y="1600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lugze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0400" y="457200"/>
            <a:ext cx="71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66"/>
                </a:solidFill>
                <a:uFillTx/>
                <a:latin typeface="Verdana"/>
              </a:rPr>
              <a:t>Lies die Sätze und klicke das richtige Wort 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2362320"/>
            <a:ext cx="3809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Lennart spielt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3" action="ppaction://hlinksldjump"/>
          </p:cNvPr>
          <p:cNvSpPr/>
          <p:nvPr/>
        </p:nvSpPr>
        <p:spPr>
          <a:xfrm>
            <a:off x="4267080" y="2362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3124080"/>
            <a:ext cx="38098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ie Compu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rId4" action="ppaction://hlinksldjump"/>
          </p:cNvPr>
          <p:cNvSpPr/>
          <p:nvPr/>
        </p:nvSpPr>
        <p:spPr>
          <a:xfrm>
            <a:off x="4267080" y="3124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ur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5" action="ppaction://hlinksldjump"/>
          </p:cNvPr>
          <p:cNvSpPr/>
          <p:nvPr/>
        </p:nvSpPr>
        <p:spPr>
          <a:xfrm>
            <a:off x="6477120" y="3124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r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3886200"/>
            <a:ext cx="3809880" cy="4597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Die Tomate ist 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rId6" action="ppaction://hlinksldjump"/>
          </p:cNvPr>
          <p:cNvSpPr/>
          <p:nvPr/>
        </p:nvSpPr>
        <p:spPr>
          <a:xfrm>
            <a:off x="6477120" y="3886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4648320"/>
            <a:ext cx="38098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Jan hat viel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7" action="ppaction://hlinksldjump"/>
          </p:cNvPr>
          <p:cNvSpPr/>
          <p:nvPr/>
        </p:nvSpPr>
        <p:spPr>
          <a:xfrm>
            <a:off x="4267080" y="4648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us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8" action="ppaction://hlinksldjump"/>
          </p:cNvPr>
          <p:cNvSpPr/>
          <p:nvPr/>
        </p:nvSpPr>
        <p:spPr>
          <a:xfrm>
            <a:off x="6477120" y="4648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urme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5410080"/>
            <a:ext cx="38098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ie Butter i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9" action="ppaction://hlinksldjump"/>
          </p:cNvPr>
          <p:cNvSpPr/>
          <p:nvPr/>
        </p:nvSpPr>
        <p:spPr>
          <a:xfrm>
            <a:off x="4267080" y="5410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erlau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10" action="ppaction://hlinksldjump"/>
          </p:cNvPr>
          <p:cNvSpPr/>
          <p:nvPr/>
        </p:nvSpPr>
        <p:spPr>
          <a:xfrm>
            <a:off x="6477120" y="5410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erkau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11" action="ppaction://hlinksldjump"/>
          </p:cNvPr>
          <p:cNvSpPr/>
          <p:nvPr/>
        </p:nvSpPr>
        <p:spPr>
          <a:xfrm>
            <a:off x="6477120" y="2362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12" action="ppaction://hlinksldjump"/>
          </p:cNvPr>
          <p:cNvSpPr/>
          <p:nvPr/>
        </p:nvSpPr>
        <p:spPr>
          <a:xfrm>
            <a:off x="4267080" y="3886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o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nextslide"/>
          </p:cNvPr>
          <p:cNvSpPr/>
          <p:nvPr/>
        </p:nvSpPr>
        <p:spPr>
          <a:xfrm>
            <a:off x="487692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previousslide"/>
          </p:cNvPr>
          <p:cNvSpPr/>
          <p:nvPr/>
        </p:nvSpPr>
        <p:spPr>
          <a:xfrm>
            <a:off x="380988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434340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21583" y="3837"/>
                </a:moveTo>
                <a:lnTo>
                  <a:pt x="24159" y="6448"/>
                </a:ln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lnTo>
                  <a:pt x="28546" y="10800"/>
                </a:lnTo>
                <a:lnTo>
                  <a:pt x="26892" y="10800"/>
                </a:lnTo>
                <a:lnTo>
                  <a:pt x="26892" y="17989"/>
                </a:lnTo>
                <a:lnTo>
                  <a:pt x="16274" y="17989"/>
                </a:lnTo>
                <a:lnTo>
                  <a:pt x="16274" y="10800"/>
                </a:lnTo>
                <a:lnTo>
                  <a:pt x="14620" y="10800"/>
                </a:lnTo>
                <a:close/>
              </a:path>
              <a:path fill="darkenLess" w="43166" h="21600">
                <a:moveTo>
                  <a:pt x="24159" y="6448"/>
                </a:move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close/>
              </a:path>
              <a:path fill="darkenLess" w="43166" h="21600">
                <a:moveTo>
                  <a:pt x="20660" y="14299"/>
                </a:moveTo>
                <a:lnTo>
                  <a:pt x="22506" y="14299"/>
                </a:lnTo>
                <a:lnTo>
                  <a:pt x="22506" y="17989"/>
                </a:lnTo>
                <a:lnTo>
                  <a:pt x="26892" y="17989"/>
                </a:lnTo>
                <a:lnTo>
                  <a:pt x="26892" y="10800"/>
                </a:lnTo>
                <a:lnTo>
                  <a:pt x="16274" y="10800"/>
                </a:lnTo>
                <a:lnTo>
                  <a:pt x="16274" y="17989"/>
                </a:lnTo>
                <a:lnTo>
                  <a:pt x="20660" y="17989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200" y="1600200"/>
            <a:ext cx="3809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Die Jeans si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rId1" action="ppaction://hlinksldjump"/>
          </p:cNvPr>
          <p:cNvSpPr/>
          <p:nvPr/>
        </p:nvSpPr>
        <p:spPr>
          <a:xfrm>
            <a:off x="4267080" y="1600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2" action="ppaction://hlinksldjump"/>
          </p:cNvPr>
          <p:cNvSpPr/>
          <p:nvPr/>
        </p:nvSpPr>
        <p:spPr>
          <a:xfrm>
            <a:off x="6477120" y="1600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50400" y="457200"/>
            <a:ext cx="71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66"/>
                </a:solidFill>
                <a:uFillTx/>
                <a:latin typeface="Verdana"/>
              </a:rPr>
              <a:t>Lies die Sätze und klicke das richtige Wort 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362320"/>
            <a:ext cx="3809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er Hund friss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3" action="ppaction://hlinksldjump"/>
          </p:cNvPr>
          <p:cNvSpPr/>
          <p:nvPr/>
        </p:nvSpPr>
        <p:spPr>
          <a:xfrm>
            <a:off x="4267080" y="2362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u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3124080"/>
            <a:ext cx="38098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as Auto 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4" action="ppaction://hlinksldjump"/>
          </p:cNvPr>
          <p:cNvSpPr/>
          <p:nvPr/>
        </p:nvSpPr>
        <p:spPr>
          <a:xfrm>
            <a:off x="4267080" y="3124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5" action="ppaction://hlinksldjump"/>
          </p:cNvPr>
          <p:cNvSpPr/>
          <p:nvPr/>
        </p:nvSpPr>
        <p:spPr>
          <a:xfrm>
            <a:off x="6477120" y="3124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3886200"/>
            <a:ext cx="3809880" cy="4597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Das Karussell is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6" action="ppaction://hlinksldjump"/>
          </p:cNvPr>
          <p:cNvSpPr/>
          <p:nvPr/>
        </p:nvSpPr>
        <p:spPr>
          <a:xfrm>
            <a:off x="6477120" y="3886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4648320"/>
            <a:ext cx="380988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Der Stift 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7" action="ppaction://hlinksldjump"/>
          </p:cNvPr>
          <p:cNvSpPr/>
          <p:nvPr/>
        </p:nvSpPr>
        <p:spPr>
          <a:xfrm>
            <a:off x="4267080" y="4648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8" action="ppaction://hlinksldjump"/>
          </p:cNvPr>
          <p:cNvSpPr/>
          <p:nvPr/>
        </p:nvSpPr>
        <p:spPr>
          <a:xfrm>
            <a:off x="6477120" y="4648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5410080"/>
            <a:ext cx="38098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Viele Kinder fahren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9" action="ppaction://hlinksldjump"/>
          </p:cNvPr>
          <p:cNvSpPr/>
          <p:nvPr/>
        </p:nvSpPr>
        <p:spPr>
          <a:xfrm>
            <a:off x="4267080" y="5410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10" action="ppaction://hlinksldjump"/>
          </p:cNvPr>
          <p:cNvSpPr/>
          <p:nvPr/>
        </p:nvSpPr>
        <p:spPr>
          <a:xfrm>
            <a:off x="6477120" y="5410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rId11" action="ppaction://hlinksldjump"/>
          </p:cNvPr>
          <p:cNvSpPr/>
          <p:nvPr/>
        </p:nvSpPr>
        <p:spPr>
          <a:xfrm>
            <a:off x="6477120" y="2362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u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rId12" action="ppaction://hlinksldjump"/>
          </p:cNvPr>
          <p:cNvSpPr/>
          <p:nvPr/>
        </p:nvSpPr>
        <p:spPr>
          <a:xfrm>
            <a:off x="4267080" y="3886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a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487692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380988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firstslide"/>
          </p:cNvPr>
          <p:cNvSpPr/>
          <p:nvPr/>
        </p:nvSpPr>
        <p:spPr>
          <a:xfrm>
            <a:off x="434340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21583" y="3837"/>
                </a:moveTo>
                <a:lnTo>
                  <a:pt x="24159" y="6448"/>
                </a:ln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lnTo>
                  <a:pt x="28546" y="10800"/>
                </a:lnTo>
                <a:lnTo>
                  <a:pt x="26892" y="10800"/>
                </a:lnTo>
                <a:lnTo>
                  <a:pt x="26892" y="17989"/>
                </a:lnTo>
                <a:lnTo>
                  <a:pt x="16274" y="17989"/>
                </a:lnTo>
                <a:lnTo>
                  <a:pt x="16274" y="10800"/>
                </a:lnTo>
                <a:lnTo>
                  <a:pt x="14620" y="10800"/>
                </a:lnTo>
                <a:close/>
              </a:path>
              <a:path fill="darkenLess" w="43166" h="21600">
                <a:moveTo>
                  <a:pt x="24159" y="6448"/>
                </a:move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close/>
              </a:path>
              <a:path fill="darkenLess" w="43166" h="21600">
                <a:moveTo>
                  <a:pt x="20660" y="14299"/>
                </a:moveTo>
                <a:lnTo>
                  <a:pt x="22506" y="14299"/>
                </a:lnTo>
                <a:lnTo>
                  <a:pt x="22506" y="17989"/>
                </a:lnTo>
                <a:lnTo>
                  <a:pt x="26892" y="17989"/>
                </a:lnTo>
                <a:lnTo>
                  <a:pt x="26892" y="10800"/>
                </a:lnTo>
                <a:lnTo>
                  <a:pt x="16274" y="10800"/>
                </a:lnTo>
                <a:lnTo>
                  <a:pt x="16274" y="17989"/>
                </a:lnTo>
                <a:lnTo>
                  <a:pt x="20660" y="17989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3:50:22Z</dcterms:created>
  <dc:creator>Gast</dc:creator>
  <dc:description/>
  <dc:language>en-US</dc:language>
  <cp:lastModifiedBy>User</cp:lastModifiedBy>
  <dcterms:modified xsi:type="dcterms:W3CDTF">2007-11-01T18:24:56Z</dcterms:modified>
  <cp:revision>40</cp:revision>
  <dc:subject/>
  <dc:title>PowerPoint-Präsentation</dc:title>
</cp:coreProperties>
</file>