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20C-C61E-4D58-A8A3-EF2C55F7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0F8-22B0-413F-AAEE-CC084CC0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62C-2CC6-4B90-9968-D2E91A08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62D-E806-4318-8DC4-E7DAF156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A6B-9656-4836-9F4C-1C987D9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6E3-8CAE-4D39-83B2-E4D78B4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4BF-6699-4FB3-9E1B-28DDB67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6CA-BE46-4A72-82F3-FEEE9BA8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57A-A29D-4F72-90D5-AD8AC83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5E0-D266-40CF-A182-BD5508AB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CD7-1A47-48DD-8A34-C5025842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C23-FD18-4ACF-9431-F5985E8D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097-55AF-4122-B4AD-1F5941622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20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99ffcc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Kev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00790_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198520" cy="22924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320040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8769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izian spi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n re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Lkw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nnart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ei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m hüpft auf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Tisch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ben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Automotor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i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ng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 ist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leid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äu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s Pferd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i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lk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s Blat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m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leid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 Katze ist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Tisch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ben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D05961_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685800" y="2438280"/>
            <a:ext cx="7848720" cy="762120"/>
          </a:xfrm>
          <a:custGeom>
            <a:avLst/>
            <a:gdLst>
              <a:gd name="textAreaLeft" fmla="*/ 75600 w 7848720"/>
              <a:gd name="textAreaRight" fmla="*/ 7773120 w 7848720"/>
              <a:gd name="textAreaTop" fmla="*/ 75600 h 762120"/>
              <a:gd name="textAreaBottom" fmla="*/ 686520 h 762120"/>
            </a:gdLst>
            <a:ahLst/>
            <a:rect l="textAreaLeft" t="textAreaTop" r="textAreaRight" b="textAreaBottom"/>
            <a:pathLst>
              <a:path w="222354" h="21600">
                <a:moveTo>
                  <a:pt x="0" y="0"/>
                </a:moveTo>
                <a:lnTo>
                  <a:pt x="222354" y="0"/>
                </a:lnTo>
                <a:lnTo>
                  <a:pt x="222354" y="21600"/>
                </a:lnTo>
                <a:lnTo>
                  <a:pt x="0" y="21600"/>
                </a:lnTo>
                <a:close/>
              </a:path>
              <a:path fill="lightenLess" w="222354" h="21600">
                <a:moveTo>
                  <a:pt x="0" y="0"/>
                </a:moveTo>
                <a:lnTo>
                  <a:pt x="222354" y="0"/>
                </a:lnTo>
                <a:lnTo>
                  <a:pt x="220208" y="2146"/>
                </a:lnTo>
                <a:lnTo>
                  <a:pt x="2146" y="2146"/>
                </a:lnTo>
                <a:close/>
              </a:path>
              <a:path fill="darken" w="222354" h="21600">
                <a:moveTo>
                  <a:pt x="222354" y="0"/>
                </a:moveTo>
                <a:lnTo>
                  <a:pt x="222354" y="21600"/>
                </a:lnTo>
                <a:lnTo>
                  <a:pt x="220208" y="19454"/>
                </a:lnTo>
                <a:lnTo>
                  <a:pt x="220208" y="2146"/>
                </a:lnTo>
                <a:close/>
              </a:path>
              <a:path fill="darkenLess" w="222354" h="21600">
                <a:moveTo>
                  <a:pt x="222354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220208" y="19454"/>
                </a:lnTo>
                <a:close/>
              </a:path>
              <a:path fill="lighten" w="222354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Fertig, jetzt geht es wieder zurück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2-31T13:38:55Z</dcterms:modified>
  <cp:revision>23</cp:revision>
  <dc:subject/>
  <dc:title>PowerPoint-Präsentation</dc:title>
</cp:coreProperties>
</file>