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8A19-509A-40C4-863B-6CEB43B83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58F4-3F5F-45F8-9997-FAF1A9663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7B9E-1EC1-42EC-910A-5A0EBCE38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C9BE-D0ED-4BF2-A779-E6D3857F5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A8CD-9AF6-4A00-B5D7-6E4465995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8772-43E3-4886-A24C-554E5906F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F81D-CAB6-42EC-85F4-EF4FBD4A6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67E8-0185-4F98-955E-03376E645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62CE-4215-492E-8658-E5E926727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2C54-9D6B-4692-BE24-F2301D97B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AE9B-78EA-464D-848C-F6BF9D4C7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5124-C469-4CFF-AFC6-3CC617841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0C65B-CA92-428F-9791-B21FA91976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5.xml"/><Relationship Id="rId7" Type="http://schemas.openxmlformats.org/officeDocument/2006/relationships/slide" Target="slide4.xml"/><Relationship Id="rId8" Type="http://schemas.openxmlformats.org/officeDocument/2006/relationships/slide" Target="slide4.xml"/><Relationship Id="rId9" Type="http://schemas.openxmlformats.org/officeDocument/2006/relationships/slide" Target="slide5.xml"/><Relationship Id="rId10" Type="http://schemas.openxmlformats.org/officeDocument/2006/relationships/slide" Target="slide5.xml"/><Relationship Id="rId11" Type="http://schemas.openxmlformats.org/officeDocument/2006/relationships/slide" Target="slide4.xml"/><Relationship Id="rId12" Type="http://schemas.openxmlformats.org/officeDocument/2006/relationships/slide" Target="slide5.xml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1.xml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2209680"/>
            <a:ext cx="7772400" cy="642600"/>
          </a:xfrm>
          <a:prstGeom prst="rect">
            <a:avLst/>
          </a:prstGeom>
          <a:solidFill>
            <a:srgbClr val="99ffcc"/>
          </a:solidFill>
          <a:ln w="76320">
            <a:solidFill>
              <a:srgbClr val="3333cc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99"/>
                </a:solidFill>
                <a:latin typeface="Gill Sans Ultra Bold"/>
              </a:rPr>
              <a:t>von Lis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AN00790_" descr=""/>
          <p:cNvPicPr/>
          <p:nvPr/>
        </p:nvPicPr>
        <p:blipFill>
          <a:blip r:embed="rId1"/>
          <a:stretch/>
        </p:blipFill>
        <p:spPr>
          <a:xfrm>
            <a:off x="6248520" y="3124080"/>
            <a:ext cx="2198520" cy="2292480"/>
          </a:xfrm>
          <a:prstGeom prst="rect">
            <a:avLst/>
          </a:prstGeom>
          <a:ln w="0">
            <a:noFill/>
          </a:ln>
        </p:spPr>
      </p:pic>
      <p:sp>
        <p:nvSpPr>
          <p:cNvPr id="43" name="">
            <a:hlinkClick r:id="" action="ppaction://hlinkshowjump?jump=endshow"/>
          </p:cNvPr>
          <p:cNvSpPr/>
          <p:nvPr/>
        </p:nvSpPr>
        <p:spPr>
          <a:xfrm>
            <a:off x="3200400" y="6095880"/>
            <a:ext cx="1066680" cy="381240"/>
          </a:xfrm>
          <a:custGeom>
            <a:avLst/>
            <a:gdLst>
              <a:gd name="textAreaLeft" fmla="*/ 24480 w 1066680"/>
              <a:gd name="textAreaRight" fmla="*/ 1042200 w 10666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60398" h="21600">
                <a:moveTo>
                  <a:pt x="0" y="0"/>
                </a:moveTo>
                <a:lnTo>
                  <a:pt x="60398" y="0"/>
                </a:lnTo>
                <a:lnTo>
                  <a:pt x="60398" y="21600"/>
                </a:lnTo>
                <a:lnTo>
                  <a:pt x="0" y="21600"/>
                </a:lnTo>
                <a:close/>
              </a:path>
              <a:path fill="lightenLess" w="60398" h="21600">
                <a:moveTo>
                  <a:pt x="0" y="0"/>
                </a:moveTo>
                <a:lnTo>
                  <a:pt x="60398" y="0"/>
                </a:lnTo>
                <a:lnTo>
                  <a:pt x="58999" y="1400"/>
                </a:lnTo>
                <a:lnTo>
                  <a:pt x="1400" y="1400"/>
                </a:lnTo>
                <a:close/>
              </a:path>
              <a:path fill="darken" w="60398" h="21600">
                <a:moveTo>
                  <a:pt x="60398" y="0"/>
                </a:moveTo>
                <a:lnTo>
                  <a:pt x="60398" y="21600"/>
                </a:lnTo>
                <a:lnTo>
                  <a:pt x="58999" y="20200"/>
                </a:lnTo>
                <a:lnTo>
                  <a:pt x="58999" y="1400"/>
                </a:lnTo>
                <a:close/>
              </a:path>
              <a:path fill="darkenLess" w="60398" h="21600">
                <a:moveTo>
                  <a:pt x="603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999" y="20200"/>
                </a:lnTo>
                <a:close/>
              </a:path>
              <a:path fill="lighten" w="603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" action="ppaction://hlinkshowjump?jump=nextslide"/>
          </p:cNvPr>
          <p:cNvSpPr/>
          <p:nvPr/>
        </p:nvSpPr>
        <p:spPr>
          <a:xfrm>
            <a:off x="4876920" y="6095880"/>
            <a:ext cx="1066680" cy="381240"/>
          </a:xfrm>
          <a:custGeom>
            <a:avLst/>
            <a:gdLst>
              <a:gd name="textAreaLeft" fmla="*/ 24480 w 1066680"/>
              <a:gd name="textAreaRight" fmla="*/ 1042200 w 10666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60398" h="21600">
                <a:moveTo>
                  <a:pt x="0" y="0"/>
                </a:moveTo>
                <a:lnTo>
                  <a:pt x="60398" y="0"/>
                </a:lnTo>
                <a:lnTo>
                  <a:pt x="60398" y="21600"/>
                </a:lnTo>
                <a:lnTo>
                  <a:pt x="0" y="21600"/>
                </a:lnTo>
                <a:close/>
              </a:path>
              <a:path fill="lightenLess" w="60398" h="21600">
                <a:moveTo>
                  <a:pt x="0" y="0"/>
                </a:moveTo>
                <a:lnTo>
                  <a:pt x="60398" y="0"/>
                </a:lnTo>
                <a:lnTo>
                  <a:pt x="58999" y="1400"/>
                </a:lnTo>
                <a:lnTo>
                  <a:pt x="1400" y="1400"/>
                </a:lnTo>
                <a:close/>
              </a:path>
              <a:path fill="darken" w="60398" h="21600">
                <a:moveTo>
                  <a:pt x="60398" y="0"/>
                </a:moveTo>
                <a:lnTo>
                  <a:pt x="60398" y="21600"/>
                </a:lnTo>
                <a:lnTo>
                  <a:pt x="58999" y="20200"/>
                </a:lnTo>
                <a:lnTo>
                  <a:pt x="58999" y="1400"/>
                </a:lnTo>
                <a:close/>
              </a:path>
              <a:path fill="darkenLess" w="60398" h="21600">
                <a:moveTo>
                  <a:pt x="603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999" y="20200"/>
                </a:lnTo>
                <a:close/>
              </a:path>
              <a:path fill="lighten" w="603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467080" y="228600"/>
            <a:ext cx="477180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Lesetraining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1600200"/>
            <a:ext cx="380988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Die Schule 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1" action="ppaction://hlinksldjump"/>
          </p:cNvPr>
          <p:cNvSpPr/>
          <p:nvPr/>
        </p:nvSpPr>
        <p:spPr>
          <a:xfrm>
            <a:off x="4267080" y="1600200"/>
            <a:ext cx="2210040" cy="457200"/>
          </a:xfrm>
          <a:custGeom>
            <a:avLst/>
            <a:gdLst>
              <a:gd name="textAreaLeft" fmla="*/ 0 w 2210040"/>
              <a:gd name="textAreaRight" fmla="*/ 2210400 w 221004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46" h="21600">
                <a:moveTo>
                  <a:pt x="0" y="0"/>
                </a:moveTo>
                <a:lnTo>
                  <a:pt x="104346" y="0"/>
                </a:lnTo>
                <a:lnTo>
                  <a:pt x="104346" y="21600"/>
                </a:lnTo>
                <a:lnTo>
                  <a:pt x="0" y="21600"/>
                </a:lnTo>
                <a:close/>
              </a:path>
              <a:path fill="lightenLess" w="104346" h="21600">
                <a:moveTo>
                  <a:pt x="0" y="0"/>
                </a:moveTo>
                <a:lnTo>
                  <a:pt x="104346" y="0"/>
                </a:lnTo>
                <a:lnTo>
                  <a:pt x="104346" y="0"/>
                </a:lnTo>
                <a:lnTo>
                  <a:pt x="0" y="0"/>
                </a:lnTo>
                <a:close/>
              </a:path>
              <a:path fill="darken" w="104346" h="21600">
                <a:moveTo>
                  <a:pt x="104346" y="0"/>
                </a:moveTo>
                <a:lnTo>
                  <a:pt x="104346" y="21600"/>
                </a:lnTo>
                <a:lnTo>
                  <a:pt x="104346" y="21600"/>
                </a:lnTo>
                <a:lnTo>
                  <a:pt x="104346" y="0"/>
                </a:lnTo>
                <a:close/>
              </a:path>
              <a:path fill="darkenLess" w="104346" h="21600">
                <a:moveTo>
                  <a:pt x="104346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46" y="21600"/>
                </a:lnTo>
                <a:close/>
              </a:path>
              <a:path fill="lighten" w="104346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2" action="ppaction://hlinksldjump"/>
          </p:cNvPr>
          <p:cNvSpPr/>
          <p:nvPr/>
        </p:nvSpPr>
        <p:spPr>
          <a:xfrm>
            <a:off x="6477120" y="1600200"/>
            <a:ext cx="2209680" cy="457200"/>
          </a:xfrm>
          <a:custGeom>
            <a:avLst/>
            <a:gdLst>
              <a:gd name="textAreaLeft" fmla="*/ 0 w 2209680"/>
              <a:gd name="textAreaRight" fmla="*/ 2210040 w 22096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29" h="21600">
                <a:moveTo>
                  <a:pt x="0" y="0"/>
                </a:moveTo>
                <a:lnTo>
                  <a:pt x="104329" y="0"/>
                </a:lnTo>
                <a:lnTo>
                  <a:pt x="104329" y="21600"/>
                </a:lnTo>
                <a:lnTo>
                  <a:pt x="0" y="21600"/>
                </a:lnTo>
                <a:close/>
              </a:path>
              <a:path fill="lightenLess" w="104329" h="21600">
                <a:moveTo>
                  <a:pt x="0" y="0"/>
                </a:moveTo>
                <a:lnTo>
                  <a:pt x="104329" y="0"/>
                </a:lnTo>
                <a:lnTo>
                  <a:pt x="104329" y="0"/>
                </a:lnTo>
                <a:lnTo>
                  <a:pt x="0" y="0"/>
                </a:lnTo>
                <a:close/>
              </a:path>
              <a:path fill="darken" w="104329" h="21600">
                <a:moveTo>
                  <a:pt x="104329" y="0"/>
                </a:moveTo>
                <a:lnTo>
                  <a:pt x="104329" y="21600"/>
                </a:lnTo>
                <a:lnTo>
                  <a:pt x="104329" y="21600"/>
                </a:lnTo>
                <a:lnTo>
                  <a:pt x="104329" y="0"/>
                </a:lnTo>
                <a:close/>
              </a:path>
              <a:path fill="darkenLess" w="104329" h="21600">
                <a:moveTo>
                  <a:pt x="104329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29" y="21600"/>
                </a:lnTo>
                <a:close/>
              </a:path>
              <a:path fill="lighten" w="104329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50400" y="457200"/>
            <a:ext cx="71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66"/>
                </a:solidFill>
                <a:uFillTx/>
                <a:latin typeface="Verdana"/>
              </a:rPr>
              <a:t>Lies die Sätze und klicke das richtige Wort 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2362320"/>
            <a:ext cx="380988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Die Kinder si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3" action="ppaction://hlinksldjump"/>
          </p:cNvPr>
          <p:cNvSpPr/>
          <p:nvPr/>
        </p:nvSpPr>
        <p:spPr>
          <a:xfrm>
            <a:off x="4267080" y="2362320"/>
            <a:ext cx="2210040" cy="457200"/>
          </a:xfrm>
          <a:custGeom>
            <a:avLst/>
            <a:gdLst>
              <a:gd name="textAreaLeft" fmla="*/ 0 w 2210040"/>
              <a:gd name="textAreaRight" fmla="*/ 2210400 w 221004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46" h="21600">
                <a:moveTo>
                  <a:pt x="0" y="0"/>
                </a:moveTo>
                <a:lnTo>
                  <a:pt x="104346" y="0"/>
                </a:lnTo>
                <a:lnTo>
                  <a:pt x="104346" y="21600"/>
                </a:lnTo>
                <a:lnTo>
                  <a:pt x="0" y="21600"/>
                </a:lnTo>
                <a:close/>
              </a:path>
              <a:path fill="lightenLess" w="104346" h="21600">
                <a:moveTo>
                  <a:pt x="0" y="0"/>
                </a:moveTo>
                <a:lnTo>
                  <a:pt x="104346" y="0"/>
                </a:lnTo>
                <a:lnTo>
                  <a:pt x="104346" y="0"/>
                </a:lnTo>
                <a:lnTo>
                  <a:pt x="0" y="0"/>
                </a:lnTo>
                <a:close/>
              </a:path>
              <a:path fill="darken" w="104346" h="21600">
                <a:moveTo>
                  <a:pt x="104346" y="0"/>
                </a:moveTo>
                <a:lnTo>
                  <a:pt x="104346" y="21600"/>
                </a:lnTo>
                <a:lnTo>
                  <a:pt x="104346" y="21600"/>
                </a:lnTo>
                <a:lnTo>
                  <a:pt x="104346" y="0"/>
                </a:lnTo>
                <a:close/>
              </a:path>
              <a:path fill="darkenLess" w="104346" h="21600">
                <a:moveTo>
                  <a:pt x="104346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46" y="21600"/>
                </a:lnTo>
                <a:close/>
              </a:path>
              <a:path fill="lighten" w="104346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gro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rId4" action="ppaction://hlinksldjump"/>
          </p:cNvPr>
          <p:cNvSpPr/>
          <p:nvPr/>
        </p:nvSpPr>
        <p:spPr>
          <a:xfrm>
            <a:off x="6477120" y="2362320"/>
            <a:ext cx="2209680" cy="457200"/>
          </a:xfrm>
          <a:custGeom>
            <a:avLst/>
            <a:gdLst>
              <a:gd name="textAreaLeft" fmla="*/ 0 w 2209680"/>
              <a:gd name="textAreaRight" fmla="*/ 2210040 w 22096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29" h="21600">
                <a:moveTo>
                  <a:pt x="0" y="0"/>
                </a:moveTo>
                <a:lnTo>
                  <a:pt x="104329" y="0"/>
                </a:lnTo>
                <a:lnTo>
                  <a:pt x="104329" y="21600"/>
                </a:lnTo>
                <a:lnTo>
                  <a:pt x="0" y="21600"/>
                </a:lnTo>
                <a:close/>
              </a:path>
              <a:path fill="lightenLess" w="104329" h="21600">
                <a:moveTo>
                  <a:pt x="0" y="0"/>
                </a:moveTo>
                <a:lnTo>
                  <a:pt x="104329" y="0"/>
                </a:lnTo>
                <a:lnTo>
                  <a:pt x="104329" y="0"/>
                </a:lnTo>
                <a:lnTo>
                  <a:pt x="0" y="0"/>
                </a:lnTo>
                <a:close/>
              </a:path>
              <a:path fill="darken" w="104329" h="21600">
                <a:moveTo>
                  <a:pt x="104329" y="0"/>
                </a:moveTo>
                <a:lnTo>
                  <a:pt x="104329" y="21600"/>
                </a:lnTo>
                <a:lnTo>
                  <a:pt x="104329" y="21600"/>
                </a:lnTo>
                <a:lnTo>
                  <a:pt x="104329" y="0"/>
                </a:lnTo>
                <a:close/>
              </a:path>
              <a:path fill="darkenLess" w="104329" h="21600">
                <a:moveTo>
                  <a:pt x="104329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29" y="21600"/>
                </a:lnTo>
                <a:close/>
              </a:path>
              <a:path fill="lighten" w="104329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grü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3124080"/>
            <a:ext cx="380988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Das Sams i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5" action="ppaction://hlinksldjump"/>
          </p:cNvPr>
          <p:cNvSpPr/>
          <p:nvPr/>
        </p:nvSpPr>
        <p:spPr>
          <a:xfrm flipH="1">
            <a:off x="4266360" y="3124080"/>
            <a:ext cx="2210040" cy="457200"/>
          </a:xfrm>
          <a:custGeom>
            <a:avLst/>
            <a:gdLst>
              <a:gd name="textAreaLeft" fmla="*/ -360 w 2210040"/>
              <a:gd name="textAreaRight" fmla="*/ 2210040 w 221004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46" h="21600">
                <a:moveTo>
                  <a:pt x="0" y="0"/>
                </a:moveTo>
                <a:lnTo>
                  <a:pt x="104346" y="0"/>
                </a:lnTo>
                <a:lnTo>
                  <a:pt x="104346" y="21600"/>
                </a:lnTo>
                <a:lnTo>
                  <a:pt x="0" y="21600"/>
                </a:lnTo>
                <a:close/>
              </a:path>
              <a:path fill="lightenLess" w="104346" h="21600">
                <a:moveTo>
                  <a:pt x="0" y="0"/>
                </a:moveTo>
                <a:lnTo>
                  <a:pt x="104346" y="0"/>
                </a:lnTo>
                <a:lnTo>
                  <a:pt x="104346" y="0"/>
                </a:lnTo>
                <a:lnTo>
                  <a:pt x="0" y="0"/>
                </a:lnTo>
                <a:close/>
              </a:path>
              <a:path fill="darken" w="104346" h="21600">
                <a:moveTo>
                  <a:pt x="104346" y="0"/>
                </a:moveTo>
                <a:lnTo>
                  <a:pt x="104346" y="21600"/>
                </a:lnTo>
                <a:lnTo>
                  <a:pt x="104346" y="21600"/>
                </a:lnTo>
                <a:lnTo>
                  <a:pt x="104346" y="0"/>
                </a:lnTo>
                <a:close/>
              </a:path>
              <a:path fill="darkenLess" w="104346" h="21600">
                <a:moveTo>
                  <a:pt x="104346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46" y="21600"/>
                </a:lnTo>
                <a:close/>
              </a:path>
              <a:path fill="lighten" w="104346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kerni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3886200"/>
            <a:ext cx="3809880" cy="459720"/>
          </a:xfrm>
          <a:prstGeom prst="rect">
            <a:avLst/>
          </a:prstGeom>
          <a:solidFill>
            <a:srgbClr val="ff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Die Blume wächst im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6" action="ppaction://hlinksldjump"/>
          </p:cNvPr>
          <p:cNvSpPr/>
          <p:nvPr/>
        </p:nvSpPr>
        <p:spPr>
          <a:xfrm>
            <a:off x="4267080" y="3886200"/>
            <a:ext cx="2210040" cy="457200"/>
          </a:xfrm>
          <a:custGeom>
            <a:avLst/>
            <a:gdLst>
              <a:gd name="textAreaLeft" fmla="*/ 0 w 2210040"/>
              <a:gd name="textAreaRight" fmla="*/ 2210400 w 221004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46" h="21600">
                <a:moveTo>
                  <a:pt x="0" y="0"/>
                </a:moveTo>
                <a:lnTo>
                  <a:pt x="104346" y="0"/>
                </a:lnTo>
                <a:lnTo>
                  <a:pt x="104346" y="21600"/>
                </a:lnTo>
                <a:lnTo>
                  <a:pt x="0" y="21600"/>
                </a:lnTo>
                <a:close/>
              </a:path>
              <a:path fill="lightenLess" w="104346" h="21600">
                <a:moveTo>
                  <a:pt x="0" y="0"/>
                </a:moveTo>
                <a:lnTo>
                  <a:pt x="104346" y="0"/>
                </a:lnTo>
                <a:lnTo>
                  <a:pt x="104346" y="0"/>
                </a:lnTo>
                <a:lnTo>
                  <a:pt x="0" y="0"/>
                </a:lnTo>
                <a:close/>
              </a:path>
              <a:path fill="darken" w="104346" h="21600">
                <a:moveTo>
                  <a:pt x="104346" y="0"/>
                </a:moveTo>
                <a:lnTo>
                  <a:pt x="104346" y="21600"/>
                </a:lnTo>
                <a:lnTo>
                  <a:pt x="104346" y="21600"/>
                </a:lnTo>
                <a:lnTo>
                  <a:pt x="104346" y="0"/>
                </a:lnTo>
                <a:close/>
              </a:path>
              <a:path fill="darkenLess" w="104346" h="21600">
                <a:moveTo>
                  <a:pt x="104346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46" y="21600"/>
                </a:lnTo>
                <a:close/>
              </a:path>
              <a:path fill="lighten" w="104346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e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rId7" action="ppaction://hlinksldjump"/>
          </p:cNvPr>
          <p:cNvSpPr/>
          <p:nvPr/>
        </p:nvSpPr>
        <p:spPr>
          <a:xfrm>
            <a:off x="6477120" y="3886200"/>
            <a:ext cx="2209680" cy="457200"/>
          </a:xfrm>
          <a:custGeom>
            <a:avLst/>
            <a:gdLst>
              <a:gd name="textAreaLeft" fmla="*/ 0 w 2209680"/>
              <a:gd name="textAreaRight" fmla="*/ 2210040 w 22096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29" h="21600">
                <a:moveTo>
                  <a:pt x="0" y="0"/>
                </a:moveTo>
                <a:lnTo>
                  <a:pt x="104329" y="0"/>
                </a:lnTo>
                <a:lnTo>
                  <a:pt x="104329" y="21600"/>
                </a:lnTo>
                <a:lnTo>
                  <a:pt x="0" y="21600"/>
                </a:lnTo>
                <a:close/>
              </a:path>
              <a:path fill="lightenLess" w="104329" h="21600">
                <a:moveTo>
                  <a:pt x="0" y="0"/>
                </a:moveTo>
                <a:lnTo>
                  <a:pt x="104329" y="0"/>
                </a:lnTo>
                <a:lnTo>
                  <a:pt x="104329" y="0"/>
                </a:lnTo>
                <a:lnTo>
                  <a:pt x="0" y="0"/>
                </a:lnTo>
                <a:close/>
              </a:path>
              <a:path fill="darken" w="104329" h="21600">
                <a:moveTo>
                  <a:pt x="104329" y="0"/>
                </a:moveTo>
                <a:lnTo>
                  <a:pt x="104329" y="21600"/>
                </a:lnTo>
                <a:lnTo>
                  <a:pt x="104329" y="21600"/>
                </a:lnTo>
                <a:lnTo>
                  <a:pt x="104329" y="0"/>
                </a:lnTo>
                <a:close/>
              </a:path>
              <a:path fill="darkenLess" w="104329" h="21600">
                <a:moveTo>
                  <a:pt x="104329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29" y="21600"/>
                </a:lnTo>
                <a:close/>
              </a:path>
              <a:path fill="lighten" w="104329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e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648320"/>
            <a:ext cx="380988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Der Nagel ist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8" action="ppaction://hlinksldjump"/>
          </p:cNvPr>
          <p:cNvSpPr/>
          <p:nvPr/>
        </p:nvSpPr>
        <p:spPr>
          <a:xfrm>
            <a:off x="4267080" y="4648320"/>
            <a:ext cx="2210040" cy="457200"/>
          </a:xfrm>
          <a:custGeom>
            <a:avLst/>
            <a:gdLst>
              <a:gd name="textAreaLeft" fmla="*/ 0 w 2210040"/>
              <a:gd name="textAreaRight" fmla="*/ 2210400 w 221004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46" h="21600">
                <a:moveTo>
                  <a:pt x="0" y="0"/>
                </a:moveTo>
                <a:lnTo>
                  <a:pt x="104346" y="0"/>
                </a:lnTo>
                <a:lnTo>
                  <a:pt x="104346" y="21600"/>
                </a:lnTo>
                <a:lnTo>
                  <a:pt x="0" y="21600"/>
                </a:lnTo>
                <a:close/>
              </a:path>
              <a:path fill="lightenLess" w="104346" h="21600">
                <a:moveTo>
                  <a:pt x="0" y="0"/>
                </a:moveTo>
                <a:lnTo>
                  <a:pt x="104346" y="0"/>
                </a:lnTo>
                <a:lnTo>
                  <a:pt x="104346" y="0"/>
                </a:lnTo>
                <a:lnTo>
                  <a:pt x="0" y="0"/>
                </a:lnTo>
                <a:close/>
              </a:path>
              <a:path fill="darken" w="104346" h="21600">
                <a:moveTo>
                  <a:pt x="104346" y="0"/>
                </a:moveTo>
                <a:lnTo>
                  <a:pt x="104346" y="21600"/>
                </a:lnTo>
                <a:lnTo>
                  <a:pt x="104346" y="21600"/>
                </a:lnTo>
                <a:lnTo>
                  <a:pt x="104346" y="0"/>
                </a:lnTo>
                <a:close/>
              </a:path>
              <a:path fill="darkenLess" w="104346" h="21600">
                <a:moveTo>
                  <a:pt x="104346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46" y="21600"/>
                </a:lnTo>
                <a:close/>
              </a:path>
              <a:path fill="lighten" w="104346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chtecki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rId9" action="ppaction://hlinksldjump"/>
          </p:cNvPr>
          <p:cNvSpPr/>
          <p:nvPr/>
        </p:nvSpPr>
        <p:spPr>
          <a:xfrm>
            <a:off x="6477120" y="4648320"/>
            <a:ext cx="2209680" cy="457200"/>
          </a:xfrm>
          <a:custGeom>
            <a:avLst/>
            <a:gdLst>
              <a:gd name="textAreaLeft" fmla="*/ 0 w 2209680"/>
              <a:gd name="textAreaRight" fmla="*/ 2210040 w 22096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29" h="21600">
                <a:moveTo>
                  <a:pt x="0" y="0"/>
                </a:moveTo>
                <a:lnTo>
                  <a:pt x="104329" y="0"/>
                </a:lnTo>
                <a:lnTo>
                  <a:pt x="104329" y="21600"/>
                </a:lnTo>
                <a:lnTo>
                  <a:pt x="0" y="21600"/>
                </a:lnTo>
                <a:close/>
              </a:path>
              <a:path fill="lightenLess" w="104329" h="21600">
                <a:moveTo>
                  <a:pt x="0" y="0"/>
                </a:moveTo>
                <a:lnTo>
                  <a:pt x="104329" y="0"/>
                </a:lnTo>
                <a:lnTo>
                  <a:pt x="104329" y="0"/>
                </a:lnTo>
                <a:lnTo>
                  <a:pt x="0" y="0"/>
                </a:lnTo>
                <a:close/>
              </a:path>
              <a:path fill="darken" w="104329" h="21600">
                <a:moveTo>
                  <a:pt x="104329" y="0"/>
                </a:moveTo>
                <a:lnTo>
                  <a:pt x="104329" y="21600"/>
                </a:lnTo>
                <a:lnTo>
                  <a:pt x="104329" y="21600"/>
                </a:lnTo>
                <a:lnTo>
                  <a:pt x="104329" y="0"/>
                </a:lnTo>
                <a:close/>
              </a:path>
              <a:path fill="darkenLess" w="104329" h="21600">
                <a:moveTo>
                  <a:pt x="104329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29" y="21600"/>
                </a:lnTo>
                <a:close/>
              </a:path>
              <a:path fill="lighten" w="104329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osti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5410080"/>
            <a:ext cx="380988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Der Käse schmeckt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10" action="ppaction://hlinksldjump"/>
          </p:cNvPr>
          <p:cNvSpPr/>
          <p:nvPr/>
        </p:nvSpPr>
        <p:spPr>
          <a:xfrm>
            <a:off x="4267080" y="5410080"/>
            <a:ext cx="2210040" cy="457200"/>
          </a:xfrm>
          <a:custGeom>
            <a:avLst/>
            <a:gdLst>
              <a:gd name="textAreaLeft" fmla="*/ 0 w 2210040"/>
              <a:gd name="textAreaRight" fmla="*/ 2210400 w 221004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46" h="21600">
                <a:moveTo>
                  <a:pt x="0" y="0"/>
                </a:moveTo>
                <a:lnTo>
                  <a:pt x="104346" y="0"/>
                </a:lnTo>
                <a:lnTo>
                  <a:pt x="104346" y="21600"/>
                </a:lnTo>
                <a:lnTo>
                  <a:pt x="0" y="21600"/>
                </a:lnTo>
                <a:close/>
              </a:path>
              <a:path fill="lightenLess" w="104346" h="21600">
                <a:moveTo>
                  <a:pt x="0" y="0"/>
                </a:moveTo>
                <a:lnTo>
                  <a:pt x="104346" y="0"/>
                </a:lnTo>
                <a:lnTo>
                  <a:pt x="104346" y="0"/>
                </a:lnTo>
                <a:lnTo>
                  <a:pt x="0" y="0"/>
                </a:lnTo>
                <a:close/>
              </a:path>
              <a:path fill="darken" w="104346" h="21600">
                <a:moveTo>
                  <a:pt x="104346" y="0"/>
                </a:moveTo>
                <a:lnTo>
                  <a:pt x="104346" y="21600"/>
                </a:lnTo>
                <a:lnTo>
                  <a:pt x="104346" y="21600"/>
                </a:lnTo>
                <a:lnTo>
                  <a:pt x="104346" y="0"/>
                </a:lnTo>
                <a:close/>
              </a:path>
              <a:path fill="darkenLess" w="104346" h="21600">
                <a:moveTo>
                  <a:pt x="104346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46" y="21600"/>
                </a:lnTo>
                <a:close/>
              </a:path>
              <a:path fill="lighten" w="104346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11" action="ppaction://hlinksldjump"/>
          </p:cNvPr>
          <p:cNvSpPr/>
          <p:nvPr/>
        </p:nvSpPr>
        <p:spPr>
          <a:xfrm>
            <a:off x="6477120" y="5410080"/>
            <a:ext cx="2209680" cy="457200"/>
          </a:xfrm>
          <a:custGeom>
            <a:avLst/>
            <a:gdLst>
              <a:gd name="textAreaLeft" fmla="*/ 0 w 2209680"/>
              <a:gd name="textAreaRight" fmla="*/ 2210040 w 22096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29" h="21600">
                <a:moveTo>
                  <a:pt x="0" y="0"/>
                </a:moveTo>
                <a:lnTo>
                  <a:pt x="104329" y="0"/>
                </a:lnTo>
                <a:lnTo>
                  <a:pt x="104329" y="21600"/>
                </a:lnTo>
                <a:lnTo>
                  <a:pt x="0" y="21600"/>
                </a:lnTo>
                <a:close/>
              </a:path>
              <a:path fill="lightenLess" w="104329" h="21600">
                <a:moveTo>
                  <a:pt x="0" y="0"/>
                </a:moveTo>
                <a:lnTo>
                  <a:pt x="104329" y="0"/>
                </a:lnTo>
                <a:lnTo>
                  <a:pt x="104329" y="0"/>
                </a:lnTo>
                <a:lnTo>
                  <a:pt x="0" y="0"/>
                </a:lnTo>
                <a:close/>
              </a:path>
              <a:path fill="darken" w="104329" h="21600">
                <a:moveTo>
                  <a:pt x="104329" y="0"/>
                </a:moveTo>
                <a:lnTo>
                  <a:pt x="104329" y="21600"/>
                </a:lnTo>
                <a:lnTo>
                  <a:pt x="104329" y="21600"/>
                </a:lnTo>
                <a:lnTo>
                  <a:pt x="104329" y="0"/>
                </a:lnTo>
                <a:close/>
              </a:path>
              <a:path fill="darkenLess" w="104329" h="21600">
                <a:moveTo>
                  <a:pt x="104329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29" y="21600"/>
                </a:lnTo>
                <a:close/>
              </a:path>
              <a:path fill="lighten" w="104329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i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" action="ppaction://hlinkshowjump?jump=nextslide"/>
          </p:cNvPr>
          <p:cNvSpPr/>
          <p:nvPr/>
        </p:nvSpPr>
        <p:spPr>
          <a:xfrm>
            <a:off x="4876920" y="6477120"/>
            <a:ext cx="457200" cy="228600"/>
          </a:xfrm>
          <a:custGeom>
            <a:avLst/>
            <a:gdLst>
              <a:gd name="textAreaLeft" fmla="*/ 14760 w 457200"/>
              <a:gd name="textAreaRight" fmla="*/ 442440 w 4572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43166" h="21600">
                <a:moveTo>
                  <a:pt x="0" y="0"/>
                </a:moveTo>
                <a:lnTo>
                  <a:pt x="43166" y="0"/>
                </a:lnTo>
                <a:lnTo>
                  <a:pt x="43166" y="21600"/>
                </a:lnTo>
                <a:lnTo>
                  <a:pt x="0" y="21600"/>
                </a:lnTo>
                <a:close/>
              </a:path>
              <a:path fill="lightenLess" w="43166" h="21600">
                <a:moveTo>
                  <a:pt x="0" y="0"/>
                </a:moveTo>
                <a:lnTo>
                  <a:pt x="43166" y="0"/>
                </a:lnTo>
                <a:lnTo>
                  <a:pt x="41766" y="1400"/>
                </a:lnTo>
                <a:lnTo>
                  <a:pt x="1400" y="1400"/>
                </a:lnTo>
                <a:close/>
              </a:path>
              <a:path fill="darken" w="43166" h="21600">
                <a:moveTo>
                  <a:pt x="43166" y="0"/>
                </a:moveTo>
                <a:lnTo>
                  <a:pt x="43166" y="21600"/>
                </a:lnTo>
                <a:lnTo>
                  <a:pt x="41766" y="20200"/>
                </a:lnTo>
                <a:lnTo>
                  <a:pt x="41766" y="1400"/>
                </a:lnTo>
                <a:close/>
              </a:path>
              <a:path fill="darkenLess" w="43166" h="21600">
                <a:moveTo>
                  <a:pt x="43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6" y="20200"/>
                </a:lnTo>
                <a:close/>
              </a:path>
              <a:path fill="lighten" w="43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6" h="21600">
                <a:moveTo>
                  <a:pt x="14577" y="3794"/>
                </a:moveTo>
                <a:lnTo>
                  <a:pt x="28590" y="10800"/>
                </a:lnTo>
                <a:lnTo>
                  <a:pt x="14577" y="17806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" action="ppaction://hlinkshowjump?jump=previousslide"/>
          </p:cNvPr>
          <p:cNvSpPr/>
          <p:nvPr/>
        </p:nvSpPr>
        <p:spPr>
          <a:xfrm>
            <a:off x="3809880" y="6477120"/>
            <a:ext cx="457200" cy="228600"/>
          </a:xfrm>
          <a:custGeom>
            <a:avLst/>
            <a:gdLst>
              <a:gd name="textAreaLeft" fmla="*/ 14760 w 457200"/>
              <a:gd name="textAreaRight" fmla="*/ 442440 w 4572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43166" h="21600">
                <a:moveTo>
                  <a:pt x="0" y="0"/>
                </a:moveTo>
                <a:lnTo>
                  <a:pt x="43166" y="0"/>
                </a:lnTo>
                <a:lnTo>
                  <a:pt x="43166" y="21600"/>
                </a:lnTo>
                <a:lnTo>
                  <a:pt x="0" y="21600"/>
                </a:lnTo>
                <a:close/>
              </a:path>
              <a:path fill="lightenLess" w="43166" h="21600">
                <a:moveTo>
                  <a:pt x="0" y="0"/>
                </a:moveTo>
                <a:lnTo>
                  <a:pt x="43166" y="0"/>
                </a:lnTo>
                <a:lnTo>
                  <a:pt x="41766" y="1400"/>
                </a:lnTo>
                <a:lnTo>
                  <a:pt x="1400" y="1400"/>
                </a:lnTo>
                <a:close/>
              </a:path>
              <a:path fill="darken" w="43166" h="21600">
                <a:moveTo>
                  <a:pt x="43166" y="0"/>
                </a:moveTo>
                <a:lnTo>
                  <a:pt x="43166" y="21600"/>
                </a:lnTo>
                <a:lnTo>
                  <a:pt x="41766" y="20200"/>
                </a:lnTo>
                <a:lnTo>
                  <a:pt x="41766" y="1400"/>
                </a:lnTo>
                <a:close/>
              </a:path>
              <a:path fill="darkenLess" w="43166" h="21600">
                <a:moveTo>
                  <a:pt x="43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6" y="20200"/>
                </a:lnTo>
                <a:close/>
              </a:path>
              <a:path fill="lighten" w="43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6" h="21600">
                <a:moveTo>
                  <a:pt x="14577" y="10800"/>
                </a:moveTo>
                <a:lnTo>
                  <a:pt x="28590" y="3794"/>
                </a:lnTo>
                <a:lnTo>
                  <a:pt x="28590" y="17806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>
            <a:hlinkClick r:id="" action="ppaction://hlinkshowjump?jump=firstslide"/>
          </p:cNvPr>
          <p:cNvSpPr/>
          <p:nvPr/>
        </p:nvSpPr>
        <p:spPr>
          <a:xfrm>
            <a:off x="4343400" y="6477120"/>
            <a:ext cx="457200" cy="228600"/>
          </a:xfrm>
          <a:custGeom>
            <a:avLst/>
            <a:gdLst>
              <a:gd name="textAreaLeft" fmla="*/ 14760 w 457200"/>
              <a:gd name="textAreaRight" fmla="*/ 442440 w 4572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43166" h="21600">
                <a:moveTo>
                  <a:pt x="0" y="0"/>
                </a:moveTo>
                <a:lnTo>
                  <a:pt x="43166" y="0"/>
                </a:lnTo>
                <a:lnTo>
                  <a:pt x="43166" y="21600"/>
                </a:lnTo>
                <a:lnTo>
                  <a:pt x="0" y="21600"/>
                </a:lnTo>
                <a:close/>
              </a:path>
              <a:path fill="lightenLess" w="43166" h="21600">
                <a:moveTo>
                  <a:pt x="0" y="0"/>
                </a:moveTo>
                <a:lnTo>
                  <a:pt x="43166" y="0"/>
                </a:lnTo>
                <a:lnTo>
                  <a:pt x="41766" y="1400"/>
                </a:lnTo>
                <a:lnTo>
                  <a:pt x="1400" y="1400"/>
                </a:lnTo>
                <a:close/>
              </a:path>
              <a:path fill="darken" w="43166" h="21600">
                <a:moveTo>
                  <a:pt x="43166" y="0"/>
                </a:moveTo>
                <a:lnTo>
                  <a:pt x="43166" y="21600"/>
                </a:lnTo>
                <a:lnTo>
                  <a:pt x="41766" y="20200"/>
                </a:lnTo>
                <a:lnTo>
                  <a:pt x="41766" y="1400"/>
                </a:lnTo>
                <a:close/>
              </a:path>
              <a:path fill="darkenLess" w="43166" h="21600">
                <a:moveTo>
                  <a:pt x="43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6" y="20200"/>
                </a:lnTo>
                <a:close/>
              </a:path>
              <a:path fill="lighten" w="43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6" h="21600">
                <a:moveTo>
                  <a:pt x="21583" y="3837"/>
                </a:moveTo>
                <a:lnTo>
                  <a:pt x="24159" y="6448"/>
                </a:lnTo>
                <a:lnTo>
                  <a:pt x="24159" y="4707"/>
                </a:lnTo>
                <a:lnTo>
                  <a:pt x="25935" y="4707"/>
                </a:lnTo>
                <a:lnTo>
                  <a:pt x="25935" y="8224"/>
                </a:lnTo>
                <a:lnTo>
                  <a:pt x="28546" y="10800"/>
                </a:lnTo>
                <a:lnTo>
                  <a:pt x="26892" y="10800"/>
                </a:lnTo>
                <a:lnTo>
                  <a:pt x="26892" y="17989"/>
                </a:lnTo>
                <a:lnTo>
                  <a:pt x="16274" y="17989"/>
                </a:lnTo>
                <a:lnTo>
                  <a:pt x="16274" y="10800"/>
                </a:lnTo>
                <a:lnTo>
                  <a:pt x="14620" y="10800"/>
                </a:lnTo>
                <a:close/>
              </a:path>
              <a:path fill="darkenLess" w="43166" h="21600">
                <a:moveTo>
                  <a:pt x="24159" y="6448"/>
                </a:moveTo>
                <a:lnTo>
                  <a:pt x="24159" y="4707"/>
                </a:lnTo>
                <a:lnTo>
                  <a:pt x="25935" y="4707"/>
                </a:lnTo>
                <a:lnTo>
                  <a:pt x="25935" y="8224"/>
                </a:lnTo>
                <a:close/>
              </a:path>
              <a:path fill="darkenLess" w="43166" h="21600">
                <a:moveTo>
                  <a:pt x="20660" y="14299"/>
                </a:moveTo>
                <a:lnTo>
                  <a:pt x="22506" y="14299"/>
                </a:lnTo>
                <a:lnTo>
                  <a:pt x="22506" y="17989"/>
                </a:lnTo>
                <a:lnTo>
                  <a:pt x="26892" y="17989"/>
                </a:lnTo>
                <a:lnTo>
                  <a:pt x="26892" y="10800"/>
                </a:lnTo>
                <a:lnTo>
                  <a:pt x="16274" y="10800"/>
                </a:lnTo>
                <a:lnTo>
                  <a:pt x="16274" y="17989"/>
                </a:lnTo>
                <a:lnTo>
                  <a:pt x="20660" y="17989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>
            <a:hlinkClick r:id="rId12" action="ppaction://hlinksldjump"/>
          </p:cNvPr>
          <p:cNvSpPr/>
          <p:nvPr/>
        </p:nvSpPr>
        <p:spPr>
          <a:xfrm flipH="1">
            <a:off x="6477120" y="3124080"/>
            <a:ext cx="2209680" cy="457200"/>
          </a:xfrm>
          <a:custGeom>
            <a:avLst/>
            <a:gdLst>
              <a:gd name="textAreaLeft" fmla="*/ 360 w 2209680"/>
              <a:gd name="textAreaRight" fmla="*/ 2210400 w 22096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29" h="21600">
                <a:moveTo>
                  <a:pt x="0" y="0"/>
                </a:moveTo>
                <a:lnTo>
                  <a:pt x="104329" y="0"/>
                </a:lnTo>
                <a:lnTo>
                  <a:pt x="104329" y="21600"/>
                </a:lnTo>
                <a:lnTo>
                  <a:pt x="0" y="21600"/>
                </a:lnTo>
                <a:close/>
              </a:path>
              <a:path fill="lightenLess" w="104329" h="21600">
                <a:moveTo>
                  <a:pt x="0" y="0"/>
                </a:moveTo>
                <a:lnTo>
                  <a:pt x="104329" y="0"/>
                </a:lnTo>
                <a:lnTo>
                  <a:pt x="104329" y="0"/>
                </a:lnTo>
                <a:lnTo>
                  <a:pt x="0" y="0"/>
                </a:lnTo>
                <a:close/>
              </a:path>
              <a:path fill="darken" w="104329" h="21600">
                <a:moveTo>
                  <a:pt x="104329" y="0"/>
                </a:moveTo>
                <a:lnTo>
                  <a:pt x="104329" y="21600"/>
                </a:lnTo>
                <a:lnTo>
                  <a:pt x="104329" y="21600"/>
                </a:lnTo>
                <a:lnTo>
                  <a:pt x="104329" y="0"/>
                </a:lnTo>
                <a:close/>
              </a:path>
              <a:path fill="darkenLess" w="104329" h="21600">
                <a:moveTo>
                  <a:pt x="104329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29" y="21600"/>
                </a:lnTo>
                <a:close/>
              </a:path>
              <a:path fill="lighten" w="104329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kl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457200" y="1600200"/>
            <a:ext cx="380988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Das Blatt i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>
            <a:hlinkClick r:id="rId1" action="ppaction://hlinksldjump"/>
          </p:cNvPr>
          <p:cNvSpPr/>
          <p:nvPr/>
        </p:nvSpPr>
        <p:spPr>
          <a:xfrm>
            <a:off x="4267080" y="1600200"/>
            <a:ext cx="2210040" cy="457200"/>
          </a:xfrm>
          <a:custGeom>
            <a:avLst/>
            <a:gdLst>
              <a:gd name="textAreaLeft" fmla="*/ 0 w 2210040"/>
              <a:gd name="textAreaRight" fmla="*/ 2210400 w 221004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46" h="21600">
                <a:moveTo>
                  <a:pt x="0" y="0"/>
                </a:moveTo>
                <a:lnTo>
                  <a:pt x="104346" y="0"/>
                </a:lnTo>
                <a:lnTo>
                  <a:pt x="104346" y="21600"/>
                </a:lnTo>
                <a:lnTo>
                  <a:pt x="0" y="21600"/>
                </a:lnTo>
                <a:close/>
              </a:path>
              <a:path fill="lightenLess" w="104346" h="21600">
                <a:moveTo>
                  <a:pt x="0" y="0"/>
                </a:moveTo>
                <a:lnTo>
                  <a:pt x="104346" y="0"/>
                </a:lnTo>
                <a:lnTo>
                  <a:pt x="104346" y="0"/>
                </a:lnTo>
                <a:lnTo>
                  <a:pt x="0" y="0"/>
                </a:lnTo>
                <a:close/>
              </a:path>
              <a:path fill="darken" w="104346" h="21600">
                <a:moveTo>
                  <a:pt x="104346" y="0"/>
                </a:moveTo>
                <a:lnTo>
                  <a:pt x="104346" y="21600"/>
                </a:lnTo>
                <a:lnTo>
                  <a:pt x="104346" y="21600"/>
                </a:lnTo>
                <a:lnTo>
                  <a:pt x="104346" y="0"/>
                </a:lnTo>
                <a:close/>
              </a:path>
              <a:path fill="darkenLess" w="104346" h="21600">
                <a:moveTo>
                  <a:pt x="104346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46" y="21600"/>
                </a:lnTo>
                <a:close/>
              </a:path>
              <a:path fill="lighten" w="104346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gezack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>
            <a:hlinkClick r:id="rId2" action="ppaction://hlinksldjump"/>
          </p:cNvPr>
          <p:cNvSpPr/>
          <p:nvPr/>
        </p:nvSpPr>
        <p:spPr>
          <a:xfrm>
            <a:off x="6477120" y="1600200"/>
            <a:ext cx="2209680" cy="457200"/>
          </a:xfrm>
          <a:custGeom>
            <a:avLst/>
            <a:gdLst>
              <a:gd name="textAreaLeft" fmla="*/ 0 w 2209680"/>
              <a:gd name="textAreaRight" fmla="*/ 2210040 w 22096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29" h="21600">
                <a:moveTo>
                  <a:pt x="0" y="0"/>
                </a:moveTo>
                <a:lnTo>
                  <a:pt x="104329" y="0"/>
                </a:lnTo>
                <a:lnTo>
                  <a:pt x="104329" y="21600"/>
                </a:lnTo>
                <a:lnTo>
                  <a:pt x="0" y="21600"/>
                </a:lnTo>
                <a:close/>
              </a:path>
              <a:path fill="lightenLess" w="104329" h="21600">
                <a:moveTo>
                  <a:pt x="0" y="0"/>
                </a:moveTo>
                <a:lnTo>
                  <a:pt x="104329" y="0"/>
                </a:lnTo>
                <a:lnTo>
                  <a:pt x="104329" y="0"/>
                </a:lnTo>
                <a:lnTo>
                  <a:pt x="0" y="0"/>
                </a:lnTo>
                <a:close/>
              </a:path>
              <a:path fill="darken" w="104329" h="21600">
                <a:moveTo>
                  <a:pt x="104329" y="0"/>
                </a:moveTo>
                <a:lnTo>
                  <a:pt x="104329" y="21600"/>
                </a:lnTo>
                <a:lnTo>
                  <a:pt x="104329" y="21600"/>
                </a:lnTo>
                <a:lnTo>
                  <a:pt x="104329" y="0"/>
                </a:lnTo>
                <a:close/>
              </a:path>
              <a:path fill="darkenLess" w="104329" h="21600">
                <a:moveTo>
                  <a:pt x="104329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29" y="21600"/>
                </a:lnTo>
                <a:close/>
              </a:path>
              <a:path fill="lighten" w="104329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gezuck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50400" y="457200"/>
            <a:ext cx="71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66"/>
                </a:solidFill>
                <a:uFillTx/>
                <a:latin typeface="Verdana"/>
              </a:rPr>
              <a:t>Lies die Sätze und klicke das richtige Wort 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2362320"/>
            <a:ext cx="380988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Die Uhr tick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>
            <a:hlinkClick r:id="rId3" action="ppaction://hlinksldjump"/>
          </p:cNvPr>
          <p:cNvSpPr/>
          <p:nvPr/>
        </p:nvSpPr>
        <p:spPr>
          <a:xfrm>
            <a:off x="4267080" y="2362320"/>
            <a:ext cx="2210040" cy="457200"/>
          </a:xfrm>
          <a:custGeom>
            <a:avLst/>
            <a:gdLst>
              <a:gd name="textAreaLeft" fmla="*/ 0 w 2210040"/>
              <a:gd name="textAreaRight" fmla="*/ 2210400 w 221004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46" h="21600">
                <a:moveTo>
                  <a:pt x="0" y="0"/>
                </a:moveTo>
                <a:lnTo>
                  <a:pt x="104346" y="0"/>
                </a:lnTo>
                <a:lnTo>
                  <a:pt x="104346" y="21600"/>
                </a:lnTo>
                <a:lnTo>
                  <a:pt x="0" y="21600"/>
                </a:lnTo>
                <a:close/>
              </a:path>
              <a:path fill="lightenLess" w="104346" h="21600">
                <a:moveTo>
                  <a:pt x="0" y="0"/>
                </a:moveTo>
                <a:lnTo>
                  <a:pt x="104346" y="0"/>
                </a:lnTo>
                <a:lnTo>
                  <a:pt x="104346" y="0"/>
                </a:lnTo>
                <a:lnTo>
                  <a:pt x="0" y="0"/>
                </a:lnTo>
                <a:close/>
              </a:path>
              <a:path fill="darken" w="104346" h="21600">
                <a:moveTo>
                  <a:pt x="104346" y="0"/>
                </a:moveTo>
                <a:lnTo>
                  <a:pt x="104346" y="21600"/>
                </a:lnTo>
                <a:lnTo>
                  <a:pt x="104346" y="21600"/>
                </a:lnTo>
                <a:lnTo>
                  <a:pt x="104346" y="0"/>
                </a:lnTo>
                <a:close/>
              </a:path>
              <a:path fill="darkenLess" w="104346" h="21600">
                <a:moveTo>
                  <a:pt x="104346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46" y="21600"/>
                </a:lnTo>
                <a:close/>
              </a:path>
              <a:path fill="lighten" w="104346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a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477120" y="2362320"/>
            <a:ext cx="2209680" cy="457200"/>
          </a:xfrm>
          <a:custGeom>
            <a:avLst/>
            <a:gdLst>
              <a:gd name="textAreaLeft" fmla="*/ 0 w 2209680"/>
              <a:gd name="textAreaRight" fmla="*/ 2210040 w 22096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29" h="21600">
                <a:moveTo>
                  <a:pt x="0" y="0"/>
                </a:moveTo>
                <a:lnTo>
                  <a:pt x="104329" y="0"/>
                </a:lnTo>
                <a:lnTo>
                  <a:pt x="104329" y="21600"/>
                </a:lnTo>
                <a:lnTo>
                  <a:pt x="0" y="21600"/>
                </a:lnTo>
                <a:close/>
              </a:path>
              <a:path fill="lightenLess" w="104329" h="21600">
                <a:moveTo>
                  <a:pt x="0" y="0"/>
                </a:moveTo>
                <a:lnTo>
                  <a:pt x="104329" y="0"/>
                </a:lnTo>
                <a:lnTo>
                  <a:pt x="104329" y="0"/>
                </a:lnTo>
                <a:lnTo>
                  <a:pt x="0" y="0"/>
                </a:lnTo>
                <a:close/>
              </a:path>
              <a:path fill="darken" w="104329" h="21600">
                <a:moveTo>
                  <a:pt x="104329" y="0"/>
                </a:moveTo>
                <a:lnTo>
                  <a:pt x="104329" y="21600"/>
                </a:lnTo>
                <a:lnTo>
                  <a:pt x="104329" y="21600"/>
                </a:lnTo>
                <a:lnTo>
                  <a:pt x="104329" y="0"/>
                </a:lnTo>
                <a:close/>
              </a:path>
              <a:path fill="darkenLess" w="104329" h="21600">
                <a:moveTo>
                  <a:pt x="104329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29" y="21600"/>
                </a:lnTo>
                <a:close/>
              </a:path>
              <a:path fill="lighten" w="104329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au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57200" y="3124080"/>
            <a:ext cx="380988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Lena geht z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4266360" y="3124080"/>
            <a:ext cx="2210040" cy="457200"/>
          </a:xfrm>
          <a:custGeom>
            <a:avLst/>
            <a:gdLst>
              <a:gd name="textAreaLeft" fmla="*/ -360 w 2210040"/>
              <a:gd name="textAreaRight" fmla="*/ 2210040 w 221004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46" h="21600">
                <a:moveTo>
                  <a:pt x="0" y="0"/>
                </a:moveTo>
                <a:lnTo>
                  <a:pt x="104346" y="0"/>
                </a:lnTo>
                <a:lnTo>
                  <a:pt x="104346" y="21600"/>
                </a:lnTo>
                <a:lnTo>
                  <a:pt x="0" y="21600"/>
                </a:lnTo>
                <a:close/>
              </a:path>
              <a:path fill="lightenLess" w="104346" h="21600">
                <a:moveTo>
                  <a:pt x="0" y="0"/>
                </a:moveTo>
                <a:lnTo>
                  <a:pt x="104346" y="0"/>
                </a:lnTo>
                <a:lnTo>
                  <a:pt x="104346" y="0"/>
                </a:lnTo>
                <a:lnTo>
                  <a:pt x="0" y="0"/>
                </a:lnTo>
                <a:close/>
              </a:path>
              <a:path fill="darken" w="104346" h="21600">
                <a:moveTo>
                  <a:pt x="104346" y="0"/>
                </a:moveTo>
                <a:lnTo>
                  <a:pt x="104346" y="21600"/>
                </a:lnTo>
                <a:lnTo>
                  <a:pt x="104346" y="21600"/>
                </a:lnTo>
                <a:lnTo>
                  <a:pt x="104346" y="0"/>
                </a:lnTo>
                <a:close/>
              </a:path>
              <a:path fill="darkenLess" w="104346" h="21600">
                <a:moveTo>
                  <a:pt x="104346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46" y="21600"/>
                </a:lnTo>
                <a:close/>
              </a:path>
              <a:path fill="lighten" w="104346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i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57200" y="3886200"/>
            <a:ext cx="3809880" cy="459720"/>
          </a:xfrm>
          <a:prstGeom prst="rect">
            <a:avLst/>
          </a:prstGeom>
          <a:solidFill>
            <a:srgbClr val="ff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Der Hund ist be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3886200"/>
            <a:ext cx="2210040" cy="457200"/>
          </a:xfrm>
          <a:custGeom>
            <a:avLst/>
            <a:gdLst>
              <a:gd name="textAreaLeft" fmla="*/ 0 w 2210040"/>
              <a:gd name="textAreaRight" fmla="*/ 2210400 w 221004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46" h="21600">
                <a:moveTo>
                  <a:pt x="0" y="0"/>
                </a:moveTo>
                <a:lnTo>
                  <a:pt x="104346" y="0"/>
                </a:lnTo>
                <a:lnTo>
                  <a:pt x="104346" y="21600"/>
                </a:lnTo>
                <a:lnTo>
                  <a:pt x="0" y="21600"/>
                </a:lnTo>
                <a:close/>
              </a:path>
              <a:path fill="lightenLess" w="104346" h="21600">
                <a:moveTo>
                  <a:pt x="0" y="0"/>
                </a:moveTo>
                <a:lnTo>
                  <a:pt x="104346" y="0"/>
                </a:lnTo>
                <a:lnTo>
                  <a:pt x="104346" y="0"/>
                </a:lnTo>
                <a:lnTo>
                  <a:pt x="0" y="0"/>
                </a:lnTo>
                <a:close/>
              </a:path>
              <a:path fill="darken" w="104346" h="21600">
                <a:moveTo>
                  <a:pt x="104346" y="0"/>
                </a:moveTo>
                <a:lnTo>
                  <a:pt x="104346" y="21600"/>
                </a:lnTo>
                <a:lnTo>
                  <a:pt x="104346" y="21600"/>
                </a:lnTo>
                <a:lnTo>
                  <a:pt x="104346" y="0"/>
                </a:lnTo>
                <a:close/>
              </a:path>
              <a:path fill="darkenLess" w="104346" h="21600">
                <a:moveTo>
                  <a:pt x="104346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46" y="21600"/>
                </a:lnTo>
                <a:close/>
              </a:path>
              <a:path fill="lighten" w="104346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uddel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57200" y="4648320"/>
            <a:ext cx="380988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Das Hu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267080" y="4648320"/>
            <a:ext cx="2210040" cy="457200"/>
          </a:xfrm>
          <a:custGeom>
            <a:avLst/>
            <a:gdLst>
              <a:gd name="textAreaLeft" fmla="*/ 0 w 2210040"/>
              <a:gd name="textAreaRight" fmla="*/ 2210400 w 221004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46" h="21600">
                <a:moveTo>
                  <a:pt x="0" y="0"/>
                </a:moveTo>
                <a:lnTo>
                  <a:pt x="104346" y="0"/>
                </a:lnTo>
                <a:lnTo>
                  <a:pt x="104346" y="21600"/>
                </a:lnTo>
                <a:lnTo>
                  <a:pt x="0" y="21600"/>
                </a:lnTo>
                <a:close/>
              </a:path>
              <a:path fill="lightenLess" w="104346" h="21600">
                <a:moveTo>
                  <a:pt x="0" y="0"/>
                </a:moveTo>
                <a:lnTo>
                  <a:pt x="104346" y="0"/>
                </a:lnTo>
                <a:lnTo>
                  <a:pt x="104346" y="0"/>
                </a:lnTo>
                <a:lnTo>
                  <a:pt x="0" y="0"/>
                </a:lnTo>
                <a:close/>
              </a:path>
              <a:path fill="darken" w="104346" h="21600">
                <a:moveTo>
                  <a:pt x="104346" y="0"/>
                </a:moveTo>
                <a:lnTo>
                  <a:pt x="104346" y="21600"/>
                </a:lnTo>
                <a:lnTo>
                  <a:pt x="104346" y="21600"/>
                </a:lnTo>
                <a:lnTo>
                  <a:pt x="104346" y="0"/>
                </a:lnTo>
                <a:close/>
              </a:path>
              <a:path fill="darkenLess" w="104346" h="21600">
                <a:moveTo>
                  <a:pt x="104346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46" y="21600"/>
                </a:lnTo>
                <a:close/>
              </a:path>
              <a:path fill="lighten" w="104346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ecke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477120" y="4648320"/>
            <a:ext cx="2209680" cy="457200"/>
          </a:xfrm>
          <a:custGeom>
            <a:avLst/>
            <a:gdLst>
              <a:gd name="textAreaLeft" fmla="*/ 0 w 2209680"/>
              <a:gd name="textAreaRight" fmla="*/ 2210040 w 22096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29" h="21600">
                <a:moveTo>
                  <a:pt x="0" y="0"/>
                </a:moveTo>
                <a:lnTo>
                  <a:pt x="104329" y="0"/>
                </a:lnTo>
                <a:lnTo>
                  <a:pt x="104329" y="21600"/>
                </a:lnTo>
                <a:lnTo>
                  <a:pt x="0" y="21600"/>
                </a:lnTo>
                <a:close/>
              </a:path>
              <a:path fill="lightenLess" w="104329" h="21600">
                <a:moveTo>
                  <a:pt x="0" y="0"/>
                </a:moveTo>
                <a:lnTo>
                  <a:pt x="104329" y="0"/>
                </a:lnTo>
                <a:lnTo>
                  <a:pt x="104329" y="0"/>
                </a:lnTo>
                <a:lnTo>
                  <a:pt x="0" y="0"/>
                </a:lnTo>
                <a:close/>
              </a:path>
              <a:path fill="darken" w="104329" h="21600">
                <a:moveTo>
                  <a:pt x="104329" y="0"/>
                </a:moveTo>
                <a:lnTo>
                  <a:pt x="104329" y="21600"/>
                </a:lnTo>
                <a:lnTo>
                  <a:pt x="104329" y="21600"/>
                </a:lnTo>
                <a:lnTo>
                  <a:pt x="104329" y="0"/>
                </a:lnTo>
                <a:close/>
              </a:path>
              <a:path fill="darkenLess" w="104329" h="21600">
                <a:moveTo>
                  <a:pt x="104329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29" y="21600"/>
                </a:lnTo>
                <a:close/>
              </a:path>
              <a:path fill="lighten" w="104329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gacke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57200" y="5410080"/>
            <a:ext cx="380988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Das Eis ist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267080" y="5410080"/>
            <a:ext cx="2210040" cy="457200"/>
          </a:xfrm>
          <a:custGeom>
            <a:avLst/>
            <a:gdLst>
              <a:gd name="textAreaLeft" fmla="*/ 0 w 2210040"/>
              <a:gd name="textAreaRight" fmla="*/ 2210400 w 221004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46" h="21600">
                <a:moveTo>
                  <a:pt x="0" y="0"/>
                </a:moveTo>
                <a:lnTo>
                  <a:pt x="104346" y="0"/>
                </a:lnTo>
                <a:lnTo>
                  <a:pt x="104346" y="21600"/>
                </a:lnTo>
                <a:lnTo>
                  <a:pt x="0" y="21600"/>
                </a:lnTo>
                <a:close/>
              </a:path>
              <a:path fill="lightenLess" w="104346" h="21600">
                <a:moveTo>
                  <a:pt x="0" y="0"/>
                </a:moveTo>
                <a:lnTo>
                  <a:pt x="104346" y="0"/>
                </a:lnTo>
                <a:lnTo>
                  <a:pt x="104346" y="0"/>
                </a:lnTo>
                <a:lnTo>
                  <a:pt x="0" y="0"/>
                </a:lnTo>
                <a:close/>
              </a:path>
              <a:path fill="darken" w="104346" h="21600">
                <a:moveTo>
                  <a:pt x="104346" y="0"/>
                </a:moveTo>
                <a:lnTo>
                  <a:pt x="104346" y="21600"/>
                </a:lnTo>
                <a:lnTo>
                  <a:pt x="104346" y="21600"/>
                </a:lnTo>
                <a:lnTo>
                  <a:pt x="104346" y="0"/>
                </a:lnTo>
                <a:close/>
              </a:path>
              <a:path fill="darkenLess" w="104346" h="21600">
                <a:moveTo>
                  <a:pt x="104346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46" y="21600"/>
                </a:lnTo>
                <a:close/>
              </a:path>
              <a:path fill="lighten" w="104346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gefro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477120" y="5410080"/>
            <a:ext cx="2209680" cy="457200"/>
          </a:xfrm>
          <a:custGeom>
            <a:avLst/>
            <a:gdLst>
              <a:gd name="textAreaLeft" fmla="*/ 0 w 2209680"/>
              <a:gd name="textAreaRight" fmla="*/ 2210040 w 22096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29" h="21600">
                <a:moveTo>
                  <a:pt x="0" y="0"/>
                </a:moveTo>
                <a:lnTo>
                  <a:pt x="104329" y="0"/>
                </a:lnTo>
                <a:lnTo>
                  <a:pt x="104329" y="21600"/>
                </a:lnTo>
                <a:lnTo>
                  <a:pt x="0" y="21600"/>
                </a:lnTo>
                <a:close/>
              </a:path>
              <a:path fill="lightenLess" w="104329" h="21600">
                <a:moveTo>
                  <a:pt x="0" y="0"/>
                </a:moveTo>
                <a:lnTo>
                  <a:pt x="104329" y="0"/>
                </a:lnTo>
                <a:lnTo>
                  <a:pt x="104329" y="0"/>
                </a:lnTo>
                <a:lnTo>
                  <a:pt x="0" y="0"/>
                </a:lnTo>
                <a:close/>
              </a:path>
              <a:path fill="darken" w="104329" h="21600">
                <a:moveTo>
                  <a:pt x="104329" y="0"/>
                </a:moveTo>
                <a:lnTo>
                  <a:pt x="104329" y="21600"/>
                </a:lnTo>
                <a:lnTo>
                  <a:pt x="104329" y="21600"/>
                </a:lnTo>
                <a:lnTo>
                  <a:pt x="104329" y="0"/>
                </a:lnTo>
                <a:close/>
              </a:path>
              <a:path fill="darkenLess" w="104329" h="21600">
                <a:moveTo>
                  <a:pt x="104329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29" y="21600"/>
                </a:lnTo>
                <a:close/>
              </a:path>
              <a:path fill="lighten" w="104329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rfro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4876920" y="6477120"/>
            <a:ext cx="457200" cy="228600"/>
          </a:xfrm>
          <a:custGeom>
            <a:avLst/>
            <a:gdLst>
              <a:gd name="textAreaLeft" fmla="*/ 14760 w 457200"/>
              <a:gd name="textAreaRight" fmla="*/ 442440 w 4572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43166" h="21600">
                <a:moveTo>
                  <a:pt x="0" y="0"/>
                </a:moveTo>
                <a:lnTo>
                  <a:pt x="43166" y="0"/>
                </a:lnTo>
                <a:lnTo>
                  <a:pt x="43166" y="21600"/>
                </a:lnTo>
                <a:lnTo>
                  <a:pt x="0" y="21600"/>
                </a:lnTo>
                <a:close/>
              </a:path>
              <a:path fill="lightenLess" w="43166" h="21600">
                <a:moveTo>
                  <a:pt x="0" y="0"/>
                </a:moveTo>
                <a:lnTo>
                  <a:pt x="43166" y="0"/>
                </a:lnTo>
                <a:lnTo>
                  <a:pt x="41766" y="1400"/>
                </a:lnTo>
                <a:lnTo>
                  <a:pt x="1400" y="1400"/>
                </a:lnTo>
                <a:close/>
              </a:path>
              <a:path fill="darken" w="43166" h="21600">
                <a:moveTo>
                  <a:pt x="43166" y="0"/>
                </a:moveTo>
                <a:lnTo>
                  <a:pt x="43166" y="21600"/>
                </a:lnTo>
                <a:lnTo>
                  <a:pt x="41766" y="20200"/>
                </a:lnTo>
                <a:lnTo>
                  <a:pt x="41766" y="1400"/>
                </a:lnTo>
                <a:close/>
              </a:path>
              <a:path fill="darkenLess" w="43166" h="21600">
                <a:moveTo>
                  <a:pt x="43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6" y="20200"/>
                </a:lnTo>
                <a:close/>
              </a:path>
              <a:path fill="lighten" w="43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6" h="21600">
                <a:moveTo>
                  <a:pt x="14577" y="3794"/>
                </a:moveTo>
                <a:lnTo>
                  <a:pt x="28590" y="10800"/>
                </a:lnTo>
                <a:lnTo>
                  <a:pt x="14577" y="17806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>
            <a:hlinkClick r:id="" action="ppaction://hlinkshowjump?jump=previousslide"/>
          </p:cNvPr>
          <p:cNvSpPr/>
          <p:nvPr/>
        </p:nvSpPr>
        <p:spPr>
          <a:xfrm>
            <a:off x="3809880" y="6477120"/>
            <a:ext cx="457200" cy="228600"/>
          </a:xfrm>
          <a:custGeom>
            <a:avLst/>
            <a:gdLst>
              <a:gd name="textAreaLeft" fmla="*/ 14760 w 457200"/>
              <a:gd name="textAreaRight" fmla="*/ 442440 w 4572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43166" h="21600">
                <a:moveTo>
                  <a:pt x="0" y="0"/>
                </a:moveTo>
                <a:lnTo>
                  <a:pt x="43166" y="0"/>
                </a:lnTo>
                <a:lnTo>
                  <a:pt x="43166" y="21600"/>
                </a:lnTo>
                <a:lnTo>
                  <a:pt x="0" y="21600"/>
                </a:lnTo>
                <a:close/>
              </a:path>
              <a:path fill="lightenLess" w="43166" h="21600">
                <a:moveTo>
                  <a:pt x="0" y="0"/>
                </a:moveTo>
                <a:lnTo>
                  <a:pt x="43166" y="0"/>
                </a:lnTo>
                <a:lnTo>
                  <a:pt x="41766" y="1400"/>
                </a:lnTo>
                <a:lnTo>
                  <a:pt x="1400" y="1400"/>
                </a:lnTo>
                <a:close/>
              </a:path>
              <a:path fill="darken" w="43166" h="21600">
                <a:moveTo>
                  <a:pt x="43166" y="0"/>
                </a:moveTo>
                <a:lnTo>
                  <a:pt x="43166" y="21600"/>
                </a:lnTo>
                <a:lnTo>
                  <a:pt x="41766" y="20200"/>
                </a:lnTo>
                <a:lnTo>
                  <a:pt x="41766" y="1400"/>
                </a:lnTo>
                <a:close/>
              </a:path>
              <a:path fill="darkenLess" w="43166" h="21600">
                <a:moveTo>
                  <a:pt x="43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6" y="20200"/>
                </a:lnTo>
                <a:close/>
              </a:path>
              <a:path fill="lighten" w="43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6" h="21600">
                <a:moveTo>
                  <a:pt x="14577" y="10800"/>
                </a:moveTo>
                <a:lnTo>
                  <a:pt x="28590" y="3794"/>
                </a:lnTo>
                <a:lnTo>
                  <a:pt x="28590" y="17806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>
            <a:hlinkClick r:id="" action="ppaction://hlinkshowjump?jump=firstslide"/>
          </p:cNvPr>
          <p:cNvSpPr/>
          <p:nvPr/>
        </p:nvSpPr>
        <p:spPr>
          <a:xfrm>
            <a:off x="4343400" y="6477120"/>
            <a:ext cx="457200" cy="228600"/>
          </a:xfrm>
          <a:custGeom>
            <a:avLst/>
            <a:gdLst>
              <a:gd name="textAreaLeft" fmla="*/ 14760 w 457200"/>
              <a:gd name="textAreaRight" fmla="*/ 442440 w 4572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43166" h="21600">
                <a:moveTo>
                  <a:pt x="0" y="0"/>
                </a:moveTo>
                <a:lnTo>
                  <a:pt x="43166" y="0"/>
                </a:lnTo>
                <a:lnTo>
                  <a:pt x="43166" y="21600"/>
                </a:lnTo>
                <a:lnTo>
                  <a:pt x="0" y="21600"/>
                </a:lnTo>
                <a:close/>
              </a:path>
              <a:path fill="lightenLess" w="43166" h="21600">
                <a:moveTo>
                  <a:pt x="0" y="0"/>
                </a:moveTo>
                <a:lnTo>
                  <a:pt x="43166" y="0"/>
                </a:lnTo>
                <a:lnTo>
                  <a:pt x="41766" y="1400"/>
                </a:lnTo>
                <a:lnTo>
                  <a:pt x="1400" y="1400"/>
                </a:lnTo>
                <a:close/>
              </a:path>
              <a:path fill="darken" w="43166" h="21600">
                <a:moveTo>
                  <a:pt x="43166" y="0"/>
                </a:moveTo>
                <a:lnTo>
                  <a:pt x="43166" y="21600"/>
                </a:lnTo>
                <a:lnTo>
                  <a:pt x="41766" y="20200"/>
                </a:lnTo>
                <a:lnTo>
                  <a:pt x="41766" y="1400"/>
                </a:lnTo>
                <a:close/>
              </a:path>
              <a:path fill="darkenLess" w="43166" h="21600">
                <a:moveTo>
                  <a:pt x="43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6" y="20200"/>
                </a:lnTo>
                <a:close/>
              </a:path>
              <a:path fill="lighten" w="43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6" h="21600">
                <a:moveTo>
                  <a:pt x="21583" y="3837"/>
                </a:moveTo>
                <a:lnTo>
                  <a:pt x="24159" y="6448"/>
                </a:lnTo>
                <a:lnTo>
                  <a:pt x="24159" y="4707"/>
                </a:lnTo>
                <a:lnTo>
                  <a:pt x="25935" y="4707"/>
                </a:lnTo>
                <a:lnTo>
                  <a:pt x="25935" y="8224"/>
                </a:lnTo>
                <a:lnTo>
                  <a:pt x="28546" y="10800"/>
                </a:lnTo>
                <a:lnTo>
                  <a:pt x="26892" y="10800"/>
                </a:lnTo>
                <a:lnTo>
                  <a:pt x="26892" y="17989"/>
                </a:lnTo>
                <a:lnTo>
                  <a:pt x="16274" y="17989"/>
                </a:lnTo>
                <a:lnTo>
                  <a:pt x="16274" y="10800"/>
                </a:lnTo>
                <a:lnTo>
                  <a:pt x="14620" y="10800"/>
                </a:lnTo>
                <a:close/>
              </a:path>
              <a:path fill="darkenLess" w="43166" h="21600">
                <a:moveTo>
                  <a:pt x="24159" y="6448"/>
                </a:moveTo>
                <a:lnTo>
                  <a:pt x="24159" y="4707"/>
                </a:lnTo>
                <a:lnTo>
                  <a:pt x="25935" y="4707"/>
                </a:lnTo>
                <a:lnTo>
                  <a:pt x="25935" y="8224"/>
                </a:lnTo>
                <a:close/>
              </a:path>
              <a:path fill="darkenLess" w="43166" h="21600">
                <a:moveTo>
                  <a:pt x="20660" y="14299"/>
                </a:moveTo>
                <a:lnTo>
                  <a:pt x="22506" y="14299"/>
                </a:lnTo>
                <a:lnTo>
                  <a:pt x="22506" y="17989"/>
                </a:lnTo>
                <a:lnTo>
                  <a:pt x="26892" y="17989"/>
                </a:lnTo>
                <a:lnTo>
                  <a:pt x="26892" y="10800"/>
                </a:lnTo>
                <a:lnTo>
                  <a:pt x="16274" y="10800"/>
                </a:lnTo>
                <a:lnTo>
                  <a:pt x="16274" y="17989"/>
                </a:lnTo>
                <a:lnTo>
                  <a:pt x="20660" y="17989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477120" y="3124080"/>
            <a:ext cx="2133360" cy="457200"/>
          </a:xfrm>
          <a:custGeom>
            <a:avLst/>
            <a:gdLst>
              <a:gd name="textAreaLeft" fmla="*/ 360 w 2133360"/>
              <a:gd name="textAreaRight" fmla="*/ 2134080 w 213336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0726" h="21600">
                <a:moveTo>
                  <a:pt x="0" y="0"/>
                </a:moveTo>
                <a:lnTo>
                  <a:pt x="100726" y="0"/>
                </a:lnTo>
                <a:lnTo>
                  <a:pt x="100726" y="21600"/>
                </a:lnTo>
                <a:lnTo>
                  <a:pt x="0" y="21600"/>
                </a:lnTo>
                <a:close/>
              </a:path>
              <a:path fill="lightenLess" w="100726" h="21600">
                <a:moveTo>
                  <a:pt x="0" y="0"/>
                </a:moveTo>
                <a:lnTo>
                  <a:pt x="100726" y="0"/>
                </a:lnTo>
                <a:lnTo>
                  <a:pt x="100726" y="0"/>
                </a:lnTo>
                <a:lnTo>
                  <a:pt x="0" y="0"/>
                </a:lnTo>
                <a:close/>
              </a:path>
              <a:path fill="darken" w="100726" h="21600">
                <a:moveTo>
                  <a:pt x="100726" y="0"/>
                </a:moveTo>
                <a:lnTo>
                  <a:pt x="100726" y="21600"/>
                </a:lnTo>
                <a:lnTo>
                  <a:pt x="100726" y="21600"/>
                </a:lnTo>
                <a:lnTo>
                  <a:pt x="100726" y="0"/>
                </a:lnTo>
                <a:close/>
              </a:path>
              <a:path fill="darkenLess" w="100726" h="21600">
                <a:moveTo>
                  <a:pt x="100726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0726" y="21600"/>
                </a:lnTo>
                <a:close/>
              </a:path>
              <a:path fill="lighten" w="100726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ib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77120" y="3886200"/>
            <a:ext cx="2209680" cy="457200"/>
          </a:xfrm>
          <a:custGeom>
            <a:avLst/>
            <a:gdLst>
              <a:gd name="textAreaLeft" fmla="*/ 0 w 2209680"/>
              <a:gd name="textAreaRight" fmla="*/ 2210040 w 22096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29" h="21600">
                <a:moveTo>
                  <a:pt x="0" y="0"/>
                </a:moveTo>
                <a:lnTo>
                  <a:pt x="104329" y="0"/>
                </a:lnTo>
                <a:lnTo>
                  <a:pt x="104329" y="21600"/>
                </a:lnTo>
                <a:lnTo>
                  <a:pt x="0" y="21600"/>
                </a:lnTo>
                <a:close/>
              </a:path>
              <a:path fill="lightenLess" w="104329" h="21600">
                <a:moveTo>
                  <a:pt x="0" y="0"/>
                </a:moveTo>
                <a:lnTo>
                  <a:pt x="104329" y="0"/>
                </a:lnTo>
                <a:lnTo>
                  <a:pt x="104329" y="0"/>
                </a:lnTo>
                <a:lnTo>
                  <a:pt x="0" y="0"/>
                </a:lnTo>
                <a:close/>
              </a:path>
              <a:path fill="darken" w="104329" h="21600">
                <a:moveTo>
                  <a:pt x="104329" y="0"/>
                </a:moveTo>
                <a:lnTo>
                  <a:pt x="104329" y="21600"/>
                </a:lnTo>
                <a:lnTo>
                  <a:pt x="104329" y="21600"/>
                </a:lnTo>
                <a:lnTo>
                  <a:pt x="104329" y="0"/>
                </a:lnTo>
                <a:close/>
              </a:path>
              <a:path fill="darkenLess" w="104329" h="21600">
                <a:moveTo>
                  <a:pt x="104329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29" y="21600"/>
                </a:lnTo>
                <a:close/>
              </a:path>
              <a:path fill="lighten" w="104329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BD05961_" descr=""/>
          <p:cNvPicPr/>
          <p:nvPr/>
        </p:nvPicPr>
        <p:blipFill>
          <a:blip r:embed="rId1"/>
          <a:stretch/>
        </p:blipFill>
        <p:spPr>
          <a:xfrm>
            <a:off x="3276720" y="1676520"/>
            <a:ext cx="2708280" cy="31874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685800" y="457200"/>
            <a:ext cx="784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3333cc"/>
                </a:solidFill>
                <a:latin typeface="Lucida Handwriting"/>
              </a:rPr>
              <a:t>Probier‘s nochmal ..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>
            <a:hlinkClick r:id="" action="ppaction://hlinkshowjump?jump=previousslide"/>
          </p:cNvPr>
          <p:cNvSpPr/>
          <p:nvPr/>
        </p:nvSpPr>
        <p:spPr>
          <a:xfrm>
            <a:off x="2895480" y="5334120"/>
            <a:ext cx="3276720" cy="990360"/>
          </a:xfrm>
          <a:custGeom>
            <a:avLst/>
            <a:gdLst>
              <a:gd name="textAreaLeft" fmla="*/ 98280 w 3276720"/>
              <a:gd name="textAreaRight" fmla="*/ 3178440 w 3276720"/>
              <a:gd name="textAreaTop" fmla="*/ 98280 h 990360"/>
              <a:gd name="textAreaBottom" fmla="*/ 892080 h 990360"/>
            </a:gdLst>
            <a:ahLst/>
            <a:rect l="textAreaLeft" t="textAreaTop" r="textAreaRight" b="textAreaBottom"/>
            <a:pathLst>
              <a:path w="71448" h="21600">
                <a:moveTo>
                  <a:pt x="0" y="0"/>
                </a:moveTo>
                <a:lnTo>
                  <a:pt x="71448" y="0"/>
                </a:lnTo>
                <a:lnTo>
                  <a:pt x="71448" y="21600"/>
                </a:lnTo>
                <a:lnTo>
                  <a:pt x="0" y="21600"/>
                </a:lnTo>
                <a:close/>
              </a:path>
              <a:path fill="lightenLess" w="71448" h="21600">
                <a:moveTo>
                  <a:pt x="0" y="0"/>
                </a:moveTo>
                <a:lnTo>
                  <a:pt x="71448" y="0"/>
                </a:lnTo>
                <a:lnTo>
                  <a:pt x="69302" y="2146"/>
                </a:lnTo>
                <a:lnTo>
                  <a:pt x="2146" y="2146"/>
                </a:lnTo>
                <a:close/>
              </a:path>
              <a:path fill="darken" w="71448" h="21600">
                <a:moveTo>
                  <a:pt x="71448" y="0"/>
                </a:moveTo>
                <a:lnTo>
                  <a:pt x="71448" y="21600"/>
                </a:lnTo>
                <a:lnTo>
                  <a:pt x="69302" y="19454"/>
                </a:lnTo>
                <a:lnTo>
                  <a:pt x="69302" y="2146"/>
                </a:lnTo>
                <a:close/>
              </a:path>
              <a:path fill="darkenLess" w="71448" h="21600">
                <a:moveTo>
                  <a:pt x="71448" y="21600"/>
                </a:moveTo>
                <a:lnTo>
                  <a:pt x="0" y="21600"/>
                </a:lnTo>
                <a:lnTo>
                  <a:pt x="2146" y="19454"/>
                </a:lnTo>
                <a:lnTo>
                  <a:pt x="69302" y="19454"/>
                </a:lnTo>
                <a:close/>
              </a:path>
              <a:path fill="lighten" w="71448" h="21600">
                <a:moveTo>
                  <a:pt x="0" y="21600"/>
                </a:moveTo>
                <a:lnTo>
                  <a:pt x="0" y="0"/>
                </a:lnTo>
                <a:lnTo>
                  <a:pt x="2146" y="2146"/>
                </a:lnTo>
                <a:lnTo>
                  <a:pt x="2146" y="19454"/>
                </a:lnTo>
                <a:close/>
              </a:path>
            </a:pathLst>
          </a:cu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Lucida Handwriting"/>
              </a:rPr>
              <a:t>Zurück . .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275480" y="474840"/>
            <a:ext cx="687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Lucida Handwriting"/>
              </a:rPr>
              <a:t>Bravo, gut gemacht !!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BD05960_" descr=""/>
          <p:cNvPicPr/>
          <p:nvPr/>
        </p:nvPicPr>
        <p:blipFill>
          <a:blip r:embed="rId1"/>
          <a:stretch/>
        </p:blipFill>
        <p:spPr>
          <a:xfrm>
            <a:off x="2971800" y="1371600"/>
            <a:ext cx="3179880" cy="3427560"/>
          </a:xfrm>
          <a:prstGeom prst="rect">
            <a:avLst/>
          </a:prstGeom>
          <a:ln w="0">
            <a:noFill/>
          </a:ln>
        </p:spPr>
      </p:pic>
      <p:sp>
        <p:nvSpPr>
          <p:cNvPr id="95" name="">
            <a:hlinkClick r:id="" action="ppaction://hlinkshowjump?jump=previousslide"/>
          </p:cNvPr>
          <p:cNvSpPr/>
          <p:nvPr/>
        </p:nvSpPr>
        <p:spPr>
          <a:xfrm>
            <a:off x="2743200" y="5334120"/>
            <a:ext cx="3276720" cy="990360"/>
          </a:xfrm>
          <a:custGeom>
            <a:avLst/>
            <a:gdLst>
              <a:gd name="textAreaLeft" fmla="*/ 98280 w 3276720"/>
              <a:gd name="textAreaRight" fmla="*/ 3178440 w 3276720"/>
              <a:gd name="textAreaTop" fmla="*/ 98280 h 990360"/>
              <a:gd name="textAreaBottom" fmla="*/ 892080 h 990360"/>
            </a:gdLst>
            <a:ahLst/>
            <a:rect l="textAreaLeft" t="textAreaTop" r="textAreaRight" b="textAreaBottom"/>
            <a:pathLst>
              <a:path w="71448" h="21600">
                <a:moveTo>
                  <a:pt x="0" y="0"/>
                </a:moveTo>
                <a:lnTo>
                  <a:pt x="71448" y="0"/>
                </a:lnTo>
                <a:lnTo>
                  <a:pt x="71448" y="21600"/>
                </a:lnTo>
                <a:lnTo>
                  <a:pt x="0" y="21600"/>
                </a:lnTo>
                <a:close/>
              </a:path>
              <a:path fill="lightenLess" w="71448" h="21600">
                <a:moveTo>
                  <a:pt x="0" y="0"/>
                </a:moveTo>
                <a:lnTo>
                  <a:pt x="71448" y="0"/>
                </a:lnTo>
                <a:lnTo>
                  <a:pt x="69302" y="2146"/>
                </a:lnTo>
                <a:lnTo>
                  <a:pt x="2146" y="2146"/>
                </a:lnTo>
                <a:close/>
              </a:path>
              <a:path fill="darken" w="71448" h="21600">
                <a:moveTo>
                  <a:pt x="71448" y="0"/>
                </a:moveTo>
                <a:lnTo>
                  <a:pt x="71448" y="21600"/>
                </a:lnTo>
                <a:lnTo>
                  <a:pt x="69302" y="19454"/>
                </a:lnTo>
                <a:lnTo>
                  <a:pt x="69302" y="2146"/>
                </a:lnTo>
                <a:close/>
              </a:path>
              <a:path fill="darkenLess" w="71448" h="21600">
                <a:moveTo>
                  <a:pt x="71448" y="21600"/>
                </a:moveTo>
                <a:lnTo>
                  <a:pt x="0" y="21600"/>
                </a:lnTo>
                <a:lnTo>
                  <a:pt x="2146" y="19454"/>
                </a:lnTo>
                <a:lnTo>
                  <a:pt x="69302" y="19454"/>
                </a:lnTo>
                <a:close/>
              </a:path>
              <a:path fill="lighten" w="71448" h="21600">
                <a:moveTo>
                  <a:pt x="0" y="21600"/>
                </a:moveTo>
                <a:lnTo>
                  <a:pt x="0" y="0"/>
                </a:lnTo>
                <a:lnTo>
                  <a:pt x="2146" y="2146"/>
                </a:lnTo>
                <a:lnTo>
                  <a:pt x="2146" y="19454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Handwriting"/>
              </a:rPr>
              <a:t>Zurück . .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30T13:50:22Z</dcterms:created>
  <dc:creator>Gast</dc:creator>
  <dc:description/>
  <dc:language>en-US</dc:language>
  <cp:lastModifiedBy>User</cp:lastModifiedBy>
  <dcterms:modified xsi:type="dcterms:W3CDTF">2007-11-01T18:25:07Z</dcterms:modified>
  <cp:revision>19</cp:revision>
  <dc:subject/>
  <dc:title>PowerPoint-Präsentation</dc:title>
</cp:coreProperties>
</file>