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76A4-E090-4429-BBC2-44D1EAE6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91E9-9FE4-41C2-902F-8F8B9691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979C-5619-4518-A65A-E4FD7D94A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0D9E-44A7-4AD1-A115-9931E60D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B81F-EDE0-4D26-9625-B392ED60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02F7-7334-470F-8A0E-37148B19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0930-B6C9-4E25-B206-7C0F7B9A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444F-5CEE-4AD6-AAF1-C3EE7B5C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6EAE-5199-46A8-93EA-885C2D8A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3DC2-515A-4D66-A013-FE85C335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FA9E-D823-42DF-9F96-96CB326C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78F7-A99A-4F72-A80F-1F270821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FE74-2347-4166-9D2F-494F62228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0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0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0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0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video" Target="file:///tmp/home/.config/libreoffice/4/user/gallery/Sound%20aufgezeichnet" TargetMode="External"/><Relationship Id="rId5" Type="http://schemas.microsoft.com/office/2007/relationships/media" Target="file:///tmp/home/.config/libreoffice/4/user/gallery/Sound%20aufgezeichnet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0.xml"/><Relationship Id="rId4" Type="http://schemas.openxmlformats.org/officeDocument/2006/relationships/video" Target="file:///tmp/home/.config/libreoffice/4/user/gallery/Sound%20aufgezeichnet" TargetMode="External"/><Relationship Id="rId5" Type="http://schemas.microsoft.com/office/2007/relationships/media" Target="file:///tmp/home/.config/libreoffice/4/user/gallery/Sound%20aufgezeichnet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0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d8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5120" y="838080"/>
            <a:ext cx="5638680" cy="320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Leseübung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505320" y="1600200"/>
            <a:ext cx="2133360" cy="1739880"/>
          </a:xfrm>
          <a:prstGeom prst="rect">
            <a:avLst/>
          </a:prstGeom>
          <a:solidFill>
            <a:srgbClr val="ff0066"/>
          </a:solidFill>
          <a:ln w="57240">
            <a:solidFill>
              <a:srgbClr val="ffff00"/>
            </a:solidFill>
            <a:miter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lloon"/>
              </a:rPr>
              <a:t>Von Lena Bar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D06210_" descr=""/>
          <p:cNvPicPr/>
          <p:nvPr/>
        </p:nvPicPr>
        <p:blipFill>
          <a:blip r:embed="rId1"/>
          <a:stretch/>
        </p:blipFill>
        <p:spPr>
          <a:xfrm>
            <a:off x="1143000" y="4114800"/>
            <a:ext cx="2819520" cy="1920960"/>
          </a:xfrm>
          <a:prstGeom prst="rect">
            <a:avLst/>
          </a:prstGeom>
          <a:ln w="0">
            <a:noFill/>
          </a:ln>
        </p:spPr>
      </p:pic>
      <p:pic>
        <p:nvPicPr>
          <p:cNvPr id="44" name="BD06340_" descr=""/>
          <p:cNvPicPr/>
          <p:nvPr/>
        </p:nvPicPr>
        <p:blipFill>
          <a:blip r:embed="rId2"/>
          <a:stretch/>
        </p:blipFill>
        <p:spPr>
          <a:xfrm>
            <a:off x="5715000" y="3164040"/>
            <a:ext cx="797040" cy="1788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533520" y="1828800"/>
            <a:ext cx="801684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Tisch ist r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533520" y="35812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Tisch ist gel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3" action="ppaction://hlinksldjump"/>
          </p:cNvPr>
          <p:cNvSpPr/>
          <p:nvPr/>
        </p:nvSpPr>
        <p:spPr>
          <a:xfrm>
            <a:off x="533520" y="533412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Tisch ist bra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533520" y="533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533520" y="1828800"/>
            <a:ext cx="801684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e Sonne ist wa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533520" y="35812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e Sonne scheint sta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533520" y="533412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e Sonne scheint h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57200" y="457200"/>
            <a:ext cx="6858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533520" y="1828800"/>
            <a:ext cx="801684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Es reg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533520" y="35812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Es wird bald regn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3" action="ppaction://hlinksldjump"/>
          </p:cNvPr>
          <p:cNvSpPr/>
          <p:nvPr/>
        </p:nvSpPr>
        <p:spPr>
          <a:xfrm>
            <a:off x="533520" y="533412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Es regnet nic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33520" y="838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533520" y="2133720"/>
            <a:ext cx="801684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Computer ist 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533520" y="350532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Computer ist a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480060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Computer geht 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09480" y="53352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2133720"/>
            <a:ext cx="801684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Es gibt ein Haargum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5812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Es gibt ein Haarreif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49528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Es gibt eine Haarsp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609480" y="1981080"/>
            <a:ext cx="801684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Vanessa ist in Thomas verlie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609480" y="35812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Vanessa ist in Christian  verlie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609480" y="510552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Vanessa ist in Leonard verlieb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57200" y="5335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1828800"/>
            <a:ext cx="801684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Es gibt ein A im A-B-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35812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Es gibt ein B im A-B-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33412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Es gibt ein C im A-B-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1905120"/>
            <a:ext cx="801684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as Brot kostet 3.00 Euro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365760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as Brot kostet 5.00 E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4100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as Brot kostet 9.00 E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657360"/>
            <a:ext cx="7621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9480" y="1828800"/>
            <a:ext cx="801684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Handwriting"/>
              </a:rPr>
              <a:t>Masius fährt mit dem Rol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5812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Handwriting"/>
              </a:rPr>
              <a:t>Masius fährt mit dem Di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533412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Handwriting"/>
              </a:rPr>
              <a:t>Masius fährt mit dem Au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14400" y="533520"/>
            <a:ext cx="7353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uper, du hast es geschafft !!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5" name="PE00542_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2557440" cy="260028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6172200" y="5562720"/>
            <a:ext cx="2133720" cy="761760"/>
          </a:xfrm>
          <a:custGeom>
            <a:avLst/>
            <a:gdLst>
              <a:gd name="textAreaLeft" fmla="*/ 49320 w 2133720"/>
              <a:gd name="textAreaRight" fmla="*/ 2084400 w 21337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0484" h="21600">
                <a:moveTo>
                  <a:pt x="0" y="0"/>
                </a:moveTo>
                <a:lnTo>
                  <a:pt x="60484" y="0"/>
                </a:lnTo>
                <a:lnTo>
                  <a:pt x="60484" y="21600"/>
                </a:lnTo>
                <a:lnTo>
                  <a:pt x="0" y="21600"/>
                </a:lnTo>
                <a:close/>
              </a:path>
              <a:path fill="lightenLess" w="60484" h="21600">
                <a:moveTo>
                  <a:pt x="0" y="0"/>
                </a:moveTo>
                <a:lnTo>
                  <a:pt x="60484" y="0"/>
                </a:lnTo>
                <a:lnTo>
                  <a:pt x="59084" y="1400"/>
                </a:lnTo>
                <a:lnTo>
                  <a:pt x="1400" y="1400"/>
                </a:lnTo>
                <a:close/>
              </a:path>
              <a:path fill="darken" w="60484" h="21600">
                <a:moveTo>
                  <a:pt x="60484" y="0"/>
                </a:moveTo>
                <a:lnTo>
                  <a:pt x="60484" y="21600"/>
                </a:lnTo>
                <a:lnTo>
                  <a:pt x="59084" y="20200"/>
                </a:lnTo>
                <a:lnTo>
                  <a:pt x="59084" y="1400"/>
                </a:lnTo>
                <a:close/>
              </a:path>
              <a:path fill="darkenLess" w="60484" h="21600">
                <a:moveTo>
                  <a:pt x="60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84" y="20200"/>
                </a:lnTo>
                <a:close/>
              </a:path>
              <a:path fill="lighten" w="60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wis721 Lt BT"/>
              </a:rPr>
              <a:t>Zum Anf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endshow"/>
          </p:cNvPr>
          <p:cNvSpPr/>
          <p:nvPr/>
        </p:nvSpPr>
        <p:spPr>
          <a:xfrm>
            <a:off x="990720" y="5562720"/>
            <a:ext cx="2057400" cy="761760"/>
          </a:xfrm>
          <a:custGeom>
            <a:avLst/>
            <a:gdLst>
              <a:gd name="textAreaLeft" fmla="*/ 49320 w 2057400"/>
              <a:gd name="textAreaRight" fmla="*/ 2008080 w 2057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58321" h="21600">
                <a:moveTo>
                  <a:pt x="0" y="0"/>
                </a:moveTo>
                <a:lnTo>
                  <a:pt x="58321" y="0"/>
                </a:lnTo>
                <a:lnTo>
                  <a:pt x="58321" y="21600"/>
                </a:lnTo>
                <a:lnTo>
                  <a:pt x="0" y="21600"/>
                </a:lnTo>
                <a:close/>
              </a:path>
              <a:path fill="lightenLess" w="58321" h="21600">
                <a:moveTo>
                  <a:pt x="0" y="0"/>
                </a:moveTo>
                <a:lnTo>
                  <a:pt x="58321" y="0"/>
                </a:lnTo>
                <a:lnTo>
                  <a:pt x="56921" y="1400"/>
                </a:lnTo>
                <a:lnTo>
                  <a:pt x="1400" y="1400"/>
                </a:lnTo>
                <a:close/>
              </a:path>
              <a:path fill="darken" w="58321" h="21600">
                <a:moveTo>
                  <a:pt x="58321" y="0"/>
                </a:moveTo>
                <a:lnTo>
                  <a:pt x="58321" y="21600"/>
                </a:lnTo>
                <a:lnTo>
                  <a:pt x="56921" y="20200"/>
                </a:lnTo>
                <a:lnTo>
                  <a:pt x="56921" y="1400"/>
                </a:lnTo>
                <a:close/>
              </a:path>
              <a:path fill="darkenLess" w="58321" h="21600">
                <a:moveTo>
                  <a:pt x="58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921" y="20200"/>
                </a:lnTo>
                <a:close/>
              </a:path>
              <a:path fill="lighten" w="58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wis721 Lt BT"/>
              </a:rPr>
              <a:t>Bee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304920" y="1828800"/>
            <a:ext cx="8016840" cy="9471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Teddybär im Spielzeugladen kostet 3,00 E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304920" y="3429000"/>
            <a:ext cx="8001000" cy="1373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Handwriting"/>
              </a:rPr>
              <a:t>Der Teddybär im Essensladen kostet 2,00 E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304920" y="4876920"/>
            <a:ext cx="8001000" cy="13737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Handwriting"/>
              </a:rPr>
              <a:t>Der Teddybär im Kleiderladen kostet 3,50 E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380880" y="6094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10520" y="474840"/>
            <a:ext cx="51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Lucida Handwriting"/>
              </a:rPr>
              <a:t>PRIMA, weiter so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BD05960_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179520" cy="3427200"/>
          </a:xfrm>
          <a:prstGeom prst="rect">
            <a:avLst/>
          </a:prstGeom>
          <a:ln w="0">
            <a:noFill/>
          </a:ln>
        </p:spPr>
      </p:pic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838080" y="5562720"/>
            <a:ext cx="7467840" cy="990360"/>
          </a:xfrm>
          <a:custGeom>
            <a:avLst/>
            <a:gdLst>
              <a:gd name="textAreaLeft" fmla="*/ 64080 w 7467840"/>
              <a:gd name="textAreaRight" fmla="*/ 7403760 w 74678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62824" h="21600">
                <a:moveTo>
                  <a:pt x="0" y="0"/>
                </a:moveTo>
                <a:lnTo>
                  <a:pt x="162824" y="0"/>
                </a:lnTo>
                <a:lnTo>
                  <a:pt x="162824" y="21600"/>
                </a:lnTo>
                <a:lnTo>
                  <a:pt x="0" y="21600"/>
                </a:lnTo>
                <a:close/>
              </a:path>
              <a:path fill="lightenLess" w="162824" h="21600">
                <a:moveTo>
                  <a:pt x="0" y="0"/>
                </a:moveTo>
                <a:lnTo>
                  <a:pt x="162824" y="0"/>
                </a:lnTo>
                <a:lnTo>
                  <a:pt x="161424" y="1400"/>
                </a:lnTo>
                <a:lnTo>
                  <a:pt x="1400" y="1400"/>
                </a:lnTo>
                <a:close/>
              </a:path>
              <a:path fill="darken" w="162824" h="21600">
                <a:moveTo>
                  <a:pt x="162824" y="0"/>
                </a:moveTo>
                <a:lnTo>
                  <a:pt x="162824" y="21600"/>
                </a:lnTo>
                <a:lnTo>
                  <a:pt x="161424" y="20200"/>
                </a:lnTo>
                <a:lnTo>
                  <a:pt x="161424" y="1400"/>
                </a:lnTo>
                <a:close/>
              </a:path>
              <a:path fill="darkenLess" w="162824" h="21600">
                <a:moveTo>
                  <a:pt x="16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1424" y="20200"/>
                </a:lnTo>
                <a:close/>
              </a:path>
              <a:path fill="lighten" w="16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Lucida Handwriting"/>
              </a:rPr>
              <a:t>ZURÜCK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BD05961_" descr=""/>
          <p:cNvPicPr/>
          <p:nvPr/>
        </p:nvPicPr>
        <p:blipFill>
          <a:blip r:embed="rId1"/>
          <a:stretch/>
        </p:blipFill>
        <p:spPr>
          <a:xfrm>
            <a:off x="3218040" y="1835280"/>
            <a:ext cx="2707920" cy="3187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57200" y="7621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Handwriting"/>
              </a:rPr>
              <a:t>Probier‘s</a:t>
            </a: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Lucida Handwriting"/>
              </a:rPr>
              <a:t>noch einmal 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previousslide"/>
          </p:cNvPr>
          <p:cNvSpPr/>
          <p:nvPr/>
        </p:nvSpPr>
        <p:spPr>
          <a:xfrm>
            <a:off x="838080" y="5562720"/>
            <a:ext cx="7467840" cy="990360"/>
          </a:xfrm>
          <a:custGeom>
            <a:avLst/>
            <a:gdLst>
              <a:gd name="textAreaLeft" fmla="*/ 64080 w 7467840"/>
              <a:gd name="textAreaRight" fmla="*/ 7403760 w 74678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62824" h="21600">
                <a:moveTo>
                  <a:pt x="0" y="0"/>
                </a:moveTo>
                <a:lnTo>
                  <a:pt x="162824" y="0"/>
                </a:lnTo>
                <a:lnTo>
                  <a:pt x="162824" y="21600"/>
                </a:lnTo>
                <a:lnTo>
                  <a:pt x="0" y="21600"/>
                </a:lnTo>
                <a:close/>
              </a:path>
              <a:path fill="lightenLess" w="162824" h="21600">
                <a:moveTo>
                  <a:pt x="0" y="0"/>
                </a:moveTo>
                <a:lnTo>
                  <a:pt x="162824" y="0"/>
                </a:lnTo>
                <a:lnTo>
                  <a:pt x="161424" y="1400"/>
                </a:lnTo>
                <a:lnTo>
                  <a:pt x="1400" y="1400"/>
                </a:lnTo>
                <a:close/>
              </a:path>
              <a:path fill="darken" w="162824" h="21600">
                <a:moveTo>
                  <a:pt x="162824" y="0"/>
                </a:moveTo>
                <a:lnTo>
                  <a:pt x="162824" y="21600"/>
                </a:lnTo>
                <a:lnTo>
                  <a:pt x="161424" y="20200"/>
                </a:lnTo>
                <a:lnTo>
                  <a:pt x="161424" y="1400"/>
                </a:lnTo>
                <a:close/>
              </a:path>
              <a:path fill="darkenLess" w="162824" h="21600">
                <a:moveTo>
                  <a:pt x="16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1424" y="20200"/>
                </a:lnTo>
                <a:close/>
              </a:path>
              <a:path fill="lighten" w="16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dc2f1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Lucida Handwriting"/>
              </a:rPr>
              <a:t>ZURÜCK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457200" y="2057400"/>
            <a:ext cx="801684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e Oma sitzt im  Schaukelstuh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457200" y="350532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e Oma liegt im Schaukelstuh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457200" y="487692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e Oma schläft im Schaukelstuh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533520" y="609480"/>
            <a:ext cx="703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533520" y="1981080"/>
            <a:ext cx="801684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e Dusche läu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533520" y="327672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e Dusche trop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 action="ppaction://hlinksldjump"/>
          </p:cNvPr>
          <p:cNvSpPr/>
          <p:nvPr/>
        </p:nvSpPr>
        <p:spPr>
          <a:xfrm>
            <a:off x="533520" y="44956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ie Dusche ist a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57200" y="609480"/>
            <a:ext cx="68580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>
            <a:hlinkClick r:id="rId1" action="ppaction://hlinksldjump"/>
          </p:cNvPr>
          <p:cNvSpPr/>
          <p:nvPr/>
        </p:nvSpPr>
        <p:spPr>
          <a:xfrm>
            <a:off x="533520" y="2057400"/>
            <a:ext cx="801684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Fußballspieler schießt ein 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533520" y="350532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Fußballspieler geht nach Ha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" action="ppaction://hlinksldjump"/>
          </p:cNvPr>
          <p:cNvSpPr/>
          <p:nvPr/>
        </p:nvSpPr>
        <p:spPr>
          <a:xfrm>
            <a:off x="533520" y="480060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Fußballspieler trinkt aus der Flas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33520" y="7621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533520" y="2133720"/>
            <a:ext cx="801684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Florian hat eine 3 in Deuts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533520" y="35812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Claudia hat eine 2 in Deuts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 action="ppaction://hlinksldjump"/>
          </p:cNvPr>
          <p:cNvSpPr/>
          <p:nvPr/>
        </p:nvSpPr>
        <p:spPr>
          <a:xfrm>
            <a:off x="533520" y="487692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Sophie hat ein 1 in  Deuts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57200" y="6094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609480" y="1981080"/>
            <a:ext cx="801684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Helm ist grü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2" action="ppaction://hlinksldjump"/>
          </p:cNvPr>
          <p:cNvSpPr/>
          <p:nvPr/>
        </p:nvSpPr>
        <p:spPr>
          <a:xfrm>
            <a:off x="609480" y="35812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Helm ist r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3" action="ppaction://hlinksldjump"/>
          </p:cNvPr>
          <p:cNvSpPr/>
          <p:nvPr/>
        </p:nvSpPr>
        <p:spPr>
          <a:xfrm>
            <a:off x="609480" y="502920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Helm ist Bla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533520"/>
            <a:ext cx="5716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609480" y="1981080"/>
            <a:ext cx="801684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Lena ist mit Stricken  ferti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609480" y="350532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Lennart ist erst bei der Hälf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3" action="ppaction://hlinksldjump"/>
          </p:cNvPr>
          <p:cNvSpPr/>
          <p:nvPr/>
        </p:nvSpPr>
        <p:spPr>
          <a:xfrm>
            <a:off x="609480" y="487692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Markus fängt erst 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57200" y="650880"/>
            <a:ext cx="68580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609480" y="2057400"/>
            <a:ext cx="801684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Opa macht S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609480" y="3581280"/>
            <a:ext cx="80010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Opa le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609480" y="4952880"/>
            <a:ext cx="80010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Der Opa ist  t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09480" y="4572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4:06:44Z</dcterms:created>
  <dc:creator>Gast</dc:creator>
  <dc:description/>
  <dc:language>en-US</dc:language>
  <cp:lastModifiedBy>User</cp:lastModifiedBy>
  <dcterms:modified xsi:type="dcterms:W3CDTF">2008-01-19T16:53:16Z</dcterms:modified>
  <cp:revision>64</cp:revision>
  <dc:subject/>
  <dc:title>PowerPoint-Präsentation</dc:title>
</cp:coreProperties>
</file>