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5356-0CBA-4A4D-A5C2-B58A204B0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FAB2-AD13-487A-B5D6-F2B82B87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7E00-C2E5-4C7E-8EBB-AC3337C7A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49AE-BE29-432E-8A5B-AD1BFE0E7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D607-3795-4DC1-B29A-BEECBE68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47C6-50CC-4615-8E05-B074453D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ED5A-7863-4C70-A0FD-C267D81E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37C2-CD2D-4C69-AE97-2BB7603B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0141-3386-46AB-B956-966BB2B8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96F5-4248-47AC-8570-A3D0F9F6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C095-0A50-45C6-B461-0B591912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01F9-772A-4B34-AF75-12E7AE8A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2531-ECF4-423B-B43D-D76F910C8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video" Target="file:///tmp/home/.config/libreoffice/4/user/gallery/Grash&#252;pfer" TargetMode="External"/><Relationship Id="rId5" Type="http://schemas.microsoft.com/office/2007/relationships/media" Target="file:///tmp/home/.config/libreoffice/4/user/gallery/Grash&#252;pfer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video" Target="file:///tmp/home/.config/libreoffice/4/user/gallery/10%20tage" TargetMode="External"/><Relationship Id="rId5" Type="http://schemas.microsoft.com/office/2007/relationships/media" Target="file:///tmp/home/.config/libreoffice/4/user/gallery/10%20tage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video" Target="file:///tmp/home/.config/libreoffice/4/user/gallery/Eis" TargetMode="External"/><Relationship Id="rId5" Type="http://schemas.microsoft.com/office/2007/relationships/media" Target="file:///tmp/home/.config/libreoffice/4/user/gallery/Eis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05120" y="838080"/>
            <a:ext cx="5638680" cy="3200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Arial Black"/>
              </a:rPr>
              <a:t>Leseübung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505320" y="1600200"/>
            <a:ext cx="2133360" cy="1191240"/>
          </a:xfrm>
          <a:prstGeom prst="rect">
            <a:avLst/>
          </a:prstGeom>
          <a:solidFill>
            <a:srgbClr val="ff0066"/>
          </a:solidFill>
          <a:ln w="57240">
            <a:solidFill>
              <a:srgbClr val="ffff00"/>
            </a:solidFill>
            <a:miter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lloon"/>
              </a:rPr>
              <a:t>Von Soph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BD06210_" descr=""/>
          <p:cNvPicPr/>
          <p:nvPr/>
        </p:nvPicPr>
        <p:blipFill>
          <a:blip r:embed="rId1"/>
          <a:stretch/>
        </p:blipFill>
        <p:spPr>
          <a:xfrm>
            <a:off x="2590920" y="4343400"/>
            <a:ext cx="281916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609480" y="54100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Moritz übernachtet bei Lu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2" action="ppaction://hlinksldjump"/>
          </p:cNvPr>
          <p:cNvSpPr/>
          <p:nvPr/>
        </p:nvSpPr>
        <p:spPr>
          <a:xfrm>
            <a:off x="609480" y="388620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Susi geht nicht f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3" action="ppaction://hlinksldjump"/>
          </p:cNvPr>
          <p:cNvSpPr/>
          <p:nvPr/>
        </p:nvSpPr>
        <p:spPr>
          <a:xfrm>
            <a:off x="609480" y="243828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Wir machen 10 Tage Urlau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762120" y="1066680"/>
            <a:ext cx="8380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609480" y="533412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Lena schreibt in Mathe ein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609480" y="388620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Max schreibt eine 2 plus in Deuts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3" action="ppaction://hlinksldjump"/>
          </p:cNvPr>
          <p:cNvSpPr/>
          <p:nvPr/>
        </p:nvSpPr>
        <p:spPr>
          <a:xfrm>
            <a:off x="609480" y="243828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Bianka schreibt in Mathe eine 2 bis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09480" y="838080"/>
            <a:ext cx="10670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609480" y="54100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Julias Haare sind hellbra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609480" y="388620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ie Haare von Christian sind bra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3" action="ppaction://hlinksldjump"/>
          </p:cNvPr>
          <p:cNvSpPr/>
          <p:nvPr/>
        </p:nvSpPr>
        <p:spPr>
          <a:xfrm>
            <a:off x="609480" y="243828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ie Haare sind blond von E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609480" y="990720"/>
            <a:ext cx="9907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609480" y="54100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Handwriting"/>
              </a:rPr>
              <a:t>Lea hat viel Hausi au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533520" y="3886200"/>
            <a:ext cx="807696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Ich habe etwas Hausaufga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609480" y="243828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Lucida Handwriting"/>
              </a:rPr>
              <a:t>Ich hab keine Hausi au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62120" y="7621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>
            <a:hlinkClick r:id="rId1" action="ppaction://hlinksldjump"/>
          </p:cNvPr>
          <p:cNvSpPr/>
          <p:nvPr/>
        </p:nvSpPr>
        <p:spPr>
          <a:xfrm>
            <a:off x="609480" y="54100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ie Wespe fliegt we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609480" y="388620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er Grashüpfer hüpft f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609480" y="243828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ie Biene fliegt we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09480" y="83808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609480" y="54100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ie Büroklammer ist Grü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609480" y="388620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ie Büroklammer ist Or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609480" y="243828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ie Büroklammer ist Pi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09480" y="68580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54100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ie Maus tut wiederkäuen.</a:t>
            </a: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396252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ie Schlangen tun wiederkäu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609480" y="243828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ie Kühe tun wiederkäu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10670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09480" y="54100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er Gummistiefel ist Größe 34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396252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er Gummistiefel ist Größe 2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243828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er Gummistiefel ist Größe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9907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54100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as Eis kostet 75 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396252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as Eis kostet 71 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243828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as Eis Kostet 70 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09480" y="54100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Marina hat einen Kanarienvog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396252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Marina hat einen Fros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243828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Marina hat einen H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10670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533520" y="2438280"/>
            <a:ext cx="801684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ie Banane liegt im Obstkorb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533520" y="396252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er Apfel liegt im Obstkor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533520" y="54100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ie Kiwi liegt neben dem Obstkor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609480" y="533520"/>
            <a:ext cx="10670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54100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ie Farbe heißt Grü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396252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ie Farbe heißt Bla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243828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ie Farbe heißt R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b9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09480" y="609480"/>
            <a:ext cx="7848720" cy="2133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SUPER, du hast alles geschafft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</p:txBody>
      </p:sp>
      <p:pic>
        <p:nvPicPr>
          <p:cNvPr id="121" name="AN01629_" descr=""/>
          <p:cNvPicPr/>
          <p:nvPr/>
        </p:nvPicPr>
        <p:blipFill>
          <a:blip r:embed="rId1"/>
          <a:stretch/>
        </p:blipFill>
        <p:spPr>
          <a:xfrm>
            <a:off x="2308320" y="2522520"/>
            <a:ext cx="4525920" cy="1812960"/>
          </a:xfrm>
          <a:prstGeom prst="rect">
            <a:avLst/>
          </a:prstGeom>
          <a:ln w="0">
            <a:noFill/>
          </a:ln>
        </p:spPr>
      </p:pic>
      <p:sp>
        <p:nvSpPr>
          <p:cNvPr id="122" name="">
            <a:hlinkClick r:id="" action="ppaction://hlinkshowjump?jump=endshow"/>
          </p:cNvPr>
          <p:cNvSpPr/>
          <p:nvPr/>
        </p:nvSpPr>
        <p:spPr>
          <a:xfrm>
            <a:off x="5791320" y="5486400"/>
            <a:ext cx="2514600" cy="990720"/>
          </a:xfrm>
          <a:custGeom>
            <a:avLst/>
            <a:gdLst>
              <a:gd name="textAreaLeft" fmla="*/ 64080 w 2514600"/>
              <a:gd name="textAreaRight" fmla="*/ 2450520 w 2514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54812" h="21600">
                <a:moveTo>
                  <a:pt x="0" y="0"/>
                </a:moveTo>
                <a:lnTo>
                  <a:pt x="54812" y="0"/>
                </a:lnTo>
                <a:lnTo>
                  <a:pt x="54812" y="21600"/>
                </a:lnTo>
                <a:lnTo>
                  <a:pt x="0" y="21600"/>
                </a:lnTo>
                <a:close/>
              </a:path>
              <a:path fill="lightenLess" w="54812" h="21600">
                <a:moveTo>
                  <a:pt x="0" y="0"/>
                </a:moveTo>
                <a:lnTo>
                  <a:pt x="54812" y="0"/>
                </a:lnTo>
                <a:lnTo>
                  <a:pt x="53412" y="1400"/>
                </a:lnTo>
                <a:lnTo>
                  <a:pt x="1400" y="1400"/>
                </a:lnTo>
                <a:close/>
              </a:path>
              <a:path fill="darken" w="54812" h="21600">
                <a:moveTo>
                  <a:pt x="54812" y="0"/>
                </a:moveTo>
                <a:lnTo>
                  <a:pt x="54812" y="21600"/>
                </a:lnTo>
                <a:lnTo>
                  <a:pt x="53412" y="20200"/>
                </a:lnTo>
                <a:lnTo>
                  <a:pt x="53412" y="1400"/>
                </a:lnTo>
                <a:close/>
              </a:path>
              <a:path fill="darkenLess" w="54812" h="21600">
                <a:moveTo>
                  <a:pt x="54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412" y="20200"/>
                </a:lnTo>
                <a:close/>
              </a:path>
              <a:path fill="lighten" w="54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685800" y="5486400"/>
            <a:ext cx="2590920" cy="990720"/>
          </a:xfrm>
          <a:custGeom>
            <a:avLst/>
            <a:gdLst>
              <a:gd name="textAreaLeft" fmla="*/ 64080 w 2590920"/>
              <a:gd name="textAreaRight" fmla="*/ 2526840 w 25909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56475" h="21600">
                <a:moveTo>
                  <a:pt x="0" y="0"/>
                </a:moveTo>
                <a:lnTo>
                  <a:pt x="56475" y="0"/>
                </a:lnTo>
                <a:lnTo>
                  <a:pt x="56475" y="21600"/>
                </a:lnTo>
                <a:lnTo>
                  <a:pt x="0" y="21600"/>
                </a:lnTo>
                <a:close/>
              </a:path>
              <a:path fill="lightenLess" w="56475" h="21600">
                <a:moveTo>
                  <a:pt x="0" y="0"/>
                </a:moveTo>
                <a:lnTo>
                  <a:pt x="56475" y="0"/>
                </a:lnTo>
                <a:lnTo>
                  <a:pt x="55075" y="1400"/>
                </a:lnTo>
                <a:lnTo>
                  <a:pt x="1400" y="1400"/>
                </a:lnTo>
                <a:close/>
              </a:path>
              <a:path fill="darken" w="56475" h="21600">
                <a:moveTo>
                  <a:pt x="56475" y="0"/>
                </a:moveTo>
                <a:lnTo>
                  <a:pt x="56475" y="21600"/>
                </a:lnTo>
                <a:lnTo>
                  <a:pt x="55075" y="20200"/>
                </a:lnTo>
                <a:lnTo>
                  <a:pt x="55075" y="1400"/>
                </a:lnTo>
                <a:close/>
              </a:path>
              <a:path fill="darkenLess" w="56475" h="21600">
                <a:moveTo>
                  <a:pt x="56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75" y="20200"/>
                </a:lnTo>
                <a:close/>
              </a:path>
              <a:path fill="lighten" w="56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62120" y="47484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Lucida Handwriting"/>
              </a:rPr>
              <a:t>PRIMA, weiter so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BD05960_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3179520" cy="3427200"/>
          </a:xfrm>
          <a:prstGeom prst="rect">
            <a:avLst/>
          </a:prstGeom>
          <a:ln w="0">
            <a:noFill/>
          </a:ln>
        </p:spPr>
      </p:pic>
      <p:sp>
        <p:nvSpPr>
          <p:cNvPr id="126" name="">
            <a:hlinkClick r:id="" action="ppaction://hlinkshowjump?jump=previousslide"/>
          </p:cNvPr>
          <p:cNvSpPr/>
          <p:nvPr/>
        </p:nvSpPr>
        <p:spPr>
          <a:xfrm>
            <a:off x="838080" y="5562720"/>
            <a:ext cx="7467840" cy="990360"/>
          </a:xfrm>
          <a:custGeom>
            <a:avLst/>
            <a:gdLst>
              <a:gd name="textAreaLeft" fmla="*/ 64080 w 7467840"/>
              <a:gd name="textAreaRight" fmla="*/ 7403760 w 74678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62824" h="21600">
                <a:moveTo>
                  <a:pt x="0" y="0"/>
                </a:moveTo>
                <a:lnTo>
                  <a:pt x="162824" y="0"/>
                </a:lnTo>
                <a:lnTo>
                  <a:pt x="162824" y="21600"/>
                </a:lnTo>
                <a:lnTo>
                  <a:pt x="0" y="21600"/>
                </a:lnTo>
                <a:close/>
              </a:path>
              <a:path fill="lightenLess" w="162824" h="21600">
                <a:moveTo>
                  <a:pt x="0" y="0"/>
                </a:moveTo>
                <a:lnTo>
                  <a:pt x="162824" y="0"/>
                </a:lnTo>
                <a:lnTo>
                  <a:pt x="161424" y="1400"/>
                </a:lnTo>
                <a:lnTo>
                  <a:pt x="1400" y="1400"/>
                </a:lnTo>
                <a:close/>
              </a:path>
              <a:path fill="darken" w="162824" h="21600">
                <a:moveTo>
                  <a:pt x="162824" y="0"/>
                </a:moveTo>
                <a:lnTo>
                  <a:pt x="162824" y="21600"/>
                </a:lnTo>
                <a:lnTo>
                  <a:pt x="161424" y="20200"/>
                </a:lnTo>
                <a:lnTo>
                  <a:pt x="161424" y="1400"/>
                </a:lnTo>
                <a:close/>
              </a:path>
              <a:path fill="darkenLess" w="162824" h="21600">
                <a:moveTo>
                  <a:pt x="16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1424" y="20200"/>
                </a:lnTo>
                <a:close/>
              </a:path>
              <a:path fill="lighten" w="16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Lucida Handwriting"/>
              </a:rPr>
              <a:t>ZURÜCK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BD05961_" descr=""/>
          <p:cNvPicPr/>
          <p:nvPr/>
        </p:nvPicPr>
        <p:blipFill>
          <a:blip r:embed="rId1"/>
          <a:stretch/>
        </p:blipFill>
        <p:spPr>
          <a:xfrm>
            <a:off x="3218040" y="1835280"/>
            <a:ext cx="2707920" cy="3187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7200" y="76212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Handwriting"/>
              </a:rPr>
              <a:t>Probier‘s</a:t>
            </a: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Lucida Handwriting"/>
              </a:rPr>
              <a:t>noch einmal 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838080" y="5562720"/>
            <a:ext cx="7467840" cy="990360"/>
          </a:xfrm>
          <a:custGeom>
            <a:avLst/>
            <a:gdLst>
              <a:gd name="textAreaLeft" fmla="*/ 64080 w 7467840"/>
              <a:gd name="textAreaRight" fmla="*/ 7403760 w 74678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62824" h="21600">
                <a:moveTo>
                  <a:pt x="0" y="0"/>
                </a:moveTo>
                <a:lnTo>
                  <a:pt x="162824" y="0"/>
                </a:lnTo>
                <a:lnTo>
                  <a:pt x="162824" y="21600"/>
                </a:lnTo>
                <a:lnTo>
                  <a:pt x="0" y="21600"/>
                </a:lnTo>
                <a:close/>
              </a:path>
              <a:path fill="lightenLess" w="162824" h="21600">
                <a:moveTo>
                  <a:pt x="0" y="0"/>
                </a:moveTo>
                <a:lnTo>
                  <a:pt x="162824" y="0"/>
                </a:lnTo>
                <a:lnTo>
                  <a:pt x="161424" y="1400"/>
                </a:lnTo>
                <a:lnTo>
                  <a:pt x="1400" y="1400"/>
                </a:lnTo>
                <a:close/>
              </a:path>
              <a:path fill="darken" w="162824" h="21600">
                <a:moveTo>
                  <a:pt x="162824" y="0"/>
                </a:moveTo>
                <a:lnTo>
                  <a:pt x="162824" y="21600"/>
                </a:lnTo>
                <a:lnTo>
                  <a:pt x="161424" y="20200"/>
                </a:lnTo>
                <a:lnTo>
                  <a:pt x="161424" y="1400"/>
                </a:lnTo>
                <a:close/>
              </a:path>
              <a:path fill="darkenLess" w="162824" h="21600">
                <a:moveTo>
                  <a:pt x="16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1424" y="20200"/>
                </a:lnTo>
                <a:close/>
              </a:path>
              <a:path fill="lighten" w="16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dc2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Lucida Handwriting"/>
              </a:rPr>
              <a:t>ZURÜCK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609480" y="2438280"/>
            <a:ext cx="801684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ie Blume steht in der V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609480" y="380988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ie Blume steht auf der Wi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609480" y="525780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ie Blume steht tief im F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762120" y="3808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533520" y="2209680"/>
            <a:ext cx="801684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Wir haben Zuhause 2 Babykatz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533520" y="388620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Meine Oma hat 2 Babykatz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533520" y="548640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Mein Onkel hat 2 Babykatz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62120" y="3808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609480" y="54100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er Schwan wird zum Mens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609480" y="3886200"/>
            <a:ext cx="792504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er Mensch wird zum Af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3" action="ppaction://hlinksldjump"/>
          </p:cNvPr>
          <p:cNvSpPr/>
          <p:nvPr/>
        </p:nvSpPr>
        <p:spPr>
          <a:xfrm>
            <a:off x="609480" y="243828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er Affe wird zum Mens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762120" y="38088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609480" y="51814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ie Uhr geht 1 Stunde v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609480" y="388620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ie Uhr ist stehen geblie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609480" y="266688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ie Uhr geht nicht richti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609480" y="9144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685800" y="51814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Hamburg liegt in Deutschl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" action="ppaction://hlinksldjump"/>
          </p:cNvPr>
          <p:cNvSpPr/>
          <p:nvPr/>
        </p:nvSpPr>
        <p:spPr>
          <a:xfrm>
            <a:off x="685800" y="388620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Berlin liegt in Deutsch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 action="ppaction://hlinksldjump"/>
          </p:cNvPr>
          <p:cNvSpPr/>
          <p:nvPr/>
        </p:nvSpPr>
        <p:spPr>
          <a:xfrm>
            <a:off x="685800" y="259092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Paris liegt in Deutschl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685800" y="91440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>
            <a:hlinkClick r:id="rId1" action="ppaction://hlinksldjump"/>
          </p:cNvPr>
          <p:cNvSpPr/>
          <p:nvPr/>
        </p:nvSpPr>
        <p:spPr>
          <a:xfrm>
            <a:off x="609480" y="54100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Kevin schießt ein 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609480" y="388620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Pius schießt zwei T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3" action="ppaction://hlinksldjump"/>
          </p:cNvPr>
          <p:cNvSpPr/>
          <p:nvPr/>
        </p:nvSpPr>
        <p:spPr>
          <a:xfrm>
            <a:off x="609480" y="243828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Lennart schießt kein 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609480" y="990720"/>
            <a:ext cx="9907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609480" y="54100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Ich habe keinen Hun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609480" y="388620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Ich esse einen halben Apf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609480" y="2438280"/>
            <a:ext cx="8001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Ich esse viele Kirsch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85800" y="8380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4:06:44Z</dcterms:created>
  <dc:creator>Gast</dc:creator>
  <dc:description/>
  <dc:language>en-US</dc:language>
  <cp:lastModifiedBy>User</cp:lastModifiedBy>
  <dcterms:modified xsi:type="dcterms:W3CDTF">2008-01-19T22:42:55Z</dcterms:modified>
  <cp:revision>30</cp:revision>
  <dc:subject/>
  <dc:title>PowerPoint-Präsentation</dc:title>
</cp:coreProperties>
</file>