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8CC-BF5B-4198-B0A9-1750618A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D2E5-5131-43FC-B005-549F05E7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3CD-49E9-41A7-BC0E-FE1C6E75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068-76A4-4854-B049-6AB3F774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8B5-E269-435E-A6A0-626A218D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F316-F3AF-4121-AFB7-6AD155AA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892-A9E1-405C-A1B0-812806A9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CAA3-EA55-4965-AAA2-4C6D46CB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EDF-37D7-40C7-BD3F-AE10BB1E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8FB-71FB-4865-A2EE-42158BD6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CC44-9053-4A16-8A7F-BB164C94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05E9-F6FF-416D-AADB-4F41C783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2D97-3A5F-4522-ABD6-1D5471CD7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00790_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2466720" cy="2666880"/>
          </a:xfrm>
          <a:prstGeom prst="rect">
            <a:avLst/>
          </a:prstGeom>
          <a:ln w="0">
            <a:noFill/>
          </a:ln>
        </p:spPr>
      </p:pic>
      <p:pic>
        <p:nvPicPr>
          <p:cNvPr id="42" name="BD05969_" descr=""/>
          <p:cNvPicPr/>
          <p:nvPr/>
        </p:nvPicPr>
        <p:blipFill>
          <a:blip r:embed="rId2"/>
          <a:stretch/>
        </p:blipFill>
        <p:spPr>
          <a:xfrm>
            <a:off x="5562720" y="2209680"/>
            <a:ext cx="2679480" cy="365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95280" y="457200"/>
            <a:ext cx="6934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esetrain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3230280" y="228600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n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533520" y="2438280"/>
            <a:ext cx="809280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Sans"/>
              </a:rPr>
              <a:t>Tizian geht zur Feuerweh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533520" y="3809880"/>
            <a:ext cx="809280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Sans"/>
              </a:rPr>
              <a:t>Tizian geht zur Polize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533520" y="5105520"/>
            <a:ext cx="8076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Sans"/>
              </a:rPr>
              <a:t>Tizian geht ins Krankenha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33520" y="10666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533520" y="2666880"/>
            <a:ext cx="809280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eter ist a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533520" y="3809880"/>
            <a:ext cx="809280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eter ist sehr a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533520" y="4800600"/>
            <a:ext cx="8076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eter ist j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09480" y="12952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609480" y="4952880"/>
            <a:ext cx="809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usi geht in den Kindergar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609480" y="380988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usi geht in die Sch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609480" y="2666880"/>
            <a:ext cx="807732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usi geht in die Sondersch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33520" y="11430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533520" y="2438280"/>
            <a:ext cx="809280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nnart angelt eine Schu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533520" y="3733920"/>
            <a:ext cx="809280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lorian angelt einen stinkigen  Soc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533520" y="4876920"/>
            <a:ext cx="8076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Johanna angelt nic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09480" y="1219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533520" y="2438280"/>
            <a:ext cx="809280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evin schießt ein 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533520" y="3809880"/>
            <a:ext cx="809280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Sans"/>
              </a:rPr>
              <a:t>Tizian schießt zwei 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5181480"/>
            <a:ext cx="8076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ius schießt drei 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33520" y="9907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2438280"/>
            <a:ext cx="809280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phie geht zum Tenn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733920"/>
            <a:ext cx="809280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na geht zum Fußb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169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audia geht zum Rei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2438280"/>
            <a:ext cx="80931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Sans"/>
              </a:rPr>
              <a:t>Tizian geht auf das Gymnas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80988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atrick bleibt auf der Hauptsch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029200"/>
            <a:ext cx="8077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Jan geht auf die Realsch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2438280"/>
            <a:ext cx="809280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ristoph muss nachsitz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809880"/>
            <a:ext cx="809280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atrick muss zwei Stunden nachsitz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029200"/>
            <a:ext cx="8169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evin muss nicht nachsitz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2438280"/>
            <a:ext cx="809280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Trinken schmeckt g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3809880"/>
            <a:ext cx="809280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Trinken ist grü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5257800"/>
            <a:ext cx="8076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Trinken ist bl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AN02034_" descr=""/>
          <p:cNvPicPr/>
          <p:nvPr/>
        </p:nvPicPr>
        <p:blipFill>
          <a:blip r:embed="rId1"/>
          <a:stretch/>
        </p:blipFill>
        <p:spPr>
          <a:xfrm>
            <a:off x="3505320" y="533520"/>
            <a:ext cx="2197080" cy="3011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3733920"/>
            <a:ext cx="8439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Bravo du hast alle Aufgaben gelöst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">
            <a:hlinkClick r:id="" action="ppaction://hlinkshowjump?jump=endshow"/>
          </p:cNvPr>
          <p:cNvSpPr/>
          <p:nvPr/>
        </p:nvSpPr>
        <p:spPr>
          <a:xfrm>
            <a:off x="1219320" y="4952880"/>
            <a:ext cx="2133360" cy="685800"/>
          </a:xfrm>
          <a:custGeom>
            <a:avLst/>
            <a:gdLst>
              <a:gd name="textAreaLeft" fmla="*/ 44280 w 2133360"/>
              <a:gd name="textAreaRight" fmla="*/ 2089080 w 2133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7169" h="21600">
                <a:moveTo>
                  <a:pt x="0" y="0"/>
                </a:moveTo>
                <a:lnTo>
                  <a:pt x="67169" y="0"/>
                </a:lnTo>
                <a:lnTo>
                  <a:pt x="67169" y="21600"/>
                </a:lnTo>
                <a:lnTo>
                  <a:pt x="0" y="21600"/>
                </a:lnTo>
                <a:close/>
              </a:path>
              <a:path fill="lightenLess" w="67169" h="21600">
                <a:moveTo>
                  <a:pt x="0" y="0"/>
                </a:moveTo>
                <a:lnTo>
                  <a:pt x="67169" y="0"/>
                </a:lnTo>
                <a:lnTo>
                  <a:pt x="65769" y="1400"/>
                </a:lnTo>
                <a:lnTo>
                  <a:pt x="1400" y="1400"/>
                </a:lnTo>
                <a:close/>
              </a:path>
              <a:path fill="darken" w="67169" h="21600">
                <a:moveTo>
                  <a:pt x="67169" y="0"/>
                </a:moveTo>
                <a:lnTo>
                  <a:pt x="67169" y="21600"/>
                </a:lnTo>
                <a:lnTo>
                  <a:pt x="65769" y="20200"/>
                </a:lnTo>
                <a:lnTo>
                  <a:pt x="65769" y="1400"/>
                </a:lnTo>
                <a:close/>
              </a:path>
              <a:path fill="darkenLess" w="67169" h="21600">
                <a:moveTo>
                  <a:pt x="67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769" y="20200"/>
                </a:lnTo>
                <a:close/>
              </a:path>
              <a:path fill="lighten" w="67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5562720" y="4952880"/>
            <a:ext cx="2286000" cy="685800"/>
          </a:xfrm>
          <a:custGeom>
            <a:avLst/>
            <a:gdLst>
              <a:gd name="textAreaLeft" fmla="*/ 44280 w 2286000"/>
              <a:gd name="textAreaRight" fmla="*/ 2241720 w 2286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4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4" y="20200"/>
                </a:lnTo>
                <a:lnTo>
                  <a:pt x="70574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4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u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593640" y="2362320"/>
            <a:ext cx="80931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rnd geht Einkauf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609480" y="388620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rnd geht in den Supermark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609480" y="5334120"/>
            <a:ext cx="8077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rnd geht zum Flohmark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9480" y="9907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75480" y="474840"/>
            <a:ext cx="68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Handwriting"/>
              </a:rPr>
              <a:t>Bravo, gut gemacht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BD05960_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3179880" cy="342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2743200" y="53341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BD05961_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708280" cy="3187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5800" y="4572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Lucida Handwriting"/>
              </a:rPr>
              <a:t>Probier‘s noch einmal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2895480" y="53341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533520" y="2438280"/>
            <a:ext cx="809280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ter kauft einen roten Rasenmä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533520" y="3962520"/>
            <a:ext cx="809280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ter kauft einen alten Rasenmä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517680" y="5372280"/>
            <a:ext cx="8169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ter kauft einen schnellen Rasenmä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33520" y="533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609480" y="4952880"/>
            <a:ext cx="809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eter geht auf den Fußballplat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609480" y="3962520"/>
            <a:ext cx="807732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eter geht auf den neuen Sportplat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609480" y="2895480"/>
            <a:ext cx="815364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eter geht auf den Bolzplat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33520" y="12952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609480" y="2362320"/>
            <a:ext cx="80931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r Lastwagen ladet au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609480" y="388620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r Lastwagen ladet schnell au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593640" y="5372280"/>
            <a:ext cx="809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r Lastwagen ladet sehr schnell au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09480" y="9144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609480" y="2286000"/>
            <a:ext cx="80931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Auto fährt schnell auf der Rennstrec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609480" y="388620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Auto fährt sehr Langs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517680" y="5372280"/>
            <a:ext cx="8169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s Auto fährt rückwärts auf der Rennstrec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33520" y="8380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593640" y="2286000"/>
            <a:ext cx="80931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r Hund rennt auf der Wi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609480" y="380988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r Hase rennt auf der Wi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517680" y="5372280"/>
            <a:ext cx="8169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r Kater rennt auf der Wi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80880" y="10666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593640" y="2286000"/>
            <a:ext cx="80931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na geht auf den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609480" y="3809880"/>
            <a:ext cx="80931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na geht schnell zum Zu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3" action="ppaction://hlinksldjump"/>
          </p:cNvPr>
          <p:cNvSpPr/>
          <p:nvPr/>
        </p:nvSpPr>
        <p:spPr>
          <a:xfrm>
            <a:off x="669960" y="5372280"/>
            <a:ext cx="80168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na geht auf den Flughaf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09480" y="10666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533520" y="5029200"/>
            <a:ext cx="8092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nessa geht in die Sch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533520" y="3809880"/>
            <a:ext cx="809280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nessa geht auf den Sportplat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533520" y="2514600"/>
            <a:ext cx="807696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nessa geht zum Mädchentur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9480" y="12193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50:22Z</dcterms:created>
  <dc:creator>Gast</dc:creator>
  <dc:description/>
  <dc:language>en-US</dc:language>
  <cp:lastModifiedBy>User</cp:lastModifiedBy>
  <dcterms:modified xsi:type="dcterms:W3CDTF">2008-01-19T16:38:18Z</dcterms:modified>
  <cp:revision>31</cp:revision>
  <dc:subject/>
  <dc:title>PowerPoint-Präsentation</dc:title>
</cp:coreProperties>
</file>