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183-10DE-4168-BF84-D5B6A68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3CE-FEBA-4F24-9ED2-D7B3069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B7A-9A74-4BAC-A42C-8DE2A6DB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BEF-554D-4AEE-BF26-1EAD6C07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409-1C83-4472-AB7A-990958C0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B6C-1D27-430D-BD9A-7D6B90F4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A43-58AF-468A-924D-25FFA826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CB0-D022-40EE-92E8-355EF563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3CE-6C46-4E06-807C-67350F2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4C0-0F11-47E9-8FE5-178EDD9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192-8D0A-42DC-A4AA-8A21F5B2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FB7-2A76-4934-97A1-05D1B54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F00-CA1B-4BC9-B0AD-AB69F0AC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-185760"/>
            <a:ext cx="647712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eseübu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BS00554_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2444760" cy="2133360"/>
          </a:xfrm>
          <a:prstGeom prst="rect">
            <a:avLst/>
          </a:prstGeom>
          <a:ln w="0">
            <a:noFill/>
          </a:ln>
        </p:spPr>
      </p:pic>
      <p:pic>
        <p:nvPicPr>
          <p:cNvPr id="43" name="BS00580_" descr=""/>
          <p:cNvPicPr/>
          <p:nvPr/>
        </p:nvPicPr>
        <p:blipFill>
          <a:blip r:embed="rId4"/>
          <a:stretch/>
        </p:blipFill>
        <p:spPr>
          <a:xfrm>
            <a:off x="3124080" y="3087720"/>
            <a:ext cx="2667240" cy="2246400"/>
          </a:xfrm>
          <a:prstGeom prst="rect">
            <a:avLst/>
          </a:prstGeom>
          <a:ln w="0">
            <a:noFill/>
          </a:ln>
        </p:spPr>
      </p:pic>
      <p:pic>
        <p:nvPicPr>
          <p:cNvPr id="44" name="BS01580_" descr=""/>
          <p:cNvPicPr/>
          <p:nvPr/>
        </p:nvPicPr>
        <p:blipFill>
          <a:blip r:embed="rId5"/>
          <a:stretch/>
        </p:blipFill>
        <p:spPr>
          <a:xfrm>
            <a:off x="6553080" y="3808440"/>
            <a:ext cx="2146320" cy="19828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6"/>
          </p:cNvPr>
          <p:cNvSpPr/>
          <p:nvPr/>
        </p:nvSpPr>
        <p:spPr>
          <a:xfrm>
            <a:off x="4876920" y="56386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8406"/>
                </a:moveTo>
                <a:lnTo>
                  <a:pt x="12374" y="8406"/>
                </a:lnTo>
                <a:lnTo>
                  <a:pt x="16796" y="3794"/>
                </a:lnTo>
                <a:lnTo>
                  <a:pt x="16796" y="17806"/>
                </a:lnTo>
                <a:lnTo>
                  <a:pt x="12374" y="13194"/>
                </a:lnTo>
                <a:lnTo>
                  <a:pt x="7944" y="13194"/>
                </a:lnTo>
                <a:close/>
              </a:path>
              <a:path fill="darken" w="29901" h="21600">
                <a:moveTo>
                  <a:pt x="18449" y="10800"/>
                </a:moveTo>
                <a:lnTo>
                  <a:pt x="21957" y="10800"/>
                </a:lnTo>
              </a:path>
              <a:path fill="darken" w="29901" h="21600">
                <a:moveTo>
                  <a:pt x="18449" y="8406"/>
                </a:moveTo>
                <a:lnTo>
                  <a:pt x="21957" y="5639"/>
                </a:lnTo>
              </a:path>
              <a:path fill="darken" w="29901" h="21600">
                <a:moveTo>
                  <a:pt x="18449" y="13194"/>
                </a:moveTo>
                <a:lnTo>
                  <a:pt x="21957" y="15961"/>
                </a:lnTo>
              </a:path>
            </a:pathLst>
          </a:custGeom>
          <a:gradFill rotWithShape="0">
            <a:gsLst>
              <a:gs pos="0">
                <a:srgbClr val="dcebf5"/>
              </a:gs>
              <a:gs pos="5000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438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ngle"/>
              </a:rPr>
              <a:t>Von Matth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04920" y="4572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752480" y="1828800"/>
            <a:ext cx="73915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h lese ein spannendes B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1752480" y="3505320"/>
            <a:ext cx="739152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h lese ein supertolles B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1752480" y="5029200"/>
            <a:ext cx="73915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h lese ein langweiliges B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45720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828800" y="2057400"/>
            <a:ext cx="7315200" cy="5205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n Freund heißt Christo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1752480" y="3733920"/>
            <a:ext cx="739152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n Freund heißt Chr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1752480" y="5410080"/>
            <a:ext cx="73915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n Freund heißt Christ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2514600"/>
            <a:ext cx="70866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Michael geht auf den Bolzplatz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876920"/>
            <a:ext cx="708660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Michael geht auf den Fußballplatz.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657600"/>
            <a:ext cx="70866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Michael geht auf den Sportplatz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76520" y="2362320"/>
            <a:ext cx="74674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Auto fährt auf der Straß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181480"/>
            <a:ext cx="746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Auto fährt auf der Rennstrec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733920"/>
            <a:ext cx="746748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Auto fährt auf der Autoba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2133720"/>
            <a:ext cx="71629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er Hund liegt in der Hundehü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500800"/>
            <a:ext cx="716292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er Hund liegt auf dem H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809880"/>
            <a:ext cx="716292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er Hund liegt auf der Straß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2209680"/>
            <a:ext cx="76201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Fußballstadion ist in Hambu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486400"/>
            <a:ext cx="754380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Fußballstadion ist in Aa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886200"/>
            <a:ext cx="75438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Das Fußballstadion ist in Wolfsbu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9144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Du hast alle Aufgaben geschafft, prim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endshow"/>
          </p:cNvPr>
          <p:cNvSpPr/>
          <p:nvPr/>
        </p:nvSpPr>
        <p:spPr>
          <a:xfrm>
            <a:off x="2743200" y="55627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4724280" y="55627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52680" y="3505320"/>
            <a:ext cx="1828800" cy="9903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624"/>
                </a:moveTo>
                <a:lnTo>
                  <a:pt x="0" y="48"/>
                </a:lnTo>
                <a:lnTo>
                  <a:pt x="144" y="240"/>
                </a:lnTo>
                <a:lnTo>
                  <a:pt x="240" y="0"/>
                </a:lnTo>
                <a:lnTo>
                  <a:pt x="336" y="240"/>
                </a:lnTo>
                <a:lnTo>
                  <a:pt x="480" y="0"/>
                </a:lnTo>
                <a:lnTo>
                  <a:pt x="576" y="240"/>
                </a:lnTo>
                <a:lnTo>
                  <a:pt x="768" y="48"/>
                </a:lnTo>
                <a:lnTo>
                  <a:pt x="816" y="288"/>
                </a:lnTo>
                <a:lnTo>
                  <a:pt x="1008" y="48"/>
                </a:lnTo>
                <a:lnTo>
                  <a:pt x="1008" y="336"/>
                </a:lnTo>
                <a:lnTo>
                  <a:pt x="1152" y="96"/>
                </a:lnTo>
                <a:lnTo>
                  <a:pt x="1056" y="576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181480"/>
            <a:ext cx="444240" cy="254160"/>
          </a:xfrm>
          <a:custGeom>
            <a:avLst/>
            <a:gdLst/>
            <a:ahLst/>
            <a:rect l="l" t="t" r="r" b="b"/>
            <a:pathLst>
              <a:path w="280" h="160">
                <a:moveTo>
                  <a:pt x="280" y="144"/>
                </a:moveTo>
                <a:cubicBezTo>
                  <a:pt x="180" y="152"/>
                  <a:pt x="80" y="160"/>
                  <a:pt x="40" y="144"/>
                </a:cubicBezTo>
                <a:cubicBezTo>
                  <a:pt x="0" y="128"/>
                  <a:pt x="0" y="72"/>
                  <a:pt x="40" y="48"/>
                </a:cubicBezTo>
                <a:cubicBezTo>
                  <a:pt x="80" y="24"/>
                  <a:pt x="240" y="8"/>
                  <a:pt x="280" y="0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21160" y="5156280"/>
            <a:ext cx="355680" cy="253800"/>
          </a:xfrm>
          <a:custGeom>
            <a:avLst/>
            <a:gdLst/>
            <a:ahLst/>
            <a:rect l="l" t="t" r="r" b="b"/>
            <a:pathLst>
              <a:path w="224" h="160">
                <a:moveTo>
                  <a:pt x="0" y="16"/>
                </a:moveTo>
                <a:cubicBezTo>
                  <a:pt x="80" y="8"/>
                  <a:pt x="160" y="0"/>
                  <a:pt x="192" y="16"/>
                </a:cubicBezTo>
                <a:cubicBezTo>
                  <a:pt x="224" y="32"/>
                  <a:pt x="224" y="88"/>
                  <a:pt x="192" y="112"/>
                </a:cubicBezTo>
                <a:cubicBezTo>
                  <a:pt x="160" y="136"/>
                  <a:pt x="32" y="152"/>
                  <a:pt x="0" y="160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1480" y="4038480"/>
            <a:ext cx="2286000" cy="22860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248c3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0960" y="4648320"/>
            <a:ext cx="304920" cy="3808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2b2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9400" y="4648320"/>
            <a:ext cx="304560" cy="3808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26269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5000" y="5638680"/>
            <a:ext cx="1218960" cy="419400"/>
          </a:xfrm>
          <a:custGeom>
            <a:avLst/>
            <a:gdLst/>
            <a:ahLst/>
            <a:rect l="l" t="t" r="r" b="b"/>
            <a:pathLst>
              <a:path w="768" h="264">
                <a:moveTo>
                  <a:pt x="0" y="0"/>
                </a:moveTo>
                <a:cubicBezTo>
                  <a:pt x="56" y="76"/>
                  <a:pt x="112" y="152"/>
                  <a:pt x="192" y="192"/>
                </a:cubicBezTo>
                <a:cubicBezTo>
                  <a:pt x="272" y="232"/>
                  <a:pt x="384" y="264"/>
                  <a:pt x="480" y="240"/>
                </a:cubicBezTo>
                <a:cubicBezTo>
                  <a:pt x="576" y="216"/>
                  <a:pt x="720" y="80"/>
                  <a:pt x="768" y="48"/>
                </a:cubicBez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914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er gemacht, wenn du so weiter machst, wirst du Champ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6553080" y="55627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96" h="21600">
                <a:moveTo>
                  <a:pt x="10441" y="10800"/>
                </a:moveTo>
                <a:lnTo>
                  <a:pt x="24454" y="3794"/>
                </a:lnTo>
                <a:lnTo>
                  <a:pt x="244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Leider falsch, probier´s noch ein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858000" y="55627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96" h="21600">
                <a:moveTo>
                  <a:pt x="10441" y="10800"/>
                </a:moveTo>
                <a:lnTo>
                  <a:pt x="24454" y="3794"/>
                </a:lnTo>
                <a:lnTo>
                  <a:pt x="2445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5961_" descr=""/>
          <p:cNvPicPr/>
          <p:nvPr/>
        </p:nvPicPr>
        <p:blipFill>
          <a:blip r:embed="rId1"/>
          <a:stretch/>
        </p:blipFill>
        <p:spPr>
          <a:xfrm>
            <a:off x="3218040" y="1828800"/>
            <a:ext cx="27079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2133720" y="2133720"/>
            <a:ext cx="7010280" cy="5205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Ford kostet vie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2133720" y="3809880"/>
            <a:ext cx="7010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Audi  kostet wen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2057400" y="5638680"/>
            <a:ext cx="70866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Ferrari kostet sehr vi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066680"/>
          <a:ext cx="6858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0666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2286000" y="2819520"/>
            <a:ext cx="6858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286000" y="4191120"/>
            <a:ext cx="6858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 geht in die Bäcker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286000" y="5486400"/>
            <a:ext cx="6858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 geht in die Turnha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9718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762120"/>
          <a:ext cx="6858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621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030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3520" y="68580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1752480" y="5334120"/>
            <a:ext cx="73915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s Fußballstadion ist in Mün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1752480" y="3886200"/>
            <a:ext cx="7391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s Fußballstadion ist in Frankf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1752480" y="2590920"/>
            <a:ext cx="7391520" cy="520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s Fußballstadion ist in Stuttg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609480"/>
          <a:ext cx="6858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685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676520" y="2362320"/>
            <a:ext cx="746748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ute ist schlechtes W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1676520" y="3733920"/>
            <a:ext cx="74674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ute ist schönes Wett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5" action="ppaction://hlinksldjump"/>
          </p:cNvPr>
          <p:cNvSpPr/>
          <p:nvPr/>
        </p:nvSpPr>
        <p:spPr>
          <a:xfrm>
            <a:off x="1676520" y="5029200"/>
            <a:ext cx="7467480" cy="5205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ute ist windiges W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94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2057400" y="5410080"/>
            <a:ext cx="70866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ffen ist 9 Jahre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2057400" y="3733920"/>
            <a:ext cx="70866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ffen ist 3 Jahre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5" action="ppaction://hlinksldjump"/>
          </p:cNvPr>
          <p:cNvSpPr/>
          <p:nvPr/>
        </p:nvSpPr>
        <p:spPr>
          <a:xfrm>
            <a:off x="1981080" y="2057400"/>
            <a:ext cx="7162920" cy="5205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ffen ist 10 Jahre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457200"/>
          <a:ext cx="7621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905120" y="1905120"/>
            <a:ext cx="72388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ter kauft im Aldi e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1828800" y="3581280"/>
            <a:ext cx="73152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ter kauft im Penny 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1828800" y="5181480"/>
            <a:ext cx="7315200" cy="5205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ter kauft im Netto 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09480" y="83808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2438280" y="1828800"/>
            <a:ext cx="6705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ter geht ins H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2438280" y="3352680"/>
            <a:ext cx="6705720" cy="5205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ter geht in den Gar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2362320" y="4952880"/>
            <a:ext cx="678168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ter geht in das A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6858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1752480" y="1981080"/>
            <a:ext cx="739152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stern hatte ich Fußball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752480" y="3429000"/>
            <a:ext cx="73915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ute habe ich Fußball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1752480" y="4952880"/>
            <a:ext cx="7391520" cy="520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gen habe ich Fußball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33:45Z</dcterms:created>
  <dc:creator>Thomas</dc:creator>
  <dc:description/>
  <dc:language>en-US</dc:language>
  <cp:lastModifiedBy>User</cp:lastModifiedBy>
  <dcterms:modified xsi:type="dcterms:W3CDTF">2008-01-19T19:46:17Z</dcterms:modified>
  <cp:revision>9</cp:revision>
  <dc:subject/>
  <dc:title>PowerPoint-Präsentation</dc:title>
</cp:coreProperties>
</file>