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8.wmf" ContentType="image/x-wmf"/>
  <Override PartName="/ppt/media/image16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0FB-F11F-4BDB-A8AB-8D1A06D8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253-761F-483A-B17B-0E1B5E77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AC0-BBD6-48B8-A489-FDB94C7F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79C-8178-4270-BD48-83FEB7F3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986-223E-4F97-8DCB-3D8F59C9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1E5-3F52-42DD-A132-6E23AFF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E7E-57CE-40EF-B1B1-9FFAA8D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5B3-1B2D-4945-AB9D-343CA0EB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C2B-7033-4C9E-A7FA-5F8DED7D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223-B711-4BFC-A1F0-30EC8EF8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A70-5C48-4437-9E1C-A2E4C237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08D-9899-47E1-919A-B17B288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8D51-DD57-4F14-949C-C56CC553A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5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5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5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5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5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2362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setrain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823320" y="164160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 Fabienn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01274_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287640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AN02168_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3581280" cy="1668600"/>
          </a:xfrm>
          <a:prstGeom prst="rect">
            <a:avLst/>
          </a:prstGeom>
          <a:ln w="0">
            <a:noFill/>
          </a:ln>
        </p:spPr>
      </p:pic>
      <p:pic>
        <p:nvPicPr>
          <p:cNvPr id="45" name="AN01124_" descr=""/>
          <p:cNvPicPr/>
          <p:nvPr/>
        </p:nvPicPr>
        <p:blipFill>
          <a:blip r:embed="rId3"/>
          <a:stretch/>
        </p:blipFill>
        <p:spPr>
          <a:xfrm>
            <a:off x="6629400" y="3429000"/>
            <a:ext cx="2098800" cy="2554200"/>
          </a:xfrm>
          <a:prstGeom prst="rect">
            <a:avLst/>
          </a:prstGeom>
          <a:ln w="0">
            <a:noFill/>
          </a:ln>
        </p:spPr>
      </p:pic>
      <p:pic>
        <p:nvPicPr>
          <p:cNvPr id="46" name="AN02156_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29718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380880" y="2971800"/>
            <a:ext cx="84582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s Auto ist schnel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s Auto ist schö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380880" y="4191120"/>
            <a:ext cx="8458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s Auto  schadet der Umwe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BD07294_" descr=""/>
          <p:cNvPicPr/>
          <p:nvPr/>
        </p:nvPicPr>
        <p:blipFill>
          <a:blip r:embed="rId5"/>
          <a:stretch/>
        </p:blipFill>
        <p:spPr>
          <a:xfrm>
            <a:off x="3809880" y="685800"/>
            <a:ext cx="33260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380880" y="2971800"/>
            <a:ext cx="84582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auchen ist tödli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380880" y="5486400"/>
            <a:ext cx="84582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auchen ist gefährli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380880" y="4267080"/>
            <a:ext cx="8458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auchen ist ungesu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" y="1066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BD00023_" descr=""/>
          <p:cNvPicPr/>
          <p:nvPr/>
        </p:nvPicPr>
        <p:blipFill>
          <a:blip r:embed="rId5"/>
          <a:stretch/>
        </p:blipFill>
        <p:spPr>
          <a:xfrm>
            <a:off x="4191120" y="457200"/>
            <a:ext cx="25146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57200" y="3657600"/>
            <a:ext cx="838188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bst ist gesu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457200" y="5410080"/>
            <a:ext cx="83818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bst ist leck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457200" y="4572000"/>
            <a:ext cx="83818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bst ist  süß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1219320"/>
            <a:ext cx="76176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038480" y="304920"/>
          <a:ext cx="2895840" cy="26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04920"/>
                    <a:ext cx="289584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80880" y="2971800"/>
            <a:ext cx="838224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atzen sind  süß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380880" y="5486400"/>
            <a:ext cx="83822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atzen schmusen ger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380880" y="4267080"/>
            <a:ext cx="83822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atzen schlafen auf Herz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SO01889_" descr=""/>
          <p:cNvPicPr/>
          <p:nvPr/>
        </p:nvPicPr>
        <p:blipFill>
          <a:blip r:embed="rId5"/>
          <a:stretch/>
        </p:blipFill>
        <p:spPr>
          <a:xfrm>
            <a:off x="5486400" y="457200"/>
            <a:ext cx="1754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80880" y="2971800"/>
            <a:ext cx="838224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länder ist eine Pferderass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380880" y="5257800"/>
            <a:ext cx="83822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länder sind schö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380880" y="4191120"/>
            <a:ext cx="83822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Isländer können  Tölt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572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AN01136_" descr=""/>
          <p:cNvPicPr/>
          <p:nvPr/>
        </p:nvPicPr>
        <p:blipFill>
          <a:blip r:embed="rId5"/>
          <a:stretch/>
        </p:blipFill>
        <p:spPr>
          <a:xfrm>
            <a:off x="5410080" y="380880"/>
            <a:ext cx="266724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304920" y="3657600"/>
            <a:ext cx="84582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ina und Claudia sind meine besten Freundinn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304920" y="5715000"/>
            <a:ext cx="8458200" cy="825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eil sie freundlich si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304920" y="4572000"/>
            <a:ext cx="8458200" cy="1015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eil sie  nett si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9" name="BD05615_" descr=""/>
          <p:cNvPicPr/>
          <p:nvPr/>
        </p:nvPicPr>
        <p:blipFill>
          <a:blip r:embed="rId5"/>
          <a:stretch/>
        </p:blipFill>
        <p:spPr>
          <a:xfrm>
            <a:off x="4267080" y="457200"/>
            <a:ext cx="1752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380880" y="2971800"/>
            <a:ext cx="84582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iesen sind schön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380880" y="5562720"/>
            <a:ext cx="83822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iesen sind süß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380880" y="4343400"/>
            <a:ext cx="83822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iesen haben eine Wellenmähne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80880" y="99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BD10880_" descr=""/>
          <p:cNvPicPr/>
          <p:nvPr/>
        </p:nvPicPr>
        <p:blipFill>
          <a:blip r:embed="rId5"/>
          <a:stretch/>
        </p:blipFill>
        <p:spPr>
          <a:xfrm>
            <a:off x="3429000" y="228600"/>
            <a:ext cx="327672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380880" y="2971800"/>
            <a:ext cx="84582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Herr Rimmler ist toll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029200"/>
            <a:ext cx="84582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Herr Rimmler  ist schö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8458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Herr Rimmler ist nett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29" name="j0079190" descr=""/>
          <p:cNvPicPr/>
          <p:nvPr/>
        </p:nvPicPr>
        <p:blipFill>
          <a:blip r:embed="rId3"/>
          <a:stretch/>
        </p:blipFill>
        <p:spPr>
          <a:xfrm>
            <a:off x="4343400" y="457200"/>
            <a:ext cx="1360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2971800"/>
            <a:ext cx="84582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nut ist süß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181480"/>
            <a:ext cx="84582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nut trinkt gerad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038480"/>
            <a:ext cx="8458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nut lebt im Zo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4" name="AN04492_" descr=""/>
          <p:cNvPicPr/>
          <p:nvPr/>
        </p:nvPicPr>
        <p:blipFill>
          <a:blip r:embed="rId2"/>
          <a:stretch/>
        </p:blipFill>
        <p:spPr>
          <a:xfrm>
            <a:off x="5334120" y="304920"/>
            <a:ext cx="2482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2971800"/>
            <a:ext cx="84582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iraten ist schö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Zum Heiraten braucht man zwei  Leute 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191120"/>
            <a:ext cx="853416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iraten tut man in der Kirch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SO02276_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04920" y="3657600"/>
            <a:ext cx="861048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 Hund  lebt in seinem Zwing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04920" y="4800600"/>
            <a:ext cx="86104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Hund spielt gern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304920" y="5867280"/>
            <a:ext cx="8610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Hund muss 3 mal am Tag ausgeh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33520"/>
            <a:ext cx="6858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6858000" y="762120"/>
          <a:ext cx="1336680" cy="17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762120"/>
                    <a:ext cx="1336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3276720"/>
            <a:ext cx="838224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sche sind Lebewes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334120"/>
            <a:ext cx="83822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sche leben überall  außer auf dem L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343400"/>
            <a:ext cx="83822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sche leben im Flus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BD08716_" descr=""/>
          <p:cNvPicPr/>
          <p:nvPr/>
        </p:nvPicPr>
        <p:blipFill>
          <a:blip r:embed="rId2"/>
          <a:stretch/>
        </p:blipFill>
        <p:spPr>
          <a:xfrm>
            <a:off x="3581280" y="457200"/>
            <a:ext cx="25146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3352680"/>
            <a:ext cx="830592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nos lebten in der Kreidezeit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334120"/>
            <a:ext cx="83059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nche waren groß manche klei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343400"/>
            <a:ext cx="83059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nche Pflanzen und manche Fleischfress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BD08703_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35290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8080" y="609480"/>
            <a:ext cx="778212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ima ! Du hast alles geschafft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1" name="">
            <a:hlinkClick r:id="" action="ppaction://hlinkshowjump?jump=endshow"/>
          </p:cNvPr>
          <p:cNvSpPr/>
          <p:nvPr/>
        </p:nvSpPr>
        <p:spPr>
          <a:xfrm>
            <a:off x="1905120" y="533412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5257800" y="533412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AN01694_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14446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70320" y="434880"/>
            <a:ext cx="557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ichtig, weiter s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E02742_" descr=""/>
          <p:cNvPicPr/>
          <p:nvPr/>
        </p:nvPicPr>
        <p:blipFill>
          <a:blip r:embed="rId1"/>
          <a:stretch/>
        </p:blipFill>
        <p:spPr>
          <a:xfrm>
            <a:off x="5257800" y="1427040"/>
            <a:ext cx="3454560" cy="314496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1828800" y="5181480"/>
            <a:ext cx="3048120" cy="1371600"/>
          </a:xfrm>
          <a:custGeom>
            <a:avLst/>
            <a:gdLst>
              <a:gd name="textAreaLeft" fmla="*/ 88560 w 3048120"/>
              <a:gd name="textAreaRight" fmla="*/ 2959560 w 30481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7995" h="21600">
                <a:moveTo>
                  <a:pt x="0" y="0"/>
                </a:moveTo>
                <a:lnTo>
                  <a:pt x="47995" y="0"/>
                </a:lnTo>
                <a:lnTo>
                  <a:pt x="47995" y="21600"/>
                </a:lnTo>
                <a:lnTo>
                  <a:pt x="0" y="21600"/>
                </a:lnTo>
                <a:close/>
              </a:path>
              <a:path fill="lightenLess" w="47995" h="21600">
                <a:moveTo>
                  <a:pt x="0" y="0"/>
                </a:moveTo>
                <a:lnTo>
                  <a:pt x="47995" y="0"/>
                </a:lnTo>
                <a:lnTo>
                  <a:pt x="46595" y="1400"/>
                </a:lnTo>
                <a:lnTo>
                  <a:pt x="1400" y="1400"/>
                </a:lnTo>
                <a:close/>
              </a:path>
              <a:path fill="darken" w="47995" h="21600">
                <a:moveTo>
                  <a:pt x="47995" y="0"/>
                </a:moveTo>
                <a:lnTo>
                  <a:pt x="47995" y="21600"/>
                </a:lnTo>
                <a:lnTo>
                  <a:pt x="46595" y="20200"/>
                </a:lnTo>
                <a:lnTo>
                  <a:pt x="46595" y="1400"/>
                </a:lnTo>
                <a:close/>
              </a:path>
              <a:path fill="darkenLess" w="47995" h="21600">
                <a:moveTo>
                  <a:pt x="47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5" y="20200"/>
                </a:lnTo>
                <a:close/>
              </a:path>
              <a:path fill="lighten" w="47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Zurück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08280" y="696960"/>
            <a:ext cx="517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ider  falsch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such´s  noch mal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j0079100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3200400" cy="3282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1828800" y="5181480"/>
            <a:ext cx="3048120" cy="1371600"/>
          </a:xfrm>
          <a:custGeom>
            <a:avLst/>
            <a:gdLst>
              <a:gd name="textAreaLeft" fmla="*/ 88560 w 3048120"/>
              <a:gd name="textAreaRight" fmla="*/ 2959560 w 30481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7995" h="21600">
                <a:moveTo>
                  <a:pt x="0" y="0"/>
                </a:moveTo>
                <a:lnTo>
                  <a:pt x="47995" y="0"/>
                </a:lnTo>
                <a:lnTo>
                  <a:pt x="47995" y="21600"/>
                </a:lnTo>
                <a:lnTo>
                  <a:pt x="0" y="21600"/>
                </a:lnTo>
                <a:close/>
              </a:path>
              <a:path fill="lightenLess" w="47995" h="21600">
                <a:moveTo>
                  <a:pt x="0" y="0"/>
                </a:moveTo>
                <a:lnTo>
                  <a:pt x="47995" y="0"/>
                </a:lnTo>
                <a:lnTo>
                  <a:pt x="46595" y="1400"/>
                </a:lnTo>
                <a:lnTo>
                  <a:pt x="1400" y="1400"/>
                </a:lnTo>
                <a:close/>
              </a:path>
              <a:path fill="darken" w="47995" h="21600">
                <a:moveTo>
                  <a:pt x="47995" y="0"/>
                </a:moveTo>
                <a:lnTo>
                  <a:pt x="47995" y="21600"/>
                </a:lnTo>
                <a:lnTo>
                  <a:pt x="46595" y="20200"/>
                </a:lnTo>
                <a:lnTo>
                  <a:pt x="46595" y="1400"/>
                </a:lnTo>
                <a:close/>
              </a:path>
              <a:path fill="darkenLess" w="47995" h="21600">
                <a:moveTo>
                  <a:pt x="47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5" y="20200"/>
                </a:lnTo>
                <a:close/>
              </a:path>
              <a:path fill="lighten" w="47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Zurück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304920" y="3200400"/>
            <a:ext cx="853416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ine Katze spielt gern mit einem Wollknä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304920" y="4495680"/>
            <a:ext cx="853416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Katze ist nachtakt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304920" y="5867280"/>
            <a:ext cx="85341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Katze hat Angst vor Hu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920" y="685800"/>
            <a:ext cx="6858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572000" y="838080"/>
          <a:ext cx="1295280" cy="118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838080"/>
                    <a:ext cx="1295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380880" y="4038480"/>
            <a:ext cx="84582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gel haben viele Stachel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380880" y="5029200"/>
            <a:ext cx="8458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gel sind Nacht aktiv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380880" y="5943600"/>
            <a:ext cx="84582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gel sind süß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BD07352_" descr=""/>
          <p:cNvPicPr/>
          <p:nvPr/>
        </p:nvPicPr>
        <p:blipFill>
          <a:blip r:embed="rId5"/>
          <a:stretch/>
        </p:blipFill>
        <p:spPr>
          <a:xfrm>
            <a:off x="5334120" y="22860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304920" y="3200400"/>
            <a:ext cx="853416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ldie ist ein Goldfis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304920" y="4267080"/>
            <a:ext cx="853416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ldie ist ein schöner Name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ldie lebt im Teich bei meiner Nachbari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088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BD07907_" descr=""/>
          <p:cNvPicPr/>
          <p:nvPr/>
        </p:nvPicPr>
        <p:blipFill>
          <a:blip r:embed="rId5"/>
          <a:stretch/>
        </p:blipFill>
        <p:spPr>
          <a:xfrm>
            <a:off x="3962520" y="457200"/>
            <a:ext cx="17524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304920" y="2895480"/>
            <a:ext cx="853416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ühner  sind intelligent , was wenige Menschen wiss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304920" y="4191120"/>
            <a:ext cx="853416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Hühner haben viele Federn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304920" y="5410080"/>
            <a:ext cx="8534160" cy="825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ühner gackern vie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AN02032_" descr=""/>
          <p:cNvPicPr/>
          <p:nvPr/>
        </p:nvPicPr>
        <p:blipFill>
          <a:blip r:embed="rId5"/>
          <a:stretch/>
        </p:blipFill>
        <p:spPr>
          <a:xfrm>
            <a:off x="5678640" y="685800"/>
            <a:ext cx="1255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304920" y="3962520"/>
            <a:ext cx="853416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äuse essen  Käs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304920" y="4800600"/>
            <a:ext cx="853416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äuse sind klein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304920" y="5638680"/>
            <a:ext cx="85341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äuse sind grau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8088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j0078901" descr=""/>
          <p:cNvPicPr/>
          <p:nvPr/>
        </p:nvPicPr>
        <p:blipFill>
          <a:blip r:embed="rId5"/>
          <a:stretch/>
        </p:blipFill>
        <p:spPr>
          <a:xfrm>
            <a:off x="4038480" y="609480"/>
            <a:ext cx="3124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304920" y="3429000"/>
            <a:ext cx="853416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är schnarcht im Winterschla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04920" y="5867280"/>
            <a:ext cx="85341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Lieblingsspeise von den Bären ist Honi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304920" y="4648320"/>
            <a:ext cx="853416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är ist ein Raubti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80880" y="9144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BD07348_" descr=""/>
          <p:cNvPicPr/>
          <p:nvPr/>
        </p:nvPicPr>
        <p:blipFill>
          <a:blip r:embed="rId5"/>
          <a:stretch/>
        </p:blipFill>
        <p:spPr>
          <a:xfrm>
            <a:off x="5105520" y="457200"/>
            <a:ext cx="30477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380880" y="2895480"/>
            <a:ext cx="838224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rliebt sein ist schö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380880" y="5410080"/>
            <a:ext cx="83822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rliebte suchen sich oft ein ruhiges Plätzch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380880" y="4114800"/>
            <a:ext cx="83822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rliebte küssen sich of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88" name="BD05082_" descr=""/>
          <p:cNvPicPr/>
          <p:nvPr/>
        </p:nvPicPr>
        <p:blipFill>
          <a:blip r:embed="rId5"/>
          <a:stretch/>
        </p:blipFill>
        <p:spPr>
          <a:xfrm>
            <a:off x="5029200" y="457200"/>
            <a:ext cx="1503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9Z</dcterms:created>
  <dc:creator>Gast</dc:creator>
  <dc:description/>
  <dc:language>en-US</dc:language>
  <cp:lastModifiedBy>User</cp:lastModifiedBy>
  <dcterms:modified xsi:type="dcterms:W3CDTF">2008-01-19T13:52:12Z</dcterms:modified>
  <cp:revision>34</cp:revision>
  <dc:subject/>
  <dc:title>PowerPoint-Präsentation</dc:title>
</cp:coreProperties>
</file>