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857-D945-401C-99E1-024C122F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5D9-1FB3-4AA9-BF50-9C291935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C6E-A585-469E-9538-FCEC3107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72B-CCBF-4776-8EDA-1D0A6F19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636-DDED-475D-91E5-94913BB2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BE5-A397-4970-A5A2-643F3163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5E9-25F8-4B21-81DB-D3033A50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3AC-5F83-4B26-B4B2-48172BD1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7B6-21DE-4C4C-92D5-7B7FB6D6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1DD-09D8-419F-AEEE-A72962C2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621-C2E9-4ABC-9D1B-5F4E3FDE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07E-3A49-4DC9-BBBE-B2F1F67E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C452-B50C-43E6-9380-C63080E41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video" Target="file:///tmp/home/.config/libreoffice/4/user/gallery/Superstar" TargetMode="External"/><Relationship Id="rId5" Type="http://schemas.microsoft.com/office/2007/relationships/media" Target="file:///tmp/home/.config/libreoffice/4/user/gallery/Superstar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video" Target="file:///tmp/home/.config/libreoffice/4/user/gallery/f&#228;hrt" TargetMode="External"/><Relationship Id="rId5" Type="http://schemas.microsoft.com/office/2007/relationships/media" Target="file:///tmp/home/.config/libreoffice/4/user/gallery/f&#228;hr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video" Target="file:///tmp/home/.config/libreoffice/4/user/gallery/Oma" TargetMode="External"/><Relationship Id="rId5" Type="http://schemas.microsoft.com/office/2007/relationships/media" Target="file:///tmp/home/.config/libreoffice/4/user/gallery/Oma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video" Target="file:///tmp/home/.config/libreoffice/4/user/gallery/Buch" TargetMode="External"/><Relationship Id="rId5" Type="http://schemas.microsoft.com/office/2007/relationships/media" Target="file:///tmp/home/.config/libreoffice/4/user/gallery/Buch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video" Target="file:///tmp/home/.config/libreoffice/4/user/gallery/M&#228;dchen" TargetMode="External"/><Relationship Id="rId5" Type="http://schemas.microsoft.com/office/2007/relationships/media" Target="file:///tmp/home/.config/libreoffice/4/user/gallery/M&#228;dchen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video" Target="file:///tmp/home/.config/libreoffice/4/user/gallery/Tiere" TargetMode="External"/><Relationship Id="rId5" Type="http://schemas.microsoft.com/office/2007/relationships/media" Target="file:///tmp/home/.config/libreoffice/4/user/gallery/Tiere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video" Target="file:///tmp/home/.config/libreoffice/4/user/gallery/Haare" TargetMode="External"/><Relationship Id="rId5" Type="http://schemas.microsoft.com/office/2007/relationships/media" Target="file:///tmp/home/.config/libreoffice/4/user/gallery/Haare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2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video" Target="file:///tmp/home/.config/libreoffice/4/user/gallery/Band" TargetMode="External"/><Relationship Id="rId5" Type="http://schemas.microsoft.com/office/2007/relationships/media" Target="file:///tmp/home/.config/libreoffice/4/user/gallery/Band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914400"/>
            <a:ext cx="7696080" cy="3048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591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esetrain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2895480"/>
            <a:ext cx="8076960" cy="255744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ff"/>
                </a:solidFill>
                <a:latin typeface="Times New Roman"/>
              </a:rPr>
              <a:t>Von Mar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05629_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144756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380880" y="1752480"/>
            <a:ext cx="840744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Zoo ist schö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380880" y="2895480"/>
            <a:ext cx="83822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Zoo ist a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380880" y="4038480"/>
            <a:ext cx="838224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Zoo ist g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09480" y="380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228600" y="213372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Rucksack ist a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228600" y="342900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Rucksack ist groß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228600" y="4572000"/>
            <a:ext cx="8602560" cy="577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Rucksack ist gelb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Lucida Calligraphy"/>
                <a:hlinkClick r:id="rId4" action="ppaction://hlinksldjump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62120" y="304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228600" y="5181480"/>
            <a:ext cx="853452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Hans ist ju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228600" y="388620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Hans ist a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3" action="ppaction://hlinksldjump"/>
          </p:cNvPr>
          <p:cNvSpPr/>
          <p:nvPr/>
        </p:nvSpPr>
        <p:spPr>
          <a:xfrm>
            <a:off x="228600" y="251460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Hans ist jugendli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228600" y="9144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380880" y="2057400"/>
            <a:ext cx="840744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Apfel ist sau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380880" y="3276720"/>
            <a:ext cx="83822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Apfel ist süß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380880" y="4495680"/>
            <a:ext cx="838224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Apfel ist grü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57200" y="838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228600" y="403848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Schrank ist groß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228600" y="251460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Schrank ist a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228600" y="541008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Schrank ist schie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80880" y="9907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304920" y="1676520"/>
            <a:ext cx="853416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Peter geht spazieren.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304920" y="327672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Peter geht auf den Sportplat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304920" y="472428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Peter geht in die Sch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80880" y="533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304920" y="510552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Zimmer ist alt.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304920" y="388620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Zimmer ist ne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304920" y="251460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Zimmer ist groß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80880" y="762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304920" y="3048120"/>
            <a:ext cx="861048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Tafel  ist grün.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304920" y="198108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Tafel ist schwar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304920" y="403848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Tafel ist r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04920" y="6094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304920" y="2133720"/>
            <a:ext cx="853416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Opa ist alt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304920" y="3352680"/>
            <a:ext cx="853416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Opa ist j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304920" y="4495680"/>
            <a:ext cx="85341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Opa ist jugendli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80880" y="914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304920" y="4724280"/>
            <a:ext cx="853416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Uhr ist blau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304920" y="228600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Uhr ist grün.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304920" y="358128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Uhr ist r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33520" y="8380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380880" y="1600200"/>
            <a:ext cx="840744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Computer ist ne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380880" y="3200400"/>
            <a:ext cx="845820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Computer ist a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380880" y="4724280"/>
            <a:ext cx="84582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Computer ist gebrauc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80880" y="304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228600" y="228600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Emil geht in die Sch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152280" y="434340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Emil geht in den Kindergarten.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228600" y="335268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Emil geht in den Z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295280" y="457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304920" y="198108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Wand ist grü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304920" y="335268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Wand ist gelb.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304920" y="464832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Wand ist o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228600" y="358128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Eis kostet 1,00 E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228600" y="5181480"/>
            <a:ext cx="8609040" cy="577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Lucida Calligraphy"/>
              </a:rPr>
              <a:t>Das Eis kostet 2,00 Euro.</a:t>
            </a:r>
            <a:r>
              <a:rPr b="1" lang="de-DE" sz="28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Lucida Calligraphy"/>
                <a:hlinkClick r:id="rId3" action="ppaction://hlinksldjump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304920" y="190512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Eis kostet 3,00 E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04920" y="8380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304920" y="175248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Apfel ist groß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304920" y="3352680"/>
            <a:ext cx="8609040" cy="5205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Apfel ist klein.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304920" y="502920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Apfel ist grü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80880" y="6858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304920" y="1828800"/>
            <a:ext cx="86104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Stuhl ist r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304920" y="335268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Stuhl ist grü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304920" y="472428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Stuhl ist o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57200" y="6858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304920" y="198108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onie ist kl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304920" y="350532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Vanessa ist größer als Leon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304920" y="510552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on ist viel größer als wir be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09480" y="6858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304920" y="220968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nna kauft im Kaufland 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Valentin geht im Netto einkauf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304920" y="510552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o kauft mit seiner Mutter 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57200" y="533520"/>
            <a:ext cx="6922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304920" y="220968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lex telefoniert mit O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ophie telefoniert mit O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304920" y="510552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Dennis telefoniert mit O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57200" y="566640"/>
            <a:ext cx="76212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304920" y="182880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Celin hat hellbraune Ha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304920" y="335268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vas Haare sind Bl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ndreas Haare sind dunkelbra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04920" y="5335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304920" y="213372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ma kauft eine R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Oma kauft eine R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304920" y="502920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ante kauft eine R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04920" y="6094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304920" y="190512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etra findet eine Kastan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etra findet eine Erdnu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304920" y="541008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etra findet ein Radies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57200" y="609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304920" y="152388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ngos sind grü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Orangen sind 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3" action="ppaction://hlinksldjump"/>
          </p:cNvPr>
          <p:cNvSpPr/>
          <p:nvPr/>
        </p:nvSpPr>
        <p:spPr>
          <a:xfrm>
            <a:off x="304920" y="541008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rdbeeren sind r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33520" y="4572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304920" y="198108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lexandra liest ein B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andra liest ein B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518148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Bianka liest ein B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304920" y="236232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nna übernachtet bei Sara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Hanna macht ein Puzz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304920" y="495288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Bia hat Streit mit Tab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304920" y="2209680"/>
            <a:ext cx="83818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Vanessa hat einen Vog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304920" y="3657600"/>
            <a:ext cx="83818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Kati hat eine Kat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304920" y="487692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onie hat einen H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80880" y="585720"/>
            <a:ext cx="68580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259092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a schreibt einen Aufsat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403848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Kira schreibt ein Dik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304920" y="541008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Lesse schreibt einen Aufsat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274320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okio Hotel ist eine B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41148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Killerpilze sind eine B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541008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ilbermond ist eine B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251460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Mark Medlock ist Superst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403848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Martin Stosch Superst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541008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x Buskohl ist Superst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6238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2743200"/>
            <a:ext cx="83059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rtin fährt mit dem Ro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419112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rk fährt mit dem Fahrr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5410080"/>
            <a:ext cx="8305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x fährt mit dem Au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3808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2666880"/>
            <a:ext cx="8610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Radio ist laut.       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403848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Radio ist le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25780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er Radio ist silbr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205740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x hat im Aufsatz eine e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elix hat im Diktat eine zwe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518148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na schreibt eine eins in 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457200" y="2286000"/>
            <a:ext cx="83059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ferde grasen auf der We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457200" y="365760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Ziegen grasen auf der We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457200" y="5029200"/>
            <a:ext cx="8229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Kühe grasen auf der We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57200" y="5335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2133720"/>
            <a:ext cx="8610480" cy="5205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Schulgebäude ist groß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352680"/>
            <a:ext cx="86090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Schulgebäude ist kle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449568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as Schulgebäude ist mi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8080" y="685800"/>
            <a:ext cx="69627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per,  du  hast  alle  Aufgaben  geschafft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AN02034_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2362320" cy="30481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5410080" y="5334120"/>
            <a:ext cx="3124440" cy="761760"/>
          </a:xfrm>
          <a:custGeom>
            <a:avLst/>
            <a:gdLst>
              <a:gd name="textAreaLeft" fmla="*/ 49320 w 3124440"/>
              <a:gd name="textAreaRight" fmla="*/ 3075120 w 3124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88563" h="21600">
                <a:moveTo>
                  <a:pt x="0" y="0"/>
                </a:moveTo>
                <a:lnTo>
                  <a:pt x="88563" y="0"/>
                </a:lnTo>
                <a:lnTo>
                  <a:pt x="88563" y="21600"/>
                </a:lnTo>
                <a:lnTo>
                  <a:pt x="0" y="21600"/>
                </a:lnTo>
                <a:close/>
              </a:path>
              <a:path fill="lightenLess" w="88563" h="21600">
                <a:moveTo>
                  <a:pt x="0" y="0"/>
                </a:moveTo>
                <a:lnTo>
                  <a:pt x="88563" y="0"/>
                </a:lnTo>
                <a:lnTo>
                  <a:pt x="87163" y="1400"/>
                </a:lnTo>
                <a:lnTo>
                  <a:pt x="1400" y="1400"/>
                </a:lnTo>
                <a:close/>
              </a:path>
              <a:path fill="darken" w="88563" h="21600">
                <a:moveTo>
                  <a:pt x="88563" y="0"/>
                </a:moveTo>
                <a:lnTo>
                  <a:pt x="88563" y="21600"/>
                </a:lnTo>
                <a:lnTo>
                  <a:pt x="87163" y="20200"/>
                </a:lnTo>
                <a:lnTo>
                  <a:pt x="87163" y="1400"/>
                </a:lnTo>
                <a:close/>
              </a:path>
              <a:path fill="darkenLess" w="88563" h="21600">
                <a:moveTo>
                  <a:pt x="88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163" y="20200"/>
                </a:lnTo>
                <a:close/>
              </a:path>
              <a:path fill="lighten" w="88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Zum Anfang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endshow"/>
          </p:cNvPr>
          <p:cNvSpPr/>
          <p:nvPr/>
        </p:nvSpPr>
        <p:spPr>
          <a:xfrm>
            <a:off x="5410080" y="3352680"/>
            <a:ext cx="3124440" cy="762120"/>
          </a:xfrm>
          <a:custGeom>
            <a:avLst/>
            <a:gdLst>
              <a:gd name="textAreaLeft" fmla="*/ 49320 w 3124440"/>
              <a:gd name="textAreaRight" fmla="*/ 3075120 w 3124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88521" h="21600">
                <a:moveTo>
                  <a:pt x="0" y="0"/>
                </a:moveTo>
                <a:lnTo>
                  <a:pt x="88521" y="0"/>
                </a:lnTo>
                <a:lnTo>
                  <a:pt x="88521" y="21600"/>
                </a:lnTo>
                <a:lnTo>
                  <a:pt x="0" y="21600"/>
                </a:lnTo>
                <a:close/>
              </a:path>
              <a:path fill="lightenLess" w="88521" h="21600">
                <a:moveTo>
                  <a:pt x="0" y="0"/>
                </a:moveTo>
                <a:lnTo>
                  <a:pt x="88521" y="0"/>
                </a:lnTo>
                <a:lnTo>
                  <a:pt x="87121" y="1400"/>
                </a:lnTo>
                <a:lnTo>
                  <a:pt x="1400" y="1400"/>
                </a:lnTo>
                <a:close/>
              </a:path>
              <a:path fill="darken" w="88521" h="21600">
                <a:moveTo>
                  <a:pt x="88521" y="0"/>
                </a:moveTo>
                <a:lnTo>
                  <a:pt x="88521" y="21600"/>
                </a:lnTo>
                <a:lnTo>
                  <a:pt x="87121" y="20200"/>
                </a:lnTo>
                <a:lnTo>
                  <a:pt x="87121" y="1400"/>
                </a:lnTo>
                <a:close/>
              </a:path>
              <a:path fill="darkenLess" w="88521" h="21600">
                <a:moveTo>
                  <a:pt x="88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121" y="20200"/>
                </a:lnTo>
                <a:close/>
              </a:path>
              <a:path fill="lighten" w="88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E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3480" y="676440"/>
            <a:ext cx="659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Calligraphy"/>
              </a:rPr>
              <a:t>Super, weiter so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BS01180_" descr=""/>
          <p:cNvPicPr/>
          <p:nvPr/>
        </p:nvPicPr>
        <p:blipFill>
          <a:blip r:embed="rId1"/>
          <a:stretch/>
        </p:blipFill>
        <p:spPr>
          <a:xfrm>
            <a:off x="2468520" y="1693800"/>
            <a:ext cx="4206960" cy="346860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1219320" y="5715000"/>
            <a:ext cx="6553080" cy="914400"/>
          </a:xfrm>
          <a:custGeom>
            <a:avLst/>
            <a:gdLst>
              <a:gd name="textAreaLeft" fmla="*/ 82440 w 6553080"/>
              <a:gd name="textAreaRight" fmla="*/ 6470640 w 6553080"/>
              <a:gd name="textAreaTop" fmla="*/ 82440 h 914400"/>
              <a:gd name="textAreaBottom" fmla="*/ 831960 h 914400"/>
            </a:gdLst>
            <a:ahLst/>
            <a:rect l="textAreaLeft" t="textAreaTop" r="textAreaRight" b="textAreaBottom"/>
            <a:pathLst>
              <a:path w="154745" h="21600">
                <a:moveTo>
                  <a:pt x="0" y="0"/>
                </a:moveTo>
                <a:lnTo>
                  <a:pt x="154745" y="0"/>
                </a:lnTo>
                <a:lnTo>
                  <a:pt x="154745" y="21600"/>
                </a:lnTo>
                <a:lnTo>
                  <a:pt x="0" y="21600"/>
                </a:lnTo>
                <a:close/>
              </a:path>
              <a:path fill="lightenLess" w="154745" h="21600">
                <a:moveTo>
                  <a:pt x="0" y="0"/>
                </a:moveTo>
                <a:lnTo>
                  <a:pt x="154745" y="0"/>
                </a:lnTo>
                <a:lnTo>
                  <a:pt x="152795" y="1950"/>
                </a:lnTo>
                <a:lnTo>
                  <a:pt x="1950" y="1950"/>
                </a:lnTo>
                <a:close/>
              </a:path>
              <a:path fill="darken" w="154745" h="21600">
                <a:moveTo>
                  <a:pt x="154745" y="0"/>
                </a:moveTo>
                <a:lnTo>
                  <a:pt x="154745" y="21600"/>
                </a:lnTo>
                <a:lnTo>
                  <a:pt x="152795" y="19650"/>
                </a:lnTo>
                <a:lnTo>
                  <a:pt x="152795" y="1950"/>
                </a:lnTo>
                <a:close/>
              </a:path>
              <a:path fill="darkenLess" w="154745" h="21600">
                <a:moveTo>
                  <a:pt x="154745" y="21600"/>
                </a:moveTo>
                <a:lnTo>
                  <a:pt x="0" y="21600"/>
                </a:lnTo>
                <a:lnTo>
                  <a:pt x="1950" y="19650"/>
                </a:lnTo>
                <a:lnTo>
                  <a:pt x="152795" y="19650"/>
                </a:lnTo>
                <a:close/>
              </a:path>
              <a:path fill="lighten" w="154745" h="21600">
                <a:moveTo>
                  <a:pt x="0" y="21600"/>
                </a:moveTo>
                <a:lnTo>
                  <a:pt x="0" y="0"/>
                </a:lnTo>
                <a:lnTo>
                  <a:pt x="1950" y="1950"/>
                </a:lnTo>
                <a:lnTo>
                  <a:pt x="1950" y="1965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Calligraphy"/>
              </a:rPr>
              <a:t>Zurück.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j0079100" descr=""/>
          <p:cNvPicPr/>
          <p:nvPr/>
        </p:nvPicPr>
        <p:blipFill>
          <a:blip r:embed="rId1"/>
          <a:stretch/>
        </p:blipFill>
        <p:spPr>
          <a:xfrm>
            <a:off x="3505320" y="2819520"/>
            <a:ext cx="1828800" cy="1981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Lucida Calligraphy"/>
              </a:rPr>
              <a:t>Schade, das stimmt leider nicht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1219320" y="5715000"/>
            <a:ext cx="6553080" cy="914400"/>
          </a:xfrm>
          <a:custGeom>
            <a:avLst/>
            <a:gdLst>
              <a:gd name="textAreaLeft" fmla="*/ 82440 w 6553080"/>
              <a:gd name="textAreaRight" fmla="*/ 6470640 w 6553080"/>
              <a:gd name="textAreaTop" fmla="*/ 82440 h 914400"/>
              <a:gd name="textAreaBottom" fmla="*/ 831960 h 914400"/>
            </a:gdLst>
            <a:ahLst/>
            <a:rect l="textAreaLeft" t="textAreaTop" r="textAreaRight" b="textAreaBottom"/>
            <a:pathLst>
              <a:path w="154745" h="21600">
                <a:moveTo>
                  <a:pt x="0" y="0"/>
                </a:moveTo>
                <a:lnTo>
                  <a:pt x="154745" y="0"/>
                </a:lnTo>
                <a:lnTo>
                  <a:pt x="154745" y="21600"/>
                </a:lnTo>
                <a:lnTo>
                  <a:pt x="0" y="21600"/>
                </a:lnTo>
                <a:close/>
              </a:path>
              <a:path fill="lightenLess" w="154745" h="21600">
                <a:moveTo>
                  <a:pt x="0" y="0"/>
                </a:moveTo>
                <a:lnTo>
                  <a:pt x="154745" y="0"/>
                </a:lnTo>
                <a:lnTo>
                  <a:pt x="152795" y="1950"/>
                </a:lnTo>
                <a:lnTo>
                  <a:pt x="1950" y="1950"/>
                </a:lnTo>
                <a:close/>
              </a:path>
              <a:path fill="darken" w="154745" h="21600">
                <a:moveTo>
                  <a:pt x="154745" y="0"/>
                </a:moveTo>
                <a:lnTo>
                  <a:pt x="154745" y="21600"/>
                </a:lnTo>
                <a:lnTo>
                  <a:pt x="152795" y="19650"/>
                </a:lnTo>
                <a:lnTo>
                  <a:pt x="152795" y="1950"/>
                </a:lnTo>
                <a:close/>
              </a:path>
              <a:path fill="darkenLess" w="154745" h="21600">
                <a:moveTo>
                  <a:pt x="154745" y="21600"/>
                </a:moveTo>
                <a:lnTo>
                  <a:pt x="0" y="21600"/>
                </a:lnTo>
                <a:lnTo>
                  <a:pt x="1950" y="19650"/>
                </a:lnTo>
                <a:lnTo>
                  <a:pt x="152795" y="19650"/>
                </a:lnTo>
                <a:close/>
              </a:path>
              <a:path fill="lighten" w="154745" h="21600">
                <a:moveTo>
                  <a:pt x="0" y="21600"/>
                </a:moveTo>
                <a:lnTo>
                  <a:pt x="0" y="0"/>
                </a:lnTo>
                <a:lnTo>
                  <a:pt x="1950" y="1950"/>
                </a:lnTo>
                <a:lnTo>
                  <a:pt x="1950" y="1965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Calligraphy"/>
              </a:rPr>
              <a:t>Zurück.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304920" y="220968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Ballack schießt kein To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304920" y="3581280"/>
            <a:ext cx="8458200" cy="647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Klose schießt zwei Tore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Lucida Handwriting"/>
                <a:hlinkClick r:id="rId3" action="ppaction://hlinksldjump"/>
              </a:rPr>
              <a:t>ie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04920" y="495288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Podolski schießt ein 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3520" y="6094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304920" y="182880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Ich esse ein Jogh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304920" y="358128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Ich esse einen Apf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304920" y="525780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Ich esse Trau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304920" y="175248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Kevin angelt einen Fis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304920" y="327672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rina angelt einen alten Schu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304920" y="4800600"/>
            <a:ext cx="8305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Tizian angelt eine D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04920" y="609480"/>
            <a:ext cx="91440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304920" y="2133720"/>
            <a:ext cx="84834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nnart hat viele Hausaufgaben au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304920" y="350532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Jojo hat keine Hausaufgaben au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uis hat keine Hausaufgaben au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04920" y="457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304920" y="3048120"/>
            <a:ext cx="853416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Schrift ist g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304920" y="1828800"/>
            <a:ext cx="853416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Schrift ist su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228600" y="4267080"/>
            <a:ext cx="860256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Die Schrift ist to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04920" y="685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05:12Z</dcterms:created>
  <dc:creator>Gast</dc:creator>
  <dc:description/>
  <dc:language>en-US</dc:language>
  <cp:lastModifiedBy>User</cp:lastModifiedBy>
  <dcterms:modified xsi:type="dcterms:W3CDTF">2008-01-19T19:00:37Z</dcterms:modified>
  <cp:revision>35</cp:revision>
  <dc:subject/>
  <dc:title>PowerPoint-Präsentation</dc:title>
</cp:coreProperties>
</file>