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32E-B399-4506-88BD-B7C5B7CE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174-B2D9-43C2-8952-3DA3F936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83E-E350-403F-AA63-FA60CBF9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F3C-D01D-49D9-B840-B41A6F0B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410-6E8D-4356-A94E-E2CD9DCC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7AD-8083-454B-B650-708723D9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ED38-C3D4-448A-942B-FFE70D7B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0D1-D9DD-42A9-BC2F-B2E37784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DCE-66C1-40B5-8D1B-E66586B7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3A1-C0A2-4282-8603-80615437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73F-F36C-4F0F-9C70-A4E94EEC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05D-C9C2-4852-B95D-FEFC50B8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944D-E264-4D40-96C4-ADF86D38A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5120" y="838080"/>
            <a:ext cx="5638680" cy="320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Leseübung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1600200"/>
            <a:ext cx="2133360" cy="1191240"/>
          </a:xfrm>
          <a:prstGeom prst="rect">
            <a:avLst/>
          </a:prstGeom>
          <a:solidFill>
            <a:srgbClr val="ff0066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lloon"/>
              </a:rPr>
              <a:t>Von Lenn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06210_" descr=""/>
          <p:cNvPicPr/>
          <p:nvPr/>
        </p:nvPicPr>
        <p:blipFill>
          <a:blip r:embed="rId1"/>
          <a:stretch/>
        </p:blipFill>
        <p:spPr>
          <a:xfrm>
            <a:off x="5257800" y="4114800"/>
            <a:ext cx="28195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838080" y="5562720"/>
            <a:ext cx="3124440" cy="990360"/>
          </a:xfrm>
          <a:custGeom>
            <a:avLst/>
            <a:gdLst>
              <a:gd name="textAreaLeft" fmla="*/ 64080 w 3124440"/>
              <a:gd name="textAreaRight" fmla="*/ 3060360 w 31244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8128" h="21600">
                <a:moveTo>
                  <a:pt x="0" y="0"/>
                </a:moveTo>
                <a:lnTo>
                  <a:pt x="68128" y="0"/>
                </a:lnTo>
                <a:lnTo>
                  <a:pt x="68128" y="21600"/>
                </a:lnTo>
                <a:lnTo>
                  <a:pt x="0" y="21600"/>
                </a:lnTo>
                <a:close/>
              </a:path>
              <a:path fill="lightenLess" w="68128" h="21600">
                <a:moveTo>
                  <a:pt x="0" y="0"/>
                </a:moveTo>
                <a:lnTo>
                  <a:pt x="68128" y="0"/>
                </a:lnTo>
                <a:lnTo>
                  <a:pt x="66728" y="1400"/>
                </a:lnTo>
                <a:lnTo>
                  <a:pt x="1400" y="1400"/>
                </a:lnTo>
                <a:close/>
              </a:path>
              <a:path fill="darken" w="68128" h="21600">
                <a:moveTo>
                  <a:pt x="68128" y="0"/>
                </a:moveTo>
                <a:lnTo>
                  <a:pt x="68128" y="21600"/>
                </a:lnTo>
                <a:lnTo>
                  <a:pt x="66728" y="20200"/>
                </a:lnTo>
                <a:lnTo>
                  <a:pt x="66728" y="1400"/>
                </a:lnTo>
                <a:close/>
              </a:path>
              <a:path fill="darkenLess" w="68128" h="21600">
                <a:moveTo>
                  <a:pt x="68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28" y="20200"/>
                </a:lnTo>
                <a:close/>
              </a:path>
              <a:path fill="lighten" w="68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Lucida Handwriting"/>
              </a:rPr>
              <a:t>Startseite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endshow"/>
          </p:cNvPr>
          <p:cNvSpPr/>
          <p:nvPr/>
        </p:nvSpPr>
        <p:spPr>
          <a:xfrm>
            <a:off x="5029200" y="5562720"/>
            <a:ext cx="3124080" cy="990360"/>
          </a:xfrm>
          <a:custGeom>
            <a:avLst/>
            <a:gdLst>
              <a:gd name="textAreaLeft" fmla="*/ 64080 w 3124080"/>
              <a:gd name="textAreaRight" fmla="*/ 3060000 w 31240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8120" h="21600">
                <a:moveTo>
                  <a:pt x="0" y="0"/>
                </a:moveTo>
                <a:lnTo>
                  <a:pt x="68120" y="0"/>
                </a:lnTo>
                <a:lnTo>
                  <a:pt x="68120" y="21600"/>
                </a:lnTo>
                <a:lnTo>
                  <a:pt x="0" y="21600"/>
                </a:lnTo>
                <a:close/>
              </a:path>
              <a:path fill="lightenLess" w="68120" h="21600">
                <a:moveTo>
                  <a:pt x="0" y="0"/>
                </a:moveTo>
                <a:lnTo>
                  <a:pt x="68120" y="0"/>
                </a:lnTo>
                <a:lnTo>
                  <a:pt x="66720" y="1400"/>
                </a:lnTo>
                <a:lnTo>
                  <a:pt x="1400" y="1400"/>
                </a:lnTo>
                <a:close/>
              </a:path>
              <a:path fill="darken" w="68120" h="21600">
                <a:moveTo>
                  <a:pt x="68120" y="0"/>
                </a:moveTo>
                <a:lnTo>
                  <a:pt x="68120" y="21600"/>
                </a:lnTo>
                <a:lnTo>
                  <a:pt x="66720" y="20200"/>
                </a:lnTo>
                <a:lnTo>
                  <a:pt x="66720" y="1400"/>
                </a:lnTo>
                <a:close/>
              </a:path>
              <a:path fill="darkenLess" w="68120" h="21600">
                <a:moveTo>
                  <a:pt x="681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20" y="20200"/>
                </a:lnTo>
                <a:close/>
              </a:path>
              <a:path fill="lighten" w="681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Lucida Handwriting"/>
              </a:rPr>
              <a:t>Beenden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03480" y="474840"/>
            <a:ext cx="679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Lucida Handwriting"/>
              </a:rPr>
              <a:t>PRIMA, du bist fertig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E01832_" descr=""/>
          <p:cNvPicPr/>
          <p:nvPr/>
        </p:nvPicPr>
        <p:blipFill>
          <a:blip r:embed="rId1"/>
          <a:stretch/>
        </p:blipFill>
        <p:spPr>
          <a:xfrm>
            <a:off x="3198960" y="2174760"/>
            <a:ext cx="27446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03480" y="474840"/>
            <a:ext cx="679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Lucida Handwriting"/>
              </a:rPr>
              <a:t>PRIMA, weiter so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D05960_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179520" cy="342720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838080" y="5562720"/>
            <a:ext cx="7467840" cy="990360"/>
          </a:xfrm>
          <a:custGeom>
            <a:avLst/>
            <a:gdLst>
              <a:gd name="textAreaLeft" fmla="*/ 64080 w 7467840"/>
              <a:gd name="textAreaRight" fmla="*/ 7403760 w 7467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62824" h="21600">
                <a:moveTo>
                  <a:pt x="0" y="0"/>
                </a:moveTo>
                <a:lnTo>
                  <a:pt x="162824" y="0"/>
                </a:lnTo>
                <a:lnTo>
                  <a:pt x="162824" y="21600"/>
                </a:lnTo>
                <a:lnTo>
                  <a:pt x="0" y="21600"/>
                </a:lnTo>
                <a:close/>
              </a:path>
              <a:path fill="lightenLess" w="162824" h="21600">
                <a:moveTo>
                  <a:pt x="0" y="0"/>
                </a:moveTo>
                <a:lnTo>
                  <a:pt x="162824" y="0"/>
                </a:lnTo>
                <a:lnTo>
                  <a:pt x="161424" y="1400"/>
                </a:lnTo>
                <a:lnTo>
                  <a:pt x="1400" y="1400"/>
                </a:lnTo>
                <a:close/>
              </a:path>
              <a:path fill="darken" w="162824" h="21600">
                <a:moveTo>
                  <a:pt x="162824" y="0"/>
                </a:moveTo>
                <a:lnTo>
                  <a:pt x="162824" y="21600"/>
                </a:lnTo>
                <a:lnTo>
                  <a:pt x="161424" y="20200"/>
                </a:lnTo>
                <a:lnTo>
                  <a:pt x="161424" y="1400"/>
                </a:lnTo>
                <a:close/>
              </a:path>
              <a:path fill="darkenLess" w="162824" h="21600">
                <a:moveTo>
                  <a:pt x="16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424" y="20200"/>
                </a:lnTo>
                <a:close/>
              </a:path>
              <a:path fill="lighten" w="16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Lucida Handwriting"/>
              </a:rPr>
              <a:t>ZURÜCK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D05961_" descr=""/>
          <p:cNvPicPr/>
          <p:nvPr/>
        </p:nvPicPr>
        <p:blipFill>
          <a:blip r:embed="rId1"/>
          <a:stretch/>
        </p:blipFill>
        <p:spPr>
          <a:xfrm>
            <a:off x="3218040" y="1835280"/>
            <a:ext cx="2707920" cy="3187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38088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Handwriting"/>
              </a:rPr>
              <a:t>Probier‘s</a:t>
            </a: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Lucida Handwriting"/>
              </a:rPr>
              <a:t>noch einmal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838080" y="5562720"/>
            <a:ext cx="7467840" cy="990360"/>
          </a:xfrm>
          <a:custGeom>
            <a:avLst/>
            <a:gdLst>
              <a:gd name="textAreaLeft" fmla="*/ 64080 w 7467840"/>
              <a:gd name="textAreaRight" fmla="*/ 7403760 w 7467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62824" h="21600">
                <a:moveTo>
                  <a:pt x="0" y="0"/>
                </a:moveTo>
                <a:lnTo>
                  <a:pt x="162824" y="0"/>
                </a:lnTo>
                <a:lnTo>
                  <a:pt x="162824" y="21600"/>
                </a:lnTo>
                <a:lnTo>
                  <a:pt x="0" y="21600"/>
                </a:lnTo>
                <a:close/>
              </a:path>
              <a:path fill="lightenLess" w="162824" h="21600">
                <a:moveTo>
                  <a:pt x="0" y="0"/>
                </a:moveTo>
                <a:lnTo>
                  <a:pt x="162824" y="0"/>
                </a:lnTo>
                <a:lnTo>
                  <a:pt x="161424" y="1400"/>
                </a:lnTo>
                <a:lnTo>
                  <a:pt x="1400" y="1400"/>
                </a:lnTo>
                <a:close/>
              </a:path>
              <a:path fill="darken" w="162824" h="21600">
                <a:moveTo>
                  <a:pt x="162824" y="0"/>
                </a:moveTo>
                <a:lnTo>
                  <a:pt x="162824" y="21600"/>
                </a:lnTo>
                <a:lnTo>
                  <a:pt x="161424" y="20200"/>
                </a:lnTo>
                <a:lnTo>
                  <a:pt x="161424" y="1400"/>
                </a:lnTo>
                <a:close/>
              </a:path>
              <a:path fill="darkenLess" w="162824" h="21600">
                <a:moveTo>
                  <a:pt x="16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424" y="20200"/>
                </a:lnTo>
                <a:close/>
              </a:path>
              <a:path fill="lighten" w="16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Lucida Handwriting"/>
              </a:rPr>
              <a:t>ZURÜCK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533520" y="35812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tthias spielt Gameboy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533520" y="48769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hias spielt Sch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533520" y="22096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hias spielt Computer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3520" y="762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609480" y="16765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Das Auto steht auf der Straß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609480" y="30481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Das Auto fährt auf der Autobah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609480" y="43434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Das Auto fährt auf der Straß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09480" y="457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533520" y="36576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Britannic Bold"/>
              </a:rPr>
              <a:t>Florian spielt Baske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533520" y="51814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ian spielt Weitsp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533520" y="21337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Florian spielt Fuß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57200" y="6858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457200" y="35053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Britannic Bold"/>
              </a:rPr>
              <a:t>Kevin ist bei Tizi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457200" y="50292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vin ist bei Flori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533520" y="19810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Kevin ist bei J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3520" y="7621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16002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Lukas geht in die Sch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2004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Lukas geht in die Bücher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6483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Lukas geht in den Werkra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9810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Manche Kinder sind nicht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Manche Kinder sind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4956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Manche Kinder sind ab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16002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Fabienne reitet ger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1240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Fabienne reitet nicht ger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6483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Fabienne reitet sehr ger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D04915_" descr=""/>
          <p:cNvPicPr/>
          <p:nvPr/>
        </p:nvPicPr>
        <p:blipFill>
          <a:blip r:embed="rId1"/>
          <a:stretch/>
        </p:blipFill>
        <p:spPr>
          <a:xfrm>
            <a:off x="6629400" y="3276720"/>
            <a:ext cx="155412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BD04925_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1673280" cy="22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685800" y="3048120"/>
          <a:ext cx="1398600" cy="23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048120"/>
                    <a:ext cx="13986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09480" y="6094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06:44Z</dcterms:created>
  <dc:creator>Gast</dc:creator>
  <dc:description/>
  <dc:language>en-US</dc:language>
  <cp:lastModifiedBy>User</cp:lastModifiedBy>
  <dcterms:modified xsi:type="dcterms:W3CDTF">2008-01-19T18:26:55Z</dcterms:modified>
  <cp:revision>18</cp:revision>
  <dc:subject/>
  <dc:title>PowerPoint-Präsentation</dc:title>
</cp:coreProperties>
</file>