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C89-0B38-4860-A8B9-19617579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1F8-FDA2-49A9-B6A2-A5087A7F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84F-2CF2-4B54-804B-B6A562F0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2A1-9E5F-4908-A92A-AEFB5A25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CCE-5B87-447F-A57F-FB93BB0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173-1254-49B5-8A19-F030EBD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CC9-3A6B-41C1-8D0A-0E6FCC81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F99-2367-4A03-9D21-2B4C9B47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59E-E88E-4CDC-A5F1-FE1C7DEF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B68-3198-432D-869F-15FC048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8AD-FB22-42B3-B194-8F583E4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8FA-FC74-4066-A579-B510807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5B98-4EB0-46F8-BA9C-737AC617B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685800"/>
            <a:ext cx="498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286000"/>
            <a:ext cx="6019920" cy="4597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on</a:t>
            </a:r>
            <a:r>
              <a:rPr b="0" lang="en-US" sz="2400" spc="-1" strike="noStrike">
                <a:solidFill>
                  <a:srgbClr val="000000"/>
                </a:solidFill>
                <a:latin typeface="Niagara Soli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rist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649_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20574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380880" y="380988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ußen regnet es nic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80880" y="289548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ußen regnet es vi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380880" y="190512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ußen regnet e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304920" y="3657600"/>
            <a:ext cx="84582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04920" y="2819520"/>
            <a:ext cx="84582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04920" y="1905120"/>
            <a:ext cx="84582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2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304920" y="365760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ü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304920" y="2819520"/>
            <a:ext cx="83818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l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304920" y="190512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304920" y="365760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ereckig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304920" y="2819520"/>
            <a:ext cx="83818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cki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04920" y="190512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304920" y="3657600"/>
            <a:ext cx="84582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Tafel ist blau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304920" y="2819520"/>
            <a:ext cx="84582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Tafel ist grün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304920" y="1905120"/>
            <a:ext cx="84582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Tafel ist ro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304920" y="3809880"/>
            <a:ext cx="84582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ina schriebt eine 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04920" y="2895480"/>
            <a:ext cx="84582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ina schreibt ei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304920" y="1905120"/>
            <a:ext cx="84582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ina schriebt eine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380880" y="419112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Wetter is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380880" y="327672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Wetter ist k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80880" y="236232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s Wetter ist schö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57200" y="411480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Vogel ist j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57200" y="3276720"/>
            <a:ext cx="82296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Vogel ist a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457200" y="2438280"/>
            <a:ext cx="822960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Vogel ist auf einem Ba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62120" y="380880"/>
            <a:ext cx="7924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u hast alles geschaff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3" name="PE02742_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286000" cy="21319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609480" y="495288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Zum Anfa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4876920" y="4952880"/>
            <a:ext cx="3124080" cy="1143000"/>
          </a:xfrm>
          <a:custGeom>
            <a:avLst/>
            <a:gdLst>
              <a:gd name="textAreaLeft" fmla="*/ 73800 w 3124080"/>
              <a:gd name="textAreaRight" fmla="*/ 3050280 w 3124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26" h="21600">
                <a:moveTo>
                  <a:pt x="0" y="0"/>
                </a:moveTo>
                <a:lnTo>
                  <a:pt x="59026" y="0"/>
                </a:lnTo>
                <a:lnTo>
                  <a:pt x="59026" y="21600"/>
                </a:lnTo>
                <a:lnTo>
                  <a:pt x="0" y="21600"/>
                </a:lnTo>
                <a:close/>
              </a:path>
              <a:path fill="lightenLess" w="59026" h="21600">
                <a:moveTo>
                  <a:pt x="0" y="0"/>
                </a:moveTo>
                <a:lnTo>
                  <a:pt x="59026" y="0"/>
                </a:lnTo>
                <a:lnTo>
                  <a:pt x="57626" y="1400"/>
                </a:lnTo>
                <a:lnTo>
                  <a:pt x="1400" y="1400"/>
                </a:lnTo>
                <a:close/>
              </a:path>
              <a:path fill="darken" w="59026" h="21600">
                <a:moveTo>
                  <a:pt x="59026" y="0"/>
                </a:moveTo>
                <a:lnTo>
                  <a:pt x="59026" y="21600"/>
                </a:lnTo>
                <a:lnTo>
                  <a:pt x="57626" y="20200"/>
                </a:lnTo>
                <a:lnTo>
                  <a:pt x="57626" y="1400"/>
                </a:lnTo>
                <a:close/>
              </a:path>
              <a:path fill="darkenLess" w="59026" h="21600">
                <a:moveTo>
                  <a:pt x="59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26" y="20200"/>
                </a:lnTo>
                <a:close/>
              </a:path>
              <a:path fill="lighten" w="59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chti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eiter so 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02742_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679840" cy="2498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2209680" y="541008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 Black"/>
              </a:rPr>
              <a:t>Zurück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220968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Kran wird aufgeb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89548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Kran fährt auf der Straß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Kran wird abgebau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S01181_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133360" cy="20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Probier s nochm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2209680" y="5410080"/>
            <a:ext cx="4800600" cy="1143000"/>
          </a:xfrm>
          <a:custGeom>
            <a:avLst/>
            <a:gdLst>
              <a:gd name="textAreaLeft" fmla="*/ 145800 w 4800600"/>
              <a:gd name="textAreaRight" fmla="*/ 4654800 w 4800600"/>
              <a:gd name="textAreaTop" fmla="*/ 145800 h 1143000"/>
              <a:gd name="textAreaBottom" fmla="*/ 997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7938" y="2760"/>
                </a:lnTo>
                <a:lnTo>
                  <a:pt x="2760" y="276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7938" y="18840"/>
                </a:lnTo>
                <a:lnTo>
                  <a:pt x="87938" y="276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2760" y="18840"/>
                </a:lnTo>
                <a:lnTo>
                  <a:pt x="87938" y="1884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2760" y="2760"/>
                </a:lnTo>
                <a:lnTo>
                  <a:pt x="2760" y="1884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 Black"/>
              </a:rPr>
              <a:t>Zurück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springt auf der Wi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209680"/>
            <a:ext cx="838224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säuft Was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95480"/>
            <a:ext cx="838224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Hund läuft auf der 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pa kommt früh nach H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209680"/>
            <a:ext cx="838188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pa  geht einkauf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809880"/>
            <a:ext cx="83818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pa kommt spät nach Ha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88620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ildschirm ist kl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209680"/>
            <a:ext cx="8381880" cy="459720"/>
          </a:xfrm>
          <a:prstGeom prst="rect">
            <a:avLst/>
          </a:prstGeom>
          <a:gradFill rotWithShape="0">
            <a:gsLst>
              <a:gs pos="0">
                <a:srgbClr val="2309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ildschirm ist gro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8120"/>
            <a:ext cx="83818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Bildschirm ist a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80880" y="380988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Lehrer schreibt nichts an die Taf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380880" y="3048120"/>
            <a:ext cx="830592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Lehrer schreibt viel an die Tafe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380880" y="220968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r Lehrer schreibt etwas an die Taf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80988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thias kommt spät nach H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304920" y="3048120"/>
            <a:ext cx="83818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thias bekommt ein Geschenk von der 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304920" y="220968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thias kommt von einer Geburtstagsfeier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380988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sitzt auf einem großen Baum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frisst ihr Fu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304920" y="2209680"/>
            <a:ext cx="838188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e Katze sitzt auf einem Bau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380880" y="365760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Tizian ist viel einkauf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380880" y="2819520"/>
            <a:ext cx="830592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Tizian ist nichts einkau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380880" y="1905120"/>
            <a:ext cx="8305920" cy="459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Tizian ist einkaufe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" y="685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6:47Z</dcterms:created>
  <dc:creator>Gast</dc:creator>
  <dc:description/>
  <dc:language>en-US</dc:language>
  <cp:lastModifiedBy>User</cp:lastModifiedBy>
  <dcterms:modified xsi:type="dcterms:W3CDTF">2008-01-19T12:49:27Z</dcterms:modified>
  <cp:revision>38</cp:revision>
  <dc:subject/>
  <dc:title>PowerPoint-Präsentation</dc:title>
</cp:coreProperties>
</file>