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E90-49DC-46AA-9B9F-637BD00E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280-23BC-436A-80B8-C9D01BF2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C77-8F0C-4DF6-A1BA-5C888F40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2E4-DD23-4848-AF9F-3481876A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457-DEF5-461A-BAA9-0E5C4A4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583-5E78-4405-B549-2A279E5D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717-EF7F-472D-9ABF-60DD072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219-FB29-4A3F-AA96-ADC11B7B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34F-0962-4AFF-BB70-3298EA89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9CB-5E28-4C5F-B713-7FDA85F2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793-0220-4955-BE46-123F8A96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80D-0973-4213-8761-C862726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CAEB-0C45-4334-8B25-E6439CE3B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286000"/>
            <a:ext cx="2514600" cy="1191240"/>
          </a:xfrm>
          <a:prstGeom prst="rect">
            <a:avLst/>
          </a:prstGeom>
          <a:solidFill>
            <a:srgbClr val="ff99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Von Len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1143000"/>
            <a:ext cx="6324480" cy="2666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Lesetrai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43" name="AN00790_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237960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380880" y="190512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nna kauft im Kaufland 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380880" y="35053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Valentin geht im Netto einkauf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304920" y="502920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 kauft mit seiner Mutter 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6922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380880" y="182880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Celin hat hellbraune Ha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80880" y="36576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vas Haare sind bl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380880" y="5410080"/>
            <a:ext cx="8229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ndreas Haare sind dunkelbra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8088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380880" y="190512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okio Hotel ist eine B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380880" y="358128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illerpilze sind eine B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304920" y="510552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lbermond ist eine B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57200" y="1905120"/>
            <a:ext cx="83818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Mark Medlock ist Super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457200" y="34290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Martin Stosch Super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457200" y="5029200"/>
            <a:ext cx="8229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x Buskohl ist Super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380880" y="182880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tin fährt mit dem Ro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380880" y="35053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k fährt mit dem Fahrr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380880" y="495288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x fährt mit dem Au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57200" y="485640"/>
            <a:ext cx="6858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380880" y="190512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lex telefoniert mit 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380880" y="358128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ophie telefoniert mit 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304920" y="510552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Dennis telefoniert mit 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7200" y="566640"/>
            <a:ext cx="7621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380880" y="182880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lexandra liest ein B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80880" y="36576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andra liest ein B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304920" y="5410080"/>
            <a:ext cx="8229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ianka liest ein B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80880" y="685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380880" y="190512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nna übernachtet bei Sara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6576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Hanna macht ein Puzz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410080"/>
            <a:ext cx="8229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Bia hat Streit mit Tab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98108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Vanessa hat einen Vog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ati hat eine Kat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18148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nie hat einen H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446040"/>
            <a:ext cx="8384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90512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a schreibt einen Aufsat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657600"/>
            <a:ext cx="83818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Kira schreibt ein Dik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41008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Lesse schreibt einen Aufsat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380880" y="1981080"/>
            <a:ext cx="83059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etra findet eine Kastan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80880" y="36576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etra findet eine Erdnu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80880" y="510552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etra findet ein Radies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80880" y="685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90512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ma kauft eine R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6576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Oma kauft eine R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25780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ante kauft eine R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182880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ngos sind grü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4290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Orangen sind 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10552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rdbeeren sind r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533520"/>
            <a:ext cx="7162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ll, du hast es geschafft!!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6019920" y="5562720"/>
            <a:ext cx="2666880" cy="838080"/>
          </a:xfrm>
          <a:custGeom>
            <a:avLst/>
            <a:gdLst>
              <a:gd name="textAreaLeft" fmla="*/ 54000 w 2666880"/>
              <a:gd name="textAreaRight" fmla="*/ 2612880 w 2666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8714" h="21600">
                <a:moveTo>
                  <a:pt x="0" y="0"/>
                </a:moveTo>
                <a:lnTo>
                  <a:pt x="68714" y="0"/>
                </a:lnTo>
                <a:lnTo>
                  <a:pt x="68714" y="21600"/>
                </a:lnTo>
                <a:lnTo>
                  <a:pt x="0" y="21600"/>
                </a:lnTo>
                <a:close/>
              </a:path>
              <a:path fill="lightenLess" w="68714" h="21600">
                <a:moveTo>
                  <a:pt x="0" y="0"/>
                </a:moveTo>
                <a:lnTo>
                  <a:pt x="68714" y="0"/>
                </a:lnTo>
                <a:lnTo>
                  <a:pt x="67314" y="1400"/>
                </a:lnTo>
                <a:lnTo>
                  <a:pt x="1400" y="1400"/>
                </a:lnTo>
                <a:close/>
              </a:path>
              <a:path fill="darken" w="68714" h="21600">
                <a:moveTo>
                  <a:pt x="68714" y="0"/>
                </a:moveTo>
                <a:lnTo>
                  <a:pt x="68714" y="21600"/>
                </a:lnTo>
                <a:lnTo>
                  <a:pt x="67314" y="20200"/>
                </a:lnTo>
                <a:lnTo>
                  <a:pt x="67314" y="1400"/>
                </a:lnTo>
                <a:close/>
              </a:path>
              <a:path fill="darkenLess" w="68714" h="21600">
                <a:moveTo>
                  <a:pt x="6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314" y="20200"/>
                </a:lnTo>
                <a:close/>
              </a:path>
              <a:path fill="lighten" w="6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SO02054_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2151360" cy="34686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609480" y="5562720"/>
            <a:ext cx="2667240" cy="838080"/>
          </a:xfrm>
          <a:custGeom>
            <a:avLst/>
            <a:gdLst>
              <a:gd name="textAreaLeft" fmla="*/ 54000 w 2667240"/>
              <a:gd name="textAreaRight" fmla="*/ 2613240 w 26672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8723" h="21600">
                <a:moveTo>
                  <a:pt x="0" y="0"/>
                </a:moveTo>
                <a:lnTo>
                  <a:pt x="68723" y="0"/>
                </a:lnTo>
                <a:lnTo>
                  <a:pt x="68723" y="21600"/>
                </a:lnTo>
                <a:lnTo>
                  <a:pt x="0" y="21600"/>
                </a:lnTo>
                <a:close/>
              </a:path>
              <a:path fill="lightenLess" w="68723" h="21600">
                <a:moveTo>
                  <a:pt x="0" y="0"/>
                </a:moveTo>
                <a:lnTo>
                  <a:pt x="68723" y="0"/>
                </a:lnTo>
                <a:lnTo>
                  <a:pt x="67323" y="1400"/>
                </a:lnTo>
                <a:lnTo>
                  <a:pt x="1400" y="1400"/>
                </a:lnTo>
                <a:close/>
              </a:path>
              <a:path fill="darken" w="68723" h="21600">
                <a:moveTo>
                  <a:pt x="68723" y="0"/>
                </a:moveTo>
                <a:lnTo>
                  <a:pt x="68723" y="21600"/>
                </a:lnTo>
                <a:lnTo>
                  <a:pt x="67323" y="20200"/>
                </a:lnTo>
                <a:lnTo>
                  <a:pt x="67323" y="1400"/>
                </a:lnTo>
                <a:close/>
              </a:path>
              <a:path fill="darkenLess" w="68723" h="21600">
                <a:moveTo>
                  <a:pt x="68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323" y="20200"/>
                </a:lnTo>
                <a:close/>
              </a:path>
              <a:path fill="lighten" w="68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3366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Bravo, toll gemacht, weiter so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D05959_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380880" y="586728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BD05961_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708280" cy="3187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Lucida Handwriting"/>
              </a:rPr>
              <a:t>Versuch</a:t>
            </a: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Lucida Handwriting"/>
              </a:rPr>
              <a:t>es noch einmal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80880" y="5867280"/>
            <a:ext cx="3505320" cy="685800"/>
          </a:xfrm>
          <a:custGeom>
            <a:avLst/>
            <a:gdLst>
              <a:gd name="textAreaLeft" fmla="*/ 44280 w 3505320"/>
              <a:gd name="textAreaRight" fmla="*/ 3461040 w 3505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0357" h="21600">
                <a:moveTo>
                  <a:pt x="0" y="0"/>
                </a:moveTo>
                <a:lnTo>
                  <a:pt x="110357" y="0"/>
                </a:lnTo>
                <a:lnTo>
                  <a:pt x="110357" y="21600"/>
                </a:lnTo>
                <a:lnTo>
                  <a:pt x="0" y="21600"/>
                </a:lnTo>
                <a:close/>
              </a:path>
              <a:path fill="lightenLess" w="110357" h="21600">
                <a:moveTo>
                  <a:pt x="0" y="0"/>
                </a:moveTo>
                <a:lnTo>
                  <a:pt x="110357" y="0"/>
                </a:lnTo>
                <a:lnTo>
                  <a:pt x="108957" y="1400"/>
                </a:lnTo>
                <a:lnTo>
                  <a:pt x="1400" y="1400"/>
                </a:lnTo>
                <a:close/>
              </a:path>
              <a:path fill="darken" w="110357" h="21600">
                <a:moveTo>
                  <a:pt x="110357" y="0"/>
                </a:moveTo>
                <a:lnTo>
                  <a:pt x="110357" y="21600"/>
                </a:lnTo>
                <a:lnTo>
                  <a:pt x="108957" y="20200"/>
                </a:lnTo>
                <a:lnTo>
                  <a:pt x="108957" y="1400"/>
                </a:lnTo>
                <a:close/>
              </a:path>
              <a:path fill="darkenLess" w="110357" h="21600">
                <a:moveTo>
                  <a:pt x="11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57" y="20200"/>
                </a:lnTo>
                <a:close/>
              </a:path>
              <a:path fill="lighten" w="11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457200" y="1752480"/>
            <a:ext cx="83818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ferde grasen auf der W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57200" y="35053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Ziegen grasen auf der W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" y="525780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ühe grasen auf der W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0492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380880" y="160020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Ballack schießt kein To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80880" y="3429000"/>
            <a:ext cx="8305920" cy="647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lose schießt zwei Tore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Lucida Handwriting"/>
                <a:hlinkClick r:id="rId3" action="ppaction://hlinksldjump"/>
              </a:rPr>
              <a:t>ie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304920" y="502920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Podolski schießt ein 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088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380880" y="152388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ch esse ein Jogh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380880" y="35053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ch esse einen Apf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304920" y="5410080"/>
            <a:ext cx="8229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Ich esse Trau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088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80880" y="175248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Kevin angelt einen Fis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80880" y="35053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rina angelt einen alten Schu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80880" y="510552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Lucida Handwriting"/>
              </a:rPr>
              <a:t>Tizian angelt eine D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9480" y="509760"/>
            <a:ext cx="8384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380880" y="190512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nnart hat viele Hausaufgaben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380880" y="36576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Jojo hat keine Hausaufgaben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304920" y="541008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uis hat keine Hausaufgaben au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0492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304920" y="1981080"/>
            <a:ext cx="83818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ax hat im Aufsatz eine 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380880" y="36576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elix hat im Diktat eine zwe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304920" y="541008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na schreibt eine eins in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80880" y="1752480"/>
            <a:ext cx="83822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nie ist kl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80880" y="342900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Vanessa ist größer als Leon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304920" y="4952880"/>
            <a:ext cx="8305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Leon ist viel größer wie be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3:22Z</dcterms:created>
  <dc:creator>Gast</dc:creator>
  <dc:description/>
  <dc:language>en-US</dc:language>
  <cp:lastModifiedBy>User</cp:lastModifiedBy>
  <dcterms:modified xsi:type="dcterms:W3CDTF">2008-01-19T18:10:40Z</dcterms:modified>
  <cp:revision>29</cp:revision>
  <dc:subject/>
  <dc:title>PowerPoint-Präsentation</dc:title>
</cp:coreProperties>
</file>