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1F2B-5655-471C-B608-6AF86140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3188-4A56-4A38-A81A-225F68FB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154-2590-424B-B2FA-31483952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E7DA-891A-4A49-99D8-0792C976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293F-ABFA-4FED-92BF-D7263933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8311-8FDC-46B1-89A6-BA00D048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674-0455-401B-A4C6-429341ED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4B3-AD9C-4FEF-99CB-49D5345E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1199-9020-4B25-933D-5AC5B4C3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838B-BC5C-4503-9261-98A8BB47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5CC9-F49F-4D4B-8BB4-CDC71312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83A-B705-4681-A30D-A02A0F2C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BAF6-CB42-4FED-A3A0-C4C610384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533520"/>
            <a:ext cx="7620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Lesetraining</a:t>
            </a:r>
            <a:endParaRPr b="0" i="1" lang="en-US" sz="2400" spc="1" strike="noStrike">
              <a:ln w="9360">
                <a:solidFill>
                  <a:srgbClr val="00cc99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676520"/>
            <a:ext cx="7483680" cy="642600"/>
          </a:xfrm>
          <a:prstGeom prst="rect">
            <a:avLst/>
          </a:prstGeom>
          <a:solidFill>
            <a:srgbClr val="99ffcc"/>
          </a:solidFill>
          <a:ln w="7632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Gill Sans Ultra Bold"/>
              </a:rPr>
              <a:t>Von Sara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N00790_" descr=""/>
          <p:cNvPicPr/>
          <p:nvPr/>
        </p:nvPicPr>
        <p:blipFill>
          <a:blip r:embed="rId1"/>
          <a:stretch/>
        </p:blipFill>
        <p:spPr>
          <a:xfrm>
            <a:off x="6734160" y="4191120"/>
            <a:ext cx="219888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2666880"/>
            <a:ext cx="80928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audia ist dün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4800600"/>
            <a:ext cx="807696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audia ist schl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3809880"/>
            <a:ext cx="8092800" cy="45972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audia ist net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2895480"/>
            <a:ext cx="80931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audia hat eine Kat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876920"/>
            <a:ext cx="80773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audia hat ein Scha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3809880"/>
            <a:ext cx="8093160" cy="45972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audia hat einen H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60948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Du hast es geschafft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SO02016_" descr=""/>
          <p:cNvPicPr/>
          <p:nvPr/>
        </p:nvPicPr>
        <p:blipFill>
          <a:blip r:embed="rId1"/>
          <a:stretch/>
        </p:blipFill>
        <p:spPr>
          <a:xfrm>
            <a:off x="3295800" y="2130480"/>
            <a:ext cx="2552400" cy="259560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endshow"/>
          </p:cNvPr>
          <p:cNvSpPr/>
          <p:nvPr/>
        </p:nvSpPr>
        <p:spPr>
          <a:xfrm>
            <a:off x="2286000" y="5562720"/>
            <a:ext cx="1371600" cy="609480"/>
          </a:xfrm>
          <a:custGeom>
            <a:avLst/>
            <a:gdLst>
              <a:gd name="textAreaLeft" fmla="*/ 39240 w 1371600"/>
              <a:gd name="textAreaRight" fmla="*/ 1332360 w 1371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8594" h="21600">
                <a:moveTo>
                  <a:pt x="0" y="0"/>
                </a:moveTo>
                <a:lnTo>
                  <a:pt x="48594" y="0"/>
                </a:lnTo>
                <a:lnTo>
                  <a:pt x="48594" y="21600"/>
                </a:lnTo>
                <a:lnTo>
                  <a:pt x="0" y="21600"/>
                </a:lnTo>
                <a:close/>
              </a:path>
              <a:path fill="lightenLess" w="48594" h="21600">
                <a:moveTo>
                  <a:pt x="0" y="0"/>
                </a:moveTo>
                <a:lnTo>
                  <a:pt x="48594" y="0"/>
                </a:lnTo>
                <a:lnTo>
                  <a:pt x="47194" y="1400"/>
                </a:lnTo>
                <a:lnTo>
                  <a:pt x="1400" y="1400"/>
                </a:lnTo>
                <a:close/>
              </a:path>
              <a:path fill="darken" w="48594" h="21600">
                <a:moveTo>
                  <a:pt x="48594" y="0"/>
                </a:moveTo>
                <a:lnTo>
                  <a:pt x="48594" y="21600"/>
                </a:lnTo>
                <a:lnTo>
                  <a:pt x="47194" y="20200"/>
                </a:lnTo>
                <a:lnTo>
                  <a:pt x="47194" y="1400"/>
                </a:lnTo>
                <a:close/>
              </a:path>
              <a:path fill="darkenLess" w="48594" h="21600">
                <a:moveTo>
                  <a:pt x="48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94" y="20200"/>
                </a:lnTo>
                <a:close/>
              </a:path>
              <a:path fill="lighten" w="48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5638680" y="5562720"/>
            <a:ext cx="1371600" cy="609480"/>
          </a:xfrm>
          <a:custGeom>
            <a:avLst/>
            <a:gdLst>
              <a:gd name="textAreaLeft" fmla="*/ 39240 w 1371600"/>
              <a:gd name="textAreaRight" fmla="*/ 1332360 w 1371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8594" h="21600">
                <a:moveTo>
                  <a:pt x="0" y="0"/>
                </a:moveTo>
                <a:lnTo>
                  <a:pt x="48594" y="0"/>
                </a:lnTo>
                <a:lnTo>
                  <a:pt x="48594" y="21600"/>
                </a:lnTo>
                <a:lnTo>
                  <a:pt x="0" y="21600"/>
                </a:lnTo>
                <a:close/>
              </a:path>
              <a:path fill="lightenLess" w="48594" h="21600">
                <a:moveTo>
                  <a:pt x="0" y="0"/>
                </a:moveTo>
                <a:lnTo>
                  <a:pt x="48594" y="0"/>
                </a:lnTo>
                <a:lnTo>
                  <a:pt x="47194" y="1400"/>
                </a:lnTo>
                <a:lnTo>
                  <a:pt x="1400" y="1400"/>
                </a:lnTo>
                <a:close/>
              </a:path>
              <a:path fill="darken" w="48594" h="21600">
                <a:moveTo>
                  <a:pt x="48594" y="0"/>
                </a:moveTo>
                <a:lnTo>
                  <a:pt x="48594" y="21600"/>
                </a:lnTo>
                <a:lnTo>
                  <a:pt x="47194" y="20200"/>
                </a:lnTo>
                <a:lnTo>
                  <a:pt x="47194" y="1400"/>
                </a:lnTo>
                <a:close/>
              </a:path>
              <a:path fill="darkenLess" w="48594" h="21600">
                <a:moveTo>
                  <a:pt x="48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94" y="20200"/>
                </a:lnTo>
                <a:close/>
              </a:path>
              <a:path fill="lighten" w="48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75000" y="609480"/>
            <a:ext cx="587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Richtig, weiter s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E02742_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3683160" cy="320040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2666880" y="5638680"/>
            <a:ext cx="3886200" cy="914400"/>
          </a:xfrm>
          <a:custGeom>
            <a:avLst/>
            <a:gdLst>
              <a:gd name="textAreaLeft" fmla="*/ 59040 w 3886200"/>
              <a:gd name="textAreaRight" fmla="*/ 3827160 w 3886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91772" h="21600">
                <a:moveTo>
                  <a:pt x="0" y="0"/>
                </a:moveTo>
                <a:lnTo>
                  <a:pt x="91772" y="0"/>
                </a:lnTo>
                <a:lnTo>
                  <a:pt x="91772" y="21600"/>
                </a:lnTo>
                <a:lnTo>
                  <a:pt x="0" y="21600"/>
                </a:lnTo>
                <a:close/>
              </a:path>
              <a:path fill="lightenLess" w="91772" h="21600">
                <a:moveTo>
                  <a:pt x="0" y="0"/>
                </a:moveTo>
                <a:lnTo>
                  <a:pt x="91772" y="0"/>
                </a:lnTo>
                <a:lnTo>
                  <a:pt x="90372" y="1400"/>
                </a:lnTo>
                <a:lnTo>
                  <a:pt x="1400" y="1400"/>
                </a:lnTo>
                <a:close/>
              </a:path>
              <a:path fill="darken" w="91772" h="21600">
                <a:moveTo>
                  <a:pt x="91772" y="0"/>
                </a:moveTo>
                <a:lnTo>
                  <a:pt x="91772" y="21600"/>
                </a:lnTo>
                <a:lnTo>
                  <a:pt x="90372" y="20200"/>
                </a:lnTo>
                <a:lnTo>
                  <a:pt x="90372" y="1400"/>
                </a:lnTo>
                <a:close/>
              </a:path>
              <a:path fill="darkenLess" w="91772" h="21600">
                <a:moveTo>
                  <a:pt x="91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72" y="20200"/>
                </a:lnTo>
                <a:close/>
              </a:path>
              <a:path fill="lighten" w="91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Z u r ü c k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41280" y="533520"/>
            <a:ext cx="631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Arial Black"/>
              </a:rPr>
              <a:t>Leider falsch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Arial Black"/>
              </a:rPr>
              <a:t>versuch‘s nochmal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j0079100" descr=""/>
          <p:cNvPicPr/>
          <p:nvPr/>
        </p:nvPicPr>
        <p:blipFill>
          <a:blip r:embed="rId1"/>
          <a:stretch/>
        </p:blipFill>
        <p:spPr>
          <a:xfrm>
            <a:off x="3220920" y="2584440"/>
            <a:ext cx="2301840" cy="259704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2666880" y="5638680"/>
            <a:ext cx="3886200" cy="914400"/>
          </a:xfrm>
          <a:custGeom>
            <a:avLst/>
            <a:gdLst>
              <a:gd name="textAreaLeft" fmla="*/ 59040 w 3886200"/>
              <a:gd name="textAreaRight" fmla="*/ 3827160 w 3886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91772" h="21600">
                <a:moveTo>
                  <a:pt x="0" y="0"/>
                </a:moveTo>
                <a:lnTo>
                  <a:pt x="91772" y="0"/>
                </a:lnTo>
                <a:lnTo>
                  <a:pt x="91772" y="21600"/>
                </a:lnTo>
                <a:lnTo>
                  <a:pt x="0" y="21600"/>
                </a:lnTo>
                <a:close/>
              </a:path>
              <a:path fill="lightenLess" w="91772" h="21600">
                <a:moveTo>
                  <a:pt x="0" y="0"/>
                </a:moveTo>
                <a:lnTo>
                  <a:pt x="91772" y="0"/>
                </a:lnTo>
                <a:lnTo>
                  <a:pt x="90372" y="1400"/>
                </a:lnTo>
                <a:lnTo>
                  <a:pt x="1400" y="1400"/>
                </a:lnTo>
                <a:close/>
              </a:path>
              <a:path fill="darken" w="91772" h="21600">
                <a:moveTo>
                  <a:pt x="91772" y="0"/>
                </a:moveTo>
                <a:lnTo>
                  <a:pt x="91772" y="21600"/>
                </a:lnTo>
                <a:lnTo>
                  <a:pt x="90372" y="20200"/>
                </a:lnTo>
                <a:lnTo>
                  <a:pt x="90372" y="1400"/>
                </a:lnTo>
                <a:close/>
              </a:path>
              <a:path fill="darkenLess" w="91772" h="21600">
                <a:moveTo>
                  <a:pt x="91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72" y="20200"/>
                </a:lnTo>
                <a:close/>
              </a:path>
              <a:path fill="lighten" w="91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Z u r ü c k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549360" y="1866960"/>
            <a:ext cx="80931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Pferd läuft auf der Wi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549360" y="3619440"/>
            <a:ext cx="8093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Pferd läuft auf der We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533520" y="5334120"/>
            <a:ext cx="8092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Pferd läuft auf der Straß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09480" y="6858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457200" y="2133720"/>
            <a:ext cx="80931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phia hat rote Ha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457200" y="5105520"/>
            <a:ext cx="80773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phia hat blonde Ha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457200" y="3657600"/>
            <a:ext cx="8093160" cy="45972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phia hat braune Ha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09480" y="8380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533520" y="2514600"/>
            <a:ext cx="80928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Wetter ist schö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533520" y="5029200"/>
            <a:ext cx="807696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Wetter ist su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533520" y="3809880"/>
            <a:ext cx="8092800" cy="45972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Wetter ist do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80880" y="838080"/>
            <a:ext cx="8384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533520" y="2590920"/>
            <a:ext cx="80928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Diktat war einf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533520" y="5029200"/>
            <a:ext cx="807696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Diktat war leic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533520" y="3809880"/>
            <a:ext cx="8092800" cy="45972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Diktat war sch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57200" y="8380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457200" y="2514600"/>
            <a:ext cx="80931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eute haben wir Englis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457200" y="5105520"/>
            <a:ext cx="80773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eute haben wir Mus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457200" y="3809880"/>
            <a:ext cx="8093160" cy="45972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eute haben wir S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09480" y="9907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533520" y="2590920"/>
            <a:ext cx="80928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Heft kostet 1 E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533520" y="5105520"/>
            <a:ext cx="807696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Heft kostet 70 C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533520" y="3809880"/>
            <a:ext cx="8092800" cy="45972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Heft kostet 50 C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57200" y="914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533520" y="2514600"/>
            <a:ext cx="80928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ie Uhr kostet 30 E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5029200"/>
            <a:ext cx="8001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ie Uhr kostet 90 E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3809880"/>
            <a:ext cx="8092800" cy="45972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ie Uhr kostet 60 E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9480" y="91440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2743200"/>
            <a:ext cx="80928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Eis kostet 1,00 E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5257800"/>
            <a:ext cx="807696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Eis kostet 3,00 E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3962520"/>
            <a:ext cx="8092800" cy="45972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Eis Kostet 2,00 E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50:22Z</dcterms:created>
  <dc:creator>Gast</dc:creator>
  <dc:description/>
  <dc:language>en-US</dc:language>
  <cp:lastModifiedBy>User</cp:lastModifiedBy>
  <dcterms:modified xsi:type="dcterms:W3CDTF">2008-01-19T19:57:50Z</dcterms:modified>
  <cp:revision>18</cp:revision>
  <dc:subject/>
  <dc:title>PowerPoint-Präsentation</dc:title>
</cp:coreProperties>
</file>