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388-D42E-4E18-8AEB-183E7D34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BB5-9E50-4935-A5E8-765D2B37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358-6671-42C7-8153-2664B40C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8CE-945B-4187-81C5-34466FFA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0BF-7379-4337-91E2-E5FB9BFF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03A-9751-488F-9A4D-5E196451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84D-C22B-4AAB-881C-F52AF9EF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B62-2B28-49C6-9B1A-F1A5A4CE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DF3-0B30-4067-BC37-0E60F627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807-7AC3-4135-9ED9-537EF8F6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42B-13DD-4313-9B33-004E1683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484-3A10-496F-909E-4F1B2D48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D964-E3E6-4DCF-8CFE-CE2E49D6B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380880"/>
            <a:ext cx="5181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setrain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14920" y="156528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J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N00790_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3294000" cy="3435480"/>
          </a:xfrm>
          <a:prstGeom prst="rect">
            <a:avLst/>
          </a:prstGeom>
          <a:ln w="0">
            <a:noFill/>
          </a:ln>
        </p:spPr>
      </p:pic>
      <p:pic>
        <p:nvPicPr>
          <p:cNvPr id="44" name="BD05969_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679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2438280"/>
            <a:ext cx="8001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Bagger ist kaput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8001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Bagger ist a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429000"/>
            <a:ext cx="80010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Bagger ist n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71600" y="990720"/>
            <a:ext cx="636264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u hast alles geschafft !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AN02034_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530440" cy="346896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5715000" y="5029200"/>
            <a:ext cx="2895480" cy="990720"/>
          </a:xfrm>
          <a:custGeom>
            <a:avLst/>
            <a:gdLst>
              <a:gd name="textAreaLeft" fmla="*/ 64080 w 2895480"/>
              <a:gd name="textAreaRight" fmla="*/ 2831400 w 2895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3113" h="21600">
                <a:moveTo>
                  <a:pt x="0" y="0"/>
                </a:moveTo>
                <a:lnTo>
                  <a:pt x="63113" y="0"/>
                </a:lnTo>
                <a:lnTo>
                  <a:pt x="63113" y="21600"/>
                </a:lnTo>
                <a:lnTo>
                  <a:pt x="0" y="21600"/>
                </a:lnTo>
                <a:close/>
              </a:path>
              <a:path fill="lightenLess" w="63113" h="21600">
                <a:moveTo>
                  <a:pt x="0" y="0"/>
                </a:moveTo>
                <a:lnTo>
                  <a:pt x="63113" y="0"/>
                </a:lnTo>
                <a:lnTo>
                  <a:pt x="61713" y="1400"/>
                </a:lnTo>
                <a:lnTo>
                  <a:pt x="1400" y="1400"/>
                </a:lnTo>
                <a:close/>
              </a:path>
              <a:path fill="darken" w="63113" h="21600">
                <a:moveTo>
                  <a:pt x="63113" y="0"/>
                </a:moveTo>
                <a:lnTo>
                  <a:pt x="63113" y="21600"/>
                </a:lnTo>
                <a:lnTo>
                  <a:pt x="61713" y="20200"/>
                </a:lnTo>
                <a:lnTo>
                  <a:pt x="61713" y="1400"/>
                </a:lnTo>
                <a:close/>
              </a:path>
              <a:path fill="darkenLess" w="63113" h="21600">
                <a:moveTo>
                  <a:pt x="63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713" y="20200"/>
                </a:lnTo>
                <a:close/>
              </a:path>
              <a:path fill="lighten" w="63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Zum Anfang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endshow"/>
          </p:cNvPr>
          <p:cNvSpPr/>
          <p:nvPr/>
        </p:nvSpPr>
        <p:spPr>
          <a:xfrm>
            <a:off x="685800" y="5029200"/>
            <a:ext cx="2819520" cy="990720"/>
          </a:xfrm>
          <a:custGeom>
            <a:avLst/>
            <a:gdLst>
              <a:gd name="textAreaLeft" fmla="*/ 64080 w 2819520"/>
              <a:gd name="textAreaRight" fmla="*/ 2755440 w 2819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1458" h="21600">
                <a:moveTo>
                  <a:pt x="0" y="0"/>
                </a:moveTo>
                <a:lnTo>
                  <a:pt x="61458" y="0"/>
                </a:lnTo>
                <a:lnTo>
                  <a:pt x="61458" y="21600"/>
                </a:lnTo>
                <a:lnTo>
                  <a:pt x="0" y="21600"/>
                </a:lnTo>
                <a:close/>
              </a:path>
              <a:path fill="lightenLess" w="61458" h="21600">
                <a:moveTo>
                  <a:pt x="0" y="0"/>
                </a:moveTo>
                <a:lnTo>
                  <a:pt x="61458" y="0"/>
                </a:lnTo>
                <a:lnTo>
                  <a:pt x="60058" y="1400"/>
                </a:lnTo>
                <a:lnTo>
                  <a:pt x="1400" y="1400"/>
                </a:lnTo>
                <a:close/>
              </a:path>
              <a:path fill="darken" w="61458" h="21600">
                <a:moveTo>
                  <a:pt x="61458" y="0"/>
                </a:moveTo>
                <a:lnTo>
                  <a:pt x="61458" y="21600"/>
                </a:lnTo>
                <a:lnTo>
                  <a:pt x="60058" y="20200"/>
                </a:lnTo>
                <a:lnTo>
                  <a:pt x="60058" y="1400"/>
                </a:lnTo>
                <a:close/>
              </a:path>
              <a:path fill="darkenLess" w="61458" h="21600">
                <a:moveTo>
                  <a:pt x="61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58" y="20200"/>
                </a:lnTo>
                <a:close/>
              </a:path>
              <a:path fill="lighten" w="61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6094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Richtig, weiter s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E02742_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683160" cy="34354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5562720" y="5562720"/>
            <a:ext cx="3276360" cy="914400"/>
          </a:xfrm>
          <a:custGeom>
            <a:avLst/>
            <a:gdLst>
              <a:gd name="textAreaLeft" fmla="*/ 59040 w 3276360"/>
              <a:gd name="textAreaRight" fmla="*/ 3217320 w 3276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7372" h="21600">
                <a:moveTo>
                  <a:pt x="0" y="0"/>
                </a:moveTo>
                <a:lnTo>
                  <a:pt x="77372" y="0"/>
                </a:lnTo>
                <a:lnTo>
                  <a:pt x="77372" y="21600"/>
                </a:lnTo>
                <a:lnTo>
                  <a:pt x="0" y="21600"/>
                </a:lnTo>
                <a:close/>
              </a:path>
              <a:path fill="lightenLess" w="77372" h="21600">
                <a:moveTo>
                  <a:pt x="0" y="0"/>
                </a:moveTo>
                <a:lnTo>
                  <a:pt x="77372" y="0"/>
                </a:lnTo>
                <a:lnTo>
                  <a:pt x="75972" y="1400"/>
                </a:lnTo>
                <a:lnTo>
                  <a:pt x="1400" y="1400"/>
                </a:lnTo>
                <a:close/>
              </a:path>
              <a:path fill="darken" w="77372" h="21600">
                <a:moveTo>
                  <a:pt x="77372" y="0"/>
                </a:moveTo>
                <a:lnTo>
                  <a:pt x="77372" y="21600"/>
                </a:lnTo>
                <a:lnTo>
                  <a:pt x="75972" y="20200"/>
                </a:lnTo>
                <a:lnTo>
                  <a:pt x="75972" y="1400"/>
                </a:lnTo>
                <a:close/>
              </a:path>
              <a:path fill="darkenLess" w="77372" h="21600">
                <a:moveTo>
                  <a:pt x="77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972" y="20200"/>
                </a:lnTo>
                <a:close/>
              </a:path>
              <a:path fill="lighten" w="77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3040" y="380880"/>
            <a:ext cx="604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eider falsch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j0079100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17340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2971800" y="5638680"/>
            <a:ext cx="3276720" cy="914400"/>
          </a:xfrm>
          <a:custGeom>
            <a:avLst/>
            <a:gdLst>
              <a:gd name="textAreaLeft" fmla="*/ 59040 w 3276720"/>
              <a:gd name="textAreaRight" fmla="*/ 3217680 w 3276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7381" h="21600">
                <a:moveTo>
                  <a:pt x="0" y="0"/>
                </a:moveTo>
                <a:lnTo>
                  <a:pt x="77381" y="0"/>
                </a:lnTo>
                <a:lnTo>
                  <a:pt x="77381" y="21600"/>
                </a:lnTo>
                <a:lnTo>
                  <a:pt x="0" y="21600"/>
                </a:lnTo>
                <a:close/>
              </a:path>
              <a:path fill="lightenLess" w="77381" h="21600">
                <a:moveTo>
                  <a:pt x="0" y="0"/>
                </a:moveTo>
                <a:lnTo>
                  <a:pt x="77381" y="0"/>
                </a:lnTo>
                <a:lnTo>
                  <a:pt x="75981" y="1400"/>
                </a:lnTo>
                <a:lnTo>
                  <a:pt x="1400" y="1400"/>
                </a:lnTo>
                <a:close/>
              </a:path>
              <a:path fill="darken" w="77381" h="21600">
                <a:moveTo>
                  <a:pt x="77381" y="0"/>
                </a:moveTo>
                <a:lnTo>
                  <a:pt x="77381" y="21600"/>
                </a:lnTo>
                <a:lnTo>
                  <a:pt x="75981" y="20200"/>
                </a:lnTo>
                <a:lnTo>
                  <a:pt x="75981" y="1400"/>
                </a:lnTo>
                <a:close/>
              </a:path>
              <a:path fill="darkenLess" w="77381" h="21600">
                <a:moveTo>
                  <a:pt x="77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981" y="20200"/>
                </a:lnTo>
                <a:close/>
              </a:path>
              <a:path fill="lighten" w="77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762120" y="2133720"/>
            <a:ext cx="7619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ian läuft in die Sch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762120" y="4191120"/>
            <a:ext cx="7619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ian läuft ins Fußballtr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762120" y="3200400"/>
            <a:ext cx="761976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ian läuft nach Ha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62120" y="6094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685800" y="1905120"/>
            <a:ext cx="771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 fährt auf seinem Mop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685800" y="3886200"/>
            <a:ext cx="7696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 fährt auf seinem neuen Fahrr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685800" y="2895480"/>
            <a:ext cx="769608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 fährt auf seinem Motorr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685800" y="2362320"/>
            <a:ext cx="7848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izian hat dreihundert E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685800" y="4952880"/>
            <a:ext cx="7848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hat eintausend E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685800" y="3733920"/>
            <a:ext cx="784872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vin hat fünfhundert E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" y="8380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Pferd läuft auf der Wie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533520" y="4267080"/>
            <a:ext cx="7848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Pferd läuft auf der Straß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533520" y="3276720"/>
            <a:ext cx="784836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Pferd läuft auf der We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33520" y="7621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533520" y="2286000"/>
            <a:ext cx="7924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er geht in die Arbe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533520" y="4800600"/>
            <a:ext cx="7924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er fährt in die Arbe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533520" y="3581280"/>
            <a:ext cx="792468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er läuft in die Arbe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62120" y="1066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762120" y="2362320"/>
            <a:ext cx="7848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ias malt sehr schöne Bild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 malt sehr schöne Bild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762120" y="3505320"/>
            <a:ext cx="784836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 malt sehr schöne Bil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2209680"/>
            <a:ext cx="7848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us ist zehn Jahre a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114800"/>
            <a:ext cx="7848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 ist ein Jahr a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200400"/>
            <a:ext cx="784872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nart ist dreizehn Jahre a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120" y="2286000"/>
            <a:ext cx="7848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Wetter ist schö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267080"/>
            <a:ext cx="78483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Wetter ist regner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3276720"/>
            <a:ext cx="784836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Wetter ist sonn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5Z</dcterms:created>
  <dc:creator>Gast</dc:creator>
  <dc:description/>
  <dc:language>en-US</dc:language>
  <cp:lastModifiedBy>User</cp:lastModifiedBy>
  <dcterms:modified xsi:type="dcterms:W3CDTF">2008-01-19T16:12:53Z</dcterms:modified>
  <cp:revision>29</cp:revision>
  <dc:subject/>
  <dc:title>PowerPoint-Präsentation</dc:title>
</cp:coreProperties>
</file>