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5D1A-44DF-4015-85DE-0461FF0BE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B396-659B-42FD-94DC-7FA047608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E829-8EFE-48FB-9567-6F42FBF15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A1DA-0F29-425C-B972-9A527AC32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08AF-1C86-4CD3-A2CF-A63DA1F64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8255-AAE0-46A5-A5F1-393BCE734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3967-BE40-497E-ABD2-39A34F8A1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8BC7-7400-4FC7-BE96-F16B61B8C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CC11-F450-4CA5-9C6E-CB5FF0BF9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0088-B90E-4A44-807D-ECB036832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40DA-BB1A-469C-A8AB-B9EEAEA80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6B1F-40C3-4775-AB95-3ED3A94C5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9DE1B-D3EA-4492-941A-B1A54F8124E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1.xml"/><Relationship Id="rId3" Type="http://schemas.openxmlformats.org/officeDocument/2006/relationships/slide" Target="slide21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1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1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1.xml"/><Relationship Id="rId3" Type="http://schemas.openxmlformats.org/officeDocument/2006/relationships/slide" Target="slide20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1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1.xml"/><Relationship Id="rId3" Type="http://schemas.openxmlformats.org/officeDocument/2006/relationships/slide" Target="slide20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1.xml"/><Relationship Id="rId3" Type="http://schemas.openxmlformats.org/officeDocument/2006/relationships/slide" Target="slide21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1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1.xml"/><Relationship Id="rId3" Type="http://schemas.openxmlformats.org/officeDocument/2006/relationships/slide" Target="slide20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1.xml"/><Relationship Id="rId3" Type="http://schemas.openxmlformats.org/officeDocument/2006/relationships/slide" Target="slide20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1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1.xml"/><Relationship Id="rId3" Type="http://schemas.openxmlformats.org/officeDocument/2006/relationships/slide" Target="slide20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80880" y="304920"/>
            <a:ext cx="8153640" cy="23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35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cc33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Lesetraining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cc33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2971800"/>
            <a:ext cx="8397720" cy="2562480"/>
          </a:xfrm>
          <a:prstGeom prst="rect">
            <a:avLst/>
          </a:prstGeom>
          <a:solidFill>
            <a:srgbClr val="ff9933"/>
          </a:solidFill>
          <a:ln w="76320">
            <a:solidFill>
              <a:srgbClr val="3333cc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600" spc="-1" strike="noStrike">
                <a:solidFill>
                  <a:srgbClr val="3333cc"/>
                </a:solidFill>
                <a:latin typeface="comic"/>
              </a:rPr>
              <a:t>Von Claudia</a:t>
            </a:r>
            <a:r>
              <a:rPr b="0" lang="de-DE" sz="24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0" y="4537080"/>
          <a:ext cx="2819520" cy="232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537080"/>
                    <a:ext cx="2819520" cy="23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>
            <a:hlinkClick r:id="" action="ppaction://hlinkshowjump?jump=endshow"/>
          </p:cNvPr>
          <p:cNvSpPr/>
          <p:nvPr/>
        </p:nvSpPr>
        <p:spPr>
          <a:xfrm>
            <a:off x="6705720" y="6095880"/>
            <a:ext cx="1981080" cy="609840"/>
          </a:xfrm>
          <a:custGeom>
            <a:avLst/>
            <a:gdLst>
              <a:gd name="textAreaLeft" fmla="*/ 39240 w 1981080"/>
              <a:gd name="textAreaRight" fmla="*/ 1941840 w 19810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70139" h="21600">
                <a:moveTo>
                  <a:pt x="0" y="0"/>
                </a:moveTo>
                <a:lnTo>
                  <a:pt x="70139" y="0"/>
                </a:lnTo>
                <a:lnTo>
                  <a:pt x="70139" y="21600"/>
                </a:lnTo>
                <a:lnTo>
                  <a:pt x="0" y="21600"/>
                </a:lnTo>
                <a:close/>
              </a:path>
              <a:path fill="lightenLess" w="70139" h="21600">
                <a:moveTo>
                  <a:pt x="0" y="0"/>
                </a:moveTo>
                <a:lnTo>
                  <a:pt x="70139" y="0"/>
                </a:lnTo>
                <a:lnTo>
                  <a:pt x="68740" y="1400"/>
                </a:lnTo>
                <a:lnTo>
                  <a:pt x="1400" y="1400"/>
                </a:lnTo>
                <a:close/>
              </a:path>
              <a:path fill="darken" w="70139" h="21600">
                <a:moveTo>
                  <a:pt x="70139" y="0"/>
                </a:moveTo>
                <a:lnTo>
                  <a:pt x="70139" y="21600"/>
                </a:lnTo>
                <a:lnTo>
                  <a:pt x="68740" y="20200"/>
                </a:lnTo>
                <a:lnTo>
                  <a:pt x="68740" y="1400"/>
                </a:lnTo>
                <a:close/>
              </a:path>
              <a:path fill="darkenLess" w="70139" h="21600">
                <a:moveTo>
                  <a:pt x="701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40" y="20200"/>
                </a:lnTo>
                <a:close/>
              </a:path>
              <a:path fill="lighten" w="701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c33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Village Square"/>
              </a:rPr>
              <a:t>E n d 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" action="ppaction://hlinkshowjump?jump=nextslide"/>
          </p:cNvPr>
          <p:cNvSpPr/>
          <p:nvPr/>
        </p:nvSpPr>
        <p:spPr>
          <a:xfrm>
            <a:off x="4495680" y="6095880"/>
            <a:ext cx="1981440" cy="609840"/>
          </a:xfrm>
          <a:custGeom>
            <a:avLst/>
            <a:gdLst>
              <a:gd name="textAreaLeft" fmla="*/ 39240 w 1981440"/>
              <a:gd name="textAreaRight" fmla="*/ 1942200 w 198144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70152" h="21600">
                <a:moveTo>
                  <a:pt x="0" y="0"/>
                </a:moveTo>
                <a:lnTo>
                  <a:pt x="70152" y="0"/>
                </a:lnTo>
                <a:lnTo>
                  <a:pt x="70152" y="21600"/>
                </a:lnTo>
                <a:lnTo>
                  <a:pt x="0" y="21600"/>
                </a:lnTo>
                <a:close/>
              </a:path>
              <a:path fill="lightenLess" w="70152" h="21600">
                <a:moveTo>
                  <a:pt x="0" y="0"/>
                </a:moveTo>
                <a:lnTo>
                  <a:pt x="70152" y="0"/>
                </a:lnTo>
                <a:lnTo>
                  <a:pt x="68752" y="1400"/>
                </a:lnTo>
                <a:lnTo>
                  <a:pt x="1400" y="1400"/>
                </a:lnTo>
                <a:close/>
              </a:path>
              <a:path fill="darken" w="70152" h="21600">
                <a:moveTo>
                  <a:pt x="70152" y="0"/>
                </a:moveTo>
                <a:lnTo>
                  <a:pt x="70152" y="21600"/>
                </a:lnTo>
                <a:lnTo>
                  <a:pt x="68752" y="20200"/>
                </a:lnTo>
                <a:lnTo>
                  <a:pt x="68752" y="1400"/>
                </a:lnTo>
                <a:close/>
              </a:path>
              <a:path fill="darkenLess" w="70152" h="21600">
                <a:moveTo>
                  <a:pt x="701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52" y="20200"/>
                </a:lnTo>
                <a:close/>
              </a:path>
              <a:path fill="lighten" w="701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illage Square"/>
              </a:rPr>
              <a:t>Anfa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>
            <a:hlinkClick r:id="rId1" action="ppaction://hlinksldjump"/>
          </p:cNvPr>
          <p:cNvSpPr/>
          <p:nvPr/>
        </p:nvSpPr>
        <p:spPr>
          <a:xfrm>
            <a:off x="380880" y="1752480"/>
            <a:ext cx="839808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lloon"/>
              </a:rPr>
              <a:t>Der Computer ist farbi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rId2" action="ppaction://hlinksldjump"/>
          </p:cNvPr>
          <p:cNvSpPr/>
          <p:nvPr/>
        </p:nvSpPr>
        <p:spPr>
          <a:xfrm>
            <a:off x="380880" y="3809880"/>
            <a:ext cx="8382240" cy="581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lloon"/>
              </a:rPr>
              <a:t>Der Computer ist gebrauc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rId3" action="ppaction://hlinksldjump"/>
          </p:cNvPr>
          <p:cNvSpPr/>
          <p:nvPr/>
        </p:nvSpPr>
        <p:spPr>
          <a:xfrm>
            <a:off x="380880" y="5715000"/>
            <a:ext cx="839808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lloon"/>
              </a:rPr>
              <a:t>Der der Computer ist defek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380880" y="3049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>
            <a:hlinkClick r:id="rId1" action="ppaction://hlinksldjump"/>
          </p:cNvPr>
          <p:cNvSpPr/>
          <p:nvPr/>
        </p:nvSpPr>
        <p:spPr>
          <a:xfrm>
            <a:off x="380880" y="1752480"/>
            <a:ext cx="839808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lloon"/>
              </a:rPr>
              <a:t>Der Zoo ist schö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rId2" action="ppaction://hlinksldjump"/>
          </p:cNvPr>
          <p:cNvSpPr/>
          <p:nvPr/>
        </p:nvSpPr>
        <p:spPr>
          <a:xfrm>
            <a:off x="380880" y="3809880"/>
            <a:ext cx="8382240" cy="581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lloon"/>
              </a:rPr>
              <a:t>Der Zoo hat viele Tie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rId3" action="ppaction://hlinksldjump"/>
          </p:cNvPr>
          <p:cNvSpPr/>
          <p:nvPr/>
        </p:nvSpPr>
        <p:spPr>
          <a:xfrm>
            <a:off x="380880" y="5715000"/>
            <a:ext cx="83822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lloon"/>
              </a:rPr>
              <a:t>Der Zoo ist al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380880" y="3049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>
            <a:hlinkClick r:id="rId1" action="ppaction://hlinksldjump"/>
          </p:cNvPr>
          <p:cNvSpPr/>
          <p:nvPr/>
        </p:nvSpPr>
        <p:spPr>
          <a:xfrm>
            <a:off x="380880" y="1752480"/>
            <a:ext cx="839808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lloon"/>
              </a:rPr>
              <a:t>Das Eis kostet 75 C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rId2" action="ppaction://hlinksldjump"/>
          </p:cNvPr>
          <p:cNvSpPr/>
          <p:nvPr/>
        </p:nvSpPr>
        <p:spPr>
          <a:xfrm>
            <a:off x="380880" y="3809880"/>
            <a:ext cx="8382240" cy="581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lloon"/>
              </a:rPr>
              <a:t>Das Eis kostet 1,00 Eur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rId3" action="ppaction://hlinksldjump"/>
          </p:cNvPr>
          <p:cNvSpPr/>
          <p:nvPr/>
        </p:nvSpPr>
        <p:spPr>
          <a:xfrm>
            <a:off x="380880" y="5715000"/>
            <a:ext cx="83217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lloon"/>
              </a:rPr>
              <a:t>Das Eis kostet 1,50 Eur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380880" y="3049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>
            <a:hlinkClick r:id="rId1" action="ppaction://hlinksldjump"/>
          </p:cNvPr>
          <p:cNvSpPr/>
          <p:nvPr/>
        </p:nvSpPr>
        <p:spPr>
          <a:xfrm>
            <a:off x="380880" y="1752480"/>
            <a:ext cx="839808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lloon"/>
              </a:rPr>
              <a:t>Die Maus ist grau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rId2" action="ppaction://hlinksldjump"/>
          </p:cNvPr>
          <p:cNvSpPr/>
          <p:nvPr/>
        </p:nvSpPr>
        <p:spPr>
          <a:xfrm>
            <a:off x="380880" y="3809880"/>
            <a:ext cx="8382240" cy="581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lloon"/>
              </a:rPr>
              <a:t>Die Maus ist braun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rId3" action="ppaction://hlinksldjump"/>
          </p:cNvPr>
          <p:cNvSpPr/>
          <p:nvPr/>
        </p:nvSpPr>
        <p:spPr>
          <a:xfrm>
            <a:off x="380880" y="5715000"/>
            <a:ext cx="83822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lloon"/>
              </a:rPr>
              <a:t>Die Maus ist schwarz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0880" y="3049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>
            <a:hlinkClick r:id="rId1" action="ppaction://hlinksldjump"/>
          </p:cNvPr>
          <p:cNvSpPr/>
          <p:nvPr/>
        </p:nvSpPr>
        <p:spPr>
          <a:xfrm>
            <a:off x="380880" y="1752480"/>
            <a:ext cx="839808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lloon"/>
              </a:rPr>
              <a:t>Sophie hat einen Fis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0880" y="3809880"/>
            <a:ext cx="8382240" cy="581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lloon"/>
              </a:rPr>
              <a:t>Sophie hat eine Katz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5715000"/>
            <a:ext cx="83822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lloon"/>
              </a:rPr>
              <a:t>Sophie hat einen Kanarienvogel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80880" y="1752480"/>
            <a:ext cx="839808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lloon"/>
              </a:rPr>
              <a:t>Die Blätter sind grü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3809880"/>
            <a:ext cx="8382240" cy="581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lloon"/>
              </a:rPr>
              <a:t>Die Blätter sind gel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5715000"/>
            <a:ext cx="83822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lloon"/>
              </a:rPr>
              <a:t>Die Blätter sind rot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80880" y="1752480"/>
            <a:ext cx="839808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lloon"/>
              </a:rPr>
              <a:t>Die Enten schwimm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3809880"/>
            <a:ext cx="8382240" cy="581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lloon"/>
              </a:rPr>
              <a:t>Die Enten schnatter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5715000"/>
            <a:ext cx="83822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lloon"/>
              </a:rPr>
              <a:t>Die Enten lauf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80880" y="1752480"/>
            <a:ext cx="839808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lloon"/>
              </a:rPr>
              <a:t>Der Löwe brüll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3809880"/>
            <a:ext cx="8382240" cy="581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lloon"/>
              </a:rPr>
              <a:t>Der Löwe ren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5715000"/>
            <a:ext cx="83822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lloon"/>
              </a:rPr>
              <a:t>Der Löwe fris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80880" y="1752480"/>
            <a:ext cx="839808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lloon"/>
              </a:rPr>
              <a:t>Die Uhr tickt lei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3809880"/>
            <a:ext cx="8382240" cy="581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lloon"/>
              </a:rPr>
              <a:t>Die Uhr tickt la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5715000"/>
            <a:ext cx="83822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lloon"/>
              </a:rPr>
              <a:t>Die Uhr ist grü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914400" y="304920"/>
            <a:ext cx="70866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505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uper du bist fertig!!!!!!!!!!!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ff505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7" name="AN00028A" descr=""/>
          <p:cNvPicPr/>
          <p:nvPr/>
        </p:nvPicPr>
        <p:blipFill>
          <a:blip r:embed="rId1"/>
          <a:stretch/>
        </p:blipFill>
        <p:spPr>
          <a:xfrm>
            <a:off x="762120" y="2133720"/>
            <a:ext cx="2819160" cy="1604880"/>
          </a:xfrm>
          <a:prstGeom prst="rect">
            <a:avLst/>
          </a:prstGeom>
          <a:ln w="0">
            <a:noFill/>
          </a:ln>
        </p:spPr>
      </p:pic>
      <p:pic>
        <p:nvPicPr>
          <p:cNvPr id="118" name="AN00026A" descr=""/>
          <p:cNvPicPr/>
          <p:nvPr/>
        </p:nvPicPr>
        <p:blipFill>
          <a:blip r:embed="rId2"/>
          <a:stretch/>
        </p:blipFill>
        <p:spPr>
          <a:xfrm>
            <a:off x="914400" y="4648320"/>
            <a:ext cx="2514600" cy="1431720"/>
          </a:xfrm>
          <a:prstGeom prst="rect">
            <a:avLst/>
          </a:prstGeom>
          <a:ln w="0">
            <a:noFill/>
          </a:ln>
        </p:spPr>
      </p:pic>
      <p:pic>
        <p:nvPicPr>
          <p:cNvPr id="119" name="AN01333_" descr=""/>
          <p:cNvPicPr/>
          <p:nvPr/>
        </p:nvPicPr>
        <p:blipFill>
          <a:blip r:embed="rId3"/>
          <a:stretch/>
        </p:blipFill>
        <p:spPr>
          <a:xfrm>
            <a:off x="4419720" y="1600200"/>
            <a:ext cx="1861920" cy="1981080"/>
          </a:xfrm>
          <a:prstGeom prst="rect">
            <a:avLst/>
          </a:prstGeom>
          <a:ln w="0">
            <a:noFill/>
          </a:ln>
        </p:spPr>
      </p:pic>
      <p:sp>
        <p:nvSpPr>
          <p:cNvPr id="120" name="">
            <a:hlinkClick r:id="" action="ppaction://hlinkshowjump?jump=endshow"/>
          </p:cNvPr>
          <p:cNvSpPr/>
          <p:nvPr/>
        </p:nvSpPr>
        <p:spPr>
          <a:xfrm>
            <a:off x="6019920" y="3048120"/>
            <a:ext cx="2590560" cy="1066680"/>
          </a:xfrm>
          <a:custGeom>
            <a:avLst/>
            <a:gdLst>
              <a:gd name="textAreaLeft" fmla="*/ 69120 w 2590560"/>
              <a:gd name="textAreaRight" fmla="*/ 2521440 w 259056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52448" h="21600">
                <a:moveTo>
                  <a:pt x="0" y="0"/>
                </a:moveTo>
                <a:lnTo>
                  <a:pt x="52448" y="0"/>
                </a:lnTo>
                <a:lnTo>
                  <a:pt x="52448" y="21600"/>
                </a:lnTo>
                <a:lnTo>
                  <a:pt x="0" y="21600"/>
                </a:lnTo>
                <a:close/>
              </a:path>
              <a:path fill="lightenLess" w="52448" h="21600">
                <a:moveTo>
                  <a:pt x="0" y="0"/>
                </a:moveTo>
                <a:lnTo>
                  <a:pt x="52448" y="0"/>
                </a:lnTo>
                <a:lnTo>
                  <a:pt x="51048" y="1400"/>
                </a:lnTo>
                <a:lnTo>
                  <a:pt x="1400" y="1400"/>
                </a:lnTo>
                <a:close/>
              </a:path>
              <a:path fill="darken" w="52448" h="21600">
                <a:moveTo>
                  <a:pt x="52448" y="0"/>
                </a:moveTo>
                <a:lnTo>
                  <a:pt x="52448" y="21600"/>
                </a:lnTo>
                <a:lnTo>
                  <a:pt x="51048" y="20200"/>
                </a:lnTo>
                <a:lnTo>
                  <a:pt x="51048" y="1400"/>
                </a:lnTo>
                <a:close/>
              </a:path>
              <a:path fill="darkenLess" w="52448" h="21600">
                <a:moveTo>
                  <a:pt x="524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48" y="20200"/>
                </a:lnTo>
                <a:close/>
              </a:path>
              <a:path fill="lighten" w="524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c33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6600"/>
                </a:solidFill>
                <a:latin typeface="Village Square"/>
              </a:rPr>
              <a:t>En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5715000" y="5257800"/>
            <a:ext cx="3124080" cy="1295280"/>
          </a:xfrm>
          <a:custGeom>
            <a:avLst/>
            <a:gdLst>
              <a:gd name="textAreaLeft" fmla="*/ 83880 w 3124080"/>
              <a:gd name="textAreaRight" fmla="*/ 3040200 w 312408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52088" h="21600">
                <a:moveTo>
                  <a:pt x="0" y="0"/>
                </a:moveTo>
                <a:lnTo>
                  <a:pt x="52088" y="0"/>
                </a:lnTo>
                <a:lnTo>
                  <a:pt x="52088" y="21600"/>
                </a:lnTo>
                <a:lnTo>
                  <a:pt x="0" y="21600"/>
                </a:lnTo>
                <a:close/>
              </a:path>
              <a:path fill="lightenLess" w="52088" h="21600">
                <a:moveTo>
                  <a:pt x="0" y="0"/>
                </a:moveTo>
                <a:lnTo>
                  <a:pt x="52088" y="0"/>
                </a:lnTo>
                <a:lnTo>
                  <a:pt x="50689" y="1400"/>
                </a:lnTo>
                <a:lnTo>
                  <a:pt x="1400" y="1400"/>
                </a:lnTo>
                <a:close/>
              </a:path>
              <a:path fill="darken" w="52088" h="21600">
                <a:moveTo>
                  <a:pt x="52088" y="0"/>
                </a:moveTo>
                <a:lnTo>
                  <a:pt x="52088" y="21600"/>
                </a:lnTo>
                <a:lnTo>
                  <a:pt x="50689" y="20200"/>
                </a:lnTo>
                <a:lnTo>
                  <a:pt x="50689" y="1400"/>
                </a:lnTo>
                <a:close/>
              </a:path>
              <a:path fill="darkenLess" w="52088" h="21600">
                <a:moveTo>
                  <a:pt x="52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689" y="20200"/>
                </a:lnTo>
                <a:close/>
              </a:path>
              <a:path fill="lighten" w="52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illage Square"/>
              </a:rPr>
              <a:t>Zum Anfa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>
            <a:hlinkClick r:id="rId1" action="ppaction://hlinksldjump"/>
          </p:cNvPr>
          <p:cNvSpPr/>
          <p:nvPr/>
        </p:nvSpPr>
        <p:spPr>
          <a:xfrm>
            <a:off x="380880" y="1752480"/>
            <a:ext cx="839808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lloon"/>
              </a:rPr>
              <a:t>Der Wachhund bellt laut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2" action="ppaction://hlinksldjump"/>
          </p:cNvPr>
          <p:cNvSpPr/>
          <p:nvPr/>
        </p:nvSpPr>
        <p:spPr>
          <a:xfrm>
            <a:off x="380880" y="3809880"/>
            <a:ext cx="8382240" cy="10688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lloon"/>
              </a:rPr>
              <a:t>Der sehr bissige Hund beißt den Fußgän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3" action="ppaction://hlinksldjump"/>
          </p:cNvPr>
          <p:cNvSpPr/>
          <p:nvPr/>
        </p:nvSpPr>
        <p:spPr>
          <a:xfrm>
            <a:off x="380880" y="5715000"/>
            <a:ext cx="83822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lloon"/>
              </a:rPr>
              <a:t>Der Hund sitzt in seinem grauen Zwinger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380880" y="3049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09480" y="914400"/>
            <a:ext cx="8077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Lucida Handwriting"/>
              </a:rPr>
              <a:t>Bravo, gut gemacht !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AN02354_" descr=""/>
          <p:cNvPicPr/>
          <p:nvPr/>
        </p:nvPicPr>
        <p:blipFill>
          <a:blip r:embed="rId1"/>
          <a:stretch/>
        </p:blipFill>
        <p:spPr>
          <a:xfrm>
            <a:off x="457200" y="2666880"/>
            <a:ext cx="2949480" cy="3103560"/>
          </a:xfrm>
          <a:prstGeom prst="rect">
            <a:avLst/>
          </a:prstGeom>
          <a:ln w="0">
            <a:noFill/>
          </a:ln>
        </p:spPr>
      </p:pic>
      <p:pic>
        <p:nvPicPr>
          <p:cNvPr id="124" name="BD05960_" descr=""/>
          <p:cNvPicPr/>
          <p:nvPr/>
        </p:nvPicPr>
        <p:blipFill>
          <a:blip r:embed="rId2"/>
          <a:stretch/>
        </p:blipFill>
        <p:spPr>
          <a:xfrm>
            <a:off x="4343400" y="2209680"/>
            <a:ext cx="2666880" cy="2970360"/>
          </a:xfrm>
          <a:prstGeom prst="rect">
            <a:avLst/>
          </a:prstGeom>
          <a:ln w="0">
            <a:noFill/>
          </a:ln>
        </p:spPr>
      </p:pic>
      <p:sp>
        <p:nvSpPr>
          <p:cNvPr id="125" name="">
            <a:hlinkClick r:id="" action="ppaction://hlinkshowjump?jump=previousslide"/>
          </p:cNvPr>
          <p:cNvSpPr/>
          <p:nvPr/>
        </p:nvSpPr>
        <p:spPr>
          <a:xfrm>
            <a:off x="5486400" y="5715000"/>
            <a:ext cx="3557520" cy="1042920"/>
          </a:xfrm>
          <a:custGeom>
            <a:avLst/>
            <a:gdLst>
              <a:gd name="textAreaLeft" fmla="*/ 134640 w 3557520"/>
              <a:gd name="textAreaRight" fmla="*/ 3422880 w 3557520"/>
              <a:gd name="textAreaTop" fmla="*/ 134640 h 1042920"/>
              <a:gd name="textAreaBottom" fmla="*/ 908280 h 1042920"/>
            </a:gdLst>
            <a:ahLst/>
            <a:rect l="textAreaLeft" t="textAreaTop" r="textAreaRight" b="textAreaBottom"/>
            <a:pathLst>
              <a:path w="73662" h="21600">
                <a:moveTo>
                  <a:pt x="0" y="0"/>
                </a:moveTo>
                <a:lnTo>
                  <a:pt x="73662" y="0"/>
                </a:lnTo>
                <a:lnTo>
                  <a:pt x="73662" y="21600"/>
                </a:lnTo>
                <a:lnTo>
                  <a:pt x="0" y="21600"/>
                </a:lnTo>
                <a:close/>
              </a:path>
              <a:path fill="lightenLess" w="73662" h="21600">
                <a:moveTo>
                  <a:pt x="0" y="0"/>
                </a:moveTo>
                <a:lnTo>
                  <a:pt x="73662" y="0"/>
                </a:lnTo>
                <a:lnTo>
                  <a:pt x="70867" y="2795"/>
                </a:lnTo>
                <a:lnTo>
                  <a:pt x="2795" y="2795"/>
                </a:lnTo>
                <a:close/>
              </a:path>
              <a:path fill="darken" w="73662" h="21600">
                <a:moveTo>
                  <a:pt x="73662" y="0"/>
                </a:moveTo>
                <a:lnTo>
                  <a:pt x="73662" y="21600"/>
                </a:lnTo>
                <a:lnTo>
                  <a:pt x="70867" y="18805"/>
                </a:lnTo>
                <a:lnTo>
                  <a:pt x="70867" y="2795"/>
                </a:lnTo>
                <a:close/>
              </a:path>
              <a:path fill="darkenLess" w="73662" h="21600">
                <a:moveTo>
                  <a:pt x="73662" y="21600"/>
                </a:moveTo>
                <a:lnTo>
                  <a:pt x="0" y="21600"/>
                </a:lnTo>
                <a:lnTo>
                  <a:pt x="2795" y="18805"/>
                </a:lnTo>
                <a:lnTo>
                  <a:pt x="70867" y="18805"/>
                </a:lnTo>
                <a:close/>
              </a:path>
              <a:path fill="lighten" w="73662" h="21600">
                <a:moveTo>
                  <a:pt x="0" y="21600"/>
                </a:moveTo>
                <a:lnTo>
                  <a:pt x="0" y="0"/>
                </a:lnTo>
                <a:lnTo>
                  <a:pt x="2795" y="2795"/>
                </a:lnTo>
                <a:lnTo>
                  <a:pt x="2795" y="18805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Handwriting"/>
              </a:rPr>
              <a:t>Zurück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BD05961_" descr=""/>
          <p:cNvPicPr/>
          <p:nvPr/>
        </p:nvPicPr>
        <p:blipFill>
          <a:blip r:embed="rId1"/>
          <a:stretch/>
        </p:blipFill>
        <p:spPr>
          <a:xfrm>
            <a:off x="2819520" y="2438280"/>
            <a:ext cx="2708280" cy="31878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80880" y="380880"/>
            <a:ext cx="9122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Times New Roman"/>
              </a:rPr>
              <a:t>Schade, dass stimmt leider nicht !!!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" action="ppaction://hlinkshowjump?jump=previousslide"/>
          </p:cNvPr>
          <p:cNvSpPr/>
          <p:nvPr/>
        </p:nvSpPr>
        <p:spPr>
          <a:xfrm>
            <a:off x="5486400" y="5715000"/>
            <a:ext cx="3557520" cy="1042920"/>
          </a:xfrm>
          <a:custGeom>
            <a:avLst/>
            <a:gdLst>
              <a:gd name="textAreaLeft" fmla="*/ 134640 w 3557520"/>
              <a:gd name="textAreaRight" fmla="*/ 3422880 w 3557520"/>
              <a:gd name="textAreaTop" fmla="*/ 134640 h 1042920"/>
              <a:gd name="textAreaBottom" fmla="*/ 908280 h 1042920"/>
            </a:gdLst>
            <a:ahLst/>
            <a:rect l="textAreaLeft" t="textAreaTop" r="textAreaRight" b="textAreaBottom"/>
            <a:pathLst>
              <a:path w="73662" h="21600">
                <a:moveTo>
                  <a:pt x="0" y="0"/>
                </a:moveTo>
                <a:lnTo>
                  <a:pt x="73662" y="0"/>
                </a:lnTo>
                <a:lnTo>
                  <a:pt x="73662" y="21600"/>
                </a:lnTo>
                <a:lnTo>
                  <a:pt x="0" y="21600"/>
                </a:lnTo>
                <a:close/>
              </a:path>
              <a:path fill="lightenLess" w="73662" h="21600">
                <a:moveTo>
                  <a:pt x="0" y="0"/>
                </a:moveTo>
                <a:lnTo>
                  <a:pt x="73662" y="0"/>
                </a:lnTo>
                <a:lnTo>
                  <a:pt x="70867" y="2795"/>
                </a:lnTo>
                <a:lnTo>
                  <a:pt x="2795" y="2795"/>
                </a:lnTo>
                <a:close/>
              </a:path>
              <a:path fill="darken" w="73662" h="21600">
                <a:moveTo>
                  <a:pt x="73662" y="0"/>
                </a:moveTo>
                <a:lnTo>
                  <a:pt x="73662" y="21600"/>
                </a:lnTo>
                <a:lnTo>
                  <a:pt x="70867" y="18805"/>
                </a:lnTo>
                <a:lnTo>
                  <a:pt x="70867" y="2795"/>
                </a:lnTo>
                <a:close/>
              </a:path>
              <a:path fill="darkenLess" w="73662" h="21600">
                <a:moveTo>
                  <a:pt x="73662" y="21600"/>
                </a:moveTo>
                <a:lnTo>
                  <a:pt x="0" y="21600"/>
                </a:lnTo>
                <a:lnTo>
                  <a:pt x="2795" y="18805"/>
                </a:lnTo>
                <a:lnTo>
                  <a:pt x="70867" y="18805"/>
                </a:lnTo>
                <a:close/>
              </a:path>
              <a:path fill="lighten" w="73662" h="21600">
                <a:moveTo>
                  <a:pt x="0" y="21600"/>
                </a:moveTo>
                <a:lnTo>
                  <a:pt x="0" y="0"/>
                </a:lnTo>
                <a:lnTo>
                  <a:pt x="2795" y="2795"/>
                </a:lnTo>
                <a:lnTo>
                  <a:pt x="2795" y="18805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Lucida Handwriting"/>
              </a:rPr>
              <a:t>Zurück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380880" y="1752480"/>
            <a:ext cx="839808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lloon"/>
              </a:rPr>
              <a:t>Die Schuhe sind neu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2" action="ppaction://hlinksldjump"/>
          </p:cNvPr>
          <p:cNvSpPr/>
          <p:nvPr/>
        </p:nvSpPr>
        <p:spPr>
          <a:xfrm>
            <a:off x="380880" y="3809880"/>
            <a:ext cx="8382240" cy="581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lloon"/>
              </a:rPr>
              <a:t>Die Schuhe sind al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3" action="ppaction://hlinksldjump"/>
          </p:cNvPr>
          <p:cNvSpPr/>
          <p:nvPr/>
        </p:nvSpPr>
        <p:spPr>
          <a:xfrm>
            <a:off x="380880" y="5715000"/>
            <a:ext cx="83822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lloon"/>
              </a:rPr>
              <a:t>Die Schuhe sind rot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380880" y="304920"/>
            <a:ext cx="685800" cy="68580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>
            <a:hlinkClick r:id="rId1" action="ppaction://hlinksldjump"/>
          </p:cNvPr>
          <p:cNvSpPr/>
          <p:nvPr/>
        </p:nvSpPr>
        <p:spPr>
          <a:xfrm>
            <a:off x="380880" y="1752480"/>
            <a:ext cx="839808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lloon"/>
              </a:rPr>
              <a:t>Das Gras ist grün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2" action="ppaction://hlinksldjump"/>
          </p:cNvPr>
          <p:cNvSpPr/>
          <p:nvPr/>
        </p:nvSpPr>
        <p:spPr>
          <a:xfrm>
            <a:off x="380880" y="3809880"/>
            <a:ext cx="8382240" cy="581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lloon"/>
              </a:rPr>
              <a:t>Das Gras ist ho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3" action="ppaction://hlinksldjump"/>
          </p:cNvPr>
          <p:cNvSpPr/>
          <p:nvPr/>
        </p:nvSpPr>
        <p:spPr>
          <a:xfrm>
            <a:off x="380880" y="5715000"/>
            <a:ext cx="83822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lloon"/>
              </a:rPr>
              <a:t>Das Gras ist tief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380880" y="3049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>
            <a:hlinkClick r:id="rId1" action="ppaction://hlinksldjump"/>
          </p:cNvPr>
          <p:cNvSpPr/>
          <p:nvPr/>
        </p:nvSpPr>
        <p:spPr>
          <a:xfrm>
            <a:off x="380880" y="1752480"/>
            <a:ext cx="839808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lloon"/>
              </a:rPr>
              <a:t>Pius spielt Fußball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2" action="ppaction://hlinksldjump"/>
          </p:cNvPr>
          <p:cNvSpPr/>
          <p:nvPr/>
        </p:nvSpPr>
        <p:spPr>
          <a:xfrm>
            <a:off x="380880" y="3809880"/>
            <a:ext cx="8382240" cy="581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lloon"/>
              </a:rPr>
              <a:t>Pius geht auf den Mark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3" action="ppaction://hlinksldjump"/>
          </p:cNvPr>
          <p:cNvSpPr/>
          <p:nvPr/>
        </p:nvSpPr>
        <p:spPr>
          <a:xfrm>
            <a:off x="380880" y="5715000"/>
            <a:ext cx="83822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lloon"/>
              </a:rPr>
              <a:t>Pius spielt Computerspie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380880" y="3049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>
            <a:hlinkClick r:id="rId1" action="ppaction://hlinksldjump"/>
          </p:cNvPr>
          <p:cNvSpPr/>
          <p:nvPr/>
        </p:nvSpPr>
        <p:spPr>
          <a:xfrm>
            <a:off x="380880" y="1752480"/>
            <a:ext cx="839808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lloon"/>
              </a:rPr>
              <a:t>Der Fuchs verfolgt einen H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2" action="ppaction://hlinksldjump"/>
          </p:cNvPr>
          <p:cNvSpPr/>
          <p:nvPr/>
        </p:nvSpPr>
        <p:spPr>
          <a:xfrm>
            <a:off x="380880" y="3809880"/>
            <a:ext cx="8382240" cy="581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lloon"/>
              </a:rPr>
              <a:t>Der Fuchs schläft in der Höh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3" action="ppaction://hlinksldjump"/>
          </p:cNvPr>
          <p:cNvSpPr/>
          <p:nvPr/>
        </p:nvSpPr>
        <p:spPr>
          <a:xfrm>
            <a:off x="380880" y="5715000"/>
            <a:ext cx="83822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lloon"/>
              </a:rPr>
              <a:t>Der Fuchs reißt ein Re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380880" y="3049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>
            <a:hlinkClick r:id="rId1" action="ppaction://hlinksldjump"/>
          </p:cNvPr>
          <p:cNvSpPr/>
          <p:nvPr/>
        </p:nvSpPr>
        <p:spPr>
          <a:xfrm>
            <a:off x="380880" y="1752480"/>
            <a:ext cx="839808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lloon"/>
              </a:rPr>
              <a:t>Die Kreide ist gel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rId2" action="ppaction://hlinksldjump"/>
          </p:cNvPr>
          <p:cNvSpPr/>
          <p:nvPr/>
        </p:nvSpPr>
        <p:spPr>
          <a:xfrm>
            <a:off x="380880" y="3809880"/>
            <a:ext cx="8382240" cy="581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lloon"/>
              </a:rPr>
              <a:t>Die Kreide ist r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rId3" action="ppaction://hlinksldjump"/>
          </p:cNvPr>
          <p:cNvSpPr/>
          <p:nvPr/>
        </p:nvSpPr>
        <p:spPr>
          <a:xfrm>
            <a:off x="380880" y="5715000"/>
            <a:ext cx="83822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lloon"/>
              </a:rPr>
              <a:t>Die Kreide ist bla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380880" y="3049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>
            <a:hlinkClick r:id="rId1" action="ppaction://hlinksldjump"/>
          </p:cNvPr>
          <p:cNvSpPr/>
          <p:nvPr/>
        </p:nvSpPr>
        <p:spPr>
          <a:xfrm>
            <a:off x="380880" y="1752480"/>
            <a:ext cx="839808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lloon"/>
              </a:rPr>
              <a:t>Der Lehrer ist bö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rId2" action="ppaction://hlinksldjump"/>
          </p:cNvPr>
          <p:cNvSpPr/>
          <p:nvPr/>
        </p:nvSpPr>
        <p:spPr>
          <a:xfrm>
            <a:off x="380880" y="3809880"/>
            <a:ext cx="8382240" cy="581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lloon"/>
              </a:rPr>
              <a:t>Der Lehrer ist lie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rId3" action="ppaction://hlinksldjump"/>
          </p:cNvPr>
          <p:cNvSpPr/>
          <p:nvPr/>
        </p:nvSpPr>
        <p:spPr>
          <a:xfrm>
            <a:off x="380880" y="5715000"/>
            <a:ext cx="83822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lloon"/>
              </a:rPr>
              <a:t>Der Lehrer ist ungeduldi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380880" y="3049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>
            <a:hlinkClick r:id="rId1" action="ppaction://hlinksldjump"/>
          </p:cNvPr>
          <p:cNvSpPr/>
          <p:nvPr/>
        </p:nvSpPr>
        <p:spPr>
          <a:xfrm>
            <a:off x="380880" y="1752480"/>
            <a:ext cx="839808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lloon"/>
              </a:rPr>
              <a:t>Der Vogel ist aggressiv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rId2" action="ppaction://hlinksldjump"/>
          </p:cNvPr>
          <p:cNvSpPr/>
          <p:nvPr/>
        </p:nvSpPr>
        <p:spPr>
          <a:xfrm>
            <a:off x="380880" y="3809880"/>
            <a:ext cx="8305920" cy="581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lloon"/>
              </a:rPr>
              <a:t>Der Vogel ist gel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3" action="ppaction://hlinksldjump"/>
          </p:cNvPr>
          <p:cNvSpPr/>
          <p:nvPr/>
        </p:nvSpPr>
        <p:spPr>
          <a:xfrm>
            <a:off x="380880" y="5715000"/>
            <a:ext cx="83822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lloon"/>
              </a:rPr>
              <a:t>Der Vogel ist gestreif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380880" y="3049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6T13:37:24Z</dcterms:created>
  <dc:creator>Gast</dc:creator>
  <dc:description/>
  <dc:language>en-US</dc:language>
  <cp:lastModifiedBy>User</cp:lastModifiedBy>
  <dcterms:modified xsi:type="dcterms:W3CDTF">2008-01-19T12:57:03Z</dcterms:modified>
  <cp:revision>40</cp:revision>
  <dc:subject/>
  <dc:title>PowerPoint-Präsentation</dc:title>
</cp:coreProperties>
</file>