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C7D-81DE-414F-876C-7010C17D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3756-69B2-4367-BDBB-62491A2B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5151-A433-4740-ABE3-636AF866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E221-F6A7-41A6-8E8C-EC92DC07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531E-8151-4012-9D87-5D5EA5D2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1B0-D853-4EB8-A2FF-2B130565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B07C-32A5-4CBB-973A-8B82442D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CB96-D92F-4A99-B40A-D67DB081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898F-CE76-4D2E-9E0D-2BA4F19A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124-17CB-496F-A83A-5AE02220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2CA-3FBA-43EF-8694-4A99BEEC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7533-AB74-46FD-82F3-137E5BF4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8B18-22C6-43C7-8157-BD5B04404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19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19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19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19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914400"/>
            <a:ext cx="7086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3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esetrain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821680" y="289548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on Vanes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S00554_" descr=""/>
          <p:cNvPicPr/>
          <p:nvPr/>
        </p:nvPicPr>
        <p:blipFill>
          <a:blip r:embed="rId1"/>
          <a:stretch/>
        </p:blipFill>
        <p:spPr>
          <a:xfrm>
            <a:off x="5715000" y="2743200"/>
            <a:ext cx="2444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990720" y="1752480"/>
            <a:ext cx="7483320" cy="58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 Löwe brüllt in der Höh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990720" y="3352680"/>
            <a:ext cx="7483320" cy="581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 Löwe brüllt auf der Bergspit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990720" y="4876920"/>
            <a:ext cx="7483320" cy="581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 Löwe brüllt im Z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14400" y="6094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838080" y="1828800"/>
            <a:ext cx="7483680" cy="58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 Hals ist bra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38080" y="3276720"/>
            <a:ext cx="7483680" cy="581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 Hals ist li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38080" y="4648320"/>
            <a:ext cx="7467840" cy="581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 Hals ist hautfarbi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62120" y="6858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914400" y="1600200"/>
            <a:ext cx="7483320" cy="58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anna rennt langs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914400" y="3276720"/>
            <a:ext cx="7483320" cy="581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anna läuft schn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3" action="ppaction://hlinksldjump"/>
          </p:cNvPr>
          <p:cNvSpPr/>
          <p:nvPr/>
        </p:nvSpPr>
        <p:spPr>
          <a:xfrm>
            <a:off x="914400" y="4876920"/>
            <a:ext cx="7467480" cy="581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anna schwimmt schn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38080" y="5335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838080" y="1905120"/>
            <a:ext cx="7483680" cy="58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Sonne ist gel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38080" y="3429000"/>
            <a:ext cx="7483680" cy="581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Sonne ist 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4800600"/>
            <a:ext cx="7467840" cy="581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sonne ist bla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838080" y="6094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14400" y="1676520"/>
            <a:ext cx="7483320" cy="58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schwimm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3048120"/>
            <a:ext cx="7483320" cy="581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küs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4419720"/>
            <a:ext cx="7467480" cy="581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umarm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1676520"/>
            <a:ext cx="7483320" cy="58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s Auto fährt auf der Straß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3124080"/>
            <a:ext cx="7483320" cy="581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s Auto fährt im Ha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4572000"/>
            <a:ext cx="7467480" cy="581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s Auto fährt auf der Rennstrec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4400" y="1676520"/>
            <a:ext cx="7483320" cy="58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nart spielt Fußb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971800"/>
            <a:ext cx="7483320" cy="581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nart spielt im Haus Fußb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191120"/>
            <a:ext cx="7467480" cy="581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nart spielt im Klassenzimm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1523880"/>
            <a:ext cx="7483680" cy="58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Tafel hängt an der W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048120"/>
            <a:ext cx="7483680" cy="581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Tafel läuft an der W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4495680"/>
            <a:ext cx="7467840" cy="581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Tafel hängt an der Dec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99072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Village Square"/>
              </a:rPr>
              <a:t>Du hast es geschafft 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4800600" y="5029200"/>
            <a:ext cx="3352680" cy="1066680"/>
          </a:xfrm>
          <a:custGeom>
            <a:avLst/>
            <a:gdLst>
              <a:gd name="textAreaLeft" fmla="*/ 69120 w 3352680"/>
              <a:gd name="textAreaRight" fmla="*/ 3283560 w 3352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7875" h="21600">
                <a:moveTo>
                  <a:pt x="0" y="0"/>
                </a:moveTo>
                <a:lnTo>
                  <a:pt x="67875" y="0"/>
                </a:lnTo>
                <a:lnTo>
                  <a:pt x="67875" y="21600"/>
                </a:lnTo>
                <a:lnTo>
                  <a:pt x="0" y="21600"/>
                </a:lnTo>
                <a:close/>
              </a:path>
              <a:path fill="lightenLess" w="67875" h="21600">
                <a:moveTo>
                  <a:pt x="0" y="0"/>
                </a:moveTo>
                <a:lnTo>
                  <a:pt x="67875" y="0"/>
                </a:lnTo>
                <a:lnTo>
                  <a:pt x="66475" y="1400"/>
                </a:lnTo>
                <a:lnTo>
                  <a:pt x="1400" y="1400"/>
                </a:lnTo>
                <a:close/>
              </a:path>
              <a:path fill="darken" w="67875" h="21600">
                <a:moveTo>
                  <a:pt x="67875" y="0"/>
                </a:moveTo>
                <a:lnTo>
                  <a:pt x="67875" y="21600"/>
                </a:lnTo>
                <a:lnTo>
                  <a:pt x="66475" y="20200"/>
                </a:lnTo>
                <a:lnTo>
                  <a:pt x="66475" y="1400"/>
                </a:lnTo>
                <a:close/>
              </a:path>
              <a:path fill="darkenLess" w="67875" h="21600">
                <a:moveTo>
                  <a:pt x="67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75" y="20200"/>
                </a:lnTo>
                <a:close/>
              </a:path>
              <a:path fill="lighten" w="67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tencil"/>
              </a:rPr>
              <a:t>Start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endshow"/>
          </p:cNvPr>
          <p:cNvSpPr/>
          <p:nvPr/>
        </p:nvSpPr>
        <p:spPr>
          <a:xfrm>
            <a:off x="1066680" y="5029200"/>
            <a:ext cx="3353040" cy="1066680"/>
          </a:xfrm>
          <a:custGeom>
            <a:avLst/>
            <a:gdLst>
              <a:gd name="textAreaLeft" fmla="*/ 69120 w 3353040"/>
              <a:gd name="textAreaRight" fmla="*/ 3283920 w 33530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7883" h="21600">
                <a:moveTo>
                  <a:pt x="0" y="0"/>
                </a:moveTo>
                <a:lnTo>
                  <a:pt x="67883" y="0"/>
                </a:lnTo>
                <a:lnTo>
                  <a:pt x="67883" y="21600"/>
                </a:lnTo>
                <a:lnTo>
                  <a:pt x="0" y="21600"/>
                </a:lnTo>
                <a:close/>
              </a:path>
              <a:path fill="lightenLess" w="67883" h="21600">
                <a:moveTo>
                  <a:pt x="0" y="0"/>
                </a:moveTo>
                <a:lnTo>
                  <a:pt x="67883" y="0"/>
                </a:lnTo>
                <a:lnTo>
                  <a:pt x="66483" y="1400"/>
                </a:lnTo>
                <a:lnTo>
                  <a:pt x="1400" y="1400"/>
                </a:lnTo>
                <a:close/>
              </a:path>
              <a:path fill="darken" w="67883" h="21600">
                <a:moveTo>
                  <a:pt x="67883" y="0"/>
                </a:moveTo>
                <a:lnTo>
                  <a:pt x="67883" y="21600"/>
                </a:lnTo>
                <a:lnTo>
                  <a:pt x="66483" y="20200"/>
                </a:lnTo>
                <a:lnTo>
                  <a:pt x="66483" y="1400"/>
                </a:lnTo>
                <a:close/>
              </a:path>
              <a:path fill="darkenLess" w="67883" h="21600">
                <a:moveTo>
                  <a:pt x="67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83" y="20200"/>
                </a:lnTo>
                <a:close/>
              </a:path>
              <a:path fill="lighten" w="67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tencil"/>
              </a:rPr>
              <a:t>Ende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BS00554_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2444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581280" y="99072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illage Square"/>
              </a:rPr>
              <a:t>Richtig, weiter so 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E02742_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2590920" cy="236232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5410080" y="5029200"/>
            <a:ext cx="3353040" cy="1066680"/>
          </a:xfrm>
          <a:custGeom>
            <a:avLst/>
            <a:gdLst>
              <a:gd name="textAreaLeft" fmla="*/ 69120 w 3353040"/>
              <a:gd name="textAreaRight" fmla="*/ 3283920 w 33530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7883" h="21600">
                <a:moveTo>
                  <a:pt x="0" y="0"/>
                </a:moveTo>
                <a:lnTo>
                  <a:pt x="67883" y="0"/>
                </a:lnTo>
                <a:lnTo>
                  <a:pt x="67883" y="21600"/>
                </a:lnTo>
                <a:lnTo>
                  <a:pt x="0" y="21600"/>
                </a:lnTo>
                <a:close/>
              </a:path>
              <a:path fill="lightenLess" w="67883" h="21600">
                <a:moveTo>
                  <a:pt x="0" y="0"/>
                </a:moveTo>
                <a:lnTo>
                  <a:pt x="67883" y="0"/>
                </a:lnTo>
                <a:lnTo>
                  <a:pt x="66483" y="1400"/>
                </a:lnTo>
                <a:lnTo>
                  <a:pt x="1400" y="1400"/>
                </a:lnTo>
                <a:close/>
              </a:path>
              <a:path fill="darken" w="67883" h="21600">
                <a:moveTo>
                  <a:pt x="67883" y="0"/>
                </a:moveTo>
                <a:lnTo>
                  <a:pt x="67883" y="21600"/>
                </a:lnTo>
                <a:lnTo>
                  <a:pt x="66483" y="20200"/>
                </a:lnTo>
                <a:lnTo>
                  <a:pt x="66483" y="1400"/>
                </a:lnTo>
                <a:close/>
              </a:path>
              <a:path fill="darkenLess" w="67883" h="21600">
                <a:moveTo>
                  <a:pt x="67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83" y="20200"/>
                </a:lnTo>
                <a:close/>
              </a:path>
              <a:path fill="lighten" w="67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tencil"/>
              </a:rPr>
              <a:t>Zurück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rId1" action="ppaction://hlinksldjump"/>
          </p:cNvPr>
          <p:cNvSpPr/>
          <p:nvPr/>
        </p:nvSpPr>
        <p:spPr>
          <a:xfrm>
            <a:off x="822240" y="2057400"/>
            <a:ext cx="7483680" cy="58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 Hase hoppelt im St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822240" y="3733920"/>
            <a:ext cx="7483680" cy="581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 Hase hoppelt auf der Wi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838080" y="5410080"/>
            <a:ext cx="7467840" cy="581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 Hase hoppelt im Käfi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838080" y="5335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7178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eider Falsch,versuch es doch noch einmal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j0079100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2438640" cy="228600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4114800" y="5410080"/>
            <a:ext cx="3352680" cy="1067040"/>
          </a:xfrm>
          <a:custGeom>
            <a:avLst/>
            <a:gdLst>
              <a:gd name="textAreaLeft" fmla="*/ 69120 w 3352680"/>
              <a:gd name="textAreaRight" fmla="*/ 3283560 w 33526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67852" h="21600">
                <a:moveTo>
                  <a:pt x="0" y="0"/>
                </a:moveTo>
                <a:lnTo>
                  <a:pt x="67852" y="0"/>
                </a:lnTo>
                <a:lnTo>
                  <a:pt x="67852" y="21600"/>
                </a:lnTo>
                <a:lnTo>
                  <a:pt x="0" y="21600"/>
                </a:lnTo>
                <a:close/>
              </a:path>
              <a:path fill="lightenLess" w="67852" h="21600">
                <a:moveTo>
                  <a:pt x="0" y="0"/>
                </a:moveTo>
                <a:lnTo>
                  <a:pt x="67852" y="0"/>
                </a:lnTo>
                <a:lnTo>
                  <a:pt x="66452" y="1400"/>
                </a:lnTo>
                <a:lnTo>
                  <a:pt x="1400" y="1400"/>
                </a:lnTo>
                <a:close/>
              </a:path>
              <a:path fill="darken" w="67852" h="21600">
                <a:moveTo>
                  <a:pt x="67852" y="0"/>
                </a:moveTo>
                <a:lnTo>
                  <a:pt x="67852" y="21600"/>
                </a:lnTo>
                <a:lnTo>
                  <a:pt x="66452" y="20200"/>
                </a:lnTo>
                <a:lnTo>
                  <a:pt x="66452" y="1400"/>
                </a:lnTo>
                <a:close/>
              </a:path>
              <a:path fill="darkenLess" w="67852" h="21600">
                <a:moveTo>
                  <a:pt x="678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52" y="20200"/>
                </a:lnTo>
                <a:close/>
              </a:path>
              <a:path fill="lighten" w="678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tencil"/>
              </a:rPr>
              <a:t>Zurück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795880" y="6213600"/>
            <a:ext cx="5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tencil"/>
              </a:rPr>
              <a:t>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990720" y="1981080"/>
            <a:ext cx="7483320" cy="58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 Spiegel hängt an der W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990720" y="3200400"/>
            <a:ext cx="7483320" cy="581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 Spiegel läuft an der W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990720" y="4419720"/>
            <a:ext cx="7467480" cy="581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 Spiegel auf der Dec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90720" y="6858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990720" y="1828800"/>
            <a:ext cx="7483320" cy="58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anna geht in die Sch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990720" y="3124080"/>
            <a:ext cx="7483320" cy="581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il geht in die Sch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914400" y="4495680"/>
            <a:ext cx="7559640" cy="581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essa geht in die Sch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914400" y="533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990720" y="1828800"/>
            <a:ext cx="7483320" cy="58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Tür geht auf.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990720" y="3124080"/>
            <a:ext cx="7483320" cy="581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Tür geht nicht au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914400" y="4572000"/>
            <a:ext cx="7559640" cy="581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Tür geht nicht mehr au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914400" y="609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914400" y="3657600"/>
            <a:ext cx="7483320" cy="58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Uhr ist pi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914400" y="2362320"/>
            <a:ext cx="7483320" cy="581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Uhr ist bla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898560" y="5146560"/>
            <a:ext cx="7483320" cy="581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Uhr ist grü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914400" y="838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914400" y="1905120"/>
            <a:ext cx="7483320" cy="58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n Haus ist li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914400" y="3429000"/>
            <a:ext cx="7483320" cy="581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n Haus ist bra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914400" y="4952880"/>
            <a:ext cx="7559640" cy="581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n Haus ist bla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838080" y="5335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990720" y="1905120"/>
            <a:ext cx="7483320" cy="58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Treppe ist weiß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990720" y="3505320"/>
            <a:ext cx="7483320" cy="581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Treppe ist gel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3" action="ppaction://hlinksldjump"/>
          </p:cNvPr>
          <p:cNvSpPr/>
          <p:nvPr/>
        </p:nvSpPr>
        <p:spPr>
          <a:xfrm>
            <a:off x="914400" y="4952880"/>
            <a:ext cx="7559640" cy="581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Treppe ist 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914400" y="5335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990720" y="1676520"/>
            <a:ext cx="7483320" cy="58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Lampe hängt an der Decke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990720" y="3352680"/>
            <a:ext cx="7483320" cy="581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Lampe steht auf dem Tis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990720" y="5029200"/>
            <a:ext cx="7467480" cy="581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Lampe hängt auf dem Tis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914400" y="6094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50:30Z</dcterms:created>
  <dc:creator>Gast</dc:creator>
  <dc:description/>
  <dc:language>en-US</dc:language>
  <cp:lastModifiedBy>User</cp:lastModifiedBy>
  <dcterms:modified xsi:type="dcterms:W3CDTF">2008-01-19T23:16:03Z</dcterms:modified>
  <cp:revision>14</cp:revision>
  <dc:subject/>
  <dc:title>PowerPoint-Präsentation</dc:title>
</cp:coreProperties>
</file>