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3C6-05EA-4456-BEEA-C6FF3D4A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735-A2E7-4921-BDB0-FC061A6E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71D-630F-4688-B30F-85418C0C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C71-FB28-41B3-90B9-2E01CC8C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008-F7F1-4694-8ED6-777A35D5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C84-65D4-4D1A-A088-EB947478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055-B8ED-40A4-B8A3-BD32518F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AAC-DE79-4CC1-A88F-4E3A7B2F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CE2-A3B9-4E5A-9918-2B993CCA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BF6-9720-4AD0-ACFE-39CA730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1E7-6040-496C-9306-897CD0C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7A5-57B2-4F8B-91A0-4DFF73D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EDCA-C701-406C-8EDF-44BB0BDF4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133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on Tiz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996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6477120" y="838080"/>
            <a:ext cx="2052360" cy="2140200"/>
          </a:xfrm>
          <a:prstGeom prst="rect">
            <a:avLst/>
          </a:prstGeom>
          <a:ln w="0">
            <a:noFill/>
          </a:ln>
        </p:spPr>
      </p:pic>
      <p:pic>
        <p:nvPicPr>
          <p:cNvPr id="44" name="BS00554_" descr=""/>
          <p:cNvPicPr/>
          <p:nvPr/>
        </p:nvPicPr>
        <p:blipFill>
          <a:blip r:embed="rId2"/>
          <a:stretch/>
        </p:blipFill>
        <p:spPr>
          <a:xfrm>
            <a:off x="838080" y="4021200"/>
            <a:ext cx="190512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BD05969_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2082960" cy="266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304920"/>
            <a:ext cx="5867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ssetrai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57200" y="25146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Uhr ist ge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Uhr ist r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380880" y="5791320"/>
            <a:ext cx="8305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Uhr ist grü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5146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felsaft schmeckt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angensaft schmeckt nicht so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715000"/>
            <a:ext cx="8153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bensaft schmeckt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5146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Lampe ist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Lampe ist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715000"/>
            <a:ext cx="8153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Lampe ist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59092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er putzt seine Händ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1148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ie putzt ihre Hä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38680"/>
            <a:ext cx="8153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i putzt seine Hä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51460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to ist ü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148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er ist ü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638680"/>
            <a:ext cx="8153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thias ist ü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457200"/>
            <a:ext cx="2133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per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86200" y="60948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les geschaff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AN02034_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252960" cy="445932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endshow"/>
          </p:cNvPr>
          <p:cNvSpPr/>
          <p:nvPr/>
        </p:nvSpPr>
        <p:spPr>
          <a:xfrm>
            <a:off x="5410080" y="3048120"/>
            <a:ext cx="2667240" cy="990360"/>
          </a:xfrm>
          <a:custGeom>
            <a:avLst/>
            <a:gdLst>
              <a:gd name="textAreaLeft" fmla="*/ 144360 w 2667240"/>
              <a:gd name="textAreaRight" fmla="*/ 2522880 w 2667240"/>
              <a:gd name="textAreaTop" fmla="*/ 144360 h 990360"/>
              <a:gd name="textAreaBottom" fmla="*/ 846000 h 990360"/>
            </a:gdLst>
            <a:ahLst/>
            <a:rect l="textAreaLeft" t="textAreaTop" r="textAreaRight" b="textAreaBottom"/>
            <a:pathLst>
              <a:path w="58160" h="21600">
                <a:moveTo>
                  <a:pt x="0" y="0"/>
                </a:moveTo>
                <a:lnTo>
                  <a:pt x="58160" y="0"/>
                </a:lnTo>
                <a:lnTo>
                  <a:pt x="58160" y="21600"/>
                </a:lnTo>
                <a:lnTo>
                  <a:pt x="0" y="21600"/>
                </a:lnTo>
                <a:close/>
              </a:path>
              <a:path fill="lightenLess" w="58160" h="21600">
                <a:moveTo>
                  <a:pt x="0" y="0"/>
                </a:moveTo>
                <a:lnTo>
                  <a:pt x="58160" y="0"/>
                </a:lnTo>
                <a:lnTo>
                  <a:pt x="55010" y="3150"/>
                </a:lnTo>
                <a:lnTo>
                  <a:pt x="3150" y="3150"/>
                </a:lnTo>
                <a:close/>
              </a:path>
              <a:path fill="darken" w="58160" h="21600">
                <a:moveTo>
                  <a:pt x="58160" y="0"/>
                </a:moveTo>
                <a:lnTo>
                  <a:pt x="58160" y="21600"/>
                </a:lnTo>
                <a:lnTo>
                  <a:pt x="55010" y="18450"/>
                </a:lnTo>
                <a:lnTo>
                  <a:pt x="55010" y="3150"/>
                </a:lnTo>
                <a:close/>
              </a:path>
              <a:path fill="darkenLess" w="58160" h="21600">
                <a:moveTo>
                  <a:pt x="58160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55010" y="18450"/>
                </a:lnTo>
                <a:close/>
              </a:path>
              <a:path fill="lighten" w="58160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4114800" y="4876920"/>
            <a:ext cx="4724280" cy="1371600"/>
          </a:xfrm>
          <a:custGeom>
            <a:avLst/>
            <a:gdLst>
              <a:gd name="textAreaLeft" fmla="*/ 217440 w 4724280"/>
              <a:gd name="textAreaRight" fmla="*/ 4506840 w 4724280"/>
              <a:gd name="textAreaTop" fmla="*/ 217440 h 1371600"/>
              <a:gd name="textAreaBottom" fmla="*/ 1154160 h 1371600"/>
            </a:gdLst>
            <a:ahLst/>
            <a:rect l="textAreaLeft" t="textAreaTop" r="textAreaRight" b="textAreaBottom"/>
            <a:pathLst>
              <a:path w="74384" h="21600">
                <a:moveTo>
                  <a:pt x="0" y="0"/>
                </a:moveTo>
                <a:lnTo>
                  <a:pt x="74384" y="0"/>
                </a:lnTo>
                <a:lnTo>
                  <a:pt x="74384" y="21600"/>
                </a:lnTo>
                <a:lnTo>
                  <a:pt x="0" y="21600"/>
                </a:lnTo>
                <a:close/>
              </a:path>
              <a:path fill="lightenLess" w="74384" h="21600">
                <a:moveTo>
                  <a:pt x="0" y="0"/>
                </a:moveTo>
                <a:lnTo>
                  <a:pt x="74384" y="0"/>
                </a:lnTo>
                <a:lnTo>
                  <a:pt x="70959" y="3425"/>
                </a:lnTo>
                <a:lnTo>
                  <a:pt x="3425" y="3425"/>
                </a:lnTo>
                <a:close/>
              </a:path>
              <a:path fill="darken" w="74384" h="21600">
                <a:moveTo>
                  <a:pt x="74384" y="0"/>
                </a:moveTo>
                <a:lnTo>
                  <a:pt x="74384" y="21600"/>
                </a:lnTo>
                <a:lnTo>
                  <a:pt x="70959" y="18175"/>
                </a:lnTo>
                <a:lnTo>
                  <a:pt x="70959" y="3425"/>
                </a:lnTo>
                <a:close/>
              </a:path>
              <a:path fill="darkenLess" w="74384" h="21600">
                <a:moveTo>
                  <a:pt x="74384" y="21600"/>
                </a:moveTo>
                <a:lnTo>
                  <a:pt x="0" y="21600"/>
                </a:lnTo>
                <a:lnTo>
                  <a:pt x="3425" y="18175"/>
                </a:lnTo>
                <a:lnTo>
                  <a:pt x="70959" y="18175"/>
                </a:lnTo>
                <a:close/>
              </a:path>
              <a:path fill="lighten" w="74384" h="21600">
                <a:moveTo>
                  <a:pt x="0" y="21600"/>
                </a:moveTo>
                <a:lnTo>
                  <a:pt x="0" y="0"/>
                </a:lnTo>
                <a:lnTo>
                  <a:pt x="3425" y="3425"/>
                </a:lnTo>
                <a:lnTo>
                  <a:pt x="3425" y="18175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7621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lax"/>
              </a:rPr>
              <a:t>Richtig, weiter s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E02742_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3583080" cy="35877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6019920" y="5715000"/>
            <a:ext cx="2743200" cy="762120"/>
          </a:xfrm>
          <a:custGeom>
            <a:avLst/>
            <a:gdLst>
              <a:gd name="textAreaLeft" fmla="*/ 85680 w 2743200"/>
              <a:gd name="textAreaRight" fmla="*/ 2657520 w 2743200"/>
              <a:gd name="textAreaTop" fmla="*/ 85680 h 762120"/>
              <a:gd name="textAreaBottom" fmla="*/ 67644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5291" y="2430"/>
                </a:lnTo>
                <a:lnTo>
                  <a:pt x="2430" y="243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5291" y="19170"/>
                </a:lnTo>
                <a:lnTo>
                  <a:pt x="75291" y="243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2430" y="19170"/>
                </a:lnTo>
                <a:lnTo>
                  <a:pt x="75291" y="1917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2430" y="2430"/>
                </a:lnTo>
                <a:lnTo>
                  <a:pt x="2430" y="1917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Zurüc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380880"/>
            <a:ext cx="1218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7621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ider falsch, versuch‘s noch einma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j0079100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3276360" cy="30686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6019920" y="5638680"/>
            <a:ext cx="2743200" cy="838440"/>
          </a:xfrm>
          <a:custGeom>
            <a:avLst/>
            <a:gdLst>
              <a:gd name="textAreaLeft" fmla="*/ 104760 w 2743200"/>
              <a:gd name="textAreaRight" fmla="*/ 2638440 w 2743200"/>
              <a:gd name="textAreaTop" fmla="*/ 104760 h 838440"/>
              <a:gd name="textAreaBottom" fmla="*/ 733680 h 838440"/>
            </a:gdLst>
            <a:ahLst/>
            <a:rect l="textAreaLeft" t="textAreaTop" r="textAreaRight" b="textAreaBottom"/>
            <a:pathLst>
              <a:path w="70650" h="21600">
                <a:moveTo>
                  <a:pt x="0" y="0"/>
                </a:moveTo>
                <a:lnTo>
                  <a:pt x="70650" y="0"/>
                </a:lnTo>
                <a:lnTo>
                  <a:pt x="70650" y="21600"/>
                </a:lnTo>
                <a:lnTo>
                  <a:pt x="0" y="21600"/>
                </a:lnTo>
                <a:close/>
              </a:path>
              <a:path fill="lightenLess" w="70650" h="21600">
                <a:moveTo>
                  <a:pt x="0" y="0"/>
                </a:moveTo>
                <a:lnTo>
                  <a:pt x="70650" y="0"/>
                </a:lnTo>
                <a:lnTo>
                  <a:pt x="67950" y="2700"/>
                </a:lnTo>
                <a:lnTo>
                  <a:pt x="2700" y="2700"/>
                </a:lnTo>
                <a:close/>
              </a:path>
              <a:path fill="darken" w="70650" h="21600">
                <a:moveTo>
                  <a:pt x="70650" y="0"/>
                </a:moveTo>
                <a:lnTo>
                  <a:pt x="70650" y="21600"/>
                </a:lnTo>
                <a:lnTo>
                  <a:pt x="67950" y="18900"/>
                </a:lnTo>
                <a:lnTo>
                  <a:pt x="67950" y="2700"/>
                </a:lnTo>
                <a:close/>
              </a:path>
              <a:path fill="darkenLess" w="70650" h="21600">
                <a:moveTo>
                  <a:pt x="70650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67950" y="18900"/>
                </a:lnTo>
                <a:close/>
              </a:path>
              <a:path fill="lighten" w="70650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Zurüc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57200" y="213372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bian geht zum Fußballtrai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57200" y="396252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bian geht in den Supermark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457200" y="5715000"/>
            <a:ext cx="8305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bian geht spazie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380880" y="243828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ter kauft einen neuen BM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80880" y="38862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ter kauft einen  Ferra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80880" y="548640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ter kauft einen Aud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380880" y="236232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 fährt auf seinem Mo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80880" y="38862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 fährt auf seinem Motor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380880" y="556272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 fährt auf seinem Fahr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5800" y="7621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04920" y="2514600"/>
            <a:ext cx="8305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4191120"/>
            <a:ext cx="8305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e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5791320"/>
            <a:ext cx="8229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s Pferd läuft auf der Straß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5800" y="685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57200" y="251460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che Kinder sind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che Kinder sind dü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che Kinder sind d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80880" y="251460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an schießt kein 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380880" y="419112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izian schießt vier Tore !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380880" y="5791320"/>
            <a:ext cx="8305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vin schießt ein 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7200" y="914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57200" y="2514600"/>
            <a:ext cx="822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s Kaufland ist gro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57200" y="403848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EDEKA ist nicht so gro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57200" y="5638680"/>
            <a:ext cx="8153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Netto ist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990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57200" y="2514600"/>
            <a:ext cx="830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udia geht R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457200" y="4114800"/>
            <a:ext cx="8229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us ist im Hand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kob spielt Tischtenn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7Z</dcterms:created>
  <dc:creator>Gast</dc:creator>
  <dc:description/>
  <dc:language>en-US</dc:language>
  <cp:lastModifiedBy>User</cp:lastModifiedBy>
  <dcterms:modified xsi:type="dcterms:W3CDTF">2008-01-19T22:59:12Z</dcterms:modified>
  <cp:revision>36</cp:revision>
  <dc:subject/>
  <dc:title>PowerPoint-Präsentation</dc:title>
</cp:coreProperties>
</file>