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1DA-577C-4E08-A6CB-65559FB2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C6CE-7512-4E4F-B890-5B697E5D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CBD-2631-42E9-8FDC-050CFDFB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907-3548-426F-BB1E-0D38A372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66B5-1818-410E-90E5-FF39A6A0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A5B-9513-4B3F-B900-0464E4B8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FF9-FAD0-48F6-BE89-49CF39BB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46CA-EAAA-456F-88A2-63E72EBD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CC5-DB37-4101-94FC-D1441EDE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36B-A8DF-47F8-BAB1-AB487642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085B-B47F-4224-B47E-348FB1A7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2AF4-4123-4FDD-AECE-CBFED41E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2C87-A3B2-4B79-A7F4-31F37C4BE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e der Spielergebnisse durch den Spielle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feld 4"/>
          <p:cNvSpPr/>
          <p:nvPr/>
        </p:nvSpPr>
        <p:spPr>
          <a:xfrm>
            <a:off x="0" y="6429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Markt, Marketing-Mix, Nachfrage, Absatz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n Teilnehmerberich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11: Marktforschungsberic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Executive Summary      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5"/>
          <p:cNvSpPr/>
          <p:nvPr/>
        </p:nvSpPr>
        <p:spPr>
          <a:xfrm>
            <a:off x="0" y="42148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eckungsbeitrag und Eb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m Seminarleiterbericht Deckungsbeiträge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ilnehmerbericht 8: Deckungsbeitragsrechn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feld 6"/>
          <p:cNvSpPr/>
          <p:nvPr/>
        </p:nvSpPr>
        <p:spPr>
          <a:xfrm>
            <a:off x="0" y="53578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lanzanalyse insbesondere auch Entwicklung des Fremdkapit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Seminarleiterberichten V: Geschäftsberichte der Branch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7: Kennzahl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 dem Teilnehmerbericht 9: Finanzbericht und Bilan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7"/>
          <p:cNvSpPr/>
          <p:nvPr/>
        </p:nvSpPr>
        <p:spPr>
          <a:xfrm>
            <a:off x="0" y="17859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    Auslastung der Produktionsfaktoren (Maschinen, Arbeiter, Materia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Teilnehmerbericht 4 Flächenverwendung, Abschreibungen, Kapazitäte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III: Interne Abläu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feld 8"/>
          <p:cNvSpPr/>
          <p:nvPr/>
        </p:nvSpPr>
        <p:spPr>
          <a:xfrm>
            <a:off x="0" y="3071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ostensitu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besondere Entwicklung der Herstellkosten mit den Teilnehmerbericht 7: Kostenträgerrechnung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minarleiterbericht 7: Kennzahle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7:06:17Z</dcterms:created>
  <dc:creator>aka</dc:creator>
  <dc:description/>
  <dc:language>en-US</dc:language>
  <cp:lastModifiedBy>EGS</cp:lastModifiedBy>
  <dcterms:modified xsi:type="dcterms:W3CDTF">2009-06-08T21:13:44Z</dcterms:modified>
  <cp:revision>11</cp:revision>
  <dc:subject/>
  <dc:title>Folie 1</dc:title>
</cp:coreProperties>
</file>