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2122-2FF6-433A-8BB5-AE015D61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ABB6-9C01-42F7-85D5-99A3CC53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B69C-9404-4E7F-BF84-038B3E6B1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CC20-1D97-47CA-96C6-F965E1B17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C3EC-00BA-4F2F-BE81-58772809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A004-FE26-4BE6-ACD0-6547729B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FF80-BB90-4FA4-9725-4469A5E3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BD07-1DEF-40F8-B6FC-89ABF3DD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31DB-F19E-4C80-AF4E-6C3DB5DB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1C4D-654C-4E82-84F8-2E8E0F85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81E8-046D-4B1A-A5DB-BBA43341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4BD9-0D6A-4DAA-8DD5-2D2C1E83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05F3-7F22-4ACE-BFB8-20D80336A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685800"/>
            <a:ext cx="2736720" cy="2590920"/>
            <a:chOff x="304920" y="685800"/>
            <a:chExt cx="2736720" cy="2590920"/>
          </a:xfrm>
        </p:grpSpPr>
        <p:sp>
          <p:nvSpPr>
            <p:cNvPr id="42" name=""/>
            <p:cNvSpPr/>
            <p:nvPr/>
          </p:nvSpPr>
          <p:spPr>
            <a:xfrm>
              <a:off x="304920" y="685800"/>
              <a:ext cx="273672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rketing-Mi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4920" y="901800"/>
              <a:ext cx="136836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4920" y="111744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Charg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673280" y="901800"/>
              <a:ext cx="136836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4Me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3280" y="111744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154944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73280" y="154944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198108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73280" y="198108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4130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73280" y="24130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901800"/>
              <a:ext cx="1368360" cy="1942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73280" y="901800"/>
              <a:ext cx="1368360" cy="1942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2844720"/>
              <a:ext cx="27367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Verkau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685800"/>
              <a:ext cx="2736720" cy="2590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995640" y="907920"/>
            <a:ext cx="1657440" cy="1513080"/>
            <a:chOff x="3995640" y="907920"/>
            <a:chExt cx="1657440" cy="1513080"/>
          </a:xfrm>
        </p:grpSpPr>
        <p:sp>
          <p:nvSpPr>
            <p:cNvPr id="58" name=""/>
            <p:cNvSpPr/>
            <p:nvPr/>
          </p:nvSpPr>
          <p:spPr>
            <a:xfrm>
              <a:off x="3995640" y="907920"/>
              <a:ext cx="165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0" rIns="432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. Geplanter Absat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95640" y="1123920"/>
              <a:ext cx="1656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95640" y="1555920"/>
              <a:ext cx="1656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Großabnehmer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95640" y="907920"/>
              <a:ext cx="1657440" cy="1513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5651640" y="1052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80000" y="8366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56360" y="692280"/>
            <a:ext cx="2736720" cy="1296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058920" y="1052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19640" y="8366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788000" y="3716280"/>
            <a:ext cx="4033800" cy="1800360"/>
            <a:chOff x="4788000" y="3716280"/>
            <a:chExt cx="4033800" cy="1800360"/>
          </a:xfrm>
        </p:grpSpPr>
        <p:sp>
          <p:nvSpPr>
            <p:cNvPr id="68" name=""/>
            <p:cNvSpPr/>
            <p:nvPr/>
          </p:nvSpPr>
          <p:spPr>
            <a:xfrm>
              <a:off x="4788000" y="3716280"/>
              <a:ext cx="4033800" cy="1800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r Absatz:  ____ Ch. DRESS        ____ St.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 _______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6084720" y="4221360"/>
              <a:ext cx="2519640" cy="142920"/>
              <a:chOff x="6084720" y="4221360"/>
              <a:chExt cx="2519640" cy="142920"/>
            </a:xfrm>
          </p:grpSpPr>
          <p:sp>
            <p:nvSpPr>
              <p:cNvPr id="70" name=""/>
              <p:cNvSpPr/>
              <p:nvPr/>
            </p:nvSpPr>
            <p:spPr>
              <a:xfrm>
                <a:off x="6084720" y="429444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596360" y="42944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7236000" y="4221360"/>
                <a:ext cx="144360" cy="142920"/>
                <a:chOff x="7236000" y="4221360"/>
                <a:chExt cx="144360" cy="14292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7236000" y="429444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7308720" y="4221360"/>
                  <a:ext cx="0" cy="142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5" name=""/>
          <p:cNvGrpSpPr/>
          <p:nvPr/>
        </p:nvGrpSpPr>
        <p:grpSpPr>
          <a:xfrm>
            <a:off x="324000" y="3573360"/>
            <a:ext cx="2736720" cy="3095640"/>
            <a:chOff x="324000" y="3573360"/>
            <a:chExt cx="2736720" cy="3095640"/>
          </a:xfrm>
        </p:grpSpPr>
        <p:sp>
          <p:nvSpPr>
            <p:cNvPr id="76" name=""/>
            <p:cNvSpPr/>
            <p:nvPr/>
          </p:nvSpPr>
          <p:spPr>
            <a:xfrm>
              <a:off x="324000" y="357336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4000" y="378900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4000" y="400500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92360" y="378900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92360" y="400500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4000" y="443664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92360" y="443664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4000" y="494172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92360" y="494172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4000" y="378900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92360" y="378900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4000" y="544500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4000" y="357336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24000" y="566064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4M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4000" y="609408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4000" y="638136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826920" y="25416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ohne Versandmarkt (P1 und 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64000" y="2492280"/>
            <a:ext cx="1656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2000" y="2565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058920" y="256536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48000" y="25066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1989000"/>
            <a:ext cx="1656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4Me (Stück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560" y="1981080"/>
            <a:ext cx="128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1981080"/>
            <a:ext cx="14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 4 Entscheidungsfindun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EGS</cp:lastModifiedBy>
  <dcterms:modified xsi:type="dcterms:W3CDTF">2008-07-17T12:32:51Z</dcterms:modified>
  <cp:revision>18</cp:revision>
  <dc:subject/>
  <dc:title>Folie 1</dc:title>
</cp:coreProperties>
</file>