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AEB-12EE-4A8D-87E6-0F47310F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013-DA03-4A94-801F-AEB11E06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F02-5AFC-4B2D-969E-A1EBCD2B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0C0-DF1D-4E69-A35F-9458D91B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3A2-C70F-4DDC-B2FF-1E61700C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11B-95D9-4EEF-A522-E64776B0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D3B9-69B0-493E-B753-C82C7413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826-2092-4826-B531-32E51918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DA1-AAAF-42FD-B5DC-53E11D7B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9AB-50AB-49B4-AEC6-24D12D26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4086-8622-412B-A5A5-ED7DA481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345-AB0A-4B51-896A-B61D299E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0543-4FE4-4362-A49B-26CD6453E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2736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rketing-Mix (Laden / Vers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ES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1744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Charge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328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3280" y="111744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98108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3280" y="198108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413080"/>
            <a:ext cx="13665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3280" y="2413080"/>
            <a:ext cx="1366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328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4472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Verkauf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85800"/>
            <a:ext cx="273672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0587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843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698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58920" y="10587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843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788000" y="3722760"/>
            <a:ext cx="4033800" cy="1800000"/>
            <a:chOff x="4788000" y="3722760"/>
            <a:chExt cx="4033800" cy="1800000"/>
          </a:xfrm>
        </p:grpSpPr>
        <p:sp>
          <p:nvSpPr>
            <p:cNvPr id="60" name=""/>
            <p:cNvSpPr/>
            <p:nvPr/>
          </p:nvSpPr>
          <p:spPr>
            <a:xfrm>
              <a:off x="4788000" y="372276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084720" y="4227480"/>
              <a:ext cx="2519640" cy="142560"/>
              <a:chOff x="6084720" y="4227480"/>
              <a:chExt cx="2519640" cy="142560"/>
            </a:xfrm>
          </p:grpSpPr>
          <p:sp>
            <p:nvSpPr>
              <p:cNvPr id="62" name=""/>
              <p:cNvSpPr/>
              <p:nvPr/>
            </p:nvSpPr>
            <p:spPr>
              <a:xfrm>
                <a:off x="6084720" y="430020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96360" y="430020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7236000" y="4227480"/>
                <a:ext cx="144360" cy="142560"/>
                <a:chOff x="7236000" y="4227480"/>
                <a:chExt cx="144360" cy="1425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7236000" y="430020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308720" y="422748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" name=""/>
          <p:cNvGrpSpPr/>
          <p:nvPr/>
        </p:nvGrpSpPr>
        <p:grpSpPr>
          <a:xfrm>
            <a:off x="324000" y="3579840"/>
            <a:ext cx="2736720" cy="3095640"/>
            <a:chOff x="324000" y="3579840"/>
            <a:chExt cx="2736720" cy="3095640"/>
          </a:xfrm>
        </p:grpSpPr>
        <p:sp>
          <p:nvSpPr>
            <p:cNvPr id="68" name=""/>
            <p:cNvSpPr/>
            <p:nvPr/>
          </p:nvSpPr>
          <p:spPr>
            <a:xfrm>
              <a:off x="324000" y="357984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00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00" y="40114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236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92360" y="40114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000" y="444312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92360" y="444312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494820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92360" y="494820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9236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4000" y="54514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00" y="357984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566712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000" y="610056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638784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26920" y="260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421000"/>
            <a:ext cx="1440000" cy="13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25718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59280" y="2421000"/>
            <a:ext cx="1008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25131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692280"/>
            <a:ext cx="1657440" cy="1728720"/>
            <a:chOff x="3995640" y="692280"/>
            <a:chExt cx="1657440" cy="172872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692280"/>
              <a:ext cx="1657440" cy="1728720"/>
              <a:chOff x="3995640" y="692280"/>
              <a:chExt cx="1657440" cy="1728720"/>
            </a:xfrm>
          </p:grpSpPr>
          <p:sp>
            <p:nvSpPr>
              <p:cNvPr id="91" name=""/>
              <p:cNvSpPr/>
              <p:nvPr/>
            </p:nvSpPr>
            <p:spPr>
              <a:xfrm>
                <a:off x="3995640" y="692280"/>
                <a:ext cx="165600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. 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95640" y="1130400"/>
                <a:ext cx="165600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95640" y="1562040"/>
                <a:ext cx="165600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95640" y="692280"/>
                <a:ext cx="165744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995640" y="198900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96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557360"/>
            <a:ext cx="26636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Printwerbung(€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24T21:43:30Z</dcterms:modified>
  <cp:revision>24</cp:revision>
  <dc:subject/>
  <dc:title>Folie 1</dc:title>
</cp:coreProperties>
</file>