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Unternehm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e DRESS und 4M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6242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ES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Veredelte T-Shir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4M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Individuell gestaltet, richtige Handarbeit (Stückwa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ypische Kun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ypische Kun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4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, der sich etwas besonderes leisten kann oder wi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, der einem anderen etwas besonderes schenken will oder mu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skanä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dengeschäft: „Over the counter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ernetversand (ab Periode 3 vor allem 4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oßabnehmer (nur DR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90960" y="3787920"/>
            <a:ext cx="349272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63040" y="2592000"/>
            <a:ext cx="210096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sign – Index: 1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44400" y="5001840"/>
            <a:ext cx="246060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triebsmitarbeiter: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07800" y="2500560"/>
            <a:ext cx="1630080" cy="580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m Laden €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5001840"/>
            <a:ext cx="281268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bung 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€ 7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760" y="5949360"/>
            <a:ext cx="818352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bsatz P 0: 2000 Chargen DRESS p.a. im Ladengeschä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– Mix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zielle Werbung für das Versand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sign, Verarbeitung und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und 4Me kann durch den Einsatz eigener Designer verbesser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 Jahr 0 haben Sie 2 eigene Mitarbei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st angestel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und 4Me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m Versand (ab Periode 3) entstehen Einzelkost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Verpackung und Vers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können in neue Maschinen investier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5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0 Chargen pro Jah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1600" y="1929960"/>
            <a:ext cx="84711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-Shirt (Rohstoff für DR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olo-Shirt (Rohstoff für 4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bedruckte Polo-Shi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16 Euro pro Stü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70 Euro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6 Euro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-Shirt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3 Euro Lager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olo-Shirt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 Euro Lagerkosten (pro Charge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(Daten P0)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5800" y="1990800"/>
          <a:ext cx="7967880" cy="268596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Jahr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.000 EUR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00 EUR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00 EUR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000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 SHI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4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30200" y="4753080"/>
            <a:ext cx="79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* Wie sie diesen Werten entnehmen können, ist die Nutzungsdauer der Maschine nach P1 abgelaufen und eine Neuinvestition steht für P2 a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87320" y="1905120"/>
          <a:ext cx="7365960" cy="275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1905120"/>
                    <a:ext cx="73659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71480" y="4635360"/>
            <a:ext cx="7772400" cy="2032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 allg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500 pro MA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2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60.000 pro Jahr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95240" y="4564080"/>
            <a:ext cx="76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Jahresgehälter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8760" y="2570040"/>
          <a:ext cx="8464680" cy="1650960"/>
        </p:xfrm>
        <a:graphic>
          <a:graphicData uri="http://schemas.openxmlformats.org/drawingml/2006/table">
            <a:tbl>
              <a:tblPr/>
              <a:tblGrid>
                <a:gridCol w="2378160"/>
                <a:gridCol w="1241280"/>
                <a:gridCol w="1241640"/>
                <a:gridCol w="1241280"/>
                <a:gridCol w="1117440"/>
                <a:gridCol w="1244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 (in P0)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8760" y="1851120"/>
            <a:ext cx="83358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aus P0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, die während der 4 Spielperioden nicht getilgt werden und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7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Finanzschulden, die in der Folgeperiode getilgt werden müs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Langfristige 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önnen Sie nur bei Kauf einer neuen Maschine beantragen (die Maschine dient der Bank dann als Sicherheit),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kurzfristige 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jederzeit auf Ihren Entscheidungsbö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Überziehungs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werden Ihnen automatisch eingeräumt, sobald Ihr Kassenbestand den Wert vo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.000,-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unterschreit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32280" y="841320"/>
            <a:ext cx="1807920" cy="926280"/>
            <a:chOff x="4832280" y="841320"/>
            <a:chExt cx="1807920" cy="926280"/>
          </a:xfrm>
        </p:grpSpPr>
        <p:grpSp>
          <p:nvGrpSpPr>
            <p:cNvPr id="162" name=""/>
            <p:cNvGrpSpPr/>
            <p:nvPr/>
          </p:nvGrpSpPr>
          <p:grpSpPr>
            <a:xfrm>
              <a:off x="5100480" y="841320"/>
              <a:ext cx="1539720" cy="733320"/>
              <a:chOff x="5100480" y="841320"/>
              <a:chExt cx="1539720" cy="733320"/>
            </a:xfrm>
          </p:grpSpPr>
          <p:sp>
            <p:nvSpPr>
              <p:cNvPr id="163" name=""/>
              <p:cNvSpPr/>
              <p:nvPr/>
            </p:nvSpPr>
            <p:spPr>
              <a:xfrm>
                <a:off x="5100480" y="84132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00480" y="1143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06960" y="104616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00480" y="123336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06960" y="95544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11640" y="133020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97320" y="86976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97320" y="126180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97320" y="13586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97320" y="117144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2000" y="107460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02000" y="98424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36920" y="117612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36920" y="108576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41600" y="127296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1600" y="98892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48080" y="136368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48080" y="87444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98880" y="88092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05360" y="118260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10040" y="99540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05360" y="127944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05360" y="136980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27680" y="109224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65720" y="88740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59240" y="119988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65720" y="129060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65720" y="108576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59240" y="138744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76520" y="148428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80080" y="89856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73600" y="89208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62440" y="88740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86200" y="108576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86200" y="148428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86200" y="138744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86200" y="119988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86200" y="129060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80080" y="108576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80080" y="138744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80080" y="148428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80080" y="119988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0080" y="129060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62440" y="108576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9680" y="119988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0840" y="138744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25800" y="129060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30840" y="148428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57760" y="138744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57760" y="148428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62440" y="129060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57760" y="11998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832280" y="861840"/>
              <a:ext cx="509040" cy="786600"/>
              <a:chOff x="4832280" y="861840"/>
              <a:chExt cx="509040" cy="786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889520" y="1406160"/>
                <a:ext cx="439920" cy="242280"/>
                <a:chOff x="4889520" y="1406160"/>
                <a:chExt cx="439920" cy="242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890240" y="144252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89520" y="140616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890240" y="151812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24520" y="160632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12360" y="1614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193360" y="160884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79760" y="1575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328720" y="151200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47840" y="1584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93560" y="143928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29840" y="142128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832280" y="1334520"/>
                <a:ext cx="439200" cy="242280"/>
                <a:chOff x="4832280" y="1334520"/>
                <a:chExt cx="439200" cy="242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832280" y="137088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32280" y="133452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832280" y="144648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67640" y="153576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054040" y="154296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34320" y="153720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220720" y="150408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70760" y="144036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90600" y="15112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35240" y="136872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70800" y="134964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900680" y="1292040"/>
                <a:ext cx="440640" cy="242640"/>
                <a:chOff x="4900680" y="1292040"/>
                <a:chExt cx="440640" cy="242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901760" y="132948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900680" y="129204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901760" y="140508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034960" y="14936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22440" y="1500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02720" y="149472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0200" y="1463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40240" y="139788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59000" y="146988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003640" y="132624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39200" y="13075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884480" y="1238760"/>
                <a:ext cx="439920" cy="242280"/>
                <a:chOff x="4884480" y="1238760"/>
                <a:chExt cx="439920" cy="242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85200" y="127512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84480" y="123876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5200" y="135072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19480" y="143892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105880" y="144612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187240" y="144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74720" y="14083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323680" y="134460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43520" y="1414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7080" y="127296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24800" y="125280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868640" y="1159920"/>
                <a:ext cx="439920" cy="242640"/>
                <a:chOff x="4868640" y="1159920"/>
                <a:chExt cx="439920" cy="242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9360" y="119772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68640" y="115992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69360" y="127296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002920" y="1361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090040" y="1368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171400" y="1362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58880" y="133092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07840" y="126576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27680" y="1337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71240" y="119412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08960" y="117540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863600" y="1099800"/>
                <a:ext cx="439920" cy="242280"/>
                <a:chOff x="4863600" y="1099800"/>
                <a:chExt cx="439920" cy="242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4320" y="11358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63600" y="1099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864320" y="121140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997880" y="129996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85000" y="1308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166360" y="1301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253840" y="1269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02800" y="12056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22640" y="127728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66200" y="113364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03920" y="111492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832280" y="1015920"/>
                <a:ext cx="439200" cy="243720"/>
                <a:chOff x="4832280" y="1015920"/>
                <a:chExt cx="439200" cy="243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32280" y="105372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32280" y="101592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832280" y="112788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967640" y="1217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054040" y="1224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34320" y="121752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20720" y="118692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70760" y="112176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890600" y="1192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935240" y="105012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870800" y="103140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884480" y="931320"/>
                <a:ext cx="439920" cy="243720"/>
                <a:chOff x="4884480" y="931320"/>
                <a:chExt cx="439920" cy="243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885200" y="96876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884480" y="93132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885200" y="104436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019480" y="113292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05880" y="113976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87240" y="113292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274720" y="110196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23680" y="1038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943520" y="1109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987080" y="96552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24800" y="94788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889520" y="861840"/>
                <a:ext cx="439920" cy="239760"/>
                <a:chOff x="4889520" y="861840"/>
                <a:chExt cx="439920" cy="239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890240" y="89676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889520" y="86184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890240" y="97128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024520" y="105948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12360" y="10688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93360" y="106056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79760" y="102996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328720" y="96516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947840" y="103716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993560" y="89460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929840" y="87588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335200" y="1384200"/>
              <a:ext cx="620640" cy="383400"/>
              <a:chOff x="5335200" y="1384200"/>
              <a:chExt cx="620640" cy="3834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335200" y="1456560"/>
                <a:ext cx="536760" cy="311040"/>
                <a:chOff x="5335200" y="1456560"/>
                <a:chExt cx="536760" cy="311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335200" y="150372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335200" y="145656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335200" y="159948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99000" y="171468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05920" y="17222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03840" y="171612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810760" y="16736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870520" y="159192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06120" y="168264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61200" y="149904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382000" y="147456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418000" y="1384200"/>
                <a:ext cx="537840" cy="313560"/>
                <a:chOff x="5418000" y="1384200"/>
                <a:chExt cx="537840" cy="3135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420520" y="143244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418000" y="138420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19080" y="152964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84320" y="164484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88720" y="165384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788080" y="164628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895000" y="160416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954760" y="152352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89280" y="161460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45080" y="142956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465880" y="140508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44680" y="4863960"/>
          <a:ext cx="7839000" cy="1550880"/>
        </p:xfrm>
        <a:graphic>
          <a:graphicData uri="http://schemas.openxmlformats.org/drawingml/2006/table">
            <a:tbl>
              <a:tblPr/>
              <a:tblGrid>
                <a:gridCol w="6351480"/>
                <a:gridCol w="14875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ssatz fü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s p.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fristige Kred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rzfristige Kredite (fällig in Folgeperio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Überziehungskredite (fällig in Folgeperio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zanla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354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355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schiede zu Simulation 1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Produkte statt ein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Märkte ab Period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Periode entspricht 1 Jahr (nicht 1 Mona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chtsform: 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ieldauer: 4 Perioden (statt 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ndreichungsmaterial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548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554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" descr=""/>
          <p:cNvPicPr/>
          <p:nvPr/>
        </p:nvPicPr>
        <p:blipFill>
          <a:blip r:embed="rId3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sti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WHS</cp:lastModifiedBy>
  <cp:lastPrinted>1999-09-16T08:53:43Z</cp:lastPrinted>
  <dcterms:modified xsi:type="dcterms:W3CDTF">2008-07-22T08:52:53Z</dcterms:modified>
  <cp:revision>427</cp:revision>
  <dc:subject>Simulation I</dc:subject>
  <dc:title>TOPSIM Business Development LEU</dc:title>
</cp:coreProperties>
</file>