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CCF-65D9-4407-85BC-17570390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4B8-91B6-4E0B-AB97-0A18797A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57C-581D-46E8-A699-7DAE80D1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4D3-5087-4363-B40E-BC2C99F2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E95-8EED-4530-AAEB-9665639E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082-7B9E-4729-8D32-C979568C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5F0-9E65-477C-AB0D-330D035E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E14-60F3-4DCD-9471-D27FA514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8C6-6EDA-4B90-BA5A-AFEAC223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C76-A1B4-4F29-8F81-E455850A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FEF-9C5B-4919-B11B-625318E8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0A0-789C-4CA4-8899-35947320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2D16-24B0-420B-BD2B-019248826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 / Versan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7:32Z</dcterms:modified>
  <cp:revision>27</cp:revision>
  <dc:subject/>
  <dc:title>Folie 1</dc:title>
</cp:coreProperties>
</file>