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E22A-B24E-4F33-8808-8C07B0F4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2253-E696-45D6-9782-90238E51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E0E-861F-4CF6-AEC2-9F0FA77A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94F5-E0E2-4D29-8BA8-49E4E798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06DF-2187-4B85-9E3C-14AFD8CE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306F-4689-4DBB-80C7-245C4E5B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D01A-2CA8-44C3-8C35-3176F2F8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E466-FEA5-4103-8812-AC44042D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107F-2799-4569-8525-5B5D145F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E03E-79C5-454E-857D-02FAB69C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C20A-9D8B-493E-B35B-1EB6D26F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CBFD-3C22-4E2C-9027-ACDE0CD3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4 Entscheidungsfin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885D-961D-4C61-A296-FA7926A66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opsim.com/de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topsim.com/de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topsim.com/de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topsim.com/de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5760" y="3510000"/>
            <a:ext cx="60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37280" y="536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3080" y="10018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09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26160" y="4532400"/>
            <a:ext cx="4033800" cy="1800000"/>
            <a:chOff x="4826160" y="4532400"/>
            <a:chExt cx="4033800" cy="1800000"/>
          </a:xfrm>
        </p:grpSpPr>
        <p:sp>
          <p:nvSpPr>
            <p:cNvPr id="46" name=""/>
            <p:cNvSpPr/>
            <p:nvPr/>
          </p:nvSpPr>
          <p:spPr>
            <a:xfrm>
              <a:off x="4826160" y="453240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 Fertigung:  ____ Ch. DRESS       ____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____ 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122880" y="5037120"/>
              <a:ext cx="2519640" cy="142560"/>
              <a:chOff x="6122880" y="5037120"/>
              <a:chExt cx="2519640" cy="142560"/>
            </a:xfrm>
          </p:grpSpPr>
          <p:sp>
            <p:nvSpPr>
              <p:cNvPr id="48" name=""/>
              <p:cNvSpPr/>
              <p:nvPr/>
            </p:nvSpPr>
            <p:spPr>
              <a:xfrm>
                <a:off x="6122880" y="51098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4520" y="51098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7274160" y="5037120"/>
                <a:ext cx="144360" cy="142560"/>
                <a:chOff x="7274160" y="5037120"/>
                <a:chExt cx="144360" cy="1425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7274160" y="51098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346880" y="50371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" name=""/>
          <p:cNvGrpSpPr/>
          <p:nvPr/>
        </p:nvGrpSpPr>
        <p:grpSpPr>
          <a:xfrm>
            <a:off x="285840" y="3151080"/>
            <a:ext cx="2736720" cy="3095640"/>
            <a:chOff x="285840" y="3151080"/>
            <a:chExt cx="2736720" cy="3095640"/>
          </a:xfrm>
        </p:grpSpPr>
        <p:sp>
          <p:nvSpPr>
            <p:cNvPr id="54" name=""/>
            <p:cNvSpPr/>
            <p:nvPr/>
          </p:nvSpPr>
          <p:spPr>
            <a:xfrm>
              <a:off x="285840" y="31510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584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5840" y="35827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420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4200" y="35827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840" y="401436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4200" y="401436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840" y="451944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54200" y="451944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584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420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5840" y="502272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840" y="315108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840" y="523836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HOODY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840" y="567180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5840" y="595908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93880" y="1461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ohne Versandmarkt (P1 und 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6240" y="2868480"/>
            <a:ext cx="621000" cy="164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4760" y="762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39840" y="2887560"/>
            <a:ext cx="369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38320" y="2894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795840" y="539640"/>
            <a:ext cx="1657080" cy="1728720"/>
            <a:chOff x="3795840" y="539640"/>
            <a:chExt cx="1657080" cy="1728720"/>
          </a:xfrm>
        </p:grpSpPr>
        <p:grpSp>
          <p:nvGrpSpPr>
            <p:cNvPr id="76" name=""/>
            <p:cNvGrpSpPr/>
            <p:nvPr/>
          </p:nvGrpSpPr>
          <p:grpSpPr>
            <a:xfrm>
              <a:off x="3795840" y="539640"/>
              <a:ext cx="1657080" cy="1728720"/>
              <a:chOff x="3795840" y="539640"/>
              <a:chExt cx="1657080" cy="1728720"/>
            </a:xfrm>
          </p:grpSpPr>
          <p:sp>
            <p:nvSpPr>
              <p:cNvPr id="77" name=""/>
              <p:cNvSpPr/>
              <p:nvPr/>
            </p:nvSpPr>
            <p:spPr>
              <a:xfrm>
                <a:off x="3795840" y="539640"/>
                <a:ext cx="165564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95840" y="977760"/>
                <a:ext cx="165564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95840" y="1409400"/>
                <a:ext cx="165564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95840" y="539640"/>
                <a:ext cx="16570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795840" y="1836360"/>
              <a:ext cx="1655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4920" y="552600"/>
            <a:ext cx="2746080" cy="2152440"/>
            <a:chOff x="304920" y="552600"/>
            <a:chExt cx="2746080" cy="2152440"/>
          </a:xfrm>
        </p:grpSpPr>
        <p:sp>
          <p:nvSpPr>
            <p:cNvPr id="83" name=""/>
            <p:cNvSpPr/>
            <p:nvPr/>
          </p:nvSpPr>
          <p:spPr>
            <a:xfrm>
              <a:off x="304920" y="5526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 (Lade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92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9838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328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3280" y="9838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18475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3280" y="18475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92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328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280" y="2273040"/>
              <a:ext cx="2736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552600"/>
              <a:ext cx="2736720" cy="2152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96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12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1423800"/>
              <a:ext cx="26636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581360" y="228600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53160" y="1847880"/>
            <a:ext cx="47628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4880" y="214488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02000" y="2651040"/>
            <a:ext cx="3061440" cy="1728720"/>
            <a:chOff x="3402000" y="2651040"/>
            <a:chExt cx="3061440" cy="1728720"/>
          </a:xfrm>
        </p:grpSpPr>
        <p:grpSp>
          <p:nvGrpSpPr>
            <p:cNvPr id="101" name=""/>
            <p:cNvGrpSpPr/>
            <p:nvPr/>
          </p:nvGrpSpPr>
          <p:grpSpPr>
            <a:xfrm>
              <a:off x="3402000" y="2651040"/>
              <a:ext cx="3061440" cy="1728720"/>
              <a:chOff x="3402000" y="2651040"/>
              <a:chExt cx="3061440" cy="1728720"/>
            </a:xfrm>
          </p:grpSpPr>
          <p:sp>
            <p:nvSpPr>
              <p:cNvPr id="102" name=""/>
              <p:cNvSpPr/>
              <p:nvPr/>
            </p:nvSpPr>
            <p:spPr>
              <a:xfrm>
                <a:off x="3416400" y="2651040"/>
                <a:ext cx="3039120" cy="352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 Produktionsmen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16400" y="3003120"/>
                <a:ext cx="303912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DRESS (Chargen):    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16400" y="2651040"/>
                <a:ext cx="30412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02000" y="3348720"/>
                <a:ext cx="305136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DRESS (Chargen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4320" y="369576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2520" y="403740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05640" y="30002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TOPSIM Logo">
            <a:hlinkClick r:id="rId1"/>
          </p:cNvPr>
          <p:cNvPicPr/>
          <p:nvPr/>
        </p:nvPicPr>
        <p:blipFill>
          <a:blip r:embed="rId2"/>
          <a:srcRect l="0" t="16199" r="11879" b="0"/>
          <a:stretch/>
        </p:blipFill>
        <p:spPr>
          <a:xfrm>
            <a:off x="8556480" y="0"/>
            <a:ext cx="587520" cy="55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OPSIM Logo">
            <a:hlinkClick r:id="rId3"/>
          </p:cNvPr>
          <p:cNvPicPr/>
          <p:nvPr/>
        </p:nvPicPr>
        <p:blipFill>
          <a:blip r:embed="rId4"/>
          <a:srcRect l="17279" t="16199" r="11879" b="16199"/>
          <a:stretch/>
        </p:blipFill>
        <p:spPr>
          <a:xfrm>
            <a:off x="0" y="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OPSIM Logo">
            <a:hlinkClick r:id="rId5"/>
          </p:cNvPr>
          <p:cNvPicPr/>
          <p:nvPr/>
        </p:nvPicPr>
        <p:blipFill>
          <a:blip r:embed="rId6"/>
          <a:srcRect l="17279" t="16199" r="11879" b="16199"/>
          <a:stretch/>
        </p:blipFill>
        <p:spPr>
          <a:xfrm>
            <a:off x="0" y="640728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TOPSIM Logo">
            <a:hlinkClick r:id="rId7"/>
          </p:cNvPr>
          <p:cNvPicPr/>
          <p:nvPr/>
        </p:nvPicPr>
        <p:blipFill>
          <a:blip r:embed="rId8"/>
          <a:srcRect l="17279" t="16199" r="11879" b="16199"/>
          <a:stretch/>
        </p:blipFill>
        <p:spPr>
          <a:xfrm>
            <a:off x="8672400" y="6407280"/>
            <a:ext cx="4716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ws</cp:lastModifiedBy>
  <dcterms:modified xsi:type="dcterms:W3CDTF">2010-07-14T12:18:52Z</dcterms:modified>
  <cp:revision>28</cp:revision>
  <dc:subject/>
  <dc:title>Folie 1</dc:title>
</cp:coreProperties>
</file>