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F07-FA9C-4D1B-8AEC-D2AF4341F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C89D-9274-49E5-92AF-945CC8B4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C528-0AF4-4435-85B7-4942399B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2AC1-8259-48F9-9269-D5B9C10D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601-7703-4EB8-A385-455A9179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FF4B-B743-40D9-9A7D-A71F25BD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A649-B82E-4566-B0F4-320ED02A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614F-916C-4347-9293-6D6CCB2F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D1E0-CF5D-4156-90BD-F1930B2E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20DC-C90F-4B9F-A267-3FE74D6A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512B-1A42-4CB1-9862-FF641B30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212-62C4-45F8-8CEB-D644C486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F161-8187-479B-87CB-C45B3BEBD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 / Versan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7:32Z</dcterms:modified>
  <cp:revision>27</cp:revision>
  <dc:subject/>
  <dc:title>Folie 1</dc:title>
</cp:coreProperties>
</file>