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4592-37D9-48C1-AFAD-96D096E6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AFB2-8F33-4188-8762-BD193568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C9D9-1774-4218-B8D6-C0C301BB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B574-A636-42E4-8CB1-C5879F98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BBC8-DEB4-410F-93C4-7AD9B944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3C86-25EB-4F19-A327-94220B65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6742-35C2-4E6E-9C32-201E48FD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A17F-D4BE-4999-A59F-48B66F8C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C49E-3760-418E-AE96-25F693F8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66CD-2F73-4542-90C6-BB24537F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B1A6-C142-4547-B394-4E548D6D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424D-07C1-4FC6-948A-84E0FC61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1D1D-CBC0-4017-9EC6-704DAB1510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403280" y="2205000"/>
          <a:ext cx="5891400" cy="2160720"/>
        </p:xfrm>
        <a:graphic>
          <a:graphicData uri="http://schemas.openxmlformats.org/drawingml/2006/table">
            <a:tbl>
              <a:tblPr/>
              <a:tblGrid>
                <a:gridCol w="654120"/>
                <a:gridCol w="655560"/>
                <a:gridCol w="654120"/>
                <a:gridCol w="654120"/>
                <a:gridCol w="655560"/>
                <a:gridCol w="654120"/>
                <a:gridCol w="654120"/>
                <a:gridCol w="655560"/>
                <a:gridCol w="6541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42" name="Textfeld 12"/>
          <p:cNvSpPr/>
          <p:nvPr/>
        </p:nvSpPr>
        <p:spPr>
          <a:xfrm rot="5400000">
            <a:off x="3492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S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feld 3"/>
          <p:cNvSpPr/>
          <p:nvPr/>
        </p:nvSpPr>
        <p:spPr>
          <a:xfrm rot="5400000">
            <a:off x="6521400" y="2994480"/>
            <a:ext cx="216072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Z</a:t>
            </a:r>
            <a:r>
              <a:rPr b="1" lang="de-DE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4:45:58Z</dcterms:created>
  <dc:creator>Susanne Epp</dc:creator>
  <dc:description/>
  <dc:language>en-US</dc:language>
  <cp:lastModifiedBy>Anika</cp:lastModifiedBy>
  <dcterms:modified xsi:type="dcterms:W3CDTF">2017-09-29T12:26:38Z</dcterms:modified>
  <cp:revision>17</cp:revision>
  <dc:subject/>
  <dc:title>Folie 1</dc:title>
</cp:coreProperties>
</file>