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AFDA-6D8D-4432-AFD7-C71F22A5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A07C-D7AA-4FAE-A17D-26AA8C6A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A377-B38A-4225-9B48-163DA110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9B10-7103-495D-A020-82E64A0B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4C85-0543-4E59-A567-174088E3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424-A346-4FCB-8E36-962F5D3B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6EB-5986-4156-AF59-8F973027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F7DF-AEA7-4E2A-922A-C9A1CC89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29A-C309-4F74-9E65-F43DA1A1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2E07-E149-416A-92B2-F36CF8DA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AE2-0200-4BF1-9E4E-922B5609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F42-6958-417A-93C2-2EF97633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34C2-05FE-4676-9BCA-A1C529482D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3280" y="2205000"/>
          <a:ext cx="5891400" cy="2160720"/>
        </p:xfrm>
        <a:graphic>
          <a:graphicData uri="http://schemas.openxmlformats.org/drawingml/2006/table">
            <a:tbl>
              <a:tblPr/>
              <a:tblGrid>
                <a:gridCol w="654120"/>
                <a:gridCol w="655560"/>
                <a:gridCol w="65412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12"/>
          <p:cNvSpPr/>
          <p:nvPr/>
        </p:nvSpPr>
        <p:spPr>
          <a:xfrm rot="5400000">
            <a:off x="3492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3"/>
          <p:cNvSpPr/>
          <p:nvPr/>
        </p:nvSpPr>
        <p:spPr>
          <a:xfrm rot="5400000">
            <a:off x="652140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45:58Z</dcterms:created>
  <dc:creator>Susanne Epp</dc:creator>
  <dc:description/>
  <dc:language>en-US</dc:language>
  <cp:lastModifiedBy>Anika</cp:lastModifiedBy>
  <dcterms:modified xsi:type="dcterms:W3CDTF">2017-09-29T12:26:38Z</dcterms:modified>
  <cp:revision>17</cp:revision>
  <dc:subject/>
  <dc:title>Folie 1</dc:title>
</cp:coreProperties>
</file>