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49B2-F81F-481E-ABA5-D68E70FB2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E03C-2A43-4178-919C-DA712E6B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F9FC-5193-4968-8949-C8CFD5C0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814A-9532-4ACF-947F-EEE34E74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522B-4D2A-4FC9-AE50-05CE90DE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52BD-FF58-4AE3-9B8F-73F7BAED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DFF2-376D-4120-812E-C8696266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A6FA-62E1-480D-9EDE-AFD4F6B8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EE53-A74D-4EF8-AA3B-766F6A24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B802-7F19-441B-BD00-A724FA28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F347-8914-41F0-867C-5A528023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15A2-F0C6-462E-A93C-A8AEB6C5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84AF-E2F8-449F-B166-555B9F81835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03280" y="2205000"/>
          <a:ext cx="5891400" cy="2160720"/>
        </p:xfrm>
        <a:graphic>
          <a:graphicData uri="http://schemas.openxmlformats.org/drawingml/2006/table">
            <a:tbl>
              <a:tblPr/>
              <a:tblGrid>
                <a:gridCol w="654120"/>
                <a:gridCol w="655560"/>
                <a:gridCol w="654120"/>
                <a:gridCol w="654120"/>
                <a:gridCol w="655560"/>
                <a:gridCol w="654120"/>
                <a:gridCol w="654120"/>
                <a:gridCol w="655560"/>
                <a:gridCol w="65412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19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42" name="Textfeld 12"/>
          <p:cNvSpPr/>
          <p:nvPr/>
        </p:nvSpPr>
        <p:spPr>
          <a:xfrm rot="5400000">
            <a:off x="34920" y="2994480"/>
            <a:ext cx="216072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S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feld 3"/>
          <p:cNvSpPr/>
          <p:nvPr/>
        </p:nvSpPr>
        <p:spPr>
          <a:xfrm rot="5400000">
            <a:off x="6521400" y="2994480"/>
            <a:ext cx="216072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Z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4:45:58Z</dcterms:created>
  <dc:creator>Susanne Epp</dc:creator>
  <dc:description/>
  <dc:language>en-US</dc:language>
  <cp:lastModifiedBy>Anika</cp:lastModifiedBy>
  <dcterms:modified xsi:type="dcterms:W3CDTF">2017-09-29T12:26:38Z</dcterms:modified>
  <cp:revision>17</cp:revision>
  <dc:subject/>
  <dc:title>Folie 1</dc:title>
</cp:coreProperties>
</file>