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2D66-5A9D-40CB-A3D6-E51027975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A184-1C2D-4614-BF0A-E404DF5F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B8D9-3072-40D0-AAAA-221AC1EE5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1045-C0D9-48BD-B973-02A084C65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322B-F6CF-4E22-9515-BB9256EA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E66E-8D5C-4EE9-A2DB-4F3B6763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1B1A-C900-449B-83C1-3806C1D0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326F-12A2-4AFF-8062-8E203091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57AD-1268-4A6B-A605-141270DD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D6C7-7FF5-403F-B961-ACD62AC4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3D9C-03AE-4F1D-AEB6-E289FA30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E8CC-D9A4-42E9-834D-B4B2C51B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D1A4-A187-4C85-8747-DE2F8AB60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image" Target="../media/image3.jpe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nfang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2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3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4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5715000"/>
            <a:ext cx="6019920" cy="8240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urch Anklicken der links stehenden, grün eingefärbten, interaktiven Schaltflächen kannst Du dir die anatomischen Strukturen des menschlichen Linsenauges anzeigen lass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9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Über den Ziliarmuskel ist die Wölbung der Linse einstellbar. ( Ringmuskel kontrahiert - Linse abgekugelt Ringmuskel erschlafft - Linse abgeflacht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12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29400" y="3505320"/>
            <a:ext cx="609480" cy="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r blinde Fleck charakterisiert die Austrittsstelle des Sehnerven. An dieser Stelle ist keine Sehwahrnehmung mögli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11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r gelbe Fleck charakterisiert die Stelle der höchsten Sehwahrnehmung. Hier befinden sich ca. 300 000 Sinneszell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553080" y="2819160"/>
            <a:ext cx="762120" cy="228600"/>
          </a:xfrm>
          <a:prstGeom prst="line">
            <a:avLst/>
          </a:prstGeom>
          <a:ln w="5724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10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rId3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4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rId5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rId6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Regenbogenhaut (Iris) legt durch Einlagerung von Farbstoffen, die individuelle Augenfarbe und Struktur fest. Das Loch in der Iris wird als Pupille bezeichn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durchsichtige Hornhaut (Cornea) ist an der Brechung des Lichtes beteiligt und somit ein Bestandteil des dioptrischen Appara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2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5715000"/>
            <a:ext cx="609588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weiße Augenhaut (Lederhaut) umgibt das restliche Auge. An ihr setzen die Augenmuskeln an, die eine Drehung und somit eine Änderung der Blickrichtung ermöglich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3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5715000"/>
            <a:ext cx="60195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an der Innenseite der weißen Augenhaut anliegenden Aderhaut besitzt zahlreiche Blutgefäße und  versorgt das Auge mit Nährstoffen und Sauerstof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4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Netzhaut (Retina) enthält die Lichtsinneszellen. Ihre ableitenden Nervenbahnen bilden den Sehnerv, der die Seheindrücke an das Gehirn weitergib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5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Linse ist glasklaren und  verformbar. Sie ermöglicht eine Veränderung der Lichtbrechung durch Abflachung oder Abkugelung und ist Teil des dioptrischen Appara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6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hintere Augenkammer ist gefüllt mit einer gallertigen, glasklaren Substanz, die dem Auge Form und Stabilität verleiht. Sie ist ein Teil des dioptrischen Appara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7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vordere Augenkammer ist mit glasklarem Kammer-wasser gefüllt und an der Lichtbrechung beteiligt. Sie ist ein Teil des dioptrischen Appara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8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Linsenbänder sind auf der einen Seite mit der Linse und auf der anderen Seite mit dem Ziliarmuskel, einem Ringmuskel,  verbun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5T20:23:42Z</dcterms:created>
  <dc:creator>Walter Bogner</dc:creator>
  <dc:description/>
  <dc:language>en-US</dc:language>
  <cp:lastModifiedBy>Walter Bogner</cp:lastModifiedBy>
  <dcterms:modified xsi:type="dcterms:W3CDTF">2001-12-29T13:32:42Z</dcterms:modified>
  <cp:revision>8</cp:revision>
  <dc:subject/>
  <dc:title>Kein Folientitel</dc:title>
</cp:coreProperties>
</file>