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15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D18C-9450-46F8-9F10-80C08D654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F5DB-ADD7-4633-B909-6F1DEBCD6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EA7-F589-4189-997C-268509CA7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00BE-8E86-4B31-953A-FA758551A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3CD3-C180-4685-AB6C-9E60DA27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94BD-CFD6-4CA9-85E2-C28D2C9AC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5421-B9C6-4EFB-9867-807508AEE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0C90-F276-440C-905D-A1E820888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FBAA-4279-4A8A-B420-8E53B0BD4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7EE7-37CE-4C74-B250-2862477E3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B7FE-FBA5-4002-8D49-7F1CFA480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F5C3-738C-4D60-A8D0-D1094A884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0F687-0A00-4DC9-ACB8-5038C8D3FD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8.xml"/><Relationship Id="rId10" Type="http://schemas.openxmlformats.org/officeDocument/2006/relationships/slide" Target="slide9.xml"/><Relationship Id="rId11" Type="http://schemas.openxmlformats.org/officeDocument/2006/relationships/slide" Target="slide10.xml"/><Relationship Id="rId12" Type="http://schemas.openxmlformats.org/officeDocument/2006/relationships/slide" Target="slide11.xml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2.xml"/><Relationship Id="rId6" Type="http://schemas.openxmlformats.org/officeDocument/2006/relationships/slide" Target="slide3.xml"/><Relationship Id="rId7" Type="http://schemas.openxmlformats.org/officeDocument/2006/relationships/image" Target="../media/image3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3.jpeg"/><Relationship Id="rId4" Type="http://schemas.openxmlformats.org/officeDocument/2006/relationships/slide" Target="slide6.xml"/><Relationship Id="rId5" Type="http://schemas.openxmlformats.org/officeDocument/2006/relationships/slide" Target="slide7.xml"/><Relationship Id="rId6" Type="http://schemas.openxmlformats.org/officeDocument/2006/relationships/slide" Target="slide2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5.xml"/><Relationship Id="rId10" Type="http://schemas.openxmlformats.org/officeDocument/2006/relationships/slide" Target="slide8.xml"/><Relationship Id="rId11" Type="http://schemas.openxmlformats.org/officeDocument/2006/relationships/slide" Target="slide9.xml"/><Relationship Id="rId12" Type="http://schemas.openxmlformats.org/officeDocument/2006/relationships/slide" Target="slide10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3.xm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nfang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42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7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8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9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10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rId11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rId12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>
            <a:hlinkClick r:id="rId13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>
            <a:hlinkClick r:id="rId14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5715000"/>
            <a:ext cx="6019920" cy="8240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urch Anklicken der links stehenden, grün eingefärbten, interaktiven Schaltflächen kannst Du dir die anatomischen Strukturen des menschlichen Linsenauges anzeigen lass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9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Über den Ziliarmuskel ist die Wölbung der Linse einstellbar. ( Ringmuskel kontrahiert - Linse abgekugelt Ringmuskel erschlafft - Linse abgeflacht 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1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629400" y="3505320"/>
            <a:ext cx="609480" cy="0"/>
          </a:xfrm>
          <a:prstGeom prst="line">
            <a:avLst/>
          </a:prstGeom>
          <a:ln w="5724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blinde Fleck charakterisiert die Austrittsstelle des Sehnerven. An dieser Stelle ist keine Sehwahrnehmung möglic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1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er gelbe Fleck charakterisiert die Stelle der höchsten Sehwahrnehmung. Hier befinden sich ca. 300 000 Sinneszelle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6553080" y="2819160"/>
            <a:ext cx="762120" cy="228600"/>
          </a:xfrm>
          <a:prstGeom prst="line">
            <a:avLst/>
          </a:prstGeom>
          <a:ln w="57240">
            <a:solidFill>
              <a:srgbClr val="ff7c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10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>
            <a:hlinkClick r:id="rId5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6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Regenbogenhaut (Iris) legt durch Einlagerung von Farbstoffen, die individuelle Augenfarbe und Struktur fest. Das Loch in der Iris wird als Pupille bezeichne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1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durchsichtige Hornhaut (Cornea) ist an der Brechung des Lichtes beteiligt und somit ein Bestand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2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19520" y="5715000"/>
            <a:ext cx="609588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weiße Augenhaut (Lederhaut) umgibt das restliche Auge. An ihr setzen die Augenmuskeln an, die eine Drehung und somit eine Änderung der Blickrichtung ermöglich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19520" y="5715000"/>
            <a:ext cx="60195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an der Innenseite der weißen Augenhaut anliegenden Aderhaut besitzt zahlreiche Blutgefäße und  versorgt das Auge mit Nährstoffen und Sauerstof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4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Netzhaut (Retina) enthält die Lichtsinneszellen. Ihre ableitenden Nervenbahnen bilden den Sehnerv, der die Seheindrücke an das Gehirn weitergib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5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 ist glasklaren und  verformbar. Sie ermöglicht eine Veränderung der Lichtbrechung durch Abflachung oder Abkugelung und ist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6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hintere Augenkammer ist gefüllt mit einer gallertigen, glasklaren Substanz, die dem Auge Form und Stabilität verleiht. Sie ist ein Teil des dioptrischen Appara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7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vordere Augenkammer ist mit glasklarem Kammer-wasser gefüllt und an der Lichtbrechung beteiligt. Sie ist ein Teil des dioptrischen Appar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8" descr=""/>
          <p:cNvPicPr/>
          <p:nvPr/>
        </p:nvPicPr>
        <p:blipFill>
          <a:blip r:embed="rId2"/>
          <a:stretch/>
        </p:blipFill>
        <p:spPr>
          <a:xfrm>
            <a:off x="3048120" y="1143000"/>
            <a:ext cx="5895720" cy="41720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8120" y="304920"/>
            <a:ext cx="5790960" cy="5205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cc0000"/>
                </a:solidFill>
                <a:latin typeface="Arial"/>
              </a:rPr>
              <a:t>ANATOMIE DES LINSENAU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048120" y="5715000"/>
            <a:ext cx="5790960" cy="824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Die Linsenbänder sind auf der einen Seite mit der Linse und auf der anderen Seite mit dem Ziliarmuskel, einem Ringmuskel,  verbund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4" action="ppaction://hlinksldjump"/>
          </p:cNvPr>
          <p:cNvSpPr/>
          <p:nvPr/>
        </p:nvSpPr>
        <p:spPr>
          <a:xfrm>
            <a:off x="304920" y="24382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5" action="ppaction://hlinksldjump"/>
          </p:cNvPr>
          <p:cNvSpPr/>
          <p:nvPr/>
        </p:nvSpPr>
        <p:spPr>
          <a:xfrm>
            <a:off x="304920" y="29718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HIN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6" action="ppaction://hlinksldjump"/>
          </p:cNvPr>
          <p:cNvSpPr/>
          <p:nvPr/>
        </p:nvSpPr>
        <p:spPr>
          <a:xfrm>
            <a:off x="304920" y="3049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KLAR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rId7" action="ppaction://hlinksldjump"/>
          </p:cNvPr>
          <p:cNvSpPr/>
          <p:nvPr/>
        </p:nvSpPr>
        <p:spPr>
          <a:xfrm>
            <a:off x="304920" y="8380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WEISSE AU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rId8" action="ppaction://hlinksldjump"/>
          </p:cNvPr>
          <p:cNvSpPr/>
          <p:nvPr/>
        </p:nvSpPr>
        <p:spPr>
          <a:xfrm>
            <a:off x="304920" y="13716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DER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>
            <a:hlinkClick r:id="rId9" action="ppaction://hlinksldjump"/>
          </p:cNvPr>
          <p:cNvSpPr/>
          <p:nvPr/>
        </p:nvSpPr>
        <p:spPr>
          <a:xfrm>
            <a:off x="304920" y="19051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NETZ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>
            <a:hlinkClick r:id="rId10" action="ppaction://hlinksldjump"/>
          </p:cNvPr>
          <p:cNvSpPr/>
          <p:nvPr/>
        </p:nvSpPr>
        <p:spPr>
          <a:xfrm>
            <a:off x="304920" y="35053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VOR. AUGENKAMM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>
            <a:hlinkClick r:id="rId11" action="ppaction://hlinksldjump"/>
          </p:cNvPr>
          <p:cNvSpPr/>
          <p:nvPr/>
        </p:nvSpPr>
        <p:spPr>
          <a:xfrm>
            <a:off x="304920" y="40384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LINSENBÄN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>
            <a:hlinkClick r:id="rId12" action="ppaction://hlinksldjump"/>
          </p:cNvPr>
          <p:cNvSpPr/>
          <p:nvPr/>
        </p:nvSpPr>
        <p:spPr>
          <a:xfrm>
            <a:off x="304920" y="45720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ZILIARMUSK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>
            <a:hlinkClick r:id="rId13" action="ppaction://hlinksldjump"/>
          </p:cNvPr>
          <p:cNvSpPr/>
          <p:nvPr/>
        </p:nvSpPr>
        <p:spPr>
          <a:xfrm>
            <a:off x="304920" y="510552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BLIND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rId14" action="ppaction://hlinksldjump"/>
          </p:cNvPr>
          <p:cNvSpPr/>
          <p:nvPr/>
        </p:nvSpPr>
        <p:spPr>
          <a:xfrm>
            <a:off x="304920" y="5638680"/>
            <a:ext cx="2286000" cy="38124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29417" h="21600">
                <a:moveTo>
                  <a:pt x="0" y="0"/>
                </a:moveTo>
                <a:lnTo>
                  <a:pt x="129417" y="0"/>
                </a:lnTo>
                <a:lnTo>
                  <a:pt x="129417" y="21600"/>
                </a:lnTo>
                <a:lnTo>
                  <a:pt x="0" y="21600"/>
                </a:lnTo>
                <a:close/>
              </a:path>
              <a:path fill="lightenLess" w="129417" h="21600">
                <a:moveTo>
                  <a:pt x="0" y="0"/>
                </a:moveTo>
                <a:lnTo>
                  <a:pt x="129417" y="0"/>
                </a:lnTo>
                <a:lnTo>
                  <a:pt x="128017" y="1400"/>
                </a:lnTo>
                <a:lnTo>
                  <a:pt x="1400" y="1400"/>
                </a:lnTo>
                <a:close/>
              </a:path>
              <a:path fill="darken" w="129417" h="21600">
                <a:moveTo>
                  <a:pt x="129417" y="0"/>
                </a:moveTo>
                <a:lnTo>
                  <a:pt x="129417" y="21600"/>
                </a:lnTo>
                <a:lnTo>
                  <a:pt x="128017" y="20200"/>
                </a:lnTo>
                <a:lnTo>
                  <a:pt x="128017" y="1400"/>
                </a:lnTo>
                <a:close/>
              </a:path>
              <a:path fill="darkenLess" w="129417" h="21600">
                <a:moveTo>
                  <a:pt x="1294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17" y="20200"/>
                </a:lnTo>
                <a:close/>
              </a:path>
              <a:path fill="lighten" w="1294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GELBER FLE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>
            <a:hlinkClick r:id="rId15" action="ppaction://hlinksldjump"/>
          </p:cNvPr>
          <p:cNvSpPr/>
          <p:nvPr/>
        </p:nvSpPr>
        <p:spPr>
          <a:xfrm>
            <a:off x="304920" y="6172200"/>
            <a:ext cx="2286000" cy="380880"/>
          </a:xfrm>
          <a:custGeom>
            <a:avLst/>
            <a:gdLst>
              <a:gd name="textAreaLeft" fmla="*/ 24480 w 2286000"/>
              <a:gd name="textAreaRight" fmla="*/ 2261520 w 22860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129539" h="21600">
                <a:moveTo>
                  <a:pt x="0" y="0"/>
                </a:moveTo>
                <a:lnTo>
                  <a:pt x="129539" y="0"/>
                </a:lnTo>
                <a:lnTo>
                  <a:pt x="129539" y="21600"/>
                </a:lnTo>
                <a:lnTo>
                  <a:pt x="0" y="21600"/>
                </a:lnTo>
                <a:close/>
              </a:path>
              <a:path fill="lightenLess" w="129539" h="21600">
                <a:moveTo>
                  <a:pt x="0" y="0"/>
                </a:moveTo>
                <a:lnTo>
                  <a:pt x="129539" y="0"/>
                </a:lnTo>
                <a:lnTo>
                  <a:pt x="128139" y="1400"/>
                </a:lnTo>
                <a:lnTo>
                  <a:pt x="1400" y="1400"/>
                </a:lnTo>
                <a:close/>
              </a:path>
              <a:path fill="darken" w="129539" h="21600">
                <a:moveTo>
                  <a:pt x="129539" y="0"/>
                </a:moveTo>
                <a:lnTo>
                  <a:pt x="129539" y="21600"/>
                </a:lnTo>
                <a:lnTo>
                  <a:pt x="128139" y="20200"/>
                </a:lnTo>
                <a:lnTo>
                  <a:pt x="128139" y="1400"/>
                </a:lnTo>
                <a:close/>
              </a:path>
              <a:path fill="darkenLess" w="129539" h="21600">
                <a:moveTo>
                  <a:pt x="1295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139" y="20200"/>
                </a:lnTo>
                <a:close/>
              </a:path>
              <a:path fill="lighten" w="1295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83dbaf"/>
              </a:gs>
              <a:gs pos="50000">
                <a:srgbClr val="99ffcc"/>
              </a:gs>
              <a:gs pos="100000">
                <a:srgbClr val="83dba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REGENBOGENHA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>
            <a:hlinkClick r:id="" action="ppaction://hlinkshowjump?jump=firstslide"/>
          </p:cNvPr>
          <p:cNvSpPr/>
          <p:nvPr/>
        </p:nvSpPr>
        <p:spPr>
          <a:xfrm>
            <a:off x="8534520" y="990720"/>
            <a:ext cx="304560" cy="30456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25T20:23:42Z</dcterms:created>
  <dc:creator>Walter Bogner</dc:creator>
  <dc:description/>
  <dc:language>en-US</dc:language>
  <cp:lastModifiedBy>Walter Bogner</cp:lastModifiedBy>
  <dcterms:modified xsi:type="dcterms:W3CDTF">2001-12-29T13:32:42Z</dcterms:modified>
  <cp:revision>8</cp:revision>
  <dc:subject/>
  <dc:title>Kein Folientitel</dc:title>
</cp:coreProperties>
</file>