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626A-5B57-4A05-937B-BDB9B1C8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F7F-33F0-45FD-85B8-6150526A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C2B4-4A15-407E-88EE-EF4DAD96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82D1-51BE-48AE-919F-C10D5298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8A1D-CD4B-4622-894D-96531331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15D5-A774-40D1-AD69-41639CDC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A314-5694-40B4-A87C-AAC05F15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84EB-2175-481D-9AA8-CC15BBEC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6D6B-8A96-4497-AED9-4DEA4AE3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3594-501C-4486-906C-05F3FFBB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A3F4-8E66-48FB-A5E2-0887B720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3186-5AB4-476D-AA46-73D4F38C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948E-0812-47E1-9A32-17738D60F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fang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715000"/>
            <a:ext cx="6019920" cy="8240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urch Anklicken der links stehenden, grün eingefärbten, interaktiven Schaltflächen kannst Du dir die anatomischen Strukturen des menschlichen Linsenauges anzeigen las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9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Über den Ziliarmuskel ist die Wölbung der Linse einstellbar. ( Ringmuskel kontrahiert - Linse abgekugelt Ringmuskel erschlafft - Linse abgeflacht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12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29400" y="3505320"/>
            <a:ext cx="609480" cy="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blinde Fleck charakterisiert die Austrittsstelle des Sehnerven. An dieser Stelle ist keine Sehwahrnehmung mögli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11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gelbe Fleck charakterisiert die Stelle der höchsten Sehwahrnehmung. Hier befinden sich ca. 300 000 Sinneszel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553080" y="2819160"/>
            <a:ext cx="762120" cy="22860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10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3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5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6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Regenbogenhaut (Iris) legt durch Einlagerung von Farbstoffen, die individuelle Augenfarbe und Struktur fest. Das Loch in der Iris wird als Pupille bezeichn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durchsichtige Hornhaut (Cornea) ist an der Brechung des Lichtes beteiligt und somit ein Bestand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2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5715000"/>
            <a:ext cx="609588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weiße Augenhaut (Lederhaut) umgibt das restliche Auge. An ihr setzen die Augenmuskeln an, die eine Drehung und somit eine Änderung der Blickrichtung ermöglic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3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5715000"/>
            <a:ext cx="60195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an der Innenseite der weißen Augenhaut anliegenden Aderhaut besitzt zahlreiche Blutgefäße und  versorgt das Auge mit Nährstoffen und Sauerstof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4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Netzhaut (Retina) enthält die Lichtsinneszellen. Ihre ableitenden Nervenbahnen bilden den Sehnerv, der die Seheindrücke an das Gehirn weitergib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5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Linse ist glasklaren und  verformbar. Sie ermöglicht eine Veränderung der Lichtbrechung durch Abflachung oder Abkugelung und ist 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hintere Augenkammer ist gefüllt mit einer gallertigen, glasklaren Substanz, die dem Auge Form und Stabilität verleiht. Sie ist ein 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7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vordere Augenkammer ist mit glasklarem Kammer-wasser gefüllt und an der Lichtbrechung beteiligt. Sie ist ein Teil des dioptrischen Appar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8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Linsenbänder sind auf der einen Seite mit der Linse und auf der anderen Seite mit dem Ziliarmuskel, einem Ringmuskel,  verbun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5T20:23:42Z</dcterms:created>
  <dc:creator>Walter Bogner</dc:creator>
  <dc:description/>
  <dc:language>en-US</dc:language>
  <cp:lastModifiedBy>Walter Bogner</cp:lastModifiedBy>
  <dcterms:modified xsi:type="dcterms:W3CDTF">2001-12-29T13:32:42Z</dcterms:modified>
  <cp:revision>8</cp:revision>
  <dc:subject/>
  <dc:title>Kein Folientitel</dc:title>
</cp:coreProperties>
</file>