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Kongress: Vielfalt des Lernens                                    Individuelle Förderung an beruflichen Schulen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21.11.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Forum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147A-F574-49E1-AF35-2A9DCA47462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037D-5571-4700-A9D1-F908EB719AE5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577-4D5E-4D61-839A-196CC9B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06C-39F8-47B4-B8BB-3A81BFD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847-8DB7-45F1-94D6-84BC709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9EB-795D-426A-AEBD-738BDA03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665-9AED-48B2-BAB7-39963349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C42-FAE8-4548-ABB6-719808B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B23-DCC1-48E4-8593-22DE9B0D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194-B0E9-4694-B7B5-E891A194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8E6-C3C3-4E21-BF53-977FF7F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E72-F53E-4CA3-AE5E-C4CD3970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CB6-2C5B-4B12-9F48-B208E9E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77D-DECB-481A-901B-1519215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D471-CC4B-4788-8083-7565C0CF47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chule-bw.de/schularten/berufliche_schulen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feld 6"/>
          <p:cNvSpPr/>
          <p:nvPr/>
        </p:nvSpPr>
        <p:spPr>
          <a:xfrm>
            <a:off x="371520" y="254160"/>
            <a:ext cx="8669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hteck 3"/>
          <p:cNvSpPr/>
          <p:nvPr/>
        </p:nvSpPr>
        <p:spPr>
          <a:xfrm>
            <a:off x="744480" y="158760"/>
            <a:ext cx="83995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"/>
              </a:rPr>
              <a:t>Das Lernen im Zen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ndividuelle Förderung an beruflichen Schu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Kongress am 05. März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"/>
              </a:rPr>
              <a:t>Forum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de-DE" sz="4800" spc="-1" strike="noStrike">
                <a:solidFill>
                  <a:srgbClr val="c00000"/>
                </a:solidFill>
                <a:latin typeface="Calibri"/>
                <a:ea typeface="Arial"/>
              </a:rPr>
              <a:t>Lernha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 für d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Planung und Durchführu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kompetenzorientierte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Unterrichtseinheit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zur individuellen Förder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Manuela Droll – Hans-Joachim Tomer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697040" y="747720"/>
            <a:ext cx="536400" cy="225360"/>
          </a:xfrm>
          <a:prstGeom prst="rect">
            <a:avLst/>
          </a:prstGeom>
          <a:ln w="0">
            <a:noFill/>
          </a:ln>
        </p:spPr>
      </p:pic>
      <p:sp>
        <p:nvSpPr>
          <p:cNvPr id="51" name="Gleichschenkliges Dreieck 1"/>
          <p:cNvSpPr/>
          <p:nvPr/>
        </p:nvSpPr>
        <p:spPr>
          <a:xfrm>
            <a:off x="1432080" y="2235240"/>
            <a:ext cx="2263680" cy="112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2"/>
          <p:cNvSpPr/>
          <p:nvPr/>
        </p:nvSpPr>
        <p:spPr>
          <a:xfrm>
            <a:off x="1577880" y="3363840"/>
            <a:ext cx="1970280" cy="1828800"/>
          </a:xfrm>
          <a:prstGeom prst="rect">
            <a:avLst/>
          </a:prstGeom>
          <a:gradFill rotWithShape="0">
            <a:gsLst>
              <a:gs pos="0">
                <a:srgbClr val="2d5cad"/>
              </a:gs>
              <a:gs pos="100000">
                <a:srgbClr val="e1e8f5"/>
              </a:gs>
            </a:gsLst>
            <a:lin ang="2700000"/>
          </a:gradFill>
          <a:ln w="15840">
            <a:solidFill>
              <a:srgbClr val="000000"/>
            </a:solidFill>
            <a:miter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3840" y="1736280"/>
            <a:ext cx="84438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sp>
        <p:nvSpPr>
          <p:cNvPr id="153" name="Textfeld 3"/>
          <p:cNvSpPr/>
          <p:nvPr/>
        </p:nvSpPr>
        <p:spPr>
          <a:xfrm>
            <a:off x="4233960" y="4832280"/>
            <a:ext cx="40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784080" y="1571760"/>
            <a:ext cx="9064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417600" y="890640"/>
          <a:ext cx="8318520" cy="5334120"/>
        </p:xfrm>
        <a:graphic>
          <a:graphicData uri="http://schemas.openxmlformats.org/drawingml/2006/table">
            <a:tbl>
              <a:tblPr/>
              <a:tblGrid>
                <a:gridCol w="2509920"/>
                <a:gridCol w="58086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fbau von Kompetenz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hkompete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erung von Vorwis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mittlung von Grundlagen (Begriffe/Struktur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atisierung von Zusammenhän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odenkompete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wendung von fachspezifischen Metho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Übungsaufgaben verschiedener Schwierigkeits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- u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zialkompete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probung individueller Fertigkeiten und Einstellungen im sozialen Kontext der Kla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ungskompete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on der Teilkompetenzen und Anwendung auf komplexe Aufgaben in Handlungssitu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rnproz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estufter oder sprunghafter Kompetenzerwerb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ystematisches oder intuitives Lerne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Vom Wissen zum Handeln oder vom Handeln zum Wisse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31720" y="1003320"/>
            <a:ext cx="127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Idealtypischer Aufbau einer Unterrichtsei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5320" y="1453680"/>
            <a:ext cx="84438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2" descr="Bildschirmausschnitt"/>
          <p:cNvPicPr/>
          <p:nvPr/>
        </p:nvPicPr>
        <p:blipFill>
          <a:blip r:embed="rId2"/>
          <a:stretch/>
        </p:blipFill>
        <p:spPr>
          <a:xfrm>
            <a:off x="4567320" y="2948040"/>
            <a:ext cx="9360" cy="961920"/>
          </a:xfrm>
          <a:prstGeom prst="rect">
            <a:avLst/>
          </a:prstGeom>
          <a:ln w="0">
            <a:noFill/>
          </a:ln>
        </p:spPr>
      </p:pic>
      <p:pic>
        <p:nvPicPr>
          <p:cNvPr id="166" name="Grafik 4" descr="Bildschirmausschnitt"/>
          <p:cNvPicPr/>
          <p:nvPr/>
        </p:nvPicPr>
        <p:blipFill>
          <a:blip r:embed="rId3"/>
          <a:stretch/>
        </p:blipFill>
        <p:spPr>
          <a:xfrm>
            <a:off x="2619360" y="1544760"/>
            <a:ext cx="6175440" cy="4136760"/>
          </a:xfrm>
          <a:prstGeom prst="rect">
            <a:avLst/>
          </a:prstGeom>
          <a:ln w="0">
            <a:noFill/>
          </a:ln>
        </p:spPr>
      </p:pic>
      <p:sp>
        <p:nvSpPr>
          <p:cNvPr id="167" name="Textfeld 5"/>
          <p:cNvSpPr/>
          <p:nvPr/>
        </p:nvSpPr>
        <p:spPr>
          <a:xfrm>
            <a:off x="822240" y="171612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13. + 14. Stu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feld 21"/>
          <p:cNvSpPr/>
          <p:nvPr/>
        </p:nvSpPr>
        <p:spPr>
          <a:xfrm>
            <a:off x="822240" y="242244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11. + 12. Stu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feld 22"/>
          <p:cNvSpPr/>
          <p:nvPr/>
        </p:nvSpPr>
        <p:spPr>
          <a:xfrm>
            <a:off x="822240" y="322740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5. - 10. Stu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feld 23"/>
          <p:cNvSpPr/>
          <p:nvPr/>
        </p:nvSpPr>
        <p:spPr>
          <a:xfrm>
            <a:off x="822240" y="464976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3. + 4. Stu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feld 24"/>
          <p:cNvSpPr/>
          <p:nvPr/>
        </p:nvSpPr>
        <p:spPr>
          <a:xfrm>
            <a:off x="754200" y="5175360"/>
            <a:ext cx="17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1. + 2. Stu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feil nach rechts 3"/>
          <p:cNvSpPr/>
          <p:nvPr/>
        </p:nvSpPr>
        <p:spPr>
          <a:xfrm>
            <a:off x="1141560" y="5783400"/>
            <a:ext cx="7480080" cy="645840"/>
          </a:xfrm>
          <a:prstGeom prst="rightArrow">
            <a:avLst>
              <a:gd name="adj1" fmla="val 50000"/>
              <a:gd name="adj2" fmla="val 50081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Arial"/>
              </a:rPr>
              <a:t>Bauplan – Transparenz im Lernprozess: „Das Lernen sichtbar machen!“ (Hatti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alibri"/>
              </a:rPr>
              <a:t>Beispiel: Meine Herkunft + Unsere Zukunft </a:t>
            </a: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(Eingangsklasse/Geschich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3" descr="Bildschirmausschnitt"/>
          <p:cNvPicPr/>
          <p:nvPr/>
        </p:nvPicPr>
        <p:blipFill>
          <a:blip r:embed="rId2"/>
          <a:stretch/>
        </p:blipFill>
        <p:spPr>
          <a:xfrm>
            <a:off x="4557600" y="3328920"/>
            <a:ext cx="28800" cy="20016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4" descr="Bildschirmausschnitt"/>
          <p:cNvPicPr/>
          <p:nvPr/>
        </p:nvPicPr>
        <p:blipFill>
          <a:blip r:embed="rId3"/>
          <a:stretch/>
        </p:blipFill>
        <p:spPr>
          <a:xfrm>
            <a:off x="171360" y="1716120"/>
            <a:ext cx="87724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Einführung: Meine Herkunft – Unsere Zukun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189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190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409680" y="4572000"/>
            <a:ext cx="3033720" cy="1495440"/>
          </a:xfrm>
          <a:prstGeom prst="rect">
            <a:avLst/>
          </a:prstGeom>
          <a:ln w="0">
            <a:noFill/>
          </a:ln>
        </p:spPr>
      </p:pic>
      <p:sp>
        <p:nvSpPr>
          <p:cNvPr id="192" name="Pfeil nach rechts 3"/>
          <p:cNvSpPr/>
          <p:nvPr/>
        </p:nvSpPr>
        <p:spPr>
          <a:xfrm>
            <a:off x="3967200" y="5573880"/>
            <a:ext cx="1477800" cy="64584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alibri"/>
                <a:ea typeface="Arial"/>
              </a:rPr>
              <a:t>Funda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Grafik 4" descr="Bildschirmausschnitt"/>
          <p:cNvPicPr/>
          <p:nvPr/>
        </p:nvPicPr>
        <p:blipFill>
          <a:blip r:embed="rId5"/>
          <a:stretch/>
        </p:blipFill>
        <p:spPr>
          <a:xfrm>
            <a:off x="5726160" y="1603440"/>
            <a:ext cx="32162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5"/>
          <p:cNvSpPr/>
          <p:nvPr/>
        </p:nvSpPr>
        <p:spPr>
          <a:xfrm>
            <a:off x="514080" y="1547640"/>
            <a:ext cx="511992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chaffung von Neugier und 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hematisierung individueller Erfahru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ergewisserung über Stärken und Zie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Lernen in der Gruppe (Sozial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emeinsame Lösung einer kreativen Aufga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öglichkeit zum Selbst- und Fremdversteh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Diagnos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02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03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04" name="Grafik 8" descr="Bildschirmausschnitt"/>
          <p:cNvPicPr/>
          <p:nvPr/>
        </p:nvPicPr>
        <p:blipFill>
          <a:blip r:embed="rId4"/>
          <a:stretch/>
        </p:blipFill>
        <p:spPr>
          <a:xfrm>
            <a:off x="371520" y="1992240"/>
            <a:ext cx="7716960" cy="435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5"/>
          <a:stretch/>
        </p:blipFill>
        <p:spPr>
          <a:xfrm>
            <a:off x="371520" y="723960"/>
            <a:ext cx="1312920" cy="650880"/>
          </a:xfrm>
          <a:prstGeom prst="rect">
            <a:avLst/>
          </a:prstGeom>
          <a:ln w="0">
            <a:noFill/>
          </a:ln>
        </p:spPr>
      </p:pic>
      <p:sp>
        <p:nvSpPr>
          <p:cNvPr id="206" name="Rechteck 16"/>
          <p:cNvSpPr/>
          <p:nvPr/>
        </p:nvSpPr>
        <p:spPr>
          <a:xfrm>
            <a:off x="291960" y="1387440"/>
            <a:ext cx="441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Arial"/>
              </a:rPr>
              <a:t>Erläuterung des Lernhaus-Modell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Arial"/>
              </a:rPr>
              <a:t>(Transparenz über Ablauf, Inhalte,  Ziele der 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feil nach links 18"/>
          <p:cNvSpPr/>
          <p:nvPr/>
        </p:nvSpPr>
        <p:spPr>
          <a:xfrm>
            <a:off x="5170320" y="2854440"/>
            <a:ext cx="3451320" cy="6127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Fachspezfische Interessen / Moti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feil nach links 35"/>
          <p:cNvSpPr/>
          <p:nvPr/>
        </p:nvSpPr>
        <p:spPr>
          <a:xfrm>
            <a:off x="5170320" y="3746520"/>
            <a:ext cx="3451320" cy="6127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Fachspezifische Methodenkompeten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feil nach links 36"/>
          <p:cNvSpPr/>
          <p:nvPr/>
        </p:nvSpPr>
        <p:spPr>
          <a:xfrm>
            <a:off x="5170320" y="4530600"/>
            <a:ext cx="3451320" cy="6130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Fachwissen/Vorkenntnis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Nach oben gebogener Pfeil 37"/>
          <p:cNvSpPr/>
          <p:nvPr/>
        </p:nvSpPr>
        <p:spPr>
          <a:xfrm rot="16200000">
            <a:off x="4602240" y="-149400"/>
            <a:ext cx="1137960" cy="3106800"/>
          </a:xfrm>
          <a:custGeom>
            <a:avLst/>
            <a:gdLst/>
            <a:ahLst/>
            <a:rect l="l" t="t" r="r" b="b"/>
            <a:pathLst>
              <a:path w="1138238" h="3106737">
                <a:moveTo>
                  <a:pt x="0" y="3073045"/>
                </a:moveTo>
                <a:lnTo>
                  <a:pt x="1032416" y="3073045"/>
                </a:lnTo>
                <a:lnTo>
                  <a:pt x="1032416" y="558226"/>
                </a:lnTo>
                <a:lnTo>
                  <a:pt x="960286" y="558226"/>
                </a:lnTo>
                <a:lnTo>
                  <a:pt x="1049262" y="0"/>
                </a:lnTo>
                <a:lnTo>
                  <a:pt x="1138238" y="558226"/>
                </a:lnTo>
                <a:lnTo>
                  <a:pt x="1066108" y="558226"/>
                </a:lnTo>
                <a:lnTo>
                  <a:pt x="1066108" y="3106737"/>
                </a:lnTo>
                <a:lnTo>
                  <a:pt x="0" y="3106737"/>
                </a:lnTo>
                <a:lnTo>
                  <a:pt x="0" y="3073045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Nach oben gebogener Pfeil 38"/>
          <p:cNvSpPr/>
          <p:nvPr/>
        </p:nvSpPr>
        <p:spPr>
          <a:xfrm rot="16200000">
            <a:off x="3848040" y="-50760"/>
            <a:ext cx="763560" cy="3201840"/>
          </a:xfrm>
          <a:custGeom>
            <a:avLst/>
            <a:gdLst/>
            <a:ahLst/>
            <a:rect l="l" t="t" r="r" b="b"/>
            <a:pathLst>
              <a:path w="763588" h="3201988">
                <a:moveTo>
                  <a:pt x="0" y="3150140"/>
                </a:moveTo>
                <a:lnTo>
                  <a:pt x="670667" y="3150140"/>
                </a:lnTo>
                <a:lnTo>
                  <a:pt x="670667" y="381794"/>
                </a:lnTo>
                <a:lnTo>
                  <a:pt x="629594" y="381794"/>
                </a:lnTo>
                <a:lnTo>
                  <a:pt x="696591" y="0"/>
                </a:lnTo>
                <a:lnTo>
                  <a:pt x="763588" y="381794"/>
                </a:lnTo>
                <a:lnTo>
                  <a:pt x="722515" y="381794"/>
                </a:lnTo>
                <a:lnTo>
                  <a:pt x="722515" y="3201988"/>
                </a:lnTo>
                <a:lnTo>
                  <a:pt x="0" y="3201988"/>
                </a:lnTo>
                <a:lnTo>
                  <a:pt x="0" y="3150140"/>
                </a:lnTo>
                <a:close/>
              </a:path>
            </a:pathLst>
          </a:cu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Nach oben gebogener Pfeil 19"/>
          <p:cNvSpPr/>
          <p:nvPr/>
        </p:nvSpPr>
        <p:spPr>
          <a:xfrm rot="16200000">
            <a:off x="5965920" y="379440"/>
            <a:ext cx="1138320" cy="3106800"/>
          </a:xfrm>
          <a:custGeom>
            <a:avLst/>
            <a:gdLst/>
            <a:ahLst/>
            <a:rect l="l" t="t" r="r" b="b"/>
            <a:pathLst>
              <a:path w="1138237" h="3106738">
                <a:moveTo>
                  <a:pt x="0" y="3073046"/>
                </a:moveTo>
                <a:lnTo>
                  <a:pt x="1032415" y="3073046"/>
                </a:lnTo>
                <a:lnTo>
                  <a:pt x="1032415" y="558226"/>
                </a:lnTo>
                <a:lnTo>
                  <a:pt x="960285" y="558226"/>
                </a:lnTo>
                <a:lnTo>
                  <a:pt x="1049261" y="0"/>
                </a:lnTo>
                <a:lnTo>
                  <a:pt x="1138237" y="558226"/>
                </a:lnTo>
                <a:lnTo>
                  <a:pt x="1066107" y="558226"/>
                </a:lnTo>
                <a:lnTo>
                  <a:pt x="1066107" y="3106738"/>
                </a:lnTo>
                <a:lnTo>
                  <a:pt x="0" y="3106738"/>
                </a:lnTo>
                <a:lnTo>
                  <a:pt x="0" y="3073046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Vorkenntnisse:  Mobilität und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20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21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4"/>
          <a:stretch/>
        </p:blipFill>
        <p:spPr>
          <a:xfrm>
            <a:off x="388800" y="4738680"/>
            <a:ext cx="3035520" cy="1495440"/>
          </a:xfrm>
          <a:prstGeom prst="rect">
            <a:avLst/>
          </a:prstGeom>
          <a:ln w="0">
            <a:noFill/>
          </a:ln>
        </p:spPr>
      </p:pic>
      <p:sp>
        <p:nvSpPr>
          <p:cNvPr id="223" name="Textfeld 5"/>
          <p:cNvSpPr/>
          <p:nvPr/>
        </p:nvSpPr>
        <p:spPr>
          <a:xfrm>
            <a:off x="504000" y="1604880"/>
            <a:ext cx="467316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Klärung biografischer Bezüge zum The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ergewisserung über familiäre Wurze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rbeit mit Karten (Methoden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igrationstheorien (Fach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ufbau von Raum- und Zeitbewusstse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Orientierungs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Grafik 2" descr="Bildschirmausschnitt"/>
          <p:cNvPicPr/>
          <p:nvPr/>
        </p:nvPicPr>
        <p:blipFill>
          <a:blip r:embed="rId5"/>
          <a:stretch/>
        </p:blipFill>
        <p:spPr>
          <a:xfrm>
            <a:off x="5538960" y="1619280"/>
            <a:ext cx="33829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6"/>
          <a:stretch/>
        </p:blipFill>
        <p:spPr>
          <a:xfrm>
            <a:off x="3624120" y="5551560"/>
            <a:ext cx="15242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07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Pflichtaufgaben: </a:t>
            </a: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Familien-, Regionalgeschich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33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4"/>
          <a:stretch/>
        </p:blipFill>
        <p:spPr>
          <a:xfrm>
            <a:off x="6878520" y="1751040"/>
            <a:ext cx="1916280" cy="944640"/>
          </a:xfrm>
          <a:prstGeom prst="rect">
            <a:avLst/>
          </a:prstGeom>
          <a:ln w="0">
            <a:noFill/>
          </a:ln>
        </p:spPr>
      </p:pic>
      <p:sp>
        <p:nvSpPr>
          <p:cNvPr id="236" name="Textfeld 5"/>
          <p:cNvSpPr/>
          <p:nvPr/>
        </p:nvSpPr>
        <p:spPr>
          <a:xfrm>
            <a:off x="2829960" y="3097080"/>
            <a:ext cx="6012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inführung in die Methode der Quellenarb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Instruktive Phase – „Foyer“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ystematischer Umgang mit verschiedenen Que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1. Etage: Fotografi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2. Etage: Bauwer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3. Etage: Stadtpläne und Geschichtskar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Bearbeitung der Arbeitsblätter im eigenen Lerntemp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Niveaudifferenzierung a-c (zunehmende Komplexitä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uswahl der Aufgaben nach Selbsteinschätz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5"/>
          <a:stretch/>
        </p:blipFill>
        <p:spPr>
          <a:xfrm>
            <a:off x="378000" y="3527280"/>
            <a:ext cx="1919160" cy="2768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6"/>
          <a:stretch/>
        </p:blipFill>
        <p:spPr>
          <a:xfrm>
            <a:off x="371520" y="816120"/>
            <a:ext cx="1925640" cy="2651040"/>
          </a:xfrm>
          <a:prstGeom prst="rect">
            <a:avLst/>
          </a:prstGeom>
          <a:ln w="0">
            <a:noFill/>
          </a:ln>
        </p:spPr>
      </p:pic>
      <p:sp>
        <p:nvSpPr>
          <p:cNvPr id="239" name="Pfeil nach links 1"/>
          <p:cNvSpPr/>
          <p:nvPr/>
        </p:nvSpPr>
        <p:spPr>
          <a:xfrm>
            <a:off x="2852640" y="1824120"/>
            <a:ext cx="3438720" cy="1038240"/>
          </a:xfrm>
          <a:prstGeom prst="left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9 Lernrä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Wahlaufgaben: </a:t>
            </a: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Migrationsgeschich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47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48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5"/>
          <p:cNvSpPr/>
          <p:nvPr/>
        </p:nvSpPr>
        <p:spPr>
          <a:xfrm>
            <a:off x="737640" y="3338640"/>
            <a:ext cx="49856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nregung für kreative Aufgab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z.B. „Meine Heimatbo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ffene Recherche- und Arbeitsaufträ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z.B. Recherche über Auswander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räsentation der Ergebnisse / „Werkstücke“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Marktplatzmethode mit Feedback dur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itschüler/inn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feil nach rechts 2"/>
          <p:cNvSpPr/>
          <p:nvPr/>
        </p:nvSpPr>
        <p:spPr>
          <a:xfrm>
            <a:off x="3070080" y="1868400"/>
            <a:ext cx="3156120" cy="99396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16ed0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9 Lernwerkstät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4"/>
          <a:stretch/>
        </p:blipFill>
        <p:spPr>
          <a:xfrm>
            <a:off x="6738840" y="3618000"/>
            <a:ext cx="2055960" cy="2724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5"/>
          <a:stretch/>
        </p:blipFill>
        <p:spPr>
          <a:xfrm>
            <a:off x="6729480" y="703440"/>
            <a:ext cx="2057400" cy="277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6"/>
          <a:stretch/>
        </p:blipFill>
        <p:spPr>
          <a:xfrm>
            <a:off x="676440" y="1824120"/>
            <a:ext cx="1914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Problematisierung: </a:t>
            </a: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Heimat und Fremd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61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62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533520" y="1595520"/>
            <a:ext cx="2101680" cy="1035000"/>
          </a:xfrm>
          <a:prstGeom prst="rect">
            <a:avLst/>
          </a:prstGeom>
          <a:ln w="0">
            <a:noFill/>
          </a:ln>
        </p:spPr>
      </p:pic>
      <p:sp>
        <p:nvSpPr>
          <p:cNvPr id="264" name="Textfeld 5"/>
          <p:cNvSpPr/>
          <p:nvPr/>
        </p:nvSpPr>
        <p:spPr>
          <a:xfrm>
            <a:off x="561600" y="2992320"/>
            <a:ext cx="47556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erknüpfung von Regionalgeschichte 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igrationsgeschichte (Transferfähigke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nalyse eines Sachtex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Methoden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roblematisierung des Heimatbegrif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Urteils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feil nach rechts 2"/>
          <p:cNvSpPr/>
          <p:nvPr/>
        </p:nvSpPr>
        <p:spPr>
          <a:xfrm>
            <a:off x="2895480" y="1576440"/>
            <a:ext cx="2452680" cy="7221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Arial"/>
              </a:rPr>
              <a:t>Obergesch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5486400" y="1577880"/>
            <a:ext cx="35179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Abschluss: </a:t>
            </a:r>
            <a:r>
              <a:rPr b="1" lang="de-DE" sz="2800" spc="-1" strike="noStrike">
                <a:solidFill>
                  <a:srgbClr val="c00000"/>
                </a:solidFill>
                <a:latin typeface="Calibri"/>
              </a:rPr>
              <a:t>Migration als Normalität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74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75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4"/>
          <a:stretch/>
        </p:blipFill>
        <p:spPr>
          <a:xfrm>
            <a:off x="533520" y="1595520"/>
            <a:ext cx="2101680" cy="103500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563760" y="2851200"/>
            <a:ext cx="37666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Kompetenzerwerb und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nwendung des Gelernten 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Rollenspi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Handlungs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Begründete Stellungnahme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r Disk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Urteilskompet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örderung von Identitäts- u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iversitätsbewusstse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örderung von Toleranz 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mokratiefähigk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feil nach rechts 2"/>
          <p:cNvSpPr/>
          <p:nvPr/>
        </p:nvSpPr>
        <p:spPr>
          <a:xfrm>
            <a:off x="2895480" y="1576440"/>
            <a:ext cx="2452680" cy="7221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Arial"/>
              </a:rPr>
              <a:t>D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5"/>
          <a:stretch/>
        </p:blipFill>
        <p:spPr>
          <a:xfrm>
            <a:off x="4586400" y="2954160"/>
            <a:ext cx="4333680" cy="2940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6"/>
          <a:stretch/>
        </p:blipFill>
        <p:spPr>
          <a:xfrm>
            <a:off x="5513400" y="1717560"/>
            <a:ext cx="3451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Individuelle Förderung als Herausforder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63800" y="1246320"/>
            <a:ext cx="75643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Feedback für offene Werkstatt-Aufga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88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89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90" name="Grafik 1" descr="Bildschirmausschnitt"/>
          <p:cNvPicPr/>
          <p:nvPr/>
        </p:nvPicPr>
        <p:blipFill>
          <a:blip r:embed="rId4"/>
          <a:stretch/>
        </p:blipFill>
        <p:spPr>
          <a:xfrm>
            <a:off x="776160" y="1401840"/>
            <a:ext cx="73882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Ampel-Feedback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298" name="Grafik 7" descr="Bildschirmausschnitt"/>
          <p:cNvPicPr/>
          <p:nvPr/>
        </p:nvPicPr>
        <p:blipFill>
          <a:blip r:embed="rId2"/>
          <a:stretch/>
        </p:blipFill>
        <p:spPr>
          <a:xfrm>
            <a:off x="4557600" y="3390840"/>
            <a:ext cx="28800" cy="7632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4" descr="Bildschirmausschnitt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00" name="Grafik 13" descr="Bildschirmausschnitt"/>
          <p:cNvPicPr/>
          <p:nvPr/>
        </p:nvPicPr>
        <p:blipFill>
          <a:blip r:embed="rId4"/>
          <a:stretch/>
        </p:blipFill>
        <p:spPr>
          <a:xfrm>
            <a:off x="909720" y="1492200"/>
            <a:ext cx="7353360" cy="462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Textfeld 1"/>
          <p:cNvSpPr/>
          <p:nvPr/>
        </p:nvSpPr>
        <p:spPr>
          <a:xfrm>
            <a:off x="4179960" y="532296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4 Pflichtaufgaben (linker Flüge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2 Wahlaufgaben   (rechter Flüg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Resonanz auf das Lernhaus-Konzep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61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timmen von Lehrer/in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„Werkstatt-Atmosphäre“ ist produkti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deal für die Umsetzung wäre das Fach-Raum-Prinzi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„Werkstattaufgaben“ geben viele Ansatzpunkte fü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agnose und individuelle Förderu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jektarbeit bringt mehr Lernfortschritt und Förderu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s systematisches Ab-Arbeiten nach Kompetenzraster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örderung ist eine Form der Fremdsteuerung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timmen von Schüler/in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„Werkstattaufgaben“ waren lehrreich, interessant 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ben am meisten Spaß gemach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ir wollen nicht nach Niveaustufen wähl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r Lehrer soll die Niveaus bestimmen, sonst steht man 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eber oder Loser 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hteck 2"/>
          <p:cNvSpPr/>
          <p:nvPr/>
        </p:nvSpPr>
        <p:spPr>
          <a:xfrm>
            <a:off x="6499080" y="1509840"/>
            <a:ext cx="2295720" cy="1419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von Schüler/in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hteck 13"/>
          <p:cNvSpPr/>
          <p:nvPr/>
        </p:nvSpPr>
        <p:spPr>
          <a:xfrm>
            <a:off x="6499080" y="3098880"/>
            <a:ext cx="2295720" cy="1419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von Schüler/in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hteck 14"/>
          <p:cNvSpPr/>
          <p:nvPr/>
        </p:nvSpPr>
        <p:spPr>
          <a:xfrm>
            <a:off x="6499080" y="4657680"/>
            <a:ext cx="2295720" cy="1419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von Schüler/in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Workshop: Rohbau für ein Lernhau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23720" y="1531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4869000" y="2278080"/>
            <a:ext cx="3784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21" name="Textfeld 2"/>
          <p:cNvSpPr/>
          <p:nvPr/>
        </p:nvSpPr>
        <p:spPr>
          <a:xfrm>
            <a:off x="447840" y="1822320"/>
            <a:ext cx="7881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Arbeitsauftr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inden Sie sich bitte in fachaffin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Austauschgruppen zusamm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siehe Stellwän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inigen Sie sich auf eine bestimm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Unterrichtseinhe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ntwerfen Sie für diese UE 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rundkonzept für ein Lernha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(wie viele Etagen, wie viele Räume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kizzieren Sie erste Ideen fü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ifferenzierte Arbeitsaufträ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rdnen Sie die Ideen den einzel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ebäudeteilen z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Gerade Verbindung 4"/>
          <p:cNvSpPr/>
          <p:nvPr/>
        </p:nvSpPr>
        <p:spPr>
          <a:xfrm>
            <a:off x="4862520" y="4398840"/>
            <a:ext cx="6480" cy="163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Gerade Verbindung 6"/>
          <p:cNvSpPr/>
          <p:nvPr/>
        </p:nvSpPr>
        <p:spPr>
          <a:xfrm>
            <a:off x="8653320" y="4398840"/>
            <a:ext cx="0" cy="163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Rohbau für ein Lernh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332" name="Grafik 7" descr="Bildschirmausschnitt"/>
          <p:cNvPicPr/>
          <p:nvPr/>
        </p:nvPicPr>
        <p:blipFill>
          <a:blip r:embed="rId2"/>
          <a:stretch/>
        </p:blipFill>
        <p:spPr>
          <a:xfrm>
            <a:off x="396720" y="1405080"/>
            <a:ext cx="84139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Vielen Dank für Ihre Aufmerksamkei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71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und viel Freu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beim Konstruieren von Lernhäuser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ownload der Materialien un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chule-bw.de/schularten/berufliche_schul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Calibri"/>
              </a:rPr>
              <a:t>/individuelle-foerderung-bs-bw/download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Calibri"/>
              </a:rPr>
              <a:t>unterrichtarrangements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feld 2"/>
          <p:cNvSpPr/>
          <p:nvPr/>
        </p:nvSpPr>
        <p:spPr>
          <a:xfrm>
            <a:off x="4707000" y="4383000"/>
            <a:ext cx="408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Prof. Hans-Joachim Tome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reichsleiter am Staatlichen Seminar fü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daktik und Lehrerbild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Berufliche Schul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uttg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ns-Joachim.Tomerl@Seminar-BS-S.kv.bwl.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feld 15"/>
          <p:cNvSpPr/>
          <p:nvPr/>
        </p:nvSpPr>
        <p:spPr>
          <a:xfrm>
            <a:off x="371520" y="4379760"/>
            <a:ext cx="408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Prof. Manuela Dro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reichsleiterin am Staatlichen Seminar fü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daktik und Lehrerbild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Berufliche Schulen und Gymnasi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ngar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oll@seminar-weingarten.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6" descr=""/>
          <p:cNvPicPr/>
          <p:nvPr/>
        </p:nvPicPr>
        <p:blipFill>
          <a:blip r:embed="rId2"/>
          <a:stretch/>
        </p:blipFill>
        <p:spPr>
          <a:xfrm>
            <a:off x="770040" y="2316240"/>
            <a:ext cx="1355760" cy="679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"/>
          <p:cNvPicPr/>
          <p:nvPr/>
        </p:nvPicPr>
        <p:blipFill>
          <a:blip r:embed="rId3"/>
          <a:stretch/>
        </p:blipFill>
        <p:spPr>
          <a:xfrm>
            <a:off x="557280" y="2995560"/>
            <a:ext cx="1512720" cy="1384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"/>
          <p:cNvPicPr/>
          <p:nvPr/>
        </p:nvPicPr>
        <p:blipFill>
          <a:blip r:embed="rId4"/>
          <a:stretch/>
        </p:blipFill>
        <p:spPr>
          <a:xfrm>
            <a:off x="7394400" y="1589040"/>
            <a:ext cx="1532160" cy="768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"/>
          <p:cNvPicPr/>
          <p:nvPr/>
        </p:nvPicPr>
        <p:blipFill>
          <a:blip r:embed="rId5"/>
          <a:stretch/>
        </p:blipFill>
        <p:spPr>
          <a:xfrm>
            <a:off x="7281720" y="2357280"/>
            <a:ext cx="15130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Beispiel: Wahlen</a:t>
            </a:r>
            <a:br>
              <a:rPr sz="2000"/>
            </a:br>
            <a:r>
              <a:rPr b="1" lang="de-DE" sz="2000" spc="-1" strike="noStrike">
                <a:solidFill>
                  <a:srgbClr val="c00000"/>
                </a:solidFill>
                <a:latin typeface="Calibri"/>
              </a:rPr>
              <a:t>(Berufsschule / 2. Jah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354" name="Grafik 5" descr="Bildschirmausschnitt"/>
          <p:cNvPicPr/>
          <p:nvPr/>
        </p:nvPicPr>
        <p:blipFill>
          <a:blip r:embed="rId2"/>
          <a:stretch/>
        </p:blipFill>
        <p:spPr>
          <a:xfrm>
            <a:off x="371520" y="1577880"/>
            <a:ext cx="84945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Individuelle Förderung als Überforderu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ie Forderung n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dividuell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örder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r Lernen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m Unterricht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58920" y="4451400"/>
            <a:ext cx="2676240" cy="1450800"/>
          </a:xfrm>
          <a:prstGeom prst="rect">
            <a:avLst/>
          </a:prstGeom>
          <a:ln w="0">
            <a:noFill/>
          </a:ln>
        </p:spPr>
      </p:pic>
      <p:sp>
        <p:nvSpPr>
          <p:cNvPr id="68" name="Rechteck 1"/>
          <p:cNvSpPr/>
          <p:nvPr/>
        </p:nvSpPr>
        <p:spPr>
          <a:xfrm>
            <a:off x="3417840" y="1828800"/>
            <a:ext cx="2079720" cy="1490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r Lehrerin 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16"/>
          <p:cNvSpPr/>
          <p:nvPr/>
        </p:nvSpPr>
        <p:spPr>
          <a:xfrm>
            <a:off x="5867280" y="1806480"/>
            <a:ext cx="2079720" cy="1492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s Lehrers 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ck 17"/>
          <p:cNvSpPr/>
          <p:nvPr/>
        </p:nvSpPr>
        <p:spPr>
          <a:xfrm>
            <a:off x="3417840" y="4451400"/>
            <a:ext cx="2079720" cy="1490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r erschöpften Lehrerin nach de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ck 18"/>
          <p:cNvSpPr/>
          <p:nvPr/>
        </p:nvSpPr>
        <p:spPr>
          <a:xfrm>
            <a:off x="5943600" y="4430880"/>
            <a:ext cx="2079720" cy="1492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s erschöpft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Lehrers nach de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Kurze Murmelphase zum Erfahrungsaustau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o und wie ist m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dividuelle Förder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m Unter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elung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96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ann und wodu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habe ich mich bei 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überfordert gefühl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feld 2"/>
          <p:cNvSpPr/>
          <p:nvPr/>
        </p:nvSpPr>
        <p:spPr>
          <a:xfrm>
            <a:off x="3807360" y="3540240"/>
            <a:ext cx="45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Beispiele für konkrete Unterrichtssituation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14"/>
          <p:cNvSpPr/>
          <p:nvPr/>
        </p:nvSpPr>
        <p:spPr>
          <a:xfrm>
            <a:off x="3417840" y="1828800"/>
            <a:ext cx="2079720" cy="1490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r Lehrerin i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1"/>
          <a:stretch/>
        </p:blipFill>
        <p:spPr>
          <a:xfrm>
            <a:off x="5776920" y="1828800"/>
            <a:ext cx="2139840" cy="1530360"/>
          </a:xfrm>
          <a:prstGeom prst="rect">
            <a:avLst/>
          </a:prstGeom>
          <a:ln w="0">
            <a:noFill/>
          </a:ln>
        </p:spPr>
      </p:pic>
      <p:sp>
        <p:nvSpPr>
          <p:cNvPr id="82" name="Rechteck 16"/>
          <p:cNvSpPr/>
          <p:nvPr/>
        </p:nvSpPr>
        <p:spPr>
          <a:xfrm>
            <a:off x="3417840" y="4470480"/>
            <a:ext cx="2079720" cy="1492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einer erschöpften Lehrerin nach dem Unterri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2"/>
          <a:stretch/>
        </p:blipFill>
        <p:spPr>
          <a:xfrm>
            <a:off x="5910120" y="4432320"/>
            <a:ext cx="21337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71520" y="67788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Das Lernhaus-Mod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1520" y="1350720"/>
            <a:ext cx="8423280" cy="4832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Konzep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r Unterrichtsplanung mit Elementen Individueller Förder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dealtypischer Aufbau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iner binnendifferenzierten Unterrichtseinh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Verknüpfung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on lerntheoretischen und fachdidaktischen Aspek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Integration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on Kompetenzorientierung und ganzheitlichem Ler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nschaulichkei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r Lehrer und Schüler (Baupl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Übersich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über Lernphasen, Aufgaben und Materiali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Übertragbarkeit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f alle Fächer und Schular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Variabel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e n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hrplanth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en und Fähigkei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ahmenbedingungen (Zeit, Ressourc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7262640" y="3451320"/>
            <a:ext cx="1389240" cy="71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7402680" y="4168800"/>
            <a:ext cx="1110960" cy="103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3"/>
          <a:stretch/>
        </p:blipFill>
        <p:spPr>
          <a:xfrm>
            <a:off x="6248520" y="4854600"/>
            <a:ext cx="860400" cy="799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4"/>
          <a:stretch/>
        </p:blipFill>
        <p:spPr>
          <a:xfrm>
            <a:off x="6170760" y="4330800"/>
            <a:ext cx="1014120" cy="52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5235480" y="5396040"/>
            <a:ext cx="555840" cy="51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6"/>
          <a:stretch/>
        </p:blipFill>
        <p:spPr>
          <a:xfrm>
            <a:off x="5157720" y="5027760"/>
            <a:ext cx="7128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00000"/>
                </a:solidFill>
                <a:latin typeface="Calibri"/>
              </a:rPr>
              <a:t>Konstruktion eines Lernh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3840" y="1614600"/>
            <a:ext cx="84438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00000"/>
                </a:solidFill>
                <a:latin typeface="Calibri"/>
              </a:rPr>
              <a:t>* Aufzug für Schüler mit Handicaps/Lernschwächen (vgl. Inklusion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033720" y="2795760"/>
            <a:ext cx="3067200" cy="171900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2"/>
          <p:cNvSpPr/>
          <p:nvPr/>
        </p:nvSpPr>
        <p:spPr>
          <a:xfrm>
            <a:off x="468360" y="5568840"/>
            <a:ext cx="82026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Fundament: </a:t>
            </a: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Vorheriger Kompetenzaufbau  ( Eingang</a:t>
            </a: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diagnostik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feld 13"/>
          <p:cNvSpPr/>
          <p:nvPr/>
        </p:nvSpPr>
        <p:spPr>
          <a:xfrm>
            <a:off x="468360" y="5105520"/>
            <a:ext cx="820260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Erdgeschoss: </a:t>
            </a: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Aktivierung von Vorkenntnissen + Vermittlung von Grundlag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feld 14"/>
          <p:cNvSpPr/>
          <p:nvPr/>
        </p:nvSpPr>
        <p:spPr>
          <a:xfrm>
            <a:off x="468360" y="4613400"/>
            <a:ext cx="8202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Treppenhaus + Aufzug </a:t>
            </a:r>
            <a:r>
              <a:rPr b="1" lang="de-DE" sz="1800" spc="-1" strike="noStrike">
                <a:solidFill>
                  <a:srgbClr val="c00000"/>
                </a:solidFill>
                <a:latin typeface="Calibri"/>
                <a:ea typeface="Arial"/>
              </a:rPr>
              <a:t>*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/ Foyers: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Zugang zu den Lernräumen und Lernwerkstät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feld 15"/>
          <p:cNvSpPr/>
          <p:nvPr/>
        </p:nvSpPr>
        <p:spPr>
          <a:xfrm>
            <a:off x="468360" y="3189240"/>
            <a:ext cx="2565360" cy="122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Lernräu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Gestufter Kompetenzaufba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Pflicht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Niveaudifferenzi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Individuelle Unterstütz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feld 16"/>
          <p:cNvSpPr/>
          <p:nvPr/>
        </p:nvSpPr>
        <p:spPr>
          <a:xfrm>
            <a:off x="6107040" y="3206880"/>
            <a:ext cx="2563920" cy="1220760"/>
          </a:xfrm>
          <a:prstGeom prst="rect">
            <a:avLst/>
          </a:prstGeom>
          <a:solidFill>
            <a:srgbClr val="16ed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Lernwerkstätt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Handlungskompeten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Offene Wahl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Thematische Differenzi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Individuelle Förderu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feld 17"/>
          <p:cNvSpPr/>
          <p:nvPr/>
        </p:nvSpPr>
        <p:spPr>
          <a:xfrm>
            <a:off x="468360" y="2254320"/>
            <a:ext cx="820260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Arial"/>
              </a:rPr>
              <a:t>Obergeschoss: </a:t>
            </a:r>
            <a:r>
              <a:rPr b="0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Zusammenfassung/Problematisierung (Integration der Ergebnis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339840" y="1270080"/>
            <a:ext cx="8450280" cy="95724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3"/>
          <p:cNvSpPr/>
          <p:nvPr/>
        </p:nvSpPr>
        <p:spPr>
          <a:xfrm>
            <a:off x="2573280" y="1392120"/>
            <a:ext cx="40086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cc"/>
                </a:solidFill>
                <a:latin typeface="Calibri"/>
                <a:ea typeface="Arial"/>
              </a:rPr>
              <a:t>Dach</a:t>
            </a:r>
            <a:r>
              <a:rPr b="1" lang="de-DE" sz="2000" spc="-1" strike="noStrike">
                <a:solidFill>
                  <a:srgbClr val="ffffcc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Calibri"/>
                <a:ea typeface="Arial"/>
              </a:rPr>
              <a:t> </a:t>
            </a:r>
            <a:r>
              <a:rPr b="0" lang="de-DE" sz="1800" spc="-1" strike="noStrike">
                <a:solidFill>
                  <a:srgbClr val="ffffcc"/>
                </a:solidFill>
                <a:latin typeface="Calibri"/>
                <a:ea typeface="Arial"/>
              </a:rPr>
              <a:t>Abrundung  + Abschlussdiagnost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3840" y="1736280"/>
            <a:ext cx="84438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sp>
        <p:nvSpPr>
          <p:cNvPr id="121" name="Textfeld 3"/>
          <p:cNvSpPr/>
          <p:nvPr/>
        </p:nvSpPr>
        <p:spPr>
          <a:xfrm>
            <a:off x="4233960" y="4832280"/>
            <a:ext cx="40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84080" y="1571760"/>
            <a:ext cx="9064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17600" y="890640"/>
          <a:ext cx="8318520" cy="4846680"/>
        </p:xfrm>
        <a:graphic>
          <a:graphicData uri="http://schemas.openxmlformats.org/drawingml/2006/table">
            <a:tbl>
              <a:tblPr/>
              <a:tblGrid>
                <a:gridCol w="2317680"/>
                <a:gridCol w="60008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öglichkeiten zur Diagnosti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ngangsdiagnos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bsteinschätzungsbogen 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hspezifische Interessen / Moti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hspezifische Methodenkompete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nbezogenes Vorwissen / Fachkenntni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laufsdiagnos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ilnehmende Beobachtung und Feedba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el-Feedback durch die Lehrperson zum Lernfortschritt und zur Qualität der Ergebni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-Feedback durch Mitschüler/i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lussdiagnos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bsteinschätzungsbogen (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mdeinschätzung zum Lernfortschr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äsentation der Arbeitsergebni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wertung der „Werkstücke“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531720" y="1003320"/>
            <a:ext cx="127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3840" y="1736280"/>
            <a:ext cx="84438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sp>
        <p:nvSpPr>
          <p:cNvPr id="132" name="Textfeld 3"/>
          <p:cNvSpPr/>
          <p:nvPr/>
        </p:nvSpPr>
        <p:spPr>
          <a:xfrm>
            <a:off x="4233960" y="4832280"/>
            <a:ext cx="40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784080" y="1571760"/>
            <a:ext cx="9064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17600" y="890640"/>
          <a:ext cx="8318520" cy="5029200"/>
        </p:xfrm>
        <a:graphic>
          <a:graphicData uri="http://schemas.openxmlformats.org/drawingml/2006/table">
            <a:tbl>
              <a:tblPr/>
              <a:tblGrid>
                <a:gridCol w="2317680"/>
                <a:gridCol w="60008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öglichkeiten zur Differenzieru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istungsnivea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flichtaufgaben mit ansteigender Komplexitä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rnte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Anzahl von Aufg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ündlichkeit vor Schnelligk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zialfor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lektive Lernphasen im Plenu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ziale Lernphasen in Partner- und Gruppenarbe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elle Lernphasen in Einzelarb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fgabenfor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chung aus strukturiert-kognitiven u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dlungsorientiert-kreativen Arbeitsaufträ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hlaufgaben mit individuellen Schwerpunkt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e Recherche- und Arbeitsaufträge (Projek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on von außerschulischen Lernort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ragung von Exper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31720" y="1003320"/>
            <a:ext cx="127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Gerade Verbindung 4"/>
          <p:cNvSpPr/>
          <p:nvPr/>
        </p:nvSpPr>
        <p:spPr>
          <a:xfrm>
            <a:off x="371520" y="6350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Gerade Verbindung 5"/>
          <p:cNvSpPr/>
          <p:nvPr/>
        </p:nvSpPr>
        <p:spPr>
          <a:xfrm>
            <a:off x="371520" y="6429240"/>
            <a:ext cx="842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feld 6"/>
          <p:cNvSpPr/>
          <p:nvPr/>
        </p:nvSpPr>
        <p:spPr>
          <a:xfrm>
            <a:off x="371520" y="254160"/>
            <a:ext cx="86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Lernhaus – Ein Modell für kompetenzorientierte Unterrichtseinheiten zur individuellen Förderu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feld 7"/>
          <p:cNvSpPr/>
          <p:nvPr/>
        </p:nvSpPr>
        <p:spPr>
          <a:xfrm>
            <a:off x="290520" y="64292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M. Droll / H-J. Tome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3"/>
          <p:cNvSpPr/>
          <p:nvPr/>
        </p:nvSpPr>
        <p:spPr>
          <a:xfrm>
            <a:off x="371520" y="8240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3840" y="1736280"/>
            <a:ext cx="84438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Grafik 5" descr="Bildschirmausschnitt"/>
          <p:cNvPicPr/>
          <p:nvPr/>
        </p:nvPicPr>
        <p:blipFill>
          <a:blip r:embed="rId1"/>
          <a:stretch/>
        </p:blipFill>
        <p:spPr>
          <a:xfrm>
            <a:off x="4567320" y="3338640"/>
            <a:ext cx="9360" cy="18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84080" y="1571760"/>
            <a:ext cx="9064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17600" y="890640"/>
          <a:ext cx="8318520" cy="5241960"/>
        </p:xfrm>
        <a:graphic>
          <a:graphicData uri="http://schemas.openxmlformats.org/drawingml/2006/table">
            <a:tbl>
              <a:tblPr/>
              <a:tblGrid>
                <a:gridCol w="2317680"/>
                <a:gridCol w="60008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öglichkeiten zur Förderu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rnschwächere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*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üler/i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kturierte Aufgaben mit ansteigender Komplexitä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ördern durch Unterstützen (lehrerinduzie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sam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üler/i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flicht-und Wahlaufgaben im eigenen Te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ördern durch Selbststeuerung (schülerinduzie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nell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üler/i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hlaufg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ördern durch Freiräume (schülerinduzie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istungsstärk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üler/i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pruchsvolle, offene, selbst gestellte Aufgaben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*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Übertragung von Verantwortung und Risi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bstständiges Lernen/Erleben von Selbstwirksamke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 </a:t>
                      </a:r>
                      <a:r>
                        <a:rPr b="1" lang="de-D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ördern durch Herausfordern (schülerinduzie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31720" y="1003320"/>
            <a:ext cx="127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7:47:27Z</dcterms:created>
  <dc:creator>Roland Knoblauch</dc:creator>
  <dc:description/>
  <dc:language>en-US</dc:language>
  <cp:lastModifiedBy>Manuela Droll</cp:lastModifiedBy>
  <cp:lastPrinted>2012-11-18T21:07:54Z</cp:lastPrinted>
  <dcterms:modified xsi:type="dcterms:W3CDTF">2015-03-09T17:56:29Z</dcterms:modified>
  <cp:revision>32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</Properties>
</file>