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BF92-AA04-4F13-A786-256BA333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A18-4810-4DCA-BEF6-8E5C9E74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81B-3F85-46E4-BD03-51FEFC23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B44-6BB8-4F04-9EAD-15C2D75C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54B-3D23-495A-B7E5-8D783D3B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FDE-44F1-463F-8722-55571619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B7D-8A8B-412D-B6FD-184FDEC5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838-0A42-4628-A0BD-11D1AAE8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CCC-599E-4BD3-B1D7-912079E3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81A-FF15-44B7-8B26-6BE88E35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07D-4272-44D2-9CA5-EA6ADC4B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2B0-AE67-47F6-AA71-B3C2CDE3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DF16-58E5-4309-AB00-617BA130AC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47640" y="62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Verdana"/>
              </a:rPr>
              <a:t>VOCABULARY</a:t>
            </a:r>
            <a:br>
              <a:rPr sz="4800"/>
            </a:br>
            <a:r>
              <a:rPr b="1" lang="de-DE" sz="4800" spc="-1" strike="noStrike">
                <a:solidFill>
                  <a:srgbClr val="990033"/>
                </a:solidFill>
                <a:latin typeface="Verdana"/>
              </a:rPr>
              <a:t>SPEED LEAR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 algn="ctr">
              <a:lnSpc>
                <a:spcPct val="100000"/>
              </a:lnSpc>
              <a:spcBef>
                <a:spcPts val="1100"/>
              </a:spcBef>
              <a:buClr>
                <a:srgbClr val="990033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90033"/>
                </a:solidFill>
                <a:latin typeface="Verdana"/>
              </a:rPr>
              <a:t>- Hiring a car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4 The Princess.m4a" descr=""/>
          <p:cNvPicPr/>
          <p:nvPr/>
        </p:nvPicPr>
        <p:blipFill>
          <a:blip r:embed="rId1"/>
          <a:stretch/>
        </p:blipFill>
        <p:spPr>
          <a:xfrm>
            <a:off x="755640" y="558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Bild 1" descr="http://pixabay.com/go/?t=/static/uploads/photo/2013/04/01/21/30/car-99123_150.png"/>
          <p:cNvPicPr/>
          <p:nvPr/>
        </p:nvPicPr>
        <p:blipFill>
          <a:blip r:embed="rId2"/>
          <a:stretch/>
        </p:blipFill>
        <p:spPr>
          <a:xfrm>
            <a:off x="3851280" y="2133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expiry d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ompact 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luxury li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to pi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to drop o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excess cover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mileage ch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STEP TW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990033"/>
                </a:solidFill>
                <a:latin typeface="Arial"/>
              </a:rPr>
              <a:t>TRANSL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STEP 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Do you know the German transla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ar hire 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Mietwagenfi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ar rental 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Mietwagenfi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limit (n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Beschränk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included in the pr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im Preis inbegriff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ccid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Unf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dditional insur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Zusatzversicher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upplementary insur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Zusatzversicher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Rabat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expiry d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Ablaufdat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ompact 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Kompaktk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ar hire 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luxury li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Luxusk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to pi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abho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to drop o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(Mietwagen) zurückgeb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excess cover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Selbstbeteilig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mileage ch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Kilometergebüh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gült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STEP THR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Do you know the English transla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Mietwagenfi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car rental 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Mietwagenfi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car rental 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Beschränk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ar rental 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im Preis inbegriff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included in the pr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Unf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accid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Zusatzversicher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additional insur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Zusatzversicher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supplementary insur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Rabat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blaufdat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expiry d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Kompaktk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compact 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Luxusk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luxury li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bho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(Mietwagen) zurückgeb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drop o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limit (n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elbstbeteilig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excess cover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Kilometergebüh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mileage ch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gült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STEP F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Do you REALLY know the English transla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Zusatzversicher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Beschränk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Mietwagenfi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im Preis inbegriff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blaufdat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Unf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included in the pr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Rabat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bho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Kompaktk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Kilometergebüh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(Mietwagen) zurückgeb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Luxusk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elbstbeteilig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gült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Now YOU </a:t>
            </a:r>
            <a:br>
              <a:rPr sz="4800"/>
            </a:b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will hire a ca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Bild 1" descr="http://pixabay.com/go/?t=/static/uploads/photo/2013/04/01/21/30/car-99123_150.png"/>
          <p:cNvPicPr/>
          <p:nvPr/>
        </p:nvPicPr>
        <p:blipFill>
          <a:blip r:embed="rId1"/>
          <a:stretch/>
        </p:blipFill>
        <p:spPr>
          <a:xfrm>
            <a:off x="3995640" y="1741320"/>
            <a:ext cx="129708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ccid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dditional insur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upplementary insur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3:54:34Z</dcterms:created>
  <dc:creator>Alexandra Köpf</dc:creator>
  <dc:description/>
  <dc:language>en-US</dc:language>
  <cp:lastModifiedBy>Alexandra</cp:lastModifiedBy>
  <cp:lastPrinted>2013-12-14T14:04:47Z</cp:lastPrinted>
  <dcterms:modified xsi:type="dcterms:W3CDTF">2014-03-10T15:05:31Z</dcterms:modified>
  <cp:revision>19</cp:revision>
  <dc:subject/>
  <dc:title>Folie 1</dc:title>
</cp:coreProperties>
</file>