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BF03-D5BA-4EFE-AB2B-BF9F373C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B2E-E417-4CD1-B032-D7DD0DB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450-B06B-4856-9BF3-CEF5335A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249-F1FF-4AC2-8DA2-A29E70AC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82E-E678-4261-A130-E6192C69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6D8-CE31-48A8-A962-510CCAA5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89F-9091-48BF-81E8-42FA93CD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86A-E61C-4773-95E5-D7675397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753-DDE5-4709-9576-899A20F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F7-8965-41E4-A89C-347E6F35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16D-58C2-44CD-AF6D-0624670E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F3D-FA28-455B-B28E-AAB82D5E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D31-160D-40E1-A4DC-B13157E7B36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47640" y="62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Verdana"/>
              </a:rPr>
              <a:t>VOCABULARY</a:t>
            </a:r>
            <a:br>
              <a:rPr sz="4800"/>
            </a:br>
            <a:r>
              <a:rPr b="1" lang="de-DE" sz="4800" spc="-1" strike="noStrike">
                <a:solidFill>
                  <a:srgbClr val="990033"/>
                </a:solidFill>
                <a:latin typeface="Verdana"/>
              </a:rPr>
              <a:t>SPEED 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 algn="ctr">
              <a:lnSpc>
                <a:spcPct val="100000"/>
              </a:lnSpc>
              <a:spcBef>
                <a:spcPts val="1100"/>
              </a:spcBef>
              <a:buClr>
                <a:srgbClr val="990033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990033"/>
                </a:solidFill>
                <a:latin typeface="Verdana"/>
              </a:rPr>
              <a:t>- Hiring a car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4 The Princess.m4a" descr=""/>
          <p:cNvPicPr/>
          <p:nvPr/>
        </p:nvPicPr>
        <p:blipFill>
          <a:blip r:embed="rId1"/>
          <a:stretch/>
        </p:blipFill>
        <p:spPr>
          <a:xfrm>
            <a:off x="755640" y="558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Bild 1" descr="http://pixabay.com/go/?t=/static/uploads/photo/2013/04/01/21/30/car-99123_150.png"/>
          <p:cNvPicPr/>
          <p:nvPr/>
        </p:nvPicPr>
        <p:blipFill>
          <a:blip r:embed="rId2"/>
          <a:stretch/>
        </p:blipFill>
        <p:spPr>
          <a:xfrm>
            <a:off x="3851280" y="2133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piry 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ompact 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ry l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o pi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o drop o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cess cove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leage 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990033"/>
                </a:solidFill>
                <a:latin typeface="Arial"/>
              </a:rPr>
              <a:t>TRANSL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Do you know the German transla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hire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imit (n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Beschränk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im Preis inbegriff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Un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dditional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upplementary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piry 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Ablauf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ompact 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Kompakt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hire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ry l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Luxus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o pi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ab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to drop o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(Mietwagen) zurückg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excess cove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Selbstbeteilig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leage 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Kilometergebü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gült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THR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Do you know the English transla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eschränk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ar rental 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m Preis inbegriff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Un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additional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supplementary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discou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blauf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expiry d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ompakt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compact 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s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luxury li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b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000000"/>
                </a:solidFill>
                <a:latin typeface="Arial"/>
              </a:rPr>
              <a:t>pi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(Mietwagen) zurückg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drop o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imit (n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elbstbeteilig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excess cover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ilometergebü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mileage 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gült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STEP 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Do you REALLY know the English transla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Zusatzversicher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Beschränk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Mietwagenfi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m Preis inbegriff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blauf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Unf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included in the pr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Rab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b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ompakt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Kilometergebüh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(Mietwagen) zurückgeb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Luxusk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elbstbeteiligu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gülti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Now YOU </a:t>
            </a:r>
            <a:br>
              <a:rPr sz="4800"/>
            </a:br>
            <a:r>
              <a:rPr b="1" lang="de-DE" sz="4800" spc="-1" strike="noStrike">
                <a:solidFill>
                  <a:srgbClr val="990033"/>
                </a:solidFill>
                <a:latin typeface="Arial"/>
              </a:rPr>
              <a:t>will hire a ca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Bild 1" descr="http://pixabay.com/go/?t=/static/uploads/photo/2013/04/01/21/30/car-99123_150.png"/>
          <p:cNvPicPr/>
          <p:nvPr/>
        </p:nvPicPr>
        <p:blipFill>
          <a:blip r:embed="rId1"/>
          <a:stretch/>
        </p:blipFill>
        <p:spPr>
          <a:xfrm>
            <a:off x="3995640" y="1741320"/>
            <a:ext cx="129708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dditional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upplementary insur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3:54:34Z</dcterms:created>
  <dc:creator>Alexandra Köpf</dc:creator>
  <dc:description/>
  <dc:language>en-US</dc:language>
  <cp:lastModifiedBy>Alexandra</cp:lastModifiedBy>
  <cp:lastPrinted>2013-12-14T14:04:47Z</cp:lastPrinted>
  <dcterms:modified xsi:type="dcterms:W3CDTF">2014-03-10T15:05:31Z</dcterms:modified>
  <cp:revision>19</cp:revision>
  <dc:subject/>
  <dc:title>Folie 1</dc:title>
</cp:coreProperties>
</file>